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8C3D2-1298-46B3-AA78-E774B97B1D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D0680-6B8D-4911-94C6-D7EDA03422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80B14-8744-4379-8D83-12006391ED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36D6F-C1DF-4505-9031-6D2BFC7689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4032-A7AC-46CE-991A-6A2C8CF79F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AC3A6-79B2-42E4-A4A3-F501E1BE60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AA67-D799-4C11-85D3-12C9C1BE51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D9C9E-8407-41B1-BDCF-F2D4444CFB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B191C-CC0E-4E19-929B-CCC655C9E9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BB3C-C6B3-48FD-9E38-70B5EA7006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90246-DC36-4107-B2BA-FC853F1C0C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03230-FA29-48DC-B2D5-AB8E46CFD0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ABFDE-E5D2-423F-8C53-CDA27E2BFC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1181C-4F13-4500-9A80-A2330A7577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1419C-1A32-4F8C-84BE-DA7C15D5BE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EE0EE-8A97-4E61-A6C6-F66EF79E84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7387F-A860-493D-B1E6-E06E0F5178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F10-FDC5-446D-9B27-DB6B62A4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333-F6B2-4529-AC3F-1C4CF1A0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135-F511-4296-9592-341906DF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60A-7C2B-40D3-A467-7D58DC8F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A8E6-60DE-4D40-8C2C-4F655AF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20ED-69ED-4CFF-9393-183C9214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FEE-383D-49FC-8372-7BE9C3D4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4619-FA79-4B4E-B2DA-DBA757FA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5A9D-42C7-4D70-9A67-937DC8C0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CD1E-C37F-499D-B388-2896E130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26CD-CE65-4FF1-8A09-1F5718F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5CF-4F73-4E3E-9324-37625AAC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5D93-96AE-4A3A-9874-A22689B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38BA-46BD-4DDA-8AA8-AD5C564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3C7C-87C3-4717-B6BA-120F9BC7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B917-B101-485D-BEA2-E8F391C1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5A09-D3A4-42D9-B15D-4E8190AB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AFA-7F4D-4B90-8DEA-775CF6C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ECE-9C64-46BA-BC8C-9BAD329A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10B-DD4A-410C-80DD-A353E9A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06E-1C66-4D15-871F-A10A051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2F3-6961-40B8-B176-964D3719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A6F-DD91-4B26-B9CF-A7929F3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43D-67DC-4979-85B1-8C5DA89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56A092-AF54-4AB1-A2FF-B948713B6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E35C3C-E576-44C6-BF0B-45AC2324414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270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3366"/>
                </a:solidFill>
                <a:latin typeface="Impact"/>
              </a:rPr>
              <a:t>История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688000" y="5796000"/>
            <a:ext cx="185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616720" y="5219640"/>
            <a:ext cx="38732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Короткова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Ученица 8-в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ГБОУ лицея №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3060720" cy="485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160720" y="6526080"/>
            <a:ext cx="1314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600" spc="-1" strike="noStrike">
                <a:solidFill>
                  <a:srgbClr val="33a3a3"/>
                </a:solidFill>
                <a:latin typeface="Calibri"/>
                <a:ea typeface="Microsoft YaHei"/>
              </a:rPr>
              <a:t>Евкл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680000" y="1979640"/>
            <a:ext cx="4498920" cy="3240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940360" y="5292720"/>
            <a:ext cx="1925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2323dc"/>
                </a:solidFill>
                <a:latin typeface="Calibri"/>
                <a:ea typeface="Microsoft YaHei"/>
              </a:rPr>
              <a:t>"Начала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3060720" cy="4298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203560" y="6134040"/>
            <a:ext cx="2116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800" spc="-1" strike="noStrike">
                <a:solidFill>
                  <a:srgbClr val="0047ff"/>
                </a:solidFill>
                <a:latin typeface="Calibri"/>
                <a:ea typeface="Microsoft YaHei"/>
              </a:rPr>
              <a:t>Архи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759280" y="270036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940360" y="4397400"/>
            <a:ext cx="354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99ff"/>
                </a:solidFill>
                <a:latin typeface="Calibri"/>
                <a:ea typeface="Microsoft YaHei"/>
              </a:rPr>
              <a:t>Метод исчерп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119640" y="1440000"/>
            <a:ext cx="3240360" cy="450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7020000" y="6119640"/>
            <a:ext cx="1963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400" spc="-1" strike="noStrike">
                <a:solidFill>
                  <a:srgbClr val="0084d1"/>
                </a:solidFill>
                <a:latin typeface="Calibri"/>
                <a:ea typeface="Microsoft YaHei"/>
              </a:rPr>
              <a:t>Аполлоний Перг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720720" y="1730520"/>
            <a:ext cx="5040360" cy="3670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260360" y="5580000"/>
            <a:ext cx="431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2323dc"/>
                </a:solidFill>
                <a:latin typeface="Calibri"/>
                <a:ea typeface="Microsoft YaHei"/>
              </a:rPr>
              <a:t> </a:t>
            </a:r>
            <a:r>
              <a:rPr b="1" lang="de-DE" sz="2400" spc="-1" strike="noStrike">
                <a:solidFill>
                  <a:srgbClr val="2323dc"/>
                </a:solidFill>
                <a:latin typeface="Calibri"/>
                <a:ea typeface="Microsoft YaHei"/>
              </a:rPr>
              <a:t>Метод конических се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537840"/>
            <a:ext cx="90709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6633"/>
                </a:solidFill>
                <a:latin typeface="Calibri"/>
                <a:ea typeface="Arial Unicode MS"/>
              </a:rPr>
              <a:t>Математика в Древней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3779640" cy="1079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5400720" y="2309760"/>
            <a:ext cx="3624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От этих индийских значков произош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временные цифры</a:t>
            </a:r>
            <a:r>
              <a:rPr b="0" lang="de-DE" sz="1800" spc="-1" strike="noStrike">
                <a:solidFill>
                  <a:srgbClr val="000000"/>
                </a:solidFill>
                <a:latin typeface="Segoe UI Semibold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671480" y="4205160"/>
            <a:ext cx="6969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колько есть способов извлечь </a:t>
            </a:r>
            <a:r>
              <a:rPr b="0" lang="de-DE" sz="2400" spc="-1" strike="noStrike">
                <a:solidFill>
                  <a:srgbClr val="c5000b"/>
                </a:solidFill>
                <a:latin typeface="Calibri"/>
                <a:ea typeface="Microsoft YaHei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элементов из </a:t>
            </a:r>
            <a:r>
              <a:rPr b="0" lang="de-DE" sz="2400" spc="-1" strike="noStrike">
                <a:solidFill>
                  <a:srgbClr val="c5000b"/>
                </a:solidFill>
                <a:latin typeface="Calibri"/>
                <a:ea typeface="Microsoft YaHei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возмож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6372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c5000b"/>
                </a:solidFill>
                <a:latin typeface="Calibri"/>
              </a:rPr>
              <a:t>Математика исламского средневек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484280" y="1851120"/>
            <a:ext cx="4456080" cy="4989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6119640" y="3959280"/>
            <a:ext cx="27003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663300"/>
                </a:solidFill>
                <a:latin typeface="Calibri"/>
                <a:ea typeface="Microsoft YaHei"/>
              </a:rPr>
              <a:t>Арабский пер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663300"/>
                </a:solidFill>
                <a:latin typeface="Calibri"/>
                <a:ea typeface="Microsoft YaHei"/>
              </a:rPr>
              <a:t>«Начал» Евкл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433080"/>
            <a:ext cx="90709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c5000b"/>
                </a:solidFill>
                <a:latin typeface="Calibri"/>
              </a:rPr>
              <a:t>Математика исламского средневек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940360" y="1800360"/>
            <a:ext cx="3419640" cy="467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5759280" y="6480000"/>
            <a:ext cx="341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раница из „Книги об Индийском счете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1365120" y="1979640"/>
            <a:ext cx="3854520" cy="480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1924200" y="6737400"/>
            <a:ext cx="185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аль-Хорезм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0036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47ff"/>
                </a:solidFill>
                <a:latin typeface="Impact"/>
              </a:rPr>
              <a:t>Спасибо за просмотр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2 0.007 -0.0493 0.015 -0.0493 C 0.024 -0.0493 0.027 -0.02532 0.03 0 C 0.034 0.02798 0.037 0.05596 0.047 0.05596 C 0.056 0.05596 0.059 0.02798 0.063 0 C 0.065 -0.02532 0.069 -0.0493 0.078 -0.0493 C 0.086 -0.0493 0.09 -0.02532 0.093 0 C 0.096 0.02798 0.1 0.05596 0.109 0.05596 C 0.118 0.05596 0.125 0 0.125 0 C 0.128 -0.02532 0.131 -0.0493 0.14 -0.0493 C 0.149 -0.0493 0.152 -0.02532 0.155 0 C 0.159 0.02798 0.162 0.05596 0.172 0.05596 C 0.181 0.05596 0.184 0.02798 0.187 0 C 0.191 -0.02532 0.194 -0.0493 0.203 -0.0493 C 0.211 -0.0493 0.215 -0.02532 0.218 0 C 0.221 0.02798 0.225 0.05596 0.234 0.05596 C 0.243 0.05596 0.246 0.02798 0.25 0 E">
                                      <p:cBhvr>
                                        <p:cTn id="57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07440"/>
            <a:ext cx="90709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3366"/>
                </a:solidFill>
                <a:latin typeface="Calibri"/>
              </a:rPr>
              <a:t>Возникновение арифметики и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3141360" cy="4500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260360" y="6377040"/>
            <a:ext cx="360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чётное устройство и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580000" y="306072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666360"/>
            <a:ext cx="90709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3366"/>
                </a:solidFill>
                <a:latin typeface="Calibri"/>
              </a:rPr>
              <a:t>Возникновение арифметики и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0000" y="3176640"/>
            <a:ext cx="4356000" cy="2224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680000" y="2519280"/>
            <a:ext cx="4468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английский пенс = 1/12 шиллин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260360" y="2519280"/>
            <a:ext cx="2160720" cy="23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260360" y="5149800"/>
            <a:ext cx="234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фут = 1/3 яр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538200"/>
            <a:ext cx="81709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420e"/>
                </a:solidFill>
                <a:latin typeface="Calibri"/>
                <a:ea typeface="Arial Unicode MS"/>
              </a:rPr>
              <a:t>Математика в Древнем Егип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44845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292720" y="2340000"/>
            <a:ext cx="424656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5580000" y="4307040"/>
            <a:ext cx="3419640" cy="1452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1560" y="4680000"/>
            <a:ext cx="4259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Иероглифическая запись числа 357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420e"/>
                </a:solidFill>
                <a:latin typeface="Calibri"/>
                <a:ea typeface="Arial Unicode MS"/>
              </a:rPr>
              <a:t>Математика в Древнем Егип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27320"/>
            <a:ext cx="97203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Неизвестное число - </a:t>
            </a:r>
            <a:r>
              <a:rPr b="0" lang="en-US" sz="2200" spc="-1" strike="noStrike">
                <a:solidFill>
                  <a:srgbClr val="ff3366"/>
                </a:solidFill>
                <a:latin typeface="Segoe UI"/>
                <a:ea typeface="Arial Unicode MS"/>
              </a:rPr>
              <a:t>„хау“</a:t>
            </a: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, </a:t>
            </a:r>
            <a:r>
              <a:rPr b="0" lang="en-US" sz="2200" spc="-1" strike="noStrike">
                <a:solidFill>
                  <a:srgbClr val="ff3366"/>
                </a:solidFill>
                <a:latin typeface="Segoe UI"/>
                <a:ea typeface="Arial Unicode MS"/>
              </a:rPr>
              <a:t>“куча”</a:t>
            </a: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 или </a:t>
            </a:r>
            <a:r>
              <a:rPr b="0" lang="en-US" sz="2200" spc="-1" strike="noStrike">
                <a:solidFill>
                  <a:srgbClr val="ff3366"/>
                </a:solidFill>
                <a:latin typeface="Segoe UI"/>
                <a:ea typeface="Arial Unicode MS"/>
              </a:rPr>
              <a:t>“неизвестное количество” </a:t>
            </a: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един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400720" y="5940360"/>
            <a:ext cx="3959280" cy="900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2340000" y="4859280"/>
            <a:ext cx="5580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804c19"/>
                </a:solidFill>
                <a:latin typeface="Calibri"/>
                <a:ea typeface="Microsoft YaHei"/>
              </a:rPr>
              <a:t>Задача № 24 сборника Ахм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804c19"/>
                </a:solidFill>
                <a:latin typeface="Calibri"/>
                <a:ea typeface="Microsoft YaHei"/>
              </a:rPr>
              <a:t>  </a:t>
            </a:r>
            <a:r>
              <a:rPr b="0" lang="de-DE" sz="2400" spc="-1" strike="noStrike">
                <a:solidFill>
                  <a:srgbClr val="804c19"/>
                </a:solidFill>
                <a:latin typeface="Calibri"/>
                <a:ea typeface="Microsoft YaHei"/>
              </a:rPr>
              <a:t>«Куча. Ее седьмая часть 19. Найти куч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20720" y="6119640"/>
            <a:ext cx="44845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пись задачи нашими 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539640" y="1979640"/>
            <a:ext cx="3959280" cy="270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680000" y="3170160"/>
            <a:ext cx="473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Часть папируса Ахмеса 1650г. до н.э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376200"/>
            <a:ext cx="63007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5c8526"/>
                </a:solidFill>
                <a:latin typeface="Calibri"/>
                <a:ea typeface="Arial Unicode MS"/>
              </a:rPr>
              <a:t>Математика в Вавил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4859280" cy="287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00000" y="4500720"/>
            <a:ext cx="414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579d1c"/>
                </a:solidFill>
                <a:latin typeface="Calibri"/>
                <a:ea typeface="Microsoft YaHei"/>
              </a:rPr>
              <a:t>Вавилонские 60-ричные циф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5730840" y="3419640"/>
            <a:ext cx="3809880" cy="3555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9640" y="2470320"/>
            <a:ext cx="3060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cc66"/>
                </a:solidFill>
                <a:latin typeface="Calibri"/>
                <a:ea typeface="Microsoft YaHei"/>
              </a:rPr>
              <a:t>Вавилонская табличка с вычис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495360"/>
            <a:ext cx="9070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Математика в Древнем</a:t>
            </a:r>
            <a:r>
              <a:rPr b="0" lang="en-US" sz="4400" spc="-1" strike="noStrike">
                <a:solidFill>
                  <a:srgbClr val="ff950e"/>
                </a:solidFill>
                <a:latin typeface="Calibri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Кит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3233880" cy="2379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1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egoe UI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2479680"/>
            <a:ext cx="2160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11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400" spc="-1" strike="noStrike">
                <a:solidFill>
                  <a:srgbClr val="eb613d"/>
                </a:solidFill>
                <a:latin typeface="Segoe UI"/>
                <a:ea typeface="Microsoft YaHei"/>
              </a:rPr>
              <a:t>Суаньп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5759280" y="1800360"/>
            <a:ext cx="306072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260360" y="5211720"/>
            <a:ext cx="809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b84700"/>
                </a:solidFill>
                <a:latin typeface="Segoe UI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59280" y="5580000"/>
            <a:ext cx="494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660066"/>
                </a:solidFill>
                <a:latin typeface="Calibri"/>
                <a:ea typeface="Microsoft YaHei"/>
              </a:rPr>
              <a:t>Математика в девяти книгах (начал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Математика в Древнем</a:t>
            </a:r>
            <a:r>
              <a:rPr b="0" lang="en-US" sz="4400" spc="-1" strike="noStrike">
                <a:solidFill>
                  <a:srgbClr val="ff950e"/>
                </a:solidFill>
                <a:latin typeface="Calibri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Кит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0360" y="2668680"/>
            <a:ext cx="936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84320" y="2700360"/>
            <a:ext cx="1074960" cy="539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140360" y="2778120"/>
            <a:ext cx="2519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=  142/45 = 3,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367000" y="2778120"/>
            <a:ext cx="333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480000" y="2778120"/>
            <a:ext cx="2167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=  3,14159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40000" y="3780000"/>
            <a:ext cx="701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6633"/>
                </a:solidFill>
                <a:latin typeface="Calibri"/>
                <a:ea typeface="Microsoft YaHei"/>
              </a:rPr>
              <a:t>Фан-чэн (</a:t>
            </a:r>
            <a:r>
              <a:rPr b="0" lang="ja-JP" sz="2400" spc="-1" strike="noStrike">
                <a:solidFill>
                  <a:srgbClr val="ff6633"/>
                </a:solidFill>
                <a:latin typeface="Calibri"/>
                <a:ea typeface="ＭＳ Ｐゴシック"/>
              </a:rPr>
              <a:t>方程</a:t>
            </a:r>
            <a:r>
              <a:rPr b="0" lang="de-DE" sz="2400" spc="-1" strike="noStrike">
                <a:solidFill>
                  <a:srgbClr val="ff6633"/>
                </a:solidFill>
                <a:latin typeface="Calibri"/>
                <a:ea typeface="Microsoft YaHei"/>
              </a:rPr>
              <a:t>) для решения линей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79640" y="4319640"/>
            <a:ext cx="9415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9999ff"/>
                </a:solidFill>
                <a:latin typeface="Calibri"/>
                <a:ea typeface="Microsoft YaHei"/>
              </a:rPr>
              <a:t>Тянь-юань (</a:t>
            </a:r>
            <a:r>
              <a:rPr b="0" lang="ja-JP" sz="2400" spc="-1" strike="noStrike">
                <a:solidFill>
                  <a:srgbClr val="9999ff"/>
                </a:solidFill>
                <a:latin typeface="Calibri"/>
                <a:ea typeface="ＭＳ Ｐゴシック"/>
              </a:rPr>
              <a:t>天元术</a:t>
            </a:r>
            <a:r>
              <a:rPr b="0" lang="de-DE" sz="2400" spc="-1" strike="noStrike">
                <a:solidFill>
                  <a:srgbClr val="9999ff"/>
                </a:solidFill>
                <a:latin typeface="Calibri"/>
                <a:ea typeface="Microsoft YaHei"/>
              </a:rPr>
              <a:t>) метод нахождения корней много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700360" y="1800360"/>
            <a:ext cx="5400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Три великих геометра древ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Евкл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Архим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Апполон Перг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Дмитрий</cp:lastModifiedBy>
  <dcterms:modified xsi:type="dcterms:W3CDTF">2012-05-29T15:58:38Z</dcterms:modified>
  <cp:revision>17</cp:revision>
  <dc:subject/>
  <dc:title>История математики</dc:title>
</cp:coreProperties>
</file>