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A1739-2470-4EFC-9AC5-FFC32906F7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22B85-260C-4150-A08D-0DA3042337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FBDC3-232E-41CA-BB14-1B15B09FB6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3C912-643C-4142-ACA7-72F589474D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D7D3F-0058-430F-8489-3772EB1FA4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9CF4C-BF17-4EB1-910D-0048269A6F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E718B-070B-4446-A3A9-7BB29CFF15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35541-AE3F-4FA6-839D-BEA1213D1A0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8C625-D77F-426C-8222-7B9FA0EBFD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EA7B0-A243-4365-8F0B-95B8F89CAB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97EC7-DA08-4696-B81E-67D9FD85842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1AEC6-3E30-41FE-AEA3-89EFF7E9A1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22497-EB7A-4C6E-959C-4916BE3DF86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C84E0-2C06-4BE7-8104-7966A12D81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5479A-BA87-4D5B-B591-03A2A1BE30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56174-DE61-46FD-A940-D1B2BE3471D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A2E50-CB90-4FD2-90FC-107F8ABD3C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2D7-4C13-463F-8029-EC4913AA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271-3FB8-492B-9806-C13F5F41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B41-28B7-4492-87EE-D6B7E8DC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94F-9A83-467E-9D82-105DD28C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FBA9-9BA7-4E9D-A14C-90D46156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6E32-5B03-4A8D-8C20-1388BB46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2817-C0AD-413B-B70B-2CE1B639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1EE8-D010-4D3D-83BC-3C241E6C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A372-879C-4988-816E-158327F7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BDB5-D800-4AE7-A162-21A03139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6772-8961-4FDA-A5FA-2493DE33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E2F-41E9-48FE-B48A-2458790A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F023-80F7-4E9A-8F1B-06F7CAB1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9FBA-97C1-4F71-9D66-9E845D80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91FF-7FED-449A-BCE9-FC75D99C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7E2E-90A7-41C9-8A1E-9F54FC95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32C0-FB43-44E6-A18C-F2385B6E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C1B-22BC-411D-9038-A3C21FFC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042-A1AD-4249-9D0C-08D2DE6B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C7F-FF82-447C-A0AD-5A72681F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3116-3637-41C6-8070-1D05D674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E87-A890-4E52-8B67-D1D5B25C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9E0-4B71-4758-9507-37D80451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8E8-B24D-4EB3-BDEA-411A6366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25121D-C665-4583-B116-96CC81767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C85403-93B6-4039-92C4-5FA51F0F728F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280" y="27003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993366"/>
                </a:solidFill>
                <a:latin typeface="Impact"/>
              </a:rPr>
              <a:t>История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5688000" y="5796000"/>
            <a:ext cx="185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616720" y="5219640"/>
            <a:ext cx="387324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Microsoft YaHei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Microsoft YaHei"/>
              </a:rPr>
              <a:t>Короткова Алексан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Microsoft YaHei"/>
              </a:rPr>
              <a:t>Ученица 8-в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Times New Roman"/>
                <a:ea typeface="Microsoft YaHei"/>
              </a:rPr>
              <a:t>ГБОУ лицея №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alibri"/>
                <a:ea typeface="Arial Unicode MS"/>
              </a:rPr>
              <a:t>Математика в Древней Гре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260360" y="1619280"/>
            <a:ext cx="3060720" cy="4859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2160720" y="6526080"/>
            <a:ext cx="1314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2600" spc="-1" strike="noStrike">
                <a:solidFill>
                  <a:srgbClr val="33a3a3"/>
                </a:solidFill>
                <a:latin typeface="Calibri"/>
                <a:ea typeface="Microsoft YaHei"/>
              </a:rPr>
              <a:t>Евкл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4680000" y="1979640"/>
            <a:ext cx="4498920" cy="3240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5940360" y="5292720"/>
            <a:ext cx="1925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2323dc"/>
                </a:solidFill>
                <a:latin typeface="Calibri"/>
                <a:ea typeface="Microsoft YaHei"/>
              </a:rPr>
              <a:t>"Начала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alibri"/>
                <a:ea typeface="Arial Unicode MS"/>
              </a:rPr>
              <a:t>Математика в Древней Гре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619280" y="1800360"/>
            <a:ext cx="3060720" cy="4298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2203560" y="6134040"/>
            <a:ext cx="2116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2800" spc="-1" strike="noStrike">
                <a:solidFill>
                  <a:srgbClr val="0047ff"/>
                </a:solidFill>
                <a:latin typeface="Calibri"/>
                <a:ea typeface="Microsoft YaHei"/>
              </a:rPr>
              <a:t>Архим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5759280" y="2700360"/>
            <a:ext cx="3311640" cy="1619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5940360" y="4397400"/>
            <a:ext cx="354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99ff"/>
                </a:solidFill>
                <a:latin typeface="Calibri"/>
                <a:ea typeface="Microsoft YaHei"/>
              </a:rPr>
              <a:t>Метод исчерп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alibri"/>
                <a:ea typeface="Arial Unicode MS"/>
              </a:rPr>
              <a:t>Математика в Древней Гре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119640" y="1440000"/>
            <a:ext cx="3240360" cy="4500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7020000" y="6119640"/>
            <a:ext cx="19638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2400" spc="-1" strike="noStrike">
                <a:solidFill>
                  <a:srgbClr val="0084d1"/>
                </a:solidFill>
                <a:latin typeface="Calibri"/>
                <a:ea typeface="Microsoft YaHei"/>
              </a:rPr>
              <a:t>Аполлоний Перг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720720" y="1730520"/>
            <a:ext cx="5040360" cy="3670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260360" y="5580000"/>
            <a:ext cx="4319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2323dc"/>
                </a:solidFill>
                <a:latin typeface="Calibri"/>
                <a:ea typeface="Microsoft YaHei"/>
              </a:rPr>
              <a:t> </a:t>
            </a:r>
            <a:r>
              <a:rPr b="1" lang="de-DE" sz="2400" spc="-1" strike="noStrike">
                <a:solidFill>
                  <a:srgbClr val="2323dc"/>
                </a:solidFill>
                <a:latin typeface="Calibri"/>
                <a:ea typeface="Microsoft YaHei"/>
              </a:rPr>
              <a:t>Метод конических се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537840"/>
            <a:ext cx="907092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6633"/>
                </a:solidFill>
                <a:latin typeface="Calibri"/>
                <a:ea typeface="Arial Unicode MS"/>
              </a:rPr>
              <a:t>Математика в Древней Инд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40000" y="2340000"/>
            <a:ext cx="3779640" cy="1079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5400720" y="2309760"/>
            <a:ext cx="3624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От этих индийских значков произош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современные цифры</a:t>
            </a:r>
            <a:r>
              <a:rPr b="0" lang="de-DE" sz="1800" spc="-1" strike="noStrike">
                <a:solidFill>
                  <a:srgbClr val="000000"/>
                </a:solidFill>
                <a:latin typeface="Segoe UI Semibold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671480" y="4205160"/>
            <a:ext cx="6969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«сколько есть способов извлечь </a:t>
            </a:r>
            <a:r>
              <a:rPr b="0" lang="de-DE" sz="2400" spc="-1" strike="noStrike">
                <a:solidFill>
                  <a:srgbClr val="c5000b"/>
                </a:solidFill>
                <a:latin typeface="Calibri"/>
                <a:ea typeface="Microsoft YaHei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элементов из </a:t>
            </a:r>
            <a:r>
              <a:rPr b="0" lang="de-DE" sz="2400" spc="-1" strike="noStrike">
                <a:solidFill>
                  <a:srgbClr val="c5000b"/>
                </a:solidFill>
                <a:latin typeface="Calibri"/>
                <a:ea typeface="Microsoft YaHei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возможны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79280" y="433080"/>
            <a:ext cx="637236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c5000b"/>
                </a:solidFill>
                <a:latin typeface="Calibri"/>
              </a:rPr>
              <a:t>Математика исламского средневек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1484280" y="1851120"/>
            <a:ext cx="4456080" cy="4989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6119640" y="3959280"/>
            <a:ext cx="27003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663300"/>
                </a:solidFill>
                <a:latin typeface="Calibri"/>
                <a:ea typeface="Microsoft YaHei"/>
              </a:rPr>
              <a:t>Арабский пере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663300"/>
                </a:solidFill>
                <a:latin typeface="Calibri"/>
                <a:ea typeface="Microsoft YaHei"/>
              </a:rPr>
              <a:t>«Начал» Евкл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433080"/>
            <a:ext cx="90709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c5000b"/>
                </a:solidFill>
                <a:latin typeface="Calibri"/>
              </a:rPr>
              <a:t>Математика исламского средневек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940360" y="1800360"/>
            <a:ext cx="3419640" cy="4679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5759280" y="6480000"/>
            <a:ext cx="3419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раница из „Книги об Индийском счете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1365120" y="1979640"/>
            <a:ext cx="3854520" cy="4808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1924200" y="6737400"/>
            <a:ext cx="1855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аль-Хорезми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00360"/>
            <a:ext cx="10080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800" spc="-1" strike="noStrike">
                <a:solidFill>
                  <a:srgbClr val="0047ff"/>
                </a:solidFill>
                <a:latin typeface="Impact"/>
              </a:rPr>
              <a:t>Спасибо за просмотр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 -0.02532 0.007 -0.0493 0.015 -0.0493 C 0.024 -0.0493 0.027 -0.02532 0.03 0 C 0.034 0.02798 0.037 0.05596 0.047 0.05596 C 0.056 0.05596 0.059 0.02798 0.063 0 C 0.065 -0.02532 0.069 -0.0493 0.078 -0.0493 C 0.086 -0.0493 0.09 -0.02532 0.093 0 C 0.096 0.02798 0.1 0.05596 0.109 0.05596 C 0.118 0.05596 0.125 0 0.125 0 C 0.128 -0.02532 0.131 -0.0493 0.14 -0.0493 C 0.149 -0.0493 0.152 -0.02532 0.155 0 C 0.159 0.02798 0.162 0.05596 0.172 0.05596 C 0.181 0.05596 0.184 0.02798 0.187 0 C 0.191 -0.02532 0.194 -0.0493 0.203 -0.0493 C 0.211 -0.0493 0.215 -0.02532 0.218 0 C 0.221 0.02798 0.225 0.05596 0.234 0.05596 C 0.243 0.05596 0.246 0.02798 0.25 0 E">
                                      <p:cBhvr>
                                        <p:cTn id="57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307440"/>
            <a:ext cx="90709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993366"/>
                </a:solidFill>
                <a:latin typeface="Calibri"/>
              </a:rPr>
              <a:t>Возникновение арифметики и гео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440000" y="1800360"/>
            <a:ext cx="3141360" cy="4500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260360" y="6377040"/>
            <a:ext cx="3600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Счётное устройство и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5580000" y="3060720"/>
            <a:ext cx="3240000" cy="1979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666360"/>
            <a:ext cx="90709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993366"/>
                </a:solidFill>
                <a:latin typeface="Calibri"/>
              </a:rPr>
              <a:t>Возникновение арифметики и гео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680000" y="3176640"/>
            <a:ext cx="4356000" cy="2224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4680000" y="2519280"/>
            <a:ext cx="4468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1 английский пенс = 1/12 шиллин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260360" y="2519280"/>
            <a:ext cx="2160720" cy="2340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260360" y="5149800"/>
            <a:ext cx="2340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1 фут = 1/3 яр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9640" y="538200"/>
            <a:ext cx="817092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420e"/>
                </a:solidFill>
                <a:latin typeface="Calibri"/>
                <a:ea typeface="Arial Unicode MS"/>
              </a:rPr>
              <a:t>Математика в Древнем Егип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20720" y="1800360"/>
            <a:ext cx="44845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5292720" y="2340000"/>
            <a:ext cx="4246560" cy="7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5580000" y="4307040"/>
            <a:ext cx="3419640" cy="1452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141560" y="4680000"/>
            <a:ext cx="42591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Иероглифическая запись числа 357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420e"/>
                </a:solidFill>
                <a:latin typeface="Calibri"/>
                <a:ea typeface="Arial Unicode MS"/>
              </a:rPr>
              <a:t>Математика в Древнем Егип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27320"/>
            <a:ext cx="972036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1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egoe UI"/>
                <a:ea typeface="Arial Unicode MS"/>
              </a:rPr>
              <a:t>Неизвестное число - </a:t>
            </a:r>
            <a:r>
              <a:rPr b="0" lang="en-US" sz="2200" spc="-1" strike="noStrike">
                <a:solidFill>
                  <a:srgbClr val="ff3366"/>
                </a:solidFill>
                <a:latin typeface="Segoe UI"/>
                <a:ea typeface="Arial Unicode MS"/>
              </a:rPr>
              <a:t>„хау“</a:t>
            </a:r>
            <a:r>
              <a:rPr b="0" lang="en-US" sz="2200" spc="-1" strike="noStrike">
                <a:solidFill>
                  <a:srgbClr val="000000"/>
                </a:solidFill>
                <a:latin typeface="Segoe UI"/>
                <a:ea typeface="Arial Unicode MS"/>
              </a:rPr>
              <a:t>, </a:t>
            </a:r>
            <a:r>
              <a:rPr b="0" lang="en-US" sz="2200" spc="-1" strike="noStrike">
                <a:solidFill>
                  <a:srgbClr val="ff3366"/>
                </a:solidFill>
                <a:latin typeface="Segoe UI"/>
                <a:ea typeface="Arial Unicode MS"/>
              </a:rPr>
              <a:t>“куча”</a:t>
            </a:r>
            <a:r>
              <a:rPr b="0" lang="en-US" sz="2200" spc="-1" strike="noStrike">
                <a:solidFill>
                  <a:srgbClr val="000000"/>
                </a:solidFill>
                <a:latin typeface="Segoe UI"/>
                <a:ea typeface="Arial Unicode MS"/>
              </a:rPr>
              <a:t> или </a:t>
            </a:r>
            <a:r>
              <a:rPr b="0" lang="en-US" sz="2200" spc="-1" strike="noStrike">
                <a:solidFill>
                  <a:srgbClr val="ff3366"/>
                </a:solidFill>
                <a:latin typeface="Segoe UI"/>
                <a:ea typeface="Arial Unicode MS"/>
              </a:rPr>
              <a:t>“неизвестное количество” </a:t>
            </a:r>
            <a:r>
              <a:rPr b="0" lang="en-US" sz="2200" spc="-1" strike="noStrike">
                <a:solidFill>
                  <a:srgbClr val="000000"/>
                </a:solidFill>
                <a:latin typeface="Segoe UI"/>
                <a:ea typeface="Arial Unicode MS"/>
              </a:rPr>
              <a:t>едини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1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1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6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6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6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6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6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5400720" y="5940360"/>
            <a:ext cx="3959280" cy="900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2340000" y="4859280"/>
            <a:ext cx="55800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804c19"/>
                </a:solidFill>
                <a:latin typeface="Calibri"/>
                <a:ea typeface="Microsoft YaHei"/>
              </a:rPr>
              <a:t>Задача № 24 сборника Ахме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804c19"/>
                </a:solidFill>
                <a:latin typeface="Calibri"/>
                <a:ea typeface="Microsoft YaHei"/>
              </a:rPr>
              <a:t>  </a:t>
            </a:r>
            <a:r>
              <a:rPr b="0" lang="de-DE" sz="2400" spc="-1" strike="noStrike">
                <a:solidFill>
                  <a:srgbClr val="804c19"/>
                </a:solidFill>
                <a:latin typeface="Calibri"/>
                <a:ea typeface="Microsoft YaHei"/>
              </a:rPr>
              <a:t>«Куча. Ее седьмая часть 19. Найти куч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20720" y="6119640"/>
            <a:ext cx="44845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Запись задачи нашими зна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539640" y="1979640"/>
            <a:ext cx="3959280" cy="2700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4680000" y="3170160"/>
            <a:ext cx="4734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Часть папируса Ахмеса 1650г. до н.э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376200"/>
            <a:ext cx="630072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5c8526"/>
                </a:solidFill>
                <a:latin typeface="Calibri"/>
                <a:ea typeface="Arial Unicode MS"/>
              </a:rPr>
              <a:t>Математика в Вавило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39640" y="1440000"/>
            <a:ext cx="4859280" cy="2879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4375080"/>
            <a:ext cx="907092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146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46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00000" y="4500720"/>
            <a:ext cx="4140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579d1c"/>
                </a:solidFill>
                <a:latin typeface="Calibri"/>
                <a:ea typeface="Microsoft YaHei"/>
              </a:rPr>
              <a:t>Вавилонские 60-ричные циф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5730840" y="3419640"/>
            <a:ext cx="3809880" cy="3555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6119640" y="2470320"/>
            <a:ext cx="30607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3cc66"/>
                </a:solidFill>
                <a:latin typeface="Calibri"/>
                <a:ea typeface="Microsoft YaHei"/>
              </a:rPr>
              <a:t>Вавилонская табличка с вычисле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495360"/>
            <a:ext cx="9070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5000b"/>
                </a:solidFill>
                <a:latin typeface="Calibri"/>
                <a:ea typeface="Arial Unicode MS"/>
              </a:rPr>
              <a:t>Математика в Древнем</a:t>
            </a:r>
            <a:r>
              <a:rPr b="0" lang="en-US" sz="4400" spc="-1" strike="noStrike">
                <a:solidFill>
                  <a:srgbClr val="ff950e"/>
                </a:solidFill>
                <a:latin typeface="Calibri"/>
                <a:ea typeface="Arial Unicode MS"/>
              </a:rPr>
              <a:t> </a:t>
            </a:r>
            <a:r>
              <a:rPr b="0" lang="en-US" sz="4400" spc="-1" strike="noStrike">
                <a:solidFill>
                  <a:srgbClr val="c5000b"/>
                </a:solidFill>
                <a:latin typeface="Calibri"/>
                <a:ea typeface="Arial Unicode MS"/>
              </a:rPr>
              <a:t>Кита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60360" y="3060720"/>
            <a:ext cx="3233880" cy="2379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5151600" y="1768320"/>
            <a:ext cx="442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11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egoe UI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619280" y="2479680"/>
            <a:ext cx="21607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1640" indent="-323640">
              <a:lnSpc>
                <a:spcPct val="111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de-DE" sz="2400" spc="-1" strike="noStrike">
                <a:solidFill>
                  <a:srgbClr val="eb613d"/>
                </a:solidFill>
                <a:latin typeface="Segoe UI"/>
                <a:ea typeface="Microsoft YaHei"/>
              </a:rPr>
              <a:t>Суаньп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5759280" y="1800360"/>
            <a:ext cx="3060720" cy="3600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260360" y="5211720"/>
            <a:ext cx="8099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b84700"/>
                </a:solidFill>
                <a:latin typeface="Segoe UI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859280" y="5580000"/>
            <a:ext cx="494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660066"/>
                </a:solidFill>
                <a:latin typeface="Calibri"/>
                <a:ea typeface="Microsoft YaHei"/>
              </a:rPr>
              <a:t>Математика в девяти книгах (начал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538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5000b"/>
                </a:solidFill>
                <a:latin typeface="Calibri"/>
                <a:ea typeface="Arial Unicode MS"/>
              </a:rPr>
              <a:t>Математика в Древнем</a:t>
            </a:r>
            <a:r>
              <a:rPr b="0" lang="en-US" sz="4400" spc="-1" strike="noStrike">
                <a:solidFill>
                  <a:srgbClr val="ff950e"/>
                </a:solidFill>
                <a:latin typeface="Calibri"/>
                <a:ea typeface="Arial Unicode MS"/>
              </a:rPr>
              <a:t> </a:t>
            </a:r>
            <a:r>
              <a:rPr b="0" lang="en-US" sz="4400" spc="-1" strike="noStrike">
                <a:solidFill>
                  <a:srgbClr val="c5000b"/>
                </a:solidFill>
                <a:latin typeface="Calibri"/>
                <a:ea typeface="Arial Unicode MS"/>
              </a:rPr>
              <a:t>Кита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0360" y="2668680"/>
            <a:ext cx="936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84320" y="2700360"/>
            <a:ext cx="1074960" cy="539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4140360" y="2778120"/>
            <a:ext cx="2519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=  142/45 = 3,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367000" y="2778120"/>
            <a:ext cx="333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480000" y="2778120"/>
            <a:ext cx="2167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=  3,14159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440000" y="3780000"/>
            <a:ext cx="7019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6633"/>
                </a:solidFill>
                <a:latin typeface="Calibri"/>
                <a:ea typeface="Microsoft YaHei"/>
              </a:rPr>
              <a:t>Фан-чэн (</a:t>
            </a:r>
            <a:r>
              <a:rPr b="0" lang="ja-JP" sz="2400" spc="-1" strike="noStrike">
                <a:solidFill>
                  <a:srgbClr val="ff6633"/>
                </a:solidFill>
                <a:latin typeface="Calibri"/>
                <a:ea typeface="ＭＳ Ｐゴシック"/>
              </a:rPr>
              <a:t>方程</a:t>
            </a:r>
            <a:r>
              <a:rPr b="0" lang="de-DE" sz="2400" spc="-1" strike="noStrike">
                <a:solidFill>
                  <a:srgbClr val="ff6633"/>
                </a:solidFill>
                <a:latin typeface="Calibri"/>
                <a:ea typeface="Microsoft YaHei"/>
              </a:rPr>
              <a:t>) для решения линейных урав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079640" y="4319640"/>
            <a:ext cx="94154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9999ff"/>
                </a:solidFill>
                <a:latin typeface="Calibri"/>
                <a:ea typeface="Microsoft YaHei"/>
              </a:rPr>
              <a:t>Тянь-юань (</a:t>
            </a:r>
            <a:r>
              <a:rPr b="0" lang="ja-JP" sz="2400" spc="-1" strike="noStrike">
                <a:solidFill>
                  <a:srgbClr val="9999ff"/>
                </a:solidFill>
                <a:latin typeface="Calibri"/>
                <a:ea typeface="ＭＳ Ｐゴシック"/>
              </a:rPr>
              <a:t>天元术</a:t>
            </a:r>
            <a:r>
              <a:rPr b="0" lang="de-DE" sz="2400" spc="-1" strike="noStrike">
                <a:solidFill>
                  <a:srgbClr val="9999ff"/>
                </a:solidFill>
                <a:latin typeface="Calibri"/>
                <a:ea typeface="Microsoft YaHei"/>
              </a:rPr>
              <a:t>) метод нахождения корней многоч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538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alibri"/>
                <a:ea typeface="Arial Unicode MS"/>
              </a:rPr>
              <a:t>Математика в Древней Гре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2700360" y="1800360"/>
            <a:ext cx="5400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47ff"/>
                </a:solidFill>
                <a:latin typeface="Gabriola"/>
                <a:ea typeface="Microsoft YaHei"/>
              </a:rPr>
              <a:t>Три великих геометра древнос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47ff"/>
                </a:solidFill>
                <a:latin typeface="Gabriola"/>
                <a:ea typeface="Microsoft YaHei"/>
              </a:rPr>
              <a:t>Евкл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47ff"/>
                </a:solidFill>
                <a:latin typeface="Gabriola"/>
                <a:ea typeface="Microsoft YaHei"/>
              </a:rPr>
              <a:t>Архим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0047ff"/>
                </a:solidFill>
                <a:latin typeface="Gabriola"/>
                <a:ea typeface="Microsoft YaHei"/>
              </a:rPr>
              <a:t>Апполон Перг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Дмитрий</cp:lastModifiedBy>
  <dcterms:modified xsi:type="dcterms:W3CDTF">2012-05-29T15:58:38Z</dcterms:modified>
  <cp:revision>17</cp:revision>
  <dc:subject/>
  <dc:title>История математики</dc:title>
</cp:coreProperties>
</file>