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32D-2E49-48E6-BBDC-F52F7E6E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643-4766-4155-9BA6-6CC5C44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340-1CBB-4EB2-ADE6-1537013D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9E8-35A6-435F-99D5-1DADF47E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8E3-79F4-4940-98C0-0E1B39B4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A37-8678-4E69-8F40-7A48ADF8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857-1228-4718-B5EC-3EA814F1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C60-FC17-4259-BC2A-5DEFBE6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E16-6544-4491-A964-C01C5AD5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565-5871-422E-ACB4-75708239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283-1D76-4B29-B50A-2A618B4A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092-9B70-4E20-AB27-8E0A29E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4826-D1A2-474F-9EAD-9E2C432D2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Здоровьесберегающие технологии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Физминутка 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(коррекция зрения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Игра.mp3" descr=""/>
          <p:cNvPicPr/>
          <p:nvPr/>
        </p:nvPicPr>
        <p:blipFill>
          <a:blip r:embed="rId1"/>
          <a:stretch/>
        </p:blipFill>
        <p:spPr>
          <a:xfrm>
            <a:off x="289080" y="17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02" name="Oval 3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5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38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ls" descr="butterfly13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Роза открываеися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46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4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5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26m1"/>
          <p:cNvPicPr/>
          <p:nvPr/>
        </p:nvPicPr>
        <p:blipFill>
          <a:blip r:embed="rId1"/>
          <a:stretch/>
        </p:blipFill>
        <p:spPr>
          <a:xfrm>
            <a:off x="3670200" y="4390920"/>
            <a:ext cx="1728720" cy="2292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8m5"/>
          <p:cNvPicPr/>
          <p:nvPr/>
        </p:nvPicPr>
        <p:blipFill>
          <a:blip r:embed="rId1"/>
          <a:stretch/>
        </p:blipFill>
        <p:spPr>
          <a:xfrm>
            <a:off x="3489480" y="180504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303120" y="48117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26m1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7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bPieSlice"/>
          <p:cNvSpPr/>
          <p:nvPr/>
        </p:nvSpPr>
        <p:spPr>
          <a:xfrm>
            <a:off x="1547640" y="404640"/>
            <a:ext cx="6912000" cy="61930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i10_2"/>
          <p:cNvPicPr/>
          <p:nvPr/>
        </p:nvPicPr>
        <p:blipFill>
          <a:blip r:embed="rId2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75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4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7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9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4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5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6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7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8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9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0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1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2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3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4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5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1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1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2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/>
  <dc:description/>
  <dc:language>en-US</dc:language>
  <cp:lastModifiedBy>Admin</cp:lastModifiedBy>
  <dcterms:modified xsi:type="dcterms:W3CDTF">2006-06-11T07:09:53Z</dcterms:modified>
  <cp:revision>22</cp:revision>
  <dc:subject/>
  <dc:title>Слайд 1</dc:title>
</cp:coreProperties>
</file>