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6.wmf" ContentType="image/x-wmf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5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68320" y="685440"/>
            <a:ext cx="512136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B1C3-ACA9-4F49-BBCD-DDF8ABE469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C17B-DBDA-4016-9275-E93D843626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73000" y="687240"/>
            <a:ext cx="5118120" cy="34275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4360" y="4343400"/>
            <a:ext cx="54892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lementary mess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most effective specific flu antiviral in reducing viral shedding, the means by which infection is spre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5N1 strains resistant to oseltamilvir have been shown to be sensitive to Relenz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low (negligible?) systemic bio-availability and so has a low potential to cause systemic side effects, and drug inter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HO has issued a strong recommendation that in high-risk exposure groups zanamivir (Relenza) should be administered as chemoprophylaxis continuing for 7–10 days after the last known expos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233F-7115-4FBB-96AF-6B385F6D3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67960"/>
            <a:ext cx="82296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6760"/>
            <a:ext cx="82296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6736-A897-4DD8-86F0-998C737B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67960"/>
            <a:ext cx="40158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67960"/>
            <a:ext cx="40158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80DD-D393-4CB1-817D-CA2CDE1A7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67960"/>
            <a:ext cx="26496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67960"/>
            <a:ext cx="26496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67960"/>
            <a:ext cx="26496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6760"/>
            <a:ext cx="26496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6760"/>
            <a:ext cx="26496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6760"/>
            <a:ext cx="26496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740F-C742-4AA0-AE44-2F9EDACFA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766B-ABDD-4E06-B83E-A4BFFAE6B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67960"/>
            <a:ext cx="8229600" cy="36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A3C50-B412-445E-A7D9-25B2BD48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67960"/>
            <a:ext cx="8229600" cy="36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B04A-5240-4FD6-BA8E-89F6F44A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67960"/>
            <a:ext cx="4015800" cy="36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67960"/>
            <a:ext cx="4015800" cy="36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DDBF-2DB8-4BC7-9156-89EC3F63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8B94-82ED-4AE5-851B-62F685F1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39840"/>
            <a:ext cx="822960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E924-224D-46BA-B52D-F0D78486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67960"/>
            <a:ext cx="40158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67960"/>
            <a:ext cx="4015800" cy="36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1C60-BEDB-4F0E-BD53-A5946B79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67960"/>
            <a:ext cx="8229600" cy="36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925F-F686-4269-AF5D-E9ED52C5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67960"/>
            <a:ext cx="4015800" cy="36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67960"/>
            <a:ext cx="40158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A8A9-D1A1-45E9-B4A2-56A4FBD6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67960"/>
            <a:ext cx="40158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67960"/>
            <a:ext cx="40158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82296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A548-9AD4-415D-8843-9CBB46B3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67960"/>
            <a:ext cx="82296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6760"/>
            <a:ext cx="82296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78AA-6BE1-40DD-BBE7-76EE41EE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67960"/>
            <a:ext cx="40158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67960"/>
            <a:ext cx="40158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5482-BA55-4B09-BB2F-4FC67CF65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67960"/>
            <a:ext cx="26496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67960"/>
            <a:ext cx="26496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67960"/>
            <a:ext cx="26496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6760"/>
            <a:ext cx="26496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6760"/>
            <a:ext cx="26496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6760"/>
            <a:ext cx="26496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09B9-9ADE-49B7-AE29-B26A25116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67960"/>
            <a:ext cx="8229600" cy="36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18FD-E571-43C5-B282-A3EACF95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67960"/>
            <a:ext cx="4015800" cy="36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67960"/>
            <a:ext cx="4015800" cy="36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92B6-5846-4AC3-BF1E-CE0EEC0C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3EDD-E587-4DBD-A6F7-4D751841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39840"/>
            <a:ext cx="822960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7329-4349-44DE-8BA8-9494268F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67960"/>
            <a:ext cx="40158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67960"/>
            <a:ext cx="4015800" cy="36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9DC8-96BF-43E7-BADE-EFE937BC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67960"/>
            <a:ext cx="4015800" cy="36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67960"/>
            <a:ext cx="40158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BBF1-58FB-4BED-9B46-6E4A30E1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67960"/>
            <a:ext cx="40158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67960"/>
            <a:ext cx="40158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822960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083F-4132-4E27-BC8B-293A12F2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573520"/>
            <a:ext cx="2133720" cy="4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573520"/>
            <a:ext cx="2895840" cy="4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573520"/>
            <a:ext cx="2133720" cy="4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1CBD-2C1A-4D54-B5F4-4544C871BF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67960"/>
            <a:ext cx="8229600" cy="36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573520"/>
            <a:ext cx="2133720" cy="4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573520"/>
            <a:ext cx="2895840" cy="4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573520"/>
            <a:ext cx="2133720" cy="4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3328-0928-44D3-A864-CE2283759FC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258920" y="361440"/>
            <a:ext cx="6400800" cy="4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едицинский колледж №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3564000" y="56959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сква, 201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Прямоугольник 6" descr=""/>
          <p:cNvPicPr/>
          <p:nvPr/>
        </p:nvPicPr>
        <p:blipFill>
          <a:blip r:embed="rId1"/>
          <a:stretch/>
        </p:blipFill>
        <p:spPr>
          <a:xfrm>
            <a:off x="420840" y="1487520"/>
            <a:ext cx="8296200" cy="270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fb1717"/>
                </a:solidFill>
                <a:uFillTx/>
                <a:latin typeface="Tahoma"/>
              </a:rPr>
              <a:t>Грипп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767960"/>
            <a:ext cx="8229600" cy="36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Грипп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- разновидность острой респираторной вирусной инфекции (ОРВИ). Однако его нередко рассматривают отдельно от остальных заболеваний этой группы, поскольку он отличается от них особо тяжелым течением, наличием тяжелых осложнений и может закончиться смертельным исходом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5-конечная звезда 4"/>
          <p:cNvSpPr/>
          <p:nvPr/>
        </p:nvSpPr>
        <p:spPr>
          <a:xfrm>
            <a:off x="642960" y="318960"/>
            <a:ext cx="928800" cy="701640"/>
          </a:xfrm>
          <a:prstGeom prst="pie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5-конечная звезда 5"/>
          <p:cNvSpPr/>
          <p:nvPr/>
        </p:nvSpPr>
        <p:spPr>
          <a:xfrm>
            <a:off x="7429680" y="382680"/>
            <a:ext cx="928440" cy="701640"/>
          </a:xfrm>
          <a:prstGeom prst="pie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eff420"/>
                </a:solidFill>
                <a:uFillTx/>
                <a:latin typeface="Tahoma"/>
              </a:rPr>
              <a:t>Симптомы грипп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767960"/>
            <a:ext cx="8229600" cy="36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ffff"/>
                </a:solidFill>
                <a:uFillTx/>
                <a:latin typeface="Times New Roman"/>
              </a:rPr>
              <a:t>основной симптом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- высокая температура (до 41,5 градуса), которая держится несколько дней (до 5);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на фоне температуры отмечается головная боль (преимущественно в передней части - лоб, глаза, виски), ломота во всем теле, в первую очередь - в ногах;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чуть позже присоединяется сухой кашель (признак трахеита)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28400" y="318600"/>
            <a:ext cx="320652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собое внимание в настоящее время уделяется регистрации случаев возникновения гриппа </a:t>
            </a:r>
            <a:r>
              <a:rPr b="0" lang="en-US" sz="3200" spc="-1" strike="noStrike">
                <a:solidFill>
                  <a:srgbClr val="fb1717"/>
                </a:solidFill>
                <a:latin typeface="Tahoma"/>
              </a:rPr>
              <a:t>A/H1N1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3635280" y="425520"/>
            <a:ext cx="535788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b1717"/>
                </a:solidFill>
                <a:uFillTx/>
                <a:latin typeface="Tahoma"/>
              </a:rPr>
              <a:t>A/H1N1 </a:t>
            </a:r>
            <a:br>
              <a:rPr sz="4000"/>
            </a:br>
            <a:r>
              <a:rPr b="0" i="1" lang="ru-RU" sz="4000" spc="-1" strike="noStrike" u="sng">
                <a:solidFill>
                  <a:srgbClr val="fb1717"/>
                </a:solidFill>
                <a:uFillTx/>
                <a:latin typeface="Tahoma"/>
              </a:rPr>
              <a:t>(Свиной грипп)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767960"/>
            <a:ext cx="8229600" cy="36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редача вируса от животного к человеку мало распространена, и правильно приготовленная (термически обработанная) свинина не может быть источником заражения. Передаваясь от животного к человеку, вирус не всегда вызывает заболевание и часто выявляется только по наличию антител в крови человека. Случаи, когда передача вируса от животного к человеку приводит к заболеванию, называют зоонозным свиным грипп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Прямоугольник 3"/>
          <p:cNvSpPr/>
          <p:nvPr/>
        </p:nvSpPr>
        <p:spPr>
          <a:xfrm>
            <a:off x="0" y="490680"/>
            <a:ext cx="1428840" cy="446040"/>
          </a:xfrm>
          <a:prstGeom prst="rect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4"/>
          <p:cNvSpPr/>
          <p:nvPr/>
        </p:nvSpPr>
        <p:spPr>
          <a:xfrm>
            <a:off x="7715160" y="554040"/>
            <a:ext cx="1428840" cy="446040"/>
          </a:xfrm>
          <a:prstGeom prst="rect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121440"/>
          </a:xfrm>
          <a:prstGeom prst="rect">
            <a:avLst/>
          </a:prstGeom>
          <a:ln w="0">
            <a:noFill/>
          </a:ln>
        </p:spPr>
      </p:pic>
      <p:sp>
        <p:nvSpPr>
          <p:cNvPr id="126" name="Равнобедренный треугольник 4"/>
          <p:cNvSpPr/>
          <p:nvPr/>
        </p:nvSpPr>
        <p:spPr>
          <a:xfrm rot="5400000">
            <a:off x="6120" y="-6120"/>
            <a:ext cx="701640" cy="714240"/>
          </a:xfrm>
          <a:prstGeom prst="triangle">
            <a:avLst>
              <a:gd name="adj" fmla="val 0"/>
            </a:avLst>
          </a:prstGeom>
          <a:solidFill>
            <a:srgbClr val="0099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Равнобедренный треугольник 5"/>
          <p:cNvSpPr/>
          <p:nvPr/>
        </p:nvSpPr>
        <p:spPr>
          <a:xfrm>
            <a:off x="0" y="5483160"/>
            <a:ext cx="785880" cy="638280"/>
          </a:xfrm>
          <a:prstGeom prst="triangle">
            <a:avLst>
              <a:gd name="adj" fmla="val 0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0" y="75240"/>
            <a:ext cx="9144000" cy="9709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50000">
                <a:srgbClr val="2b5481"/>
              </a:gs>
              <a:gs pos="100000">
                <a:srgbClr val="ff50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eff420"/>
                </a:solidFill>
                <a:uFillTx/>
                <a:latin typeface="Arial"/>
              </a:rPr>
              <a:t>Выделяют два направления в лечении: этиотропное и симптоматическ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Object 3" descr=""/>
          <p:cNvPicPr/>
          <p:nvPr/>
        </p:nvPicPr>
        <p:blipFill>
          <a:blip r:embed="rId1"/>
          <a:stretch/>
        </p:blipFill>
        <p:spPr>
          <a:xfrm>
            <a:off x="-206280" y="2039760"/>
            <a:ext cx="4857480" cy="29750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555480" y="1011240"/>
            <a:ext cx="405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Если будет создан (и применен) запас противовирусных препаратов, достаточный для лечения 20-25% населения, 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5"/>
          <p:cNvSpPr/>
          <p:nvPr/>
        </p:nvSpPr>
        <p:spPr>
          <a:xfrm>
            <a:off x="2019240" y="2209680"/>
            <a:ext cx="762120" cy="6811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Object 6" descr=""/>
          <p:cNvPicPr/>
          <p:nvPr/>
        </p:nvPicPr>
        <p:blipFill>
          <a:blip r:embed="rId2"/>
          <a:stretch/>
        </p:blipFill>
        <p:spPr>
          <a:xfrm>
            <a:off x="4549680" y="2975040"/>
            <a:ext cx="4084560" cy="25002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7"/>
          <p:cNvSpPr/>
          <p:nvPr/>
        </p:nvSpPr>
        <p:spPr>
          <a:xfrm>
            <a:off x="4381560" y="1746360"/>
            <a:ext cx="441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это приведет к снижению числа случаев, нуждающихся в госпитализиции на 50-77%, при этом большинство клинически больных получит противовирусное л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4573440" y="4454640"/>
            <a:ext cx="4038840" cy="66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Все случаи госпитализа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(если противовирусные препарат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не применяютс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5940360" y="3708360"/>
            <a:ext cx="25909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b5481"/>
                </a:solidFill>
                <a:latin typeface="Calibri"/>
              </a:rPr>
              <a:t>Предотвращенные случаи госпитализа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b5481"/>
                </a:solidFill>
                <a:latin typeface="Calibri"/>
              </a:rPr>
              <a:t>(если противовирусные препараты применяютс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0"/>
          <p:cNvSpPr/>
          <p:nvPr/>
        </p:nvSpPr>
        <p:spPr>
          <a:xfrm>
            <a:off x="3314880" y="3638520"/>
            <a:ext cx="1218960" cy="476280"/>
          </a:xfrm>
          <a:prstGeom prst="pie">
            <a:avLst/>
          </a:prstGeom>
          <a:gradFill rotWithShape="0">
            <a:gsLst>
              <a:gs pos="0">
                <a:srgbClr val="66ff33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Этиотропное лече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767960"/>
            <a:ext cx="9144000" cy="36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значают противовирусные препарат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пятствующие проникновению вируса в клетку (Арбидол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рушающие биосинтез нуклеиновых кислот (Рибонуклеазы, Дезоксирибонуклеазы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имптоматическое лече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33200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ставляет собой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рогий постельный режим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менение жаропонижающих средст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токсикационная терапия (обильное питье, капельное введение жидкостей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тигистаминные препарат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ммуностимулирующие препарат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итаминотерап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52000"/>
            <a:ext cx="9144000" cy="86364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50000">
                <a:srgbClr val="2b5481"/>
              </a:gs>
              <a:gs pos="100000">
                <a:srgbClr val="ff5050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e5ffff"/>
                </a:solidFill>
                <a:uFillTx/>
                <a:latin typeface="Tahoma"/>
              </a:rPr>
              <a:t>В настоящее время наиболее эффективным лекарственным препаратом в лечении ОРВИ считается Реленза</a:t>
            </a:r>
            <a:endParaRPr b="0" lang="en-US" sz="2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2513160"/>
            <a:ext cx="5819760" cy="23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28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Ингаляционный способ доставки гарантирует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542880">
              <a:lnSpc>
                <a:spcPct val="80000"/>
              </a:lnSpc>
              <a:spcBef>
                <a:spcPts val="225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быстрое начало противовирусного действ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542880">
              <a:lnSpc>
                <a:spcPct val="80000"/>
              </a:lnSpc>
              <a:spcBef>
                <a:spcPts val="225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высокую концентрацию препарата на протяжении респираторного трак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542880">
              <a:lnSpc>
                <a:spcPct val="80000"/>
              </a:lnSpc>
              <a:spcBef>
                <a:spcPts val="225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благоприятный профиль безопас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4" descr="Diskhaler_enhanced"/>
          <p:cNvPicPr/>
          <p:nvPr/>
        </p:nvPicPr>
        <p:blipFill>
          <a:blip r:embed="rId1"/>
          <a:stretch/>
        </p:blipFill>
        <p:spPr>
          <a:xfrm>
            <a:off x="5473800" y="1397160"/>
            <a:ext cx="3450960" cy="31748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5491080" y="4937040"/>
            <a:ext cx="3652920" cy="6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РЕЛЕН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Высокие концентрации РЕЛЕНЗ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5305320" y="5019840"/>
            <a:ext cx="138240" cy="1458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5305320" y="5316480"/>
            <a:ext cx="138240" cy="1461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0" y="5708520"/>
            <a:ext cx="805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539640" y="1222200"/>
            <a:ext cx="482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нгаляционный способ введения РЕЛЕНЗЫ обеспечивает адресную доставку препарата в область внедрения виру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офилактика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79280" y="1454040"/>
            <a:ext cx="410544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Профилактика может быть специфической и неспецифической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5003640" y="1547640"/>
            <a:ext cx="4008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7120" y="16812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e5ffff"/>
                </a:solidFill>
                <a:uFillTx/>
                <a:latin typeface="Tahoma"/>
              </a:rPr>
              <a:t>Над проектом работали</a:t>
            </a:r>
            <a:r>
              <a:rPr b="0" i="1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24000" y="1197000"/>
            <a:ext cx="8640720" cy="41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b1717"/>
                </a:solidFill>
                <a:latin typeface="Times New Roman"/>
              </a:rPr>
              <a:t>31 А групп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тников Евгений, Купцов Дмитр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b1717"/>
                </a:solidFill>
                <a:latin typeface="Times New Roman"/>
              </a:rPr>
              <a:t>41 А групп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усакин Дмитрий, Аверкина Светлана, Богомолов Алексей, Веденеева Татьяна, Горельков Дмитрий, Горельков Денис, Дебабова Аня, Фёдорова Дарья, Шкарупа Елена,Кучин Викто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b1717"/>
                </a:solidFill>
                <a:latin typeface="Times New Roman"/>
              </a:rPr>
              <a:t>Руководитель кружка –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итова Светлана Владимиров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 u="sng">
                <a:solidFill>
                  <a:srgbClr val="fb1717"/>
                </a:solidFill>
                <a:uFillTx/>
                <a:latin typeface="Tahoma"/>
              </a:rPr>
              <a:t>Неспецифическая профилактика</a:t>
            </a:r>
            <a:endParaRPr b="0" lang="en-US" sz="41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изическая актив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1403280" y="2001960"/>
            <a:ext cx="601200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 u="sng">
                <a:solidFill>
                  <a:srgbClr val="e5ffff"/>
                </a:solidFill>
                <a:uFillTx/>
                <a:latin typeface="Tahoma"/>
              </a:rPr>
              <a:t>Неспецифическая профилактика</a:t>
            </a:r>
            <a:endParaRPr b="0" lang="en-US" sz="41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260000"/>
            <a:ext cx="822960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Правильно организованное питание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1908000" y="1838160"/>
            <a:ext cx="51850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 u="sng">
                <a:solidFill>
                  <a:srgbClr val="fb1717"/>
                </a:solidFill>
                <a:uFillTx/>
                <a:latin typeface="Tahoma"/>
              </a:rPr>
              <a:t>Неспецифическая профилактика</a:t>
            </a:r>
            <a:endParaRPr b="0" lang="en-US" sz="41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9" name="Picture 4" descr="040207888"/>
          <p:cNvPicPr/>
          <p:nvPr/>
        </p:nvPicPr>
        <p:blipFill>
          <a:blip r:embed="rId1"/>
          <a:stretch/>
        </p:blipFill>
        <p:spPr>
          <a:xfrm>
            <a:off x="0" y="1547640"/>
            <a:ext cx="4500720" cy="4573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диско"/>
          <p:cNvPicPr/>
          <p:nvPr/>
        </p:nvPicPr>
        <p:blipFill>
          <a:blip r:embed="rId2"/>
          <a:stretch/>
        </p:blipFill>
        <p:spPr>
          <a:xfrm>
            <a:off x="4500720" y="1547640"/>
            <a:ext cx="4643280" cy="45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пецифическая профилакти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67960"/>
            <a:ext cx="8229600" cy="36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специфической профилактики гриппа применяют живые вакцины и убитые поливалентные вакцины для подкожного введения, которые формируют иммунитет такой же продолжительности, как и перенесенная болезнь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флюва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люаР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иппо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luvac sub-un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4" descr="grippol_plus_dlya_specialis"/>
          <p:cNvPicPr/>
          <p:nvPr/>
        </p:nvPicPr>
        <p:blipFill>
          <a:blip r:embed="rId1"/>
          <a:stretch/>
        </p:blipFill>
        <p:spPr>
          <a:xfrm>
            <a:off x="7238880" y="32050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solinfluvac"/>
          <p:cNvPicPr/>
          <p:nvPr/>
        </p:nvPicPr>
        <p:blipFill>
          <a:blip r:embed="rId2"/>
          <a:stretch/>
        </p:blipFill>
        <p:spPr>
          <a:xfrm>
            <a:off x="4572000" y="3457440"/>
            <a:ext cx="2664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РВИ в нашем колледж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67960"/>
            <a:ext cx="8229600" cy="36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удентами педиатрического кружка было проведено анкетирование наиболее часто болеющих студентов и проведён анализ медицинских документов, предоставленных заведующей здравпункта колледжа, что позволило сделать вывод о данной статистике в медицинском колледже №5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6040" y="281160"/>
            <a:ext cx="8229600" cy="25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Анкета для сбора данных пациентов часто болеющих ОР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539640"/>
            <a:ext cx="9036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милия, Имя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раст_____ Пол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та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жалобы больного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еющиеся заболевания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рганы дых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шель__________  Боль____________ Мокрота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ышка____  в покое_____ при нагрузке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вет кожи__________________________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ло дыханий:   в покое_____     при нагрузке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чение заболевания на протяжении последних 3 л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рессирование___________ Возвращение к норме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Время год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: круглогодично_____       количество раз в году___________ Сезонно____           сезонные обострения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д занятий: __________________________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именно развиваются симптомы болезни: 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лияние поездок в отпуск или других географических изменений, связанных со сменой жительств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лияние нахождения в аудитории, колледже или служебном помещении: 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лияние специфических условий окружающей среды: 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бывание во время болезни: дома______ вне дома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чение: самостоятельное______ под контролем врача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Жилищные услов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 _____ Сельская местность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ый дом________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дельная квартира_____   Количество комнат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отопления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проживающих: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, по мнению больного, ухудшает состояние: 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каких условиях больной чувствует исчезновение симптомов заболевания: 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лючение и дополнительные замечания: 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Диаграмма 4"/>
          <p:cNvGraphicFramePr/>
          <p:nvPr/>
        </p:nvGraphicFramePr>
        <p:xfrm>
          <a:off x="631800" y="1666800"/>
          <a:ext cx="7921800" cy="417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0" name="Диаграмма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1800" y="1666800"/>
                    <a:ext cx="7921800" cy="41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9999"/>
                </a:solidFill>
                <a:latin typeface="Arial"/>
              </a:rPr>
              <a:t>C</a:t>
            </a:r>
            <a:r>
              <a:rPr b="1" i="1" lang="ru-RU" sz="3600" spc="-1" strike="noStrike">
                <a:solidFill>
                  <a:srgbClr val="009999"/>
                </a:solidFill>
                <a:latin typeface="Arial"/>
              </a:rPr>
              <a:t>оотношение заболеваний ОРВИ 2009-2010 у студентов МК</a:t>
            </a:r>
            <a:r>
              <a:rPr b="1" i="1" lang="en-US" sz="3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9999"/>
                </a:solidFill>
                <a:latin typeface="Arial"/>
              </a:rPr>
              <a:t>№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7"/>
          <p:cNvSpPr/>
          <p:nvPr/>
        </p:nvSpPr>
        <p:spPr>
          <a:xfrm>
            <a:off x="4214880" y="191304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8"/>
          <p:cNvSpPr/>
          <p:nvPr/>
        </p:nvSpPr>
        <p:spPr>
          <a:xfrm>
            <a:off x="5214960" y="312408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9"/>
          <p:cNvSpPr/>
          <p:nvPr/>
        </p:nvSpPr>
        <p:spPr>
          <a:xfrm>
            <a:off x="5357880" y="427212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0"/>
          <p:cNvSpPr/>
          <p:nvPr/>
        </p:nvSpPr>
        <p:spPr>
          <a:xfrm>
            <a:off x="4859280" y="4861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1"/>
          <p:cNvSpPr/>
          <p:nvPr/>
        </p:nvSpPr>
        <p:spPr>
          <a:xfrm>
            <a:off x="4284720" y="507672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2"/>
          <p:cNvSpPr/>
          <p:nvPr/>
        </p:nvSpPr>
        <p:spPr>
          <a:xfrm>
            <a:off x="3492360" y="5076720"/>
            <a:ext cx="15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3"/>
          <p:cNvSpPr/>
          <p:nvPr/>
        </p:nvSpPr>
        <p:spPr>
          <a:xfrm>
            <a:off x="2268360" y="442908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4"/>
          <p:cNvSpPr/>
          <p:nvPr/>
        </p:nvSpPr>
        <p:spPr>
          <a:xfrm>
            <a:off x="1979640" y="342108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6"/>
          <p:cNvSpPr/>
          <p:nvPr/>
        </p:nvSpPr>
        <p:spPr>
          <a:xfrm>
            <a:off x="2340000" y="248436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7"/>
          <p:cNvSpPr/>
          <p:nvPr/>
        </p:nvSpPr>
        <p:spPr>
          <a:xfrm>
            <a:off x="2987640" y="212400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755640" y="5310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2 г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7"/>
          <p:cNvSpPr/>
          <p:nvPr/>
        </p:nvSpPr>
        <p:spPr>
          <a:xfrm flipV="1">
            <a:off x="1258920" y="4860720"/>
            <a:ext cx="792000" cy="57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8"/>
          <p:cNvSpPr/>
          <p:nvPr/>
        </p:nvSpPr>
        <p:spPr>
          <a:xfrm>
            <a:off x="1908000" y="13255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1 А г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9"/>
          <p:cNvSpPr/>
          <p:nvPr/>
        </p:nvSpPr>
        <p:spPr>
          <a:xfrm>
            <a:off x="2340000" y="1646280"/>
            <a:ext cx="503280" cy="33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0"/>
          <p:cNvSpPr/>
          <p:nvPr/>
        </p:nvSpPr>
        <p:spPr>
          <a:xfrm>
            <a:off x="5219640" y="13906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1 А г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1"/>
          <p:cNvSpPr/>
          <p:nvPr/>
        </p:nvSpPr>
        <p:spPr>
          <a:xfrm flipH="1">
            <a:off x="5219640" y="1709640"/>
            <a:ext cx="432000" cy="45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6300720" y="2610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3"/>
          <p:cNvSpPr/>
          <p:nvPr/>
        </p:nvSpPr>
        <p:spPr>
          <a:xfrm flipH="1">
            <a:off x="6084720" y="2932200"/>
            <a:ext cx="432000" cy="25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4"/>
          <p:cNvSpPr/>
          <p:nvPr/>
        </p:nvSpPr>
        <p:spPr>
          <a:xfrm>
            <a:off x="6443640" y="47307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5"/>
          <p:cNvSpPr/>
          <p:nvPr/>
        </p:nvSpPr>
        <p:spPr>
          <a:xfrm flipH="1" flipV="1">
            <a:off x="5940360" y="4667040"/>
            <a:ext cx="503280" cy="32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6"/>
          <p:cNvSpPr/>
          <p:nvPr/>
        </p:nvSpPr>
        <p:spPr>
          <a:xfrm>
            <a:off x="971640" y="2097000"/>
            <a:ext cx="1839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7"/>
          <p:cNvSpPr/>
          <p:nvPr/>
        </p:nvSpPr>
        <p:spPr>
          <a:xfrm>
            <a:off x="5796000" y="55040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1 г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8"/>
          <p:cNvSpPr/>
          <p:nvPr/>
        </p:nvSpPr>
        <p:spPr>
          <a:xfrm>
            <a:off x="5148360" y="57942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1 А г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9"/>
          <p:cNvSpPr/>
          <p:nvPr/>
        </p:nvSpPr>
        <p:spPr>
          <a:xfrm flipH="1" flipV="1">
            <a:off x="4858920" y="550368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30"/>
          <p:cNvSpPr/>
          <p:nvPr/>
        </p:nvSpPr>
        <p:spPr>
          <a:xfrm flipH="1" flipV="1">
            <a:off x="5508720" y="5375160"/>
            <a:ext cx="28728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2"/>
          <p:cNvSpPr/>
          <p:nvPr/>
        </p:nvSpPr>
        <p:spPr>
          <a:xfrm>
            <a:off x="1476360" y="57942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3 г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3"/>
          <p:cNvSpPr/>
          <p:nvPr/>
        </p:nvSpPr>
        <p:spPr>
          <a:xfrm flipV="1">
            <a:off x="2195640" y="5652720"/>
            <a:ext cx="1224000" cy="29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4"/>
          <p:cNvSpPr/>
          <p:nvPr/>
        </p:nvSpPr>
        <p:spPr>
          <a:xfrm>
            <a:off x="179280" y="33829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1 г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6"/>
          <p:cNvSpPr/>
          <p:nvPr/>
        </p:nvSpPr>
        <p:spPr>
          <a:xfrm>
            <a:off x="755640" y="20318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2 А г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8"/>
          <p:cNvSpPr/>
          <p:nvPr/>
        </p:nvSpPr>
        <p:spPr>
          <a:xfrm flipH="1" flipV="1">
            <a:off x="1618920" y="2354040"/>
            <a:ext cx="576360" cy="12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9"/>
          <p:cNvSpPr/>
          <p:nvPr/>
        </p:nvSpPr>
        <p:spPr>
          <a:xfrm flipH="1">
            <a:off x="899640" y="3565440"/>
            <a:ext cx="863640" cy="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eff420"/>
                </a:solidFill>
                <a:uFillTx/>
                <a:latin typeface="Tahoma"/>
              </a:rPr>
              <a:t>Вывод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68320"/>
            <a:ext cx="8229600" cy="31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доровье – главное богатство человек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доровье – энергия счастливой жизн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ждый человек сам кузнец своего здоровь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думай о простуде свысок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сознанный вред здоровью нельзя оправдать ниче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68360" y="36144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пасибо за внимание. Будьте здоровы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облюдайте призыв государства от 02.10.09 МЗ РФ по программе формирования здорового образа жизни, посещайте вновь открытые центры здоровья в ваших районах, которые организованы на базе детских и взрослых поликлиник и других оздоровительных учреждения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eff420"/>
                </a:solidFill>
                <a:uFillTx/>
                <a:latin typeface="Tahoma"/>
              </a:rPr>
              <a:t>Цели</a:t>
            </a:r>
            <a:r>
              <a:rPr b="0" i="1" lang="en-US" sz="4400" spc="-1" strike="noStrike" u="sng">
                <a:solidFill>
                  <a:srgbClr val="eff420"/>
                </a:solidFill>
                <a:uFillTx/>
                <a:latin typeface="Tahoma"/>
              </a:rPr>
              <a:t>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67960"/>
            <a:ext cx="8229600" cy="36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витие традиций проведения устного журнала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я будущая професси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здание атмосферы творчества, сотрудничества, выявления положительных личностных и исследовательских качеств студен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крепление полученных умений в работе с дополнительной литературой, специальной медицинской документацие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eff420"/>
                </a:solidFill>
                <a:uFillTx/>
                <a:latin typeface="Tahoma"/>
              </a:rPr>
              <a:t>Задачи</a:t>
            </a:r>
            <a:r>
              <a:rPr b="0" i="1" lang="en-US" sz="4400" spc="-1" strike="noStrike" u="sng">
                <a:solidFill>
                  <a:srgbClr val="eff420"/>
                </a:solidFill>
                <a:uFillTx/>
                <a:latin typeface="Tahoma"/>
              </a:rPr>
              <a:t>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67960"/>
            <a:ext cx="8229600" cy="36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пагандировать здоровый образ жизн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ботиться о гармоничном развитии физического и духовного здоровь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влекать студентов в работу учебно-исследовательских кружк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высить интерес к расширению кругозора и углублению знаний клинических дисциплин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b1717"/>
                </a:solidFill>
                <a:latin typeface="Tahoma"/>
              </a:rPr>
              <a:t>ОРВ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767960"/>
            <a:ext cx="8229600" cy="36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Одним из часто встречающихся заболеваний населения, в том числе и в студенческой среде является острая респираторно-вирусная инфекция. 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Острая респираторно-вирусная инфекция (ОРВИ), в быту просту́да — распространённая группа вирусных заболеваний верхних дыхательных путей, в ходе развития которых может присоединяться бактериальная инфекция.</a:t>
            </a: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Содержимое 3"/>
          <p:cNvGraphicFramePr/>
          <p:nvPr/>
        </p:nvGraphicFramePr>
        <p:xfrm>
          <a:off x="981000" y="361800"/>
          <a:ext cx="7315200" cy="541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361800"/>
                    <a:ext cx="7315200" cy="54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Text Box 3"/>
          <p:cNvSpPr/>
          <p:nvPr/>
        </p:nvSpPr>
        <p:spPr>
          <a:xfrm>
            <a:off x="4211640" y="2997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556000" y="45385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476360" y="37670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187280" y="29322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1908000" y="20318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2843280" y="15177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eff420"/>
                </a:solidFill>
                <a:uFillTx/>
                <a:latin typeface="Tahoma"/>
              </a:rPr>
              <a:t>Этиолог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767960"/>
            <a:ext cx="8229600" cy="36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РВИ вызывается большим числом возбудителей, среди которых не менее 5 различных групп вирусов (вирусы парагриппа, гриппа, аденовирусы, риновирусы, реовирусы и др.) и более 300 их подтипов. Их всех объединяет то, что они очень заразны, так как передаются воздушно-капельным путем. Есть данные, что вирусы ОРВИ эффективно распространяются и при телесном контакте, например, при рукопожат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fb1717"/>
                </a:solidFill>
                <a:uFillTx/>
                <a:latin typeface="Tahoma"/>
              </a:rPr>
              <a:t>Патогенез ОРВ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767960"/>
            <a:ext cx="8229600" cy="36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начальный период болезни вирус размножается в «воротах инфекции»: носу, носоглотке, гортани. Температура обычно не повышается. Иногда в этот процесс вовлекаются слизистые глаз и желудочно-кишечного тракта. Активация иммунного ответа приводит к выработке организмом антител к вирус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24000" y="87588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тем вирус попадает в кровь и вызывает симптомы общей интоксикации: озноб, головная боль, ломота в спине и конечностях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 финальном этапе неосложнённой ОРВИ происходит очищение дыхательных путей от поражённых вирусом слоёв эпителия, что проявляется как насморк и влажный кашел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3:43:57Z</dcterms:created>
  <dc:creator>Евгений</dc:creator>
  <dc:description/>
  <dc:language>en-US</dc:language>
  <cp:lastModifiedBy>Евгений</cp:lastModifiedBy>
  <dcterms:modified xsi:type="dcterms:W3CDTF">2011-09-19T19:31:06Z</dcterms:modified>
  <cp:revision>101</cp:revision>
  <dc:subject/>
  <dc:title>Слайд 1</dc:title>
</cp:coreProperties>
</file>