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68320" y="685440"/>
            <a:ext cx="5121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59D8-0E5D-4748-8367-E21D5AF0B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43B2-DA66-4C40-B3CB-FC6FBCCC2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687240"/>
            <a:ext cx="5118120" cy="3427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mess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st effective specific flu antiviral in reducing viral shedding, the means by which infection is spr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5N1 strains resistant to oseltamilvir have been shown to be sensitive to Relenz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low (negligible?) systemic bio-availability and so has a low potential to cause systemic side effects, and drug inter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 has issued a strong recommendation that in high-risk exposure groups zanamivir (Relenza) should be administered as chemoprophylaxis continuing for 7–10 days after the last known expo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814-B319-4FFA-90E5-A65C54C7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365-C683-4FA8-8AAA-E8083B6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071-4106-4F06-BFCC-7A29B213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168-A896-4506-A72A-63ABA17D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8D32-84D1-45B7-8C58-E74317CB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5A3E-1071-4CF4-A039-1A60E171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440-45BF-41E6-8B1D-C53AA55B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250D-1565-4998-B579-9815AD5C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1A67-9419-48DE-B319-964CD787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39840"/>
            <a:ext cx="8229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9C0C-8B66-4118-B267-6F1CD65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783E-8938-40DC-BC95-2EF2EDC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F2A-3296-46B6-A5B9-3972CEDD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F97A-A21C-4D30-9AA0-9977A2A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C24-AED2-4F8C-A203-88905C8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7F16-BB02-46DD-861F-41D7667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3E9-A512-4DA7-8804-9C2786B3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AC0-535C-43E0-BFCF-433D85A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694-A9DA-49F3-9B56-1ACAAA99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58C-9D68-49D9-8BD4-41689C77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8F1-63F5-415E-97D2-0FDCE8FE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9840"/>
            <a:ext cx="8229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108-84A8-4A05-A28A-3C626E8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7D0-8D88-421B-B333-987005F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D5B-8737-44BC-8E0E-6A06D97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8FE-40EF-40A5-A0D8-49159E7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3520"/>
            <a:ext cx="289584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B09-10DB-4A5C-AFDD-9821D0A4F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A9E-3E19-49A3-8259-FA48388003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58920" y="361440"/>
            <a:ext cx="6400800" cy="4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ицинский колледж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564000" y="5695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сква,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6" descr=""/>
          <p:cNvPicPr/>
          <p:nvPr/>
        </p:nvPicPr>
        <p:blipFill>
          <a:blip r:embed="rId1"/>
          <a:stretch/>
        </p:blipFill>
        <p:spPr>
          <a:xfrm>
            <a:off x="420840" y="1487520"/>
            <a:ext cx="829620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b1717"/>
                </a:solidFill>
                <a:uFillTx/>
                <a:latin typeface="Tahoma"/>
              </a:rPr>
              <a:t>Гри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рип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разновидность острой респираторной вирусной инфекции (ОРВИ). Однако его нередко рассматривают отдельно от остальных заболеваний этой группы, поскольку он отличается от них особо тяжелым течением, наличием тяжелых осложнений и может закончиться смертельным исход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5-конечная звезда 4"/>
          <p:cNvSpPr/>
          <p:nvPr/>
        </p:nvSpPr>
        <p:spPr>
          <a:xfrm>
            <a:off x="642960" y="318960"/>
            <a:ext cx="928800" cy="70164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-конечная звезда 5"/>
          <p:cNvSpPr/>
          <p:nvPr/>
        </p:nvSpPr>
        <p:spPr>
          <a:xfrm>
            <a:off x="7429680" y="382680"/>
            <a:ext cx="928440" cy="70164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Симптомы грип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ой симптом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высокая температура (до 41,5 градуса), которая держится несколько дней (до 5)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а фоне температуры отмечается головная боль (преимущественно в передней части - лоб, глаза, виски), ломота во всем теле, в первую очередь - в ногах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чуть позже присоединяется сухой кашель (признак трахеита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28400" y="318600"/>
            <a:ext cx="32065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ое внимание в настоящее время уделяется регистрации случаев возникновения гриппа </a:t>
            </a:r>
            <a:r>
              <a:rPr b="0" lang="en-US" sz="3200" spc="-1" strike="noStrike">
                <a:solidFill>
                  <a:srgbClr val="fb1717"/>
                </a:solidFill>
                <a:latin typeface="Tahoma"/>
              </a:rPr>
              <a:t>A/H1N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635280" y="425520"/>
            <a:ext cx="5357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b1717"/>
                </a:solidFill>
                <a:uFillTx/>
                <a:latin typeface="Tahoma"/>
              </a:rPr>
              <a:t>A/H1N1 </a:t>
            </a:r>
            <a:br>
              <a:rPr sz="4000"/>
            </a:br>
            <a:r>
              <a:rPr b="0" i="1" lang="ru-RU" sz="4000" spc="-1" strike="noStrike" u="sng">
                <a:solidFill>
                  <a:srgbClr val="fb1717"/>
                </a:solidFill>
                <a:uFillTx/>
                <a:latin typeface="Tahoma"/>
              </a:rPr>
              <a:t>(Свиной грипп)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дача вируса от животного к человеку мало распространена, и правильно приготовленная (термически обработанная) свинина не может быть источником заражения. Передаваясь от животного к человеку, вирус не всегда вызывает заболевание и часто выявляется только по наличию антител в крови человека. Случаи, когда передача вируса от животного к человеку приводит к заболеванию, называют зоонозным свиным грипп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0" y="490680"/>
            <a:ext cx="1428840" cy="4460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7715160" y="554040"/>
            <a:ext cx="1428840" cy="4460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121440"/>
          </a:xfrm>
          <a:prstGeom prst="rect">
            <a:avLst/>
          </a:prstGeom>
          <a:ln w="0">
            <a:noFill/>
          </a:ln>
        </p:spPr>
      </p:pic>
      <p:sp>
        <p:nvSpPr>
          <p:cNvPr id="126" name="Равнобедренный треугольник 4"/>
          <p:cNvSpPr/>
          <p:nvPr/>
        </p:nvSpPr>
        <p:spPr>
          <a:xfrm rot="5400000">
            <a:off x="6120" y="-6120"/>
            <a:ext cx="701640" cy="71424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5"/>
          <p:cNvSpPr/>
          <p:nvPr/>
        </p:nvSpPr>
        <p:spPr>
          <a:xfrm>
            <a:off x="0" y="5483160"/>
            <a:ext cx="785880" cy="63828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5240"/>
            <a:ext cx="9144000" cy="970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2b5481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ff420"/>
                </a:solidFill>
                <a:uFillTx/>
                <a:latin typeface="Arial"/>
              </a:rPr>
              <a:t>Выделяют два направления в лечении: этиотропное и симптоматичес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3" descr=""/>
          <p:cNvPicPr/>
          <p:nvPr/>
        </p:nvPicPr>
        <p:blipFill>
          <a:blip r:embed="rId1"/>
          <a:stretch/>
        </p:blipFill>
        <p:spPr>
          <a:xfrm>
            <a:off x="-206280" y="2039760"/>
            <a:ext cx="4857480" cy="2975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55480" y="1011240"/>
            <a:ext cx="40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сли будет создан (и применен) запас противовирусных препаратов, достаточный для лечения 20-25% населения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19240" y="2209680"/>
            <a:ext cx="762120" cy="681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6" descr=""/>
          <p:cNvPicPr/>
          <p:nvPr/>
        </p:nvPicPr>
        <p:blipFill>
          <a:blip r:embed="rId2"/>
          <a:stretch/>
        </p:blipFill>
        <p:spPr>
          <a:xfrm>
            <a:off x="4549680" y="2975040"/>
            <a:ext cx="4084560" cy="2500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381560" y="17463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о приведет к снижению числа случаев, нуждающихся в госпитализиции на 50-77%, при этом большинство клинически больных получит противовирусное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573440" y="4454640"/>
            <a:ext cx="4038840" cy="66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се случаи госпитал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если противовирусные препар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 применя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940360" y="3708360"/>
            <a:ext cx="25909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Calibri"/>
              </a:rPr>
              <a:t>Предотвращенные случаи госпитал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Calibri"/>
              </a:rPr>
              <a:t>(если противовирусные препараты применя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314880" y="3638520"/>
            <a:ext cx="1218960" cy="476280"/>
          </a:xfrm>
          <a:prstGeom prst="pie">
            <a:avLst/>
          </a:pr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иотропное ле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767960"/>
            <a:ext cx="91440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начают противовирусные препара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ятствующие проникновению вируса в клетку (Арбидо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ающие биосинтез нуклеиновых кислот (Рибонуклеазы, Дезоксирибонуклеаз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имптоматическое ле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32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 собо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огий постельный режи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нение жаропонижающих сред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оксикационная терапия (обильное питье, капельное введение жидкосте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гистаминные препара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муностимулирующие препара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таминотерап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9144000" cy="863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2b5481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e5ffff"/>
                </a:solidFill>
                <a:uFillTx/>
                <a:latin typeface="Tahoma"/>
              </a:rPr>
              <a:t>В настоящее время наиболее эффективным лекарственным препаратом в лечении ОРВИ считается Реленз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513160"/>
            <a:ext cx="5819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28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Ингаляционный способ доставки гарантир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42880">
              <a:lnSpc>
                <a:spcPct val="80000"/>
              </a:lnSpc>
              <a:spcBef>
                <a:spcPts val="22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быстрое начало противовирусного действ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42880">
              <a:lnSpc>
                <a:spcPct val="80000"/>
              </a:lnSpc>
              <a:spcBef>
                <a:spcPts val="22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сокую концентрацию препарата на протяжении респираторного трак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42880">
              <a:lnSpc>
                <a:spcPct val="80000"/>
              </a:lnSpc>
              <a:spcBef>
                <a:spcPts val="22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благоприятный профиль безопас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Diskhaler_enhanced"/>
          <p:cNvPicPr/>
          <p:nvPr/>
        </p:nvPicPr>
        <p:blipFill>
          <a:blip r:embed="rId1"/>
          <a:stretch/>
        </p:blipFill>
        <p:spPr>
          <a:xfrm>
            <a:off x="5473800" y="1397160"/>
            <a:ext cx="3450960" cy="3174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5491080" y="4937040"/>
            <a:ext cx="3652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ЕН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ысокие концентрации РЕЛЕН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05320" y="5019840"/>
            <a:ext cx="138240" cy="14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305320" y="5316480"/>
            <a:ext cx="138240" cy="1461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5708520"/>
            <a:ext cx="80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9640" y="1222200"/>
            <a:ext cx="48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галяционный способ введения РЕЛЕНЗЫ обеспечивает адресную доставку препарата в область внедрения в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филактик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454040"/>
            <a:ext cx="4105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офилактика может быть специфической и неспецифическо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003640" y="1547640"/>
            <a:ext cx="4008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7120" y="1681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Над проектом работали</a:t>
            </a:r>
            <a:r>
              <a:rPr b="0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197000"/>
            <a:ext cx="86407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1717"/>
                </a:solidFill>
                <a:latin typeface="Times New Roman"/>
              </a:rPr>
              <a:t>31 А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тников Евгений, Купцов Дмит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1717"/>
                </a:solidFill>
                <a:latin typeface="Times New Roman"/>
              </a:rPr>
              <a:t>41 А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сакин Дмитрий, Аверкина Светлана, Богомолов Алексей, Веденеева Татьяна, Горельков Дмитрий, Горельков Денис, Дебабова Аня, Фёдорова Дарья, Шкарупа Елена,Кучин Вик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1717"/>
                </a:solidFill>
                <a:latin typeface="Times New Roman"/>
              </a:rPr>
              <a:t>Руководитель кружка 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това Светлан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 u="sng">
                <a:solidFill>
                  <a:srgbClr val="fb1717"/>
                </a:solidFill>
                <a:uFillTx/>
                <a:latin typeface="Tahoma"/>
              </a:rPr>
              <a:t>Неспецифическая профилактика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03280" y="2001960"/>
            <a:ext cx="6012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 u="sng">
                <a:solidFill>
                  <a:srgbClr val="e5ffff"/>
                </a:solidFill>
                <a:uFillTx/>
                <a:latin typeface="Tahoma"/>
              </a:rPr>
              <a:t>Неспецифическая профилактика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000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Правильно организованное питани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908000" y="1838160"/>
            <a:ext cx="5185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 u="sng">
                <a:solidFill>
                  <a:srgbClr val="fb1717"/>
                </a:solidFill>
                <a:uFillTx/>
                <a:latin typeface="Tahoma"/>
              </a:rPr>
              <a:t>Неспецифическая профилактика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Picture 4" descr="040207888"/>
          <p:cNvPicPr/>
          <p:nvPr/>
        </p:nvPicPr>
        <p:blipFill>
          <a:blip r:embed="rId1"/>
          <a:stretch/>
        </p:blipFill>
        <p:spPr>
          <a:xfrm>
            <a:off x="0" y="1547640"/>
            <a:ext cx="4500720" cy="4573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диско"/>
          <p:cNvPicPr/>
          <p:nvPr/>
        </p:nvPicPr>
        <p:blipFill>
          <a:blip r:embed="rId2"/>
          <a:stretch/>
        </p:blipFill>
        <p:spPr>
          <a:xfrm>
            <a:off x="4500720" y="1547640"/>
            <a:ext cx="46432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ецифическая профилакт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пецифической профилактики гриппа применяют живые вакцины и убитые поливалентные вакцины для подкожного введения, которые формируют иммунитет такой же продолжительности, как и перенесенная болезн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люв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люаР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ипп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uvac sub-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grippol_plus_dlya_specialis"/>
          <p:cNvPicPr/>
          <p:nvPr/>
        </p:nvPicPr>
        <p:blipFill>
          <a:blip r:embed="rId1"/>
          <a:stretch/>
        </p:blipFill>
        <p:spPr>
          <a:xfrm>
            <a:off x="7238880" y="3205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solinfluvac"/>
          <p:cNvPicPr/>
          <p:nvPr/>
        </p:nvPicPr>
        <p:blipFill>
          <a:blip r:embed="rId2"/>
          <a:stretch/>
        </p:blipFill>
        <p:spPr>
          <a:xfrm>
            <a:off x="4572000" y="345744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РВИ в нашем колледж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удентами педиатрического кружка было проведено анкетирование наиболее часто болеющих студентов и проведён анализ медицинских документов, предоставленных заведующей здравпункта колледжа, что позволило сделать вывод о данной статистике в медицинском колледже №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6040" y="281160"/>
            <a:ext cx="822960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Анкета для сбора данных пациентов часто болеющих О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39640"/>
            <a:ext cx="9036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милия, Имя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раст_____ Пол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а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жалобы больного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щиеся заболевания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ы дых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шель__________  Боль____________ Мокрота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ышка____  в покое_____ при нагрузке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 кожи__________________________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дыханий:   в покое_____     при нагрузке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чение заболевания на протяжении последних 3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рование___________ Возвращение к норме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 год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круглогодично_____       количество раз в году___________ Сезонно____           сезонные обострения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 занятий: __________________________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именно развиваются симптомы болезни: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оездок в отпуск или других географических изменений, связанных со сменой жи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хождения в аудитории, колледже или служебном помещении: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специфических условий окружающей среды: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бывание во время болезни: дома______ вне дома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чение: самостоятельное______ под контролем врача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ищные усло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 _____ Сельская местность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ый дом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квартира_____   Количество комнат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отопления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проживающих: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, по мнению больного, ухудшает состояние: 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аких условиях больной чувствует исчезновение симптомов заболевания: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 и дополнительные замечания: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Диаграмма 4"/>
          <p:cNvGraphicFramePr/>
          <p:nvPr/>
        </p:nvGraphicFramePr>
        <p:xfrm>
          <a:off x="631800" y="1666800"/>
          <a:ext cx="7921800" cy="41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666800"/>
                    <a:ext cx="79218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оотношение заболеваний ОРВИ 2009-2010 у студентов МК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№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4214880" y="19130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214960" y="3124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357880" y="42721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859280" y="486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4284720" y="50767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3492360" y="50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2268360" y="4429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1979640" y="3421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2340000" y="24843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2987640" y="21240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55640" y="5310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1258920" y="4860720"/>
            <a:ext cx="79200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1908000" y="1325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340000" y="1646280"/>
            <a:ext cx="50328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5219640" y="1390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219640" y="1709640"/>
            <a:ext cx="43200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6300720" y="2610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 flipH="1">
            <a:off x="6084720" y="2932200"/>
            <a:ext cx="43200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6443640" y="4730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H="1" flipV="1">
            <a:off x="5940360" y="4667040"/>
            <a:ext cx="50328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971640" y="2097000"/>
            <a:ext cx="183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5796000" y="55040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5148360" y="5794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H="1" flipV="1">
            <a:off x="4858920" y="55036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 flipV="1">
            <a:off x="5508720" y="5375160"/>
            <a:ext cx="28728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1476360" y="5794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3"/>
          <p:cNvSpPr/>
          <p:nvPr/>
        </p:nvSpPr>
        <p:spPr>
          <a:xfrm flipV="1">
            <a:off x="2195640" y="5652720"/>
            <a:ext cx="122400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179280" y="3382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755640" y="20318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 flipH="1" flipV="1">
            <a:off x="1618920" y="2354040"/>
            <a:ext cx="57636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 flipH="1">
            <a:off x="899640" y="3565440"/>
            <a:ext cx="8636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68320"/>
            <a:ext cx="822960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 – главное богатство чело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 – энергия счастливой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человек сам кузнец своего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думай о простуде свысо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знанный вред здоровью нельзя оправдать нич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36144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асибо за внимание. Будьте здоров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блюдайте призыв государства от 02.10.09 МЗ РФ по программе формирования здорового образа жизни, посещайте вновь открытые центры здоровья в ваших районах, которые организованы на базе детских и взрослых поликлиник и других оздоровительных учрежден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Цели</a:t>
            </a:r>
            <a:r>
              <a:rPr b="0" i="1" lang="en-US" sz="4400" spc="-1" strike="noStrike" u="sng">
                <a:solidFill>
                  <a:srgbClr val="eff420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традиций проведения устного журнал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я будущая професс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атмосферы творчества, сотрудничества, выявления положительных личностных и исследовательских качеств студ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репление полученных умений в работе с дополнительной литературой, специальной медицинской документаци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Задачи</a:t>
            </a:r>
            <a:r>
              <a:rPr b="0" i="1" lang="en-US" sz="4400" spc="-1" strike="noStrike" u="sng">
                <a:solidFill>
                  <a:srgbClr val="eff420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пагандировать здоровый образ жиз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отиться о гармоничном развитии физического и духовного здоров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ь студентов в работу учебно-исследовательских круж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сить интерес к расширению кругозора и углублению знаний клинических дисциплин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b1717"/>
                </a:solidFill>
                <a:latin typeface="Tahoma"/>
              </a:rPr>
              <a:t>ОР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дним из часто встречающихся заболеваний населения, в том числе и в студенческой среде является острая респираторно-вирусная инфекция.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страя респираторно-вирусная инфекция (ОРВИ), в быту просту́да — распространённая группа вирусных заболеваний верхних дыхательных путей, в ходе развития которых может присоединяться бактериальная инфекция.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Содержимое 3"/>
          <p:cNvGraphicFramePr/>
          <p:nvPr/>
        </p:nvGraphicFramePr>
        <p:xfrm>
          <a:off x="981000" y="361800"/>
          <a:ext cx="73152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361800"/>
                    <a:ext cx="73152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421164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56000" y="4538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76360" y="376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87280" y="29322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08000" y="2031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843280" y="151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Эти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ВИ вызывается большим числом возбудителей, среди которых не менее 5 различных групп вирусов (вирусы парагриппа, гриппа, аденовирусы, риновирусы, реовирусы и др.) и более 300 их подтипов. Их всех объединяет то, что они очень заразны, так как передаются воздушно-капельным путем. Есть данные, что вирусы ОРВИ эффективно распространяются и при телесном контакте, например, при рукопожа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b1717"/>
                </a:solidFill>
                <a:uFillTx/>
                <a:latin typeface="Tahoma"/>
              </a:rPr>
              <a:t>Патогенез ОР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начальный период болезни вирус размножается в «воротах инфекции»: носу, носоглотке, гортани. Температура обычно не повышается. Иногда в этот процесс вовлекаются слизистые глаз и желудочно-кишечного тракта. Активация иммунного ответа приводит к выработке организмом антител к виру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4000" y="87588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ем вирус попадает в кровь и вызывает симптомы общей интоксикации: озноб, головная боль, ломота в спине и конечност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финальном этапе неосложнённой ОРВИ происходит очищение дыхательных путей от поражённых вирусом слоёв эпителия, что проявляется как насморк и влажный каш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3:43:57Z</dcterms:created>
  <dc:creator>Евгений</dc:creator>
  <dc:description/>
  <dc:language>en-US</dc:language>
  <cp:lastModifiedBy>Евгений</cp:lastModifiedBy>
  <dcterms:modified xsi:type="dcterms:W3CDTF">2011-09-19T19:31:06Z</dcterms:modified>
  <cp:revision>101</cp:revision>
  <dc:subject/>
  <dc:title>Слайд 1</dc:title>
</cp:coreProperties>
</file>