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782-EB24-488A-8797-C26353C2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5ABF-2E4E-4FCE-88DF-7D37EA57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E05-38BC-41C9-A8A0-C662A84B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DDC-25BB-42EA-BBCD-9FEDE430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2E7-DAD9-416A-9FB1-7EF93A25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623-E404-408B-9071-900A7058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1C6-F140-43D6-817F-0B0FCC02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852-B52F-46DA-97B2-37819379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159-05B0-40E0-B702-A51CFCB7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921-AD95-47FB-9854-4D05686D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C306-A117-4D73-8FC0-06230569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9F4-2D1D-4889-90C1-62CBE0D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691C-1541-49D8-A576-107A3839FF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Мои документы\Мои рисунки\bv-b.gif"/>
          <p:cNvPicPr/>
          <p:nvPr/>
        </p:nvPicPr>
        <p:blipFill>
          <a:blip r:embed="rId3"/>
          <a:stretch/>
        </p:blipFill>
        <p:spPr>
          <a:xfrm>
            <a:off x="7786800" y="6286680"/>
            <a:ext cx="938160" cy="22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3357720" y="5357880"/>
            <a:ext cx="252720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Рабочий стол\угадай\д.gif"/>
          <p:cNvPicPr/>
          <p:nvPr/>
        </p:nvPicPr>
        <p:blipFill>
          <a:blip r:embed="rId3"/>
          <a:stretch/>
        </p:blipFill>
        <p:spPr>
          <a:xfrm>
            <a:off x="0" y="5000760"/>
            <a:ext cx="1461960" cy="1857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Admin\Рабочий стол\угадай\ссч.gif"/>
          <p:cNvPicPr/>
          <p:nvPr/>
        </p:nvPicPr>
        <p:blipFill>
          <a:blip r:embed="rId4"/>
          <a:stretch/>
        </p:blipFill>
        <p:spPr>
          <a:xfrm>
            <a:off x="7500960" y="4965840"/>
            <a:ext cx="1643040" cy="1892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5715000" y="4737240"/>
            <a:ext cx="3571920" cy="2120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56800" y="214200"/>
            <a:ext cx="82868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осле корня он стоит, перед окончанием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Его я если замен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ругое слово получу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бозначу уголком, называю …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УФФИКС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 Вспомните, что такое суффик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Суффикс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– это значимая часть слова, которая находится после корня и служит обычно для образования новых сло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99760" y="1356840"/>
            <a:ext cx="7643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Calibri"/>
              </a:rPr>
              <a:t>Да (понял).  Частично.   Нет (не понял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Calibri"/>
              </a:rPr>
              <a:t>1)Я усвоил(а) орфограмму «Буквы "ч" и "щ" в суффиксе имен существительных "-чик" ("-щик"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Calibri"/>
              </a:rPr>
              <a:t>2)Я умею находить слово с данной орфограмм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bfbf"/>
                </a:solidFill>
                <a:latin typeface="Calibri"/>
              </a:rPr>
              <a:t>3)Я отличаю значение суффиксов («уменьшительное», значение «лица»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Баллы: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а – 5 балл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ично – 3 бал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ет – 0 балл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214280" y="428760"/>
          <a:ext cx="7929720" cy="4572000"/>
        </p:xfrm>
        <a:graphic>
          <a:graphicData uri="http://schemas.openxmlformats.org/drawingml/2006/table">
            <a:tbl>
              <a:tblPr/>
              <a:tblGrid>
                <a:gridCol w="3965760"/>
                <a:gridCol w="396396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бал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бал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–14 бал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–11 балло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36" name="Rectangle 1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714680" y="1600200"/>
            <a:ext cx="72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§ 44 (выучить орфограмму), упражнение 24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рабочей тетради – упражнение 18 (б,в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 желанию – сочинить сказку о суффиксе – чик- (-щик-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28800" y="1600200"/>
            <a:ext cx="7758000" cy="452592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3" descr=""/>
          <p:cNvPicPr/>
          <p:nvPr/>
        </p:nvPicPr>
        <p:blipFill>
          <a:blip r:embed="rId2"/>
          <a:stretch/>
        </p:blipFill>
        <p:spPr>
          <a:xfrm>
            <a:off x="1762200" y="1981080"/>
            <a:ext cx="6832440" cy="1914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85960" y="1357200"/>
            <a:ext cx="6143760" cy="23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ы  ч  и  щ  в суффиксе имен существительных  -чик  (-щик)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3929040" y="5500440"/>
            <a:ext cx="4572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ел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иронова Оксана Алексее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fbfbf"/>
                </a:solidFill>
                <a:latin typeface="Calibri"/>
              </a:rPr>
              <a:t>Наблюде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357200" y="1125000"/>
            <a:ext cx="74628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бъез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чик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Обой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ока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т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чик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    Фонар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ру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з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чик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Танцов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азно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с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чик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Прицеп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еребе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ж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чик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 Съём</a:t>
            </a:r>
            <a:r>
              <a:rPr b="1" lang="ru-RU" sz="3200" spc="-1" strike="noStrike">
                <a:solidFill>
                  <a:srgbClr val="d99694"/>
                </a:solidFill>
                <a:latin typeface="Calibri"/>
              </a:rPr>
              <a:t>щ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Когда в суффиксах существительных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-чик, -щик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пишется буква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ч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, когда –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щ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857160" y="154080"/>
          <a:ext cx="8286840" cy="6703920"/>
        </p:xfrm>
        <a:graphic>
          <a:graphicData uri="http://schemas.openxmlformats.org/drawingml/2006/table">
            <a:tbl>
              <a:tblPr/>
              <a:tblGrid>
                <a:gridCol w="4143600"/>
                <a:gridCol w="4143240"/>
              </a:tblGrid>
              <a:tr h="1199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ффиксе существительных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чик (-щи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48000"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букв: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, т, з, с, 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з</a:t>
                      </a:r>
                      <a:r>
                        <a:rPr b="1" i="1" lang="ru-RU" sz="32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1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остальных случаях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раба</a:t>
                      </a:r>
                      <a:r>
                        <a:rPr b="0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н</a:t>
                      </a:r>
                      <a:r>
                        <a:rPr b="1" i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щ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00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ознавательный признак орфограммы – стечение соглас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63"/>
          <p:cNvSpPr/>
          <p:nvPr/>
        </p:nvSpPr>
        <p:spPr>
          <a:xfrm>
            <a:off x="4140360" y="270828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5"/>
          <p:cNvSpPr/>
          <p:nvPr/>
        </p:nvSpPr>
        <p:spPr>
          <a:xfrm>
            <a:off x="2124000" y="1916280"/>
            <a:ext cx="3960720" cy="3889080"/>
          </a:xfrm>
          <a:custGeom>
            <a:avLst/>
            <a:gdLst>
              <a:gd name="textAreaLeft" fmla="*/ 1224000 w 3960720"/>
              <a:gd name="textAreaRight" fmla="*/ 2736720 w 3960720"/>
              <a:gd name="textAreaTop" fmla="*/ 1485360 h 3889080"/>
              <a:gd name="textAreaBottom" fmla="*/ 2971080 h 3889080"/>
            </a:gdLst>
            <a:ahLst/>
            <a:rect l="textAreaLeft" t="textAreaTop" r="textAreaRight" b="textAreaBottom"/>
            <a:pathLst>
              <a:path w="3960813" h="3889375">
                <a:moveTo>
                  <a:pt x="4" y="1485605"/>
                </a:moveTo>
                <a:lnTo>
                  <a:pt x="1512904" y="1485615"/>
                </a:lnTo>
                <a:lnTo>
                  <a:pt x="1980407" y="0"/>
                </a:lnTo>
                <a:lnTo>
                  <a:pt x="2447909" y="1485615"/>
                </a:lnTo>
                <a:lnTo>
                  <a:pt x="3960809" y="1485605"/>
                </a:lnTo>
                <a:lnTo>
                  <a:pt x="2736842" y="2403754"/>
                </a:lnTo>
                <a:lnTo>
                  <a:pt x="3204366" y="3889362"/>
                </a:lnTo>
                <a:lnTo>
                  <a:pt x="1980407" y="2971198"/>
                </a:lnTo>
                <a:lnTo>
                  <a:pt x="756447" y="3889362"/>
                </a:lnTo>
                <a:lnTo>
                  <a:pt x="1223971" y="24037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7"/>
          <p:cNvSpPr/>
          <p:nvPr/>
        </p:nvSpPr>
        <p:spPr>
          <a:xfrm>
            <a:off x="2195640" y="1125360"/>
            <a:ext cx="4321080" cy="3745080"/>
          </a:xfrm>
          <a:prstGeom prst="pie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ч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3851280" y="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9"/>
          <p:cNvSpPr/>
          <p:nvPr/>
        </p:nvSpPr>
        <p:spPr>
          <a:xfrm>
            <a:off x="6084720" y="1844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5796000" y="407664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2"/>
          <p:cNvSpPr/>
          <p:nvPr/>
        </p:nvSpPr>
        <p:spPr>
          <a:xfrm>
            <a:off x="2124000" y="4221000"/>
            <a:ext cx="92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3"/>
          <p:cNvSpPr/>
          <p:nvPr/>
        </p:nvSpPr>
        <p:spPr>
          <a:xfrm>
            <a:off x="1131840" y="1844640"/>
            <a:ext cx="10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4"/>
          <p:cNvSpPr/>
          <p:nvPr/>
        </p:nvSpPr>
        <p:spPr>
          <a:xfrm>
            <a:off x="928800" y="5589720"/>
            <a:ext cx="82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остальных случаях –щ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5"/>
          <p:cNvSpPr/>
          <p:nvPr/>
        </p:nvSpPr>
        <p:spPr>
          <a:xfrm flipV="1">
            <a:off x="3708360" y="2565000"/>
            <a:ext cx="64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6"/>
          <p:cNvSpPr/>
          <p:nvPr/>
        </p:nvSpPr>
        <p:spPr>
          <a:xfrm>
            <a:off x="4356000" y="2565360"/>
            <a:ext cx="64764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7"/>
          <p:cNvSpPr/>
          <p:nvPr/>
        </p:nvSpPr>
        <p:spPr>
          <a:xfrm>
            <a:off x="4356000" y="2565360"/>
            <a:ext cx="647640" cy="35892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8"/>
          <p:cNvSpPr/>
          <p:nvPr/>
        </p:nvSpPr>
        <p:spPr>
          <a:xfrm flipH="1">
            <a:off x="3635280" y="2565360"/>
            <a:ext cx="720720" cy="36036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79"/>
          <p:cNvSpPr/>
          <p:nvPr/>
        </p:nvSpPr>
        <p:spPr>
          <a:xfrm flipH="1">
            <a:off x="7451640" y="5445000"/>
            <a:ext cx="64944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0"/>
          <p:cNvSpPr/>
          <p:nvPr/>
        </p:nvSpPr>
        <p:spPr>
          <a:xfrm>
            <a:off x="8101080" y="5445000"/>
            <a:ext cx="50472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fbfbf"/>
                </a:solidFill>
                <a:latin typeface="Calibri"/>
              </a:rPr>
              <a:t>Лексический дикта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57160" y="857160"/>
            <a:ext cx="84297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т, кто перебежал к врагу, изменник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еребежч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чий, специалист по бетонным работам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етонщ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от, кто подносит, доставляет что-нибудь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дносч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чий, специалист по кирпичной каменной кладке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менщ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чий по проходке горных выработок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ходч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чий, специалист по типографскому набору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борщ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тник, ведущий учёт кого-нибудь, что-нибудь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учётч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) Лицо, которое снимает, арендует помещение; 2) тот, кто делает съёмку местности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ъёмщ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чий, занимающийся смазкой чего-нибудь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мазч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тник бани, обслуживающий посетителей 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анщ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83"/>
          <p:cNvSpPr/>
          <p:nvPr/>
        </p:nvSpPr>
        <p:spPr>
          <a:xfrm>
            <a:off x="6548400" y="785880"/>
            <a:ext cx="259560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83"/>
          <p:cNvSpPr/>
          <p:nvPr/>
        </p:nvSpPr>
        <p:spPr>
          <a:xfrm>
            <a:off x="7358040" y="1357200"/>
            <a:ext cx="1785960" cy="357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83"/>
          <p:cNvSpPr/>
          <p:nvPr/>
        </p:nvSpPr>
        <p:spPr>
          <a:xfrm>
            <a:off x="7072200" y="1785960"/>
            <a:ext cx="180972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83"/>
          <p:cNvSpPr/>
          <p:nvPr/>
        </p:nvSpPr>
        <p:spPr>
          <a:xfrm>
            <a:off x="1357200" y="2643120"/>
            <a:ext cx="273852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83"/>
          <p:cNvSpPr/>
          <p:nvPr/>
        </p:nvSpPr>
        <p:spPr>
          <a:xfrm>
            <a:off x="7000920" y="3000240"/>
            <a:ext cx="195264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83"/>
          <p:cNvSpPr/>
          <p:nvPr/>
        </p:nvSpPr>
        <p:spPr>
          <a:xfrm>
            <a:off x="1357200" y="3857760"/>
            <a:ext cx="1714680" cy="357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3"/>
          <p:cNvSpPr/>
          <p:nvPr/>
        </p:nvSpPr>
        <p:spPr>
          <a:xfrm>
            <a:off x="1357200" y="4714920"/>
            <a:ext cx="1714680" cy="295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83"/>
          <p:cNvSpPr/>
          <p:nvPr/>
        </p:nvSpPr>
        <p:spPr>
          <a:xfrm>
            <a:off x="7715160" y="6286680"/>
            <a:ext cx="1785960" cy="366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3"/>
          <p:cNvSpPr/>
          <p:nvPr/>
        </p:nvSpPr>
        <p:spPr>
          <a:xfrm>
            <a:off x="4929120" y="5500800"/>
            <a:ext cx="1785960" cy="438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83"/>
          <p:cNvSpPr/>
          <p:nvPr/>
        </p:nvSpPr>
        <p:spPr>
          <a:xfrm>
            <a:off x="7715160" y="5857920"/>
            <a:ext cx="2000520" cy="366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5"/>
          <p:cNvSpPr/>
          <p:nvPr/>
        </p:nvSpPr>
        <p:spPr>
          <a:xfrm>
            <a:off x="1000080" y="2133720"/>
            <a:ext cx="81439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рабанчики яростно колотили в бараб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бывав у заказщиков, Саша зашел на минутку к сест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ижнем буфетчик рассчитал ме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колеблющимся мосткам сновали грузщ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чие передавали сменчикам ста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естянчики работали на глазах всей у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ко сигналили шофёры, покрикивали возщики, сновали агенты, грузщики в форменных фураж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343640" cy="16556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"/>
          <p:cNvSpPr/>
          <p:nvPr/>
        </p:nvSpPr>
        <p:spPr>
          <a:xfrm>
            <a:off x="1476360" y="54936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играем в коррек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3"/>
          <p:cNvCxnSpPr/>
          <p:nvPr/>
        </p:nvCxnSpPr>
        <p:spPr>
          <a:xfrm flipV="1">
            <a:off x="2484360" y="227628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2" name="AutoShape 14"/>
          <p:cNvCxnSpPr/>
          <p:nvPr/>
        </p:nvCxnSpPr>
        <p:spPr>
          <a:xfrm flipV="1">
            <a:off x="3492360" y="278100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3" name="AutoShape 15"/>
          <p:cNvCxnSpPr/>
          <p:nvPr/>
        </p:nvCxnSpPr>
        <p:spPr>
          <a:xfrm flipV="1">
            <a:off x="6659640" y="371592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4" name="AutoShape 16"/>
          <p:cNvCxnSpPr/>
          <p:nvPr/>
        </p:nvCxnSpPr>
        <p:spPr>
          <a:xfrm flipV="1">
            <a:off x="4716360" y="414936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5" name="AutoShape 17"/>
          <p:cNvCxnSpPr/>
          <p:nvPr/>
        </p:nvCxnSpPr>
        <p:spPr>
          <a:xfrm flipV="1">
            <a:off x="2340000" y="458100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6" name="AutoShape 18"/>
          <p:cNvCxnSpPr/>
          <p:nvPr/>
        </p:nvCxnSpPr>
        <p:spPr>
          <a:xfrm flipV="1">
            <a:off x="6948360" y="5084280"/>
            <a:ext cx="21672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317" name="AutoShape 19"/>
          <p:cNvCxnSpPr/>
          <p:nvPr/>
        </p:nvCxnSpPr>
        <p:spPr>
          <a:xfrm flipV="1">
            <a:off x="2916000" y="5516280"/>
            <a:ext cx="21636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318" name="Rectangle 20"/>
          <p:cNvSpPr/>
          <p:nvPr/>
        </p:nvSpPr>
        <p:spPr>
          <a:xfrm>
            <a:off x="3419640" y="2421000"/>
            <a:ext cx="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1"/>
          <p:cNvSpPr/>
          <p:nvPr/>
        </p:nvSpPr>
        <p:spPr>
          <a:xfrm>
            <a:off x="6156360" y="3357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2"/>
          <p:cNvSpPr/>
          <p:nvPr/>
        </p:nvSpPr>
        <p:spPr>
          <a:xfrm>
            <a:off x="6949800" y="465300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3"/>
          <p:cNvSpPr/>
          <p:nvPr/>
        </p:nvSpPr>
        <p:spPr>
          <a:xfrm>
            <a:off x="2917800" y="51577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1908000" y="1844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4644720" y="371628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183528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3348000" y="350028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8"/>
          <p:cNvSpPr/>
          <p:nvPr/>
        </p:nvSpPr>
        <p:spPr>
          <a:xfrm flipH="1">
            <a:off x="3564000" y="3141720"/>
            <a:ext cx="21600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9"/>
          <p:cNvSpPr/>
          <p:nvPr/>
        </p:nvSpPr>
        <p:spPr>
          <a:xfrm>
            <a:off x="3780000" y="3141720"/>
            <a:ext cx="215640" cy="142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1285920" y="285840"/>
          <a:ext cx="7643880" cy="2533680"/>
        </p:xfrm>
        <a:graphic>
          <a:graphicData uri="http://schemas.openxmlformats.org/drawingml/2006/table">
            <a:tbl>
              <a:tblPr/>
              <a:tblGrid>
                <a:gridCol w="3821040"/>
                <a:gridCol w="3822840"/>
              </a:tblGrid>
              <a:tr h="681480">
                <a:tc gridSpan="2">
                  <a:txBody>
                    <a:bodyPr lIns="95400" rIns="95400" tIns="95400" bIns="954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1800">
                <a:tc>
                  <a:txBody>
                    <a:bodyPr lIns="95400" rIns="95400" tIns="95400" bIns="954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л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5400" rIns="95400" tIns="95400" bIns="954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ьшитель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681480">
                <a:tc>
                  <a:txBody>
                    <a:bodyPr lIns="95400" rIns="95400" tIns="95400" bIns="954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  <a:tc>
                  <a:txBody>
                    <a:bodyPr lIns="95400" rIns="95400" tIns="95400" bIns="954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та</a:t>
                      </a: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a54"/>
                    </a:solidFill>
                  </a:tcPr>
                </a:tc>
              </a:tr>
            </a:tbl>
          </a:graphicData>
        </a:graphic>
      </p:graphicFrame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28800" y="2928960"/>
            <a:ext cx="82152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Calibri"/>
              </a:rPr>
              <a:t>   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Calibri"/>
              </a:rPr>
              <a:t>Выборочный диктан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Кафтан..ик, совет..ик, свар..ик, диван..ик, сбор..ик, попут..ик, шарман..ик, стакан..ик, заказ..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00120" y="4479840"/>
          <a:ext cx="7358040" cy="2378160"/>
        </p:xfrm>
        <a:graphic>
          <a:graphicData uri="http://schemas.openxmlformats.org/drawingml/2006/table">
            <a:tbl>
              <a:tblPr/>
              <a:tblGrid>
                <a:gridCol w="2452680"/>
                <a:gridCol w="2452680"/>
                <a:gridCol w="24526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щ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чик: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о значением лица)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чик: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 уменьшительным значением)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857160" y="521640"/>
            <a:ext cx="8286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роверь себ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Calibri"/>
                <a:ea typeface="Times New Roman"/>
              </a:rPr>
              <a:t>-щик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r>
              <a:rPr b="0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сборщик, шарманщик, свар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Calibri"/>
                <a:ea typeface="Times New Roman"/>
              </a:rPr>
              <a:t>-чик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: </a:t>
            </a:r>
            <a:r>
              <a:rPr b="0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(со значением лица)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казчик, советчик, попут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d0d0d"/>
                </a:solidFill>
                <a:latin typeface="Calibri"/>
                <a:ea typeface="Times New Roman"/>
              </a:rPr>
              <a:t>-чик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: </a:t>
            </a:r>
            <a:r>
              <a:rPr b="0" i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(с уменьшительным значением)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диванчик, кафтанчик, стакан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6:49:57Z</dcterms:created>
  <dc:creator>user</dc:creator>
  <dc:description/>
  <dc:language>en-US</dc:language>
  <cp:lastModifiedBy>1</cp:lastModifiedBy>
  <dcterms:modified xsi:type="dcterms:W3CDTF">2012-04-18T10:36:19Z</dcterms:modified>
  <cp:revision>19</cp:revision>
  <dc:subject/>
  <dc:title>Слайд 1</dc:title>
</cp:coreProperties>
</file>