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79C-9DBF-404E-8806-2A2AA099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B32-6AC1-4490-AB23-F8C987D6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8F7-08B2-4B8E-B33E-D6879CAF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43B-FA5C-404B-9BA4-5D6EF5FF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4B4-A71D-4ED1-8B02-28EE1EF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3EF-26FC-419B-829E-193110E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897-B96F-4EFE-B33A-C8F2378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AA7-C703-484B-8D07-73023BFC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341-BC40-4170-9905-0850E7E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E1B-7983-4730-AD4E-D80C3CE6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794-B805-4A3A-9498-5A66308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C5D-AE7B-4C95-AB97-E056A60C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B29-B382-431A-BFA8-C87EC3609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3357720" y="5357880"/>
            <a:ext cx="252720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угадай\д.gif"/>
          <p:cNvPicPr/>
          <p:nvPr/>
        </p:nvPicPr>
        <p:blipFill>
          <a:blip r:embed="rId3"/>
          <a:stretch/>
        </p:blipFill>
        <p:spPr>
          <a:xfrm>
            <a:off x="0" y="5000760"/>
            <a:ext cx="1461960" cy="185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Admin\Рабочий стол\угадай\ссч.gif"/>
          <p:cNvPicPr/>
          <p:nvPr/>
        </p:nvPicPr>
        <p:blipFill>
          <a:blip r:embed="rId4"/>
          <a:stretch/>
        </p:blipFill>
        <p:spPr>
          <a:xfrm>
            <a:off x="7500960" y="4965840"/>
            <a:ext cx="1643040" cy="1892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5715000" y="4737240"/>
            <a:ext cx="3571920" cy="2120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56800" y="214200"/>
            <a:ext cx="82868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сле корня он стоит, перед окончанием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Его я если замен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ругое слово получу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означу уголком, называю 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УФФИК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Вспомните, что такое суффик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Суффикс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это значимая часть слова, которая находится после корня и служит обычно для образования новых с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99760" y="1356840"/>
            <a:ext cx="7643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Да (понял).  Частично.   Нет (не поня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Calibri"/>
              </a:rPr>
              <a:t>1)Я усвоил(а) орфограмму «Буквы "ч" и "щ" в суффиксе имен существительных "-чик" ("-щик"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Calibri"/>
              </a:rPr>
              <a:t>2)Я умею находить слово с данной орфограм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Calibri"/>
              </a:rPr>
              <a:t>3)Я отличаю значение суффиксов («уменьшительное», значение «лица»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Баллы: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а – 5 бал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ично – 3 бал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ет – 0 бал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14280" y="428760"/>
          <a:ext cx="7929720" cy="457200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–14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–11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36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714680" y="1600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§ 44 (выучить орфограмму), упражнение 24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рабочей тетради – упражнение 18 (б,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желанию – сочинить сказку о суффиксе – чик- (-щик-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28800" y="1600200"/>
            <a:ext cx="7758000" cy="452592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1981080"/>
            <a:ext cx="6832440" cy="1914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5960" y="1357200"/>
            <a:ext cx="6143760" cy="23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ы  ч  и  щ  в суффиксе имен существительных  -чик  (-щик)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929040" y="5500440"/>
            <a:ext cx="4572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ронова Оксана Алексе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fbfbf"/>
                </a:solidFill>
                <a:latin typeface="Calibri"/>
              </a:rPr>
              <a:t>Наблюде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357200" y="1125000"/>
            <a:ext cx="7462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ъез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Обой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ка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Фонар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ру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з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Танцов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зно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с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Прицеп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ереб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ж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Съём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Когда в суффиксах существительных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чик, -щи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пишется буква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ч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когда –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щ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857160" y="154080"/>
          <a:ext cx="8286840" cy="6703920"/>
        </p:xfrm>
        <a:graphic>
          <a:graphicData uri="http://schemas.openxmlformats.org/drawingml/2006/table">
            <a:tbl>
              <a:tblPr/>
              <a:tblGrid>
                <a:gridCol w="4143600"/>
                <a:gridCol w="4143240"/>
              </a:tblGrid>
              <a:tr h="119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ффиксе существительных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чик (-щи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800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букв: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, т, з, с, 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з</a:t>
                      </a:r>
                      <a:r>
                        <a:rPr b="1" i="1" lang="ru-RU" sz="3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остальных случаях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раба</a:t>
                      </a:r>
                      <a:r>
                        <a:rPr b="0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щ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0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ознавательный признак орфограммы – стечение соглас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63"/>
          <p:cNvSpPr/>
          <p:nvPr/>
        </p:nvSpPr>
        <p:spPr>
          <a:xfrm>
            <a:off x="4140360" y="270828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5"/>
          <p:cNvSpPr/>
          <p:nvPr/>
        </p:nvSpPr>
        <p:spPr>
          <a:xfrm>
            <a:off x="2124000" y="1916280"/>
            <a:ext cx="3960720" cy="3889080"/>
          </a:xfrm>
          <a:custGeom>
            <a:avLst/>
            <a:gdLst>
              <a:gd name="textAreaLeft" fmla="*/ 1224000 w 3960720"/>
              <a:gd name="textAreaRight" fmla="*/ 2736720 w 3960720"/>
              <a:gd name="textAreaTop" fmla="*/ 1485360 h 3889080"/>
              <a:gd name="textAreaBottom" fmla="*/ 2971080 h 3889080"/>
            </a:gdLst>
            <a:ahLst/>
            <a:rect l="textAreaLeft" t="textAreaTop" r="textAreaRight" b="textAreaBottom"/>
            <a:pathLst>
              <a:path w="3960813" h="3889375">
                <a:moveTo>
                  <a:pt x="4" y="1485605"/>
                </a:moveTo>
                <a:lnTo>
                  <a:pt x="1512904" y="1485615"/>
                </a:lnTo>
                <a:lnTo>
                  <a:pt x="1980407" y="0"/>
                </a:lnTo>
                <a:lnTo>
                  <a:pt x="2447909" y="1485615"/>
                </a:lnTo>
                <a:lnTo>
                  <a:pt x="3960809" y="1485605"/>
                </a:lnTo>
                <a:lnTo>
                  <a:pt x="2736842" y="2403754"/>
                </a:lnTo>
                <a:lnTo>
                  <a:pt x="3204366" y="3889362"/>
                </a:lnTo>
                <a:lnTo>
                  <a:pt x="1980407" y="2971198"/>
                </a:lnTo>
                <a:lnTo>
                  <a:pt x="756447" y="3889362"/>
                </a:lnTo>
                <a:lnTo>
                  <a:pt x="1223971" y="24037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7"/>
          <p:cNvSpPr/>
          <p:nvPr/>
        </p:nvSpPr>
        <p:spPr>
          <a:xfrm>
            <a:off x="2195640" y="1125360"/>
            <a:ext cx="4321080" cy="3745080"/>
          </a:xfrm>
          <a:prstGeom prst="pie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3851280" y="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6084720" y="1844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796000" y="4076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2"/>
          <p:cNvSpPr/>
          <p:nvPr/>
        </p:nvSpPr>
        <p:spPr>
          <a:xfrm>
            <a:off x="2124000" y="4221000"/>
            <a:ext cx="9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3"/>
          <p:cNvSpPr/>
          <p:nvPr/>
        </p:nvSpPr>
        <p:spPr>
          <a:xfrm>
            <a:off x="1131840" y="1844640"/>
            <a:ext cx="10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4"/>
          <p:cNvSpPr/>
          <p:nvPr/>
        </p:nvSpPr>
        <p:spPr>
          <a:xfrm>
            <a:off x="928800" y="558972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остальных случаях –щ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5"/>
          <p:cNvSpPr/>
          <p:nvPr/>
        </p:nvSpPr>
        <p:spPr>
          <a:xfrm flipV="1">
            <a:off x="3708360" y="256500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6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7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8"/>
          <p:cNvSpPr/>
          <p:nvPr/>
        </p:nvSpPr>
        <p:spPr>
          <a:xfrm flipH="1">
            <a:off x="3635280" y="2565360"/>
            <a:ext cx="720720" cy="36036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9"/>
          <p:cNvSpPr/>
          <p:nvPr/>
        </p:nvSpPr>
        <p:spPr>
          <a:xfrm flipH="1">
            <a:off x="7451640" y="5445000"/>
            <a:ext cx="64944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0"/>
          <p:cNvSpPr/>
          <p:nvPr/>
        </p:nvSpPr>
        <p:spPr>
          <a:xfrm>
            <a:off x="8101080" y="5445000"/>
            <a:ext cx="5047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fbfbf"/>
                </a:solidFill>
                <a:latin typeface="Calibri"/>
              </a:rPr>
              <a:t>Лексический дикт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57160" y="857160"/>
            <a:ext cx="8429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т, кто перебежал к врагу, изменник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ребеж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специалист по бетонным работам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етон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т, кто подносит, доставляет что-нибудь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нос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специалист по кирпичной каменной кладке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мен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 по проходке горных выработок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ход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специалист по типографскому набору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бор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тник, ведущий учёт кого-нибудь, что-нибудь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ёт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) Лицо, которое снимает, арендует помещение; 2) тот, кто делает съёмку местности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ъём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занимающийся смазкой чего-нибудь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маз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тник бани, обслуживающий посетителей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ан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83"/>
          <p:cNvSpPr/>
          <p:nvPr/>
        </p:nvSpPr>
        <p:spPr>
          <a:xfrm>
            <a:off x="6548400" y="785880"/>
            <a:ext cx="259560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3"/>
          <p:cNvSpPr/>
          <p:nvPr/>
        </p:nvSpPr>
        <p:spPr>
          <a:xfrm>
            <a:off x="7358040" y="1357200"/>
            <a:ext cx="1785960" cy="357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3"/>
          <p:cNvSpPr/>
          <p:nvPr/>
        </p:nvSpPr>
        <p:spPr>
          <a:xfrm>
            <a:off x="7072200" y="1785960"/>
            <a:ext cx="180972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3"/>
          <p:cNvSpPr/>
          <p:nvPr/>
        </p:nvSpPr>
        <p:spPr>
          <a:xfrm>
            <a:off x="1357200" y="2643120"/>
            <a:ext cx="273852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3"/>
          <p:cNvSpPr/>
          <p:nvPr/>
        </p:nvSpPr>
        <p:spPr>
          <a:xfrm>
            <a:off x="7000920" y="3000240"/>
            <a:ext cx="195264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3"/>
          <p:cNvSpPr/>
          <p:nvPr/>
        </p:nvSpPr>
        <p:spPr>
          <a:xfrm>
            <a:off x="1357200" y="3857760"/>
            <a:ext cx="1714680" cy="357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3"/>
          <p:cNvSpPr/>
          <p:nvPr/>
        </p:nvSpPr>
        <p:spPr>
          <a:xfrm>
            <a:off x="1357200" y="4714920"/>
            <a:ext cx="1714680" cy="295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3"/>
          <p:cNvSpPr/>
          <p:nvPr/>
        </p:nvSpPr>
        <p:spPr>
          <a:xfrm>
            <a:off x="7715160" y="6286680"/>
            <a:ext cx="1785960" cy="366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3"/>
          <p:cNvSpPr/>
          <p:nvPr/>
        </p:nvSpPr>
        <p:spPr>
          <a:xfrm>
            <a:off x="4929120" y="5500800"/>
            <a:ext cx="178596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83"/>
          <p:cNvSpPr/>
          <p:nvPr/>
        </p:nvSpPr>
        <p:spPr>
          <a:xfrm>
            <a:off x="7715160" y="5857920"/>
            <a:ext cx="2000520" cy="366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5"/>
          <p:cNvSpPr/>
          <p:nvPr/>
        </p:nvSpPr>
        <p:spPr>
          <a:xfrm>
            <a:off x="1000080" y="2133720"/>
            <a:ext cx="81439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абанчики яростно колотили в бараб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бывав у заказщиков, Саша зашел на минутку к сест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ижнем буфетчик рассчитал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олеблющимся мосткам сновали грузщ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чие передавали сменчикам ст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естянчики работали на глазах всей у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ко сигналили шофёры, покрикивали возщики, сновали агенты, грузщики в форменных фура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43640" cy="16556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1476360" y="54936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играем в корр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3"/>
          <p:cNvCxnSpPr/>
          <p:nvPr/>
        </p:nvCxnSpPr>
        <p:spPr>
          <a:xfrm flipV="1">
            <a:off x="2484360" y="227628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2" name="AutoShape 14"/>
          <p:cNvCxnSpPr/>
          <p:nvPr/>
        </p:nvCxnSpPr>
        <p:spPr>
          <a:xfrm flipV="1">
            <a:off x="3492360" y="278100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3" name="AutoShape 15"/>
          <p:cNvCxnSpPr/>
          <p:nvPr/>
        </p:nvCxnSpPr>
        <p:spPr>
          <a:xfrm flipV="1">
            <a:off x="6659640" y="371592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4" name="AutoShape 16"/>
          <p:cNvCxnSpPr/>
          <p:nvPr/>
        </p:nvCxnSpPr>
        <p:spPr>
          <a:xfrm flipV="1">
            <a:off x="4716360" y="414936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5" name="AutoShape 17"/>
          <p:cNvCxnSpPr/>
          <p:nvPr/>
        </p:nvCxnSpPr>
        <p:spPr>
          <a:xfrm flipV="1">
            <a:off x="2340000" y="458100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6" name="AutoShape 18"/>
          <p:cNvCxnSpPr/>
          <p:nvPr/>
        </p:nvCxnSpPr>
        <p:spPr>
          <a:xfrm flipV="1">
            <a:off x="6948360" y="508428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7" name="AutoShape 19"/>
          <p:cNvCxnSpPr/>
          <p:nvPr/>
        </p:nvCxnSpPr>
        <p:spPr>
          <a:xfrm flipV="1">
            <a:off x="2916000" y="551628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318" name="Rectangle 20"/>
          <p:cNvSpPr/>
          <p:nvPr/>
        </p:nvSpPr>
        <p:spPr>
          <a:xfrm>
            <a:off x="3419640" y="242100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"/>
          <p:cNvSpPr/>
          <p:nvPr/>
        </p:nvSpPr>
        <p:spPr>
          <a:xfrm>
            <a:off x="615636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2"/>
          <p:cNvSpPr/>
          <p:nvPr/>
        </p:nvSpPr>
        <p:spPr>
          <a:xfrm>
            <a:off x="6949800" y="4653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3"/>
          <p:cNvSpPr/>
          <p:nvPr/>
        </p:nvSpPr>
        <p:spPr>
          <a:xfrm>
            <a:off x="2917800" y="515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190800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644720" y="3716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183528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3348000" y="350028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8"/>
          <p:cNvSpPr/>
          <p:nvPr/>
        </p:nvSpPr>
        <p:spPr>
          <a:xfrm flipH="1">
            <a:off x="3564000" y="3141720"/>
            <a:ext cx="21600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378000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1285920" y="285840"/>
          <a:ext cx="7643880" cy="2533680"/>
        </p:xfrm>
        <a:graphic>
          <a:graphicData uri="http://schemas.openxmlformats.org/drawingml/2006/table">
            <a:tbl>
              <a:tblPr/>
              <a:tblGrid>
                <a:gridCol w="3821040"/>
                <a:gridCol w="3822840"/>
              </a:tblGrid>
              <a:tr h="681480">
                <a:tc gridSpan="2"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1800"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ите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81480"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та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</a:tr>
            </a:tbl>
          </a:graphicData>
        </a:graphic>
      </p:graphicFrame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2928960"/>
            <a:ext cx="82152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Calibri"/>
              </a:rPr>
              <a:t>Выборочный диктан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Кафтан..ик, совет..ик, свар..ик, диван..ик, сбор..ик, попут..ик, шарман..ик, стакан..ик, заказ..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00120" y="4479840"/>
          <a:ext cx="7358040" cy="237816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щ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чик: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о значением лица)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чик: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 уменьшительным значением)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857160" y="521640"/>
            <a:ext cx="8286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Calibri"/>
                <a:ea typeface="Times New Roman"/>
              </a:rPr>
              <a:t>-щик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сборщик, шарманщик, свар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Calibri"/>
                <a:ea typeface="Times New Roman"/>
              </a:rPr>
              <a:t>-чик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(со значением лица)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казчик, советчик, попут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Calibri"/>
                <a:ea typeface="Times New Roman"/>
              </a:rPr>
              <a:t>-чик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(с уменьшительным значением)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диванчик, кафтанчик, стака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49:57Z</dcterms:created>
  <dc:creator>user</dc:creator>
  <dc:description/>
  <dc:language>en-US</dc:language>
  <cp:lastModifiedBy>1</cp:lastModifiedBy>
  <dcterms:modified xsi:type="dcterms:W3CDTF">2012-04-18T10:36:19Z</dcterms:modified>
  <cp:revision>19</cp:revision>
  <dc:subject/>
  <dc:title>Слайд 1</dc:title>
</cp:coreProperties>
</file>