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5DE-8884-42BB-9074-17B3B7B7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4BF-238A-41C4-A7D6-F632D8DB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64E5-B61F-4CB7-AE2E-C85C32E1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AB1E-C7D0-4E05-BD48-6B804E39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96D-57F9-4060-920A-1EB06481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271B-6DA1-4916-A276-F70A6808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21C-2D6D-4BF1-8031-6A465F45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3A3-8ED8-459C-B925-2EBFF794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B928-18E7-4DF4-A3D7-877DB6AB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F74-A9A4-4CF4-AFEF-BB219A35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607-7565-499F-B3F6-D0048CBC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3A5-6ADB-45C7-ABBB-03E18195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2C9B-AFFC-4826-B98B-BD43FC6390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Мои документы\Мои рисунки\bv-b.gif"/>
          <p:cNvPicPr/>
          <p:nvPr/>
        </p:nvPicPr>
        <p:blipFill>
          <a:blip r:embed="rId3"/>
          <a:stretch/>
        </p:blipFill>
        <p:spPr>
          <a:xfrm>
            <a:off x="7786800" y="6286680"/>
            <a:ext cx="938160" cy="22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959120" y="1268280"/>
            <a:ext cx="57085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Тр</a:t>
            </a: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надцатое октяб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Кла</a:t>
            </a: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сс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одготовка к сочинению-описанию картины А.Рылова «Полевая рябин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3"/>
          <p:cNvSpPr txBox="1"/>
          <p:nvPr/>
        </p:nvSpPr>
        <p:spPr>
          <a:xfrm>
            <a:off x="684360" y="333360"/>
            <a:ext cx="7921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003300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ffff00">
                      <a:alpha val="50000"/>
                    </a:srgbClr>
                  </a:outerShdw>
                </a:effectLst>
                <a:latin typeface="Arial"/>
              </a:rPr>
              <a:t>Рисуем словом…</a:t>
            </a:r>
            <a:endParaRPr b="1" lang="en-US" sz="1800" spc="1" strike="noStrike">
              <a:ln w="9360">
                <a:solidFill>
                  <a:srgbClr val="3366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003300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153753" dir="2700000" blurRad="0" rotWithShape="0">
                  <a:srgbClr val="ffff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Picture 4" descr="124"/>
          <p:cNvPicPr/>
          <p:nvPr/>
        </p:nvPicPr>
        <p:blipFill>
          <a:blip r:embed="rId1"/>
          <a:stretch/>
        </p:blipFill>
        <p:spPr>
          <a:xfrm>
            <a:off x="2843280" y="1989000"/>
            <a:ext cx="338436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3"/>
          <p:cNvSpPr txBox="1"/>
          <p:nvPr/>
        </p:nvSpPr>
        <p:spPr>
          <a:xfrm>
            <a:off x="395280" y="3933720"/>
            <a:ext cx="2087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99cc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РЕЗ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99cc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5867280" y="1268280"/>
            <a:ext cx="237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ff9933"/>
                    </a:gs>
                    <a:gs pos="100000">
                      <a:srgbClr val="66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ЯБИН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3300"/>
                  </a:gs>
                  <a:gs pos="50000">
                    <a:srgbClr val="ff9933"/>
                  </a:gs>
                  <a:gs pos="100000">
                    <a:srgbClr val="66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4788000" y="4508640"/>
            <a:ext cx="1942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6699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ЧУШ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6699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936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366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то изображено на картин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рябинка полевая"/>
          <p:cNvPicPr/>
          <p:nvPr/>
        </p:nvPicPr>
        <p:blipFill>
          <a:blip r:embed="rId1"/>
          <a:srcRect l="0" t="0" r="44102" b="68524"/>
          <a:stretch/>
        </p:blipFill>
        <p:spPr>
          <a:xfrm>
            <a:off x="611280" y="1916280"/>
            <a:ext cx="3744720" cy="1581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рябинка полевая"/>
          <p:cNvPicPr/>
          <p:nvPr/>
        </p:nvPicPr>
        <p:blipFill>
          <a:blip r:embed="rId2"/>
          <a:srcRect l="0" t="0" r="77626" b="49092"/>
          <a:stretch/>
        </p:blipFill>
        <p:spPr>
          <a:xfrm>
            <a:off x="2124000" y="4365720"/>
            <a:ext cx="1297080" cy="221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рябинка полевая"/>
          <p:cNvPicPr/>
          <p:nvPr/>
        </p:nvPicPr>
        <p:blipFill>
          <a:blip r:embed="rId3"/>
          <a:srcRect l="19856" t="39740" r="24212" b="0"/>
          <a:stretch/>
        </p:blipFill>
        <p:spPr>
          <a:xfrm>
            <a:off x="5724360" y="1700280"/>
            <a:ext cx="2880000" cy="2325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рябинка полевая"/>
          <p:cNvPicPr/>
          <p:nvPr/>
        </p:nvPicPr>
        <p:blipFill>
          <a:blip r:embed="rId4"/>
          <a:srcRect l="0" t="32728" r="37880" b="34150"/>
          <a:stretch/>
        </p:blipFill>
        <p:spPr>
          <a:xfrm>
            <a:off x="5003640" y="5013360"/>
            <a:ext cx="3600720" cy="1440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15"/>
          <p:cNvSpPr txBox="1"/>
          <p:nvPr/>
        </p:nvSpPr>
        <p:spPr>
          <a:xfrm>
            <a:off x="755640" y="1413000"/>
            <a:ext cx="115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6ab94"/>
                    </a:gs>
                    <a:gs pos="100000">
                      <a:srgbClr val="96ab94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Б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6ab94"/>
                  </a:gs>
                  <a:gs pos="100000">
                    <a:srgbClr val="96ab94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613400" y="2133720"/>
            <a:ext cx="399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желто-крас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расноват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ря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682560" y="620640"/>
            <a:ext cx="2374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ff9933"/>
                    </a:gs>
                    <a:gs pos="100000">
                      <a:srgbClr val="66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ЯБИННИ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3300"/>
                  </a:gs>
                  <a:gs pos="50000">
                    <a:srgbClr val="ff9933"/>
                  </a:gs>
                  <a:gs pos="100000">
                    <a:srgbClr val="66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Picture 6" descr="рябинка полевая"/>
          <p:cNvPicPr/>
          <p:nvPr/>
        </p:nvPicPr>
        <p:blipFill>
          <a:blip r:embed="rId1"/>
          <a:srcRect l="19856" t="39740" r="24212" b="0"/>
          <a:stretch/>
        </p:blipFill>
        <p:spPr>
          <a:xfrm>
            <a:off x="539640" y="1052640"/>
            <a:ext cx="4103640" cy="3314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5297760" y="620640"/>
            <a:ext cx="21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й-цв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68360" y="4439520"/>
            <a:ext cx="8037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Ярко-жёлтые цветы полевой рябинки, словно впитывают в себя лучи летнего солнца и в июле сами полыхают золотом, как будто излучая теп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325840" y="1413000"/>
            <a:ext cx="203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ц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18"/>
          <p:cNvSpPr txBox="1"/>
          <p:nvPr/>
        </p:nvSpPr>
        <p:spPr>
          <a:xfrm>
            <a:off x="611280" y="620640"/>
            <a:ext cx="2087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99cc00"/>
                    </a:gs>
                    <a:gs pos="100000">
                      <a:srgbClr val="8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РЕЗ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00"/>
                  </a:gs>
                  <a:gs pos="50000">
                    <a:srgbClr val="99cc00"/>
                  </a:gs>
                  <a:gs pos="100000">
                    <a:srgbClr val="808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19" descr="рябинка полевая"/>
          <p:cNvPicPr/>
          <p:nvPr/>
        </p:nvPicPr>
        <p:blipFill>
          <a:blip r:embed="rId1"/>
          <a:srcRect l="0" t="0" r="77626" b="49092"/>
          <a:stretch/>
        </p:blipFill>
        <p:spPr>
          <a:xfrm>
            <a:off x="6084720" y="549360"/>
            <a:ext cx="2446560" cy="417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0" descr="рябинка полевая"/>
          <p:cNvPicPr/>
          <p:nvPr/>
        </p:nvPicPr>
        <p:blipFill>
          <a:blip r:embed="rId2"/>
          <a:srcRect l="47640" t="9052" r="12987" b="56298"/>
          <a:stretch/>
        </p:blipFill>
        <p:spPr>
          <a:xfrm>
            <a:off x="539640" y="1268280"/>
            <a:ext cx="4248360" cy="28036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3"/>
          <p:cNvSpPr/>
          <p:nvPr/>
        </p:nvSpPr>
        <p:spPr>
          <a:xfrm>
            <a:off x="539640" y="451116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Ещё ярче горят кисти полевой рябинки на фоне тёмных силуэтов берёз, и кажется, что цветы отбрасывают медно-красный отсвет на листву деревьев, прокалённых солнц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7"/>
          <p:cNvSpPr/>
          <p:nvPr/>
        </p:nvSpPr>
        <p:spPr>
          <a:xfrm>
            <a:off x="6156360" y="1628640"/>
            <a:ext cx="273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tencil"/>
              </a:rPr>
              <a:t>светлая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Stencil"/>
              </a:rPr>
              <a:t>прозрачная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Stencil"/>
              </a:rPr>
              <a:t>чист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9"/>
          <p:cNvSpPr txBox="1"/>
          <p:nvPr/>
        </p:nvSpPr>
        <p:spPr>
          <a:xfrm>
            <a:off x="2627280" y="47628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6699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ЧУШ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6699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10" descr="рябинка полевая"/>
          <p:cNvPicPr/>
          <p:nvPr/>
        </p:nvPicPr>
        <p:blipFill>
          <a:blip r:embed="rId1"/>
          <a:srcRect l="0" t="32728" r="37880" b="34150"/>
          <a:stretch/>
        </p:blipFill>
        <p:spPr>
          <a:xfrm>
            <a:off x="468360" y="1341360"/>
            <a:ext cx="5688000" cy="2274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468360" y="450864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 втором плане картины – широкая лента реки, воды которой словно напитались за лето синевой чистого неб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рябинка полевая"/>
          <p:cNvPicPr/>
          <p:nvPr/>
        </p:nvPicPr>
        <p:blipFill>
          <a:blip r:embed="rId1"/>
          <a:srcRect l="0" t="0" r="44102" b="68524"/>
          <a:stretch/>
        </p:blipFill>
        <p:spPr>
          <a:xfrm>
            <a:off x="395280" y="1197000"/>
            <a:ext cx="5616720" cy="2371680"/>
          </a:xfrm>
          <a:prstGeom prst="rect">
            <a:avLst/>
          </a:prstGeom>
          <a:ln w="0">
            <a:noFill/>
          </a:ln>
        </p:spPr>
      </p:pic>
      <p:sp>
        <p:nvSpPr>
          <p:cNvPr id="127" name="WordArt 10"/>
          <p:cNvSpPr txBox="1"/>
          <p:nvPr/>
        </p:nvSpPr>
        <p:spPr>
          <a:xfrm>
            <a:off x="684360" y="476280"/>
            <a:ext cx="115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6ab94"/>
                    </a:gs>
                    <a:gs pos="100000">
                      <a:srgbClr val="96ab94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Б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6ab94"/>
                  </a:gs>
                  <a:gs pos="100000">
                    <a:srgbClr val="96ab94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539640" y="3933720"/>
            <a:ext cx="56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измерим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обозрим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зовеющие   бегущ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227640" y="3933720"/>
            <a:ext cx="15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611280" y="639720"/>
            <a:ext cx="806436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А.Рылов – замечательный русский художник-пейзажи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картины «Полевая рябин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композиции карт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чение цвета в пейзаже худож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бражение полевой ряби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изображение зарослей рябинника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тихое журчание речки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бескрайние просто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ение, которое оставляет карт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468360" y="476280"/>
            <a:ext cx="84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крайний зелёный массив, величавая тишина, внешняя простота, воздух прозрачный, воспринимать красот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оверная картин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ественная красота, желтеющая трава, живописный уголок, замечательно перед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ечатлеть облик, золотисто-жёлтый оттенок, золотистый тон, золотое сия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мительное живописное богатство, изумрудная зелень, изящество штрих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очковатые тучи, колорит картины, кучевые облака; линия горизонта, лирические пейзаж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жное цветение, никнущие трав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енний пейзаж, ощущение глубины и пространства; прозрачная синева; раскинулось шатром небо; безграничный прос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519120" y="1125360"/>
            <a:ext cx="80852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Силой своего искусства художник открывает нам красоту скромных полевых цветов, позволяет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оказаться наедине с природой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, насладиться её тишиной и яркими крас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артина «Полевая рябинка» притягивает взгляд, потому что художник сумел создать удивительно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трогательный образ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дорогой сердцу каждого русского человека родной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lax_cd1850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рябинка полева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60048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345320" y="53928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ЫЛОВ Аркадий Александр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870-193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533-2"/>
          <p:cNvPicPr/>
          <p:nvPr/>
        </p:nvPicPr>
        <p:blipFill>
          <a:blip r:embed="rId1"/>
          <a:stretch/>
        </p:blipFill>
        <p:spPr>
          <a:xfrm>
            <a:off x="2340000" y="1700280"/>
            <a:ext cx="441972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533-1"/>
          <p:cNvPicPr/>
          <p:nvPr/>
        </p:nvPicPr>
        <p:blipFill>
          <a:blip r:embed="rId1"/>
          <a:stretch/>
        </p:blipFill>
        <p:spPr>
          <a:xfrm>
            <a:off x="611280" y="404640"/>
            <a:ext cx="3600360" cy="25005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754920" y="2996280"/>
            <a:ext cx="31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В голубом простор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080809125604"/>
          <p:cNvPicPr/>
          <p:nvPr/>
        </p:nvPicPr>
        <p:blipFill>
          <a:blip r:embed="rId2"/>
          <a:stretch/>
        </p:blipFill>
        <p:spPr>
          <a:xfrm>
            <a:off x="4788000" y="404640"/>
            <a:ext cx="3527280" cy="2524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5433480" y="3068640"/>
            <a:ext cx="22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Зеленый ш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24000" y="3573360"/>
            <a:ext cx="822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кадий Александрович Рылов (1870-1939 г.) – талантливый пейзажист. Всем известны его прославленные картины «Зелёный шум» и «В голубом просторе», воспевающие красоту земли. Природа в этих картинах предстаёт как чудесный, наполненный неразгаданными тайнами мир. Его полотна дышат свежестью и первозданной чистотой. Рылова прозвали «чародеем тайн сине-зелёного тона». В этих пейзажах живописец создал образы вечно торжествующей жизни: весеннего шумного празднества берёз и свободного полёта в незримом голубом небесном пространстве прекрасных птиц – белых лебе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арти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от русского "карта") - произведение живописи в крас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продукц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лат.) - воспроизведённый посредством печати рисунок или карт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йзаж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франц.)-1) общий вид местности, картина природы; 2) рисунок, картина, изображающая при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Wingdings 2"/>
                <a:ea typeface="Wingdings 2"/>
              </a:rPr>
              <a:t>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йзажист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художник, пишущий пейза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3"/>
          <p:cNvSpPr txBox="1"/>
          <p:nvPr/>
        </p:nvSpPr>
        <p:spPr>
          <a:xfrm>
            <a:off x="1332000" y="476280"/>
            <a:ext cx="604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Этимологическая странич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356000" y="476280"/>
            <a:ext cx="46087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е зыблется цветами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небе льются света волны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шних жаворонков пень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лубые бездны п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зор мой тонет в блеске полдня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видать певцов за светом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 надежды молоды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шат сердце мне привет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816360" cy="4104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5"/>
          <p:cNvSpPr/>
          <p:nvPr/>
        </p:nvSpPr>
        <p:spPr>
          <a:xfrm>
            <a:off x="395280" y="5084640"/>
            <a:ext cx="3995640" cy="5763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Аркадий Рылов. Полевая ряб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lax_cd1850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рябинка полева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48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468360" y="476280"/>
            <a:ext cx="842472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равните тексты. Подумайте, что их объединяет? Определите, какими чувствами проникнут каждый фрагмен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«Берёзы тихо переговариваются друг с другом, перешёптываются о чём-то задушевном. Чего-чего не нашепчет вам берёза, тихо склонившись к изголовью, каких не нашелестит ласковых слов, чудных сказок, каких не навеет светлых чувств ...»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В.А.Солоух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«За рекой стояли, как шары серо-зелёного дыма, вековые ивы и ракиты… Листья висели, как в летаргии, пока не налетал неизвестно откуда взявшийся ветер и не переворачивал их кверху изнанкой. Тогда всё прибрежное царство ив и ракит превращалось в бурлящий водопад листвы ...»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К.Г.Пауст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ig"/>
          <p:cNvPicPr/>
          <p:nvPr/>
        </p:nvPicPr>
        <p:blipFill>
          <a:blip r:embed="rId1"/>
          <a:stretch/>
        </p:blipFill>
        <p:spPr>
          <a:xfrm>
            <a:off x="2124000" y="1700280"/>
            <a:ext cx="3889440" cy="2930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39640" y="567000"/>
            <a:ext cx="843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левая рябин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народное название пижмы, лекарственного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А"/>
          <p:cNvPicPr/>
          <p:nvPr/>
        </p:nvPicPr>
        <p:blipFill>
          <a:blip r:embed="rId1"/>
          <a:stretch/>
        </p:blipFill>
        <p:spPr>
          <a:xfrm>
            <a:off x="1041480" y="476280"/>
            <a:ext cx="7272360" cy="5816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А"/>
          <p:cNvPicPr/>
          <p:nvPr/>
        </p:nvPicPr>
        <p:blipFill>
          <a:blip r:embed="rId2"/>
          <a:srcRect l="0" t="35709" r="0" b="0"/>
          <a:stretch/>
        </p:blipFill>
        <p:spPr>
          <a:xfrm>
            <a:off x="1042920" y="2492280"/>
            <a:ext cx="7274160" cy="3740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А"/>
          <p:cNvPicPr/>
          <p:nvPr/>
        </p:nvPicPr>
        <p:blipFill>
          <a:blip r:embed="rId3"/>
          <a:srcRect l="0" t="0" r="0" b="47795"/>
          <a:stretch/>
        </p:blipFill>
        <p:spPr>
          <a:xfrm>
            <a:off x="1042920" y="476280"/>
            <a:ext cx="7272360" cy="30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22:22:22Z</dcterms:created>
  <dc:creator>Nataliya</dc:creator>
  <dc:description/>
  <dc:language>en-US</dc:language>
  <cp:lastModifiedBy>Наталья</cp:lastModifiedBy>
  <dcterms:modified xsi:type="dcterms:W3CDTF">2012-05-29T04:42:50Z</dcterms:modified>
  <cp:revision>4</cp:revision>
  <dc:subject/>
  <dc:title>Слайд 1</dc:title>
</cp:coreProperties>
</file>