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DD02-F282-4BE9-9E90-5201B4ACB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00B3-89C4-464D-A378-93AE1FCE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04E3-7C49-42B1-AE93-F2DCD10A2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1594-2700-4F9F-B37F-A495F7A23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0549-2C1D-41F0-B147-D9BD1A52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D923-F7F8-4B17-8191-C6F54D56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06CD-6222-4E86-8248-D2AE52AC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84D2-1910-4BE4-A2C3-8EF11A30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63C9-CC9B-487E-96A0-17A00C5F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705B-ADBC-4B1E-B0A4-9975F147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1CE9-28EA-459D-AAA5-737A734C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65AE-6FAA-462D-BA70-B3AB504D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C107-C8EE-49A4-B692-123711F8EF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Admin\Мои документы\Мои рисунки\bv-b.gif"/>
          <p:cNvPicPr/>
          <p:nvPr/>
        </p:nvPicPr>
        <p:blipFill>
          <a:blip r:embed="rId3"/>
          <a:stretch/>
        </p:blipFill>
        <p:spPr>
          <a:xfrm>
            <a:off x="7786800" y="6286680"/>
            <a:ext cx="938160" cy="225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1959120" y="1268280"/>
            <a:ext cx="57085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Тр</a:t>
            </a:r>
            <a:r>
              <a:rPr b="1" lang="ru-RU" sz="3600" spc="-1" strike="noStrike">
                <a:solidFill>
                  <a:srgbClr val="ff3300"/>
                </a:solidFill>
                <a:latin typeface="Monotype Corsiva"/>
              </a:rPr>
              <a:t>и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надцатое октяб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Кла</a:t>
            </a:r>
            <a:r>
              <a:rPr b="1" lang="ru-RU" sz="3600" spc="-1" strike="noStrike">
                <a:solidFill>
                  <a:srgbClr val="ff3300"/>
                </a:solidFill>
                <a:latin typeface="Monotype Corsiva"/>
              </a:rPr>
              <a:t>сс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ная раб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Подготовка к сочинению-описанию картины А.Рылова «Полевая рябинк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3"/>
          <p:cNvSpPr txBox="1"/>
          <p:nvPr/>
        </p:nvSpPr>
        <p:spPr>
          <a:xfrm>
            <a:off x="684360" y="333360"/>
            <a:ext cx="79214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66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50000">
                      <a:srgbClr val="003300"/>
                    </a:gs>
                    <a:gs pos="100000">
                      <a:srgbClr val="99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ffff00">
                      <a:alpha val="50000"/>
                    </a:srgbClr>
                  </a:outerShdw>
                </a:effectLst>
                <a:latin typeface="Arial"/>
              </a:rPr>
              <a:t>Рисуем словом…</a:t>
            </a:r>
            <a:endParaRPr b="1" lang="en-US" sz="1800" spc="1" strike="noStrike">
              <a:ln w="9360">
                <a:solidFill>
                  <a:srgbClr val="336600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50000">
                    <a:srgbClr val="003300"/>
                  </a:gs>
                  <a:gs pos="100000">
                    <a:srgbClr val="99cc00"/>
                  </a:gs>
                </a:gsLst>
                <a:lin ang="5400000"/>
              </a:gradFill>
              <a:effectLst>
                <a:outerShdw dist="153753" dir="2700000" blurRad="0" rotWithShape="0">
                  <a:srgbClr val="ffff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2" name="Picture 4" descr="124"/>
          <p:cNvPicPr/>
          <p:nvPr/>
        </p:nvPicPr>
        <p:blipFill>
          <a:blip r:embed="rId1"/>
          <a:stretch/>
        </p:blipFill>
        <p:spPr>
          <a:xfrm>
            <a:off x="2843280" y="1989000"/>
            <a:ext cx="3384360" cy="33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3"/>
          <p:cNvSpPr txBox="1"/>
          <p:nvPr/>
        </p:nvSpPr>
        <p:spPr>
          <a:xfrm>
            <a:off x="395280" y="3933720"/>
            <a:ext cx="2087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8000"/>
                    </a:gs>
                    <a:gs pos="50000">
                      <a:srgbClr val="99cc00"/>
                    </a:gs>
                    <a:gs pos="100000">
                      <a:srgbClr val="808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ЕРЕЗК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8000"/>
                  </a:gs>
                  <a:gs pos="50000">
                    <a:srgbClr val="99cc00"/>
                  </a:gs>
                  <a:gs pos="100000">
                    <a:srgbClr val="808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WordArt 5"/>
          <p:cNvSpPr txBox="1"/>
          <p:nvPr/>
        </p:nvSpPr>
        <p:spPr>
          <a:xfrm>
            <a:off x="5867280" y="1268280"/>
            <a:ext cx="23749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3300"/>
                    </a:gs>
                    <a:gs pos="50000">
                      <a:srgbClr val="ff9933"/>
                    </a:gs>
                    <a:gs pos="100000">
                      <a:srgbClr val="66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ЯБИНК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3300"/>
                  </a:gs>
                  <a:gs pos="50000">
                    <a:srgbClr val="ff9933"/>
                  </a:gs>
                  <a:gs pos="100000">
                    <a:srgbClr val="6633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WordArt 7"/>
          <p:cNvSpPr txBox="1"/>
          <p:nvPr/>
        </p:nvSpPr>
        <p:spPr>
          <a:xfrm>
            <a:off x="4788000" y="4508640"/>
            <a:ext cx="1942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6699ff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ЧУШК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6699ff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569080" cy="936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366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Что изображено на картин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1" descr="рябинка полевая"/>
          <p:cNvPicPr/>
          <p:nvPr/>
        </p:nvPicPr>
        <p:blipFill>
          <a:blip r:embed="rId1"/>
          <a:srcRect l="0" t="0" r="44102" b="68524"/>
          <a:stretch/>
        </p:blipFill>
        <p:spPr>
          <a:xfrm>
            <a:off x="611280" y="1916280"/>
            <a:ext cx="3744720" cy="1581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рябинка полевая"/>
          <p:cNvPicPr/>
          <p:nvPr/>
        </p:nvPicPr>
        <p:blipFill>
          <a:blip r:embed="rId2"/>
          <a:srcRect l="0" t="0" r="77626" b="49092"/>
          <a:stretch/>
        </p:blipFill>
        <p:spPr>
          <a:xfrm>
            <a:off x="2124000" y="4365720"/>
            <a:ext cx="1297080" cy="2212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рябинка полевая"/>
          <p:cNvPicPr/>
          <p:nvPr/>
        </p:nvPicPr>
        <p:blipFill>
          <a:blip r:embed="rId3"/>
          <a:srcRect l="19856" t="39740" r="24212" b="0"/>
          <a:stretch/>
        </p:blipFill>
        <p:spPr>
          <a:xfrm>
            <a:off x="5724360" y="1700280"/>
            <a:ext cx="2880000" cy="2325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рябинка полевая"/>
          <p:cNvPicPr/>
          <p:nvPr/>
        </p:nvPicPr>
        <p:blipFill>
          <a:blip r:embed="rId4"/>
          <a:srcRect l="0" t="32728" r="37880" b="34150"/>
          <a:stretch/>
        </p:blipFill>
        <p:spPr>
          <a:xfrm>
            <a:off x="5003640" y="5013360"/>
            <a:ext cx="3600720" cy="1440000"/>
          </a:xfrm>
          <a:prstGeom prst="rect">
            <a:avLst/>
          </a:prstGeom>
          <a:ln w="0">
            <a:noFill/>
          </a:ln>
        </p:spPr>
      </p:pic>
      <p:sp>
        <p:nvSpPr>
          <p:cNvPr id="111" name="WordArt 15"/>
          <p:cNvSpPr txBox="1"/>
          <p:nvPr/>
        </p:nvSpPr>
        <p:spPr>
          <a:xfrm>
            <a:off x="755640" y="1413000"/>
            <a:ext cx="1152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6ab94"/>
                    </a:gs>
                    <a:gs pos="100000">
                      <a:srgbClr val="96ab94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БО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6ab94"/>
                  </a:gs>
                  <a:gs pos="100000">
                    <a:srgbClr val="96ab94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4613400" y="2133720"/>
            <a:ext cx="3993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желто-красн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красноват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наряд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5"/>
          <p:cNvSpPr txBox="1"/>
          <p:nvPr/>
        </p:nvSpPr>
        <p:spPr>
          <a:xfrm>
            <a:off x="682560" y="620640"/>
            <a:ext cx="23749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3300"/>
                    </a:gs>
                    <a:gs pos="50000">
                      <a:srgbClr val="ff9933"/>
                    </a:gs>
                    <a:gs pos="100000">
                      <a:srgbClr val="66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ЯБИННИК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3300"/>
                  </a:gs>
                  <a:gs pos="50000">
                    <a:srgbClr val="ff9933"/>
                  </a:gs>
                  <a:gs pos="100000">
                    <a:srgbClr val="6633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4" name="Picture 6" descr="рябинка полевая"/>
          <p:cNvPicPr/>
          <p:nvPr/>
        </p:nvPicPr>
        <p:blipFill>
          <a:blip r:embed="rId1"/>
          <a:srcRect l="19856" t="39740" r="24212" b="0"/>
          <a:stretch/>
        </p:blipFill>
        <p:spPr>
          <a:xfrm>
            <a:off x="539640" y="1052640"/>
            <a:ext cx="4103640" cy="33145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7"/>
          <p:cNvSpPr/>
          <p:nvPr/>
        </p:nvSpPr>
        <p:spPr>
          <a:xfrm>
            <a:off x="5297760" y="620640"/>
            <a:ext cx="213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й-цве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468360" y="4439520"/>
            <a:ext cx="8037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Ярко-жёлтые цветы полевой рябинки, словно впитывают в себя лучи летнего солнца и в июле сами полыхают золотом, как будто излучая тепл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5325840" y="1413000"/>
            <a:ext cx="203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ц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18"/>
          <p:cNvSpPr txBox="1"/>
          <p:nvPr/>
        </p:nvSpPr>
        <p:spPr>
          <a:xfrm>
            <a:off x="611280" y="620640"/>
            <a:ext cx="2087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8000"/>
                    </a:gs>
                    <a:gs pos="50000">
                      <a:srgbClr val="99cc00"/>
                    </a:gs>
                    <a:gs pos="100000">
                      <a:srgbClr val="808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ЕРЕЗК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8000"/>
                  </a:gs>
                  <a:gs pos="50000">
                    <a:srgbClr val="99cc00"/>
                  </a:gs>
                  <a:gs pos="100000">
                    <a:srgbClr val="808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9" name="Picture 19" descr="рябинка полевая"/>
          <p:cNvPicPr/>
          <p:nvPr/>
        </p:nvPicPr>
        <p:blipFill>
          <a:blip r:embed="rId1"/>
          <a:srcRect l="0" t="0" r="77626" b="49092"/>
          <a:stretch/>
        </p:blipFill>
        <p:spPr>
          <a:xfrm>
            <a:off x="6084720" y="549360"/>
            <a:ext cx="2446560" cy="4174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0" descr="рябинка полевая"/>
          <p:cNvPicPr/>
          <p:nvPr/>
        </p:nvPicPr>
        <p:blipFill>
          <a:blip r:embed="rId2"/>
          <a:srcRect l="47640" t="9052" r="12987" b="56298"/>
          <a:stretch/>
        </p:blipFill>
        <p:spPr>
          <a:xfrm>
            <a:off x="539640" y="1268280"/>
            <a:ext cx="4248360" cy="28036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3"/>
          <p:cNvSpPr/>
          <p:nvPr/>
        </p:nvSpPr>
        <p:spPr>
          <a:xfrm>
            <a:off x="539640" y="4511160"/>
            <a:ext cx="820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Ещё ярче горят кисти полевой рябинки на фоне тёмных силуэтов берёз, и кажется, что цветы отбрасывают медно-красный отсвет на листву деревьев, прокалённых солнц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7"/>
          <p:cNvSpPr/>
          <p:nvPr/>
        </p:nvSpPr>
        <p:spPr>
          <a:xfrm>
            <a:off x="6156360" y="1628640"/>
            <a:ext cx="273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tencil"/>
              </a:rPr>
              <a:t>светлая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Stencil"/>
              </a:rPr>
              <a:t>прозрачная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Stencil"/>
              </a:rPr>
              <a:t>чист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9"/>
          <p:cNvSpPr txBox="1"/>
          <p:nvPr/>
        </p:nvSpPr>
        <p:spPr>
          <a:xfrm>
            <a:off x="2627280" y="476280"/>
            <a:ext cx="1943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6699ff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ЧУШК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6699ff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4" name="Picture 10" descr="рябинка полевая"/>
          <p:cNvPicPr/>
          <p:nvPr/>
        </p:nvPicPr>
        <p:blipFill>
          <a:blip r:embed="rId1"/>
          <a:srcRect l="0" t="32728" r="37880" b="34150"/>
          <a:stretch/>
        </p:blipFill>
        <p:spPr>
          <a:xfrm>
            <a:off x="468360" y="1341360"/>
            <a:ext cx="5688000" cy="22748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1"/>
          <p:cNvSpPr/>
          <p:nvPr/>
        </p:nvSpPr>
        <p:spPr>
          <a:xfrm>
            <a:off x="468360" y="4508640"/>
            <a:ext cx="828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На втором плане картины – широкая лента реки, воды которой словно напитались за лето синевой чистого неб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9" descr="рябинка полевая"/>
          <p:cNvPicPr/>
          <p:nvPr/>
        </p:nvPicPr>
        <p:blipFill>
          <a:blip r:embed="rId1"/>
          <a:srcRect l="0" t="0" r="44102" b="68524"/>
          <a:stretch/>
        </p:blipFill>
        <p:spPr>
          <a:xfrm>
            <a:off x="395280" y="1197000"/>
            <a:ext cx="5616720" cy="2371680"/>
          </a:xfrm>
          <a:prstGeom prst="rect">
            <a:avLst/>
          </a:prstGeom>
          <a:ln w="0">
            <a:noFill/>
          </a:ln>
        </p:spPr>
      </p:pic>
      <p:sp>
        <p:nvSpPr>
          <p:cNvPr id="127" name="WordArt 10"/>
          <p:cNvSpPr txBox="1"/>
          <p:nvPr/>
        </p:nvSpPr>
        <p:spPr>
          <a:xfrm>
            <a:off x="684360" y="476280"/>
            <a:ext cx="1152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6ab94"/>
                    </a:gs>
                    <a:gs pos="100000">
                      <a:srgbClr val="96ab94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БО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6ab94"/>
                  </a:gs>
                  <a:gs pos="100000">
                    <a:srgbClr val="96ab94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539640" y="3933720"/>
            <a:ext cx="568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измерим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обозрим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зовеющие   бегущ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6227640" y="3933720"/>
            <a:ext cx="159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б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л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611280" y="639720"/>
            <a:ext cx="806436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А.Рылов – замечательный русский художник-пейзажи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исание картины «Полевая рябинк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обенности композиции карти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начение цвета в пейзаже худож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ображение полевой рябин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) изображение зарослей рябинника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) тихое журчание речки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) бескрайние простор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троение, которое оставляет карт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468360" y="476280"/>
            <a:ext cx="842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скрайний зелёный массив, величавая тишина, внешняя простота, воздух прозрачный, воспринимать красот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стоверная картин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тественная красота, желтеющая трава, живописный уголок, замечательно переда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ечатлеть облик, золотисто-жёлтый оттенок, золотистый тон, золотое сия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умительное живописное богатство, изумрудная зелень, изящество штрих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очковатые тучи, колорит картины, кучевые облака; линия горизонта, лирические пейзаж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жное цветение, никнущие трав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енний пейзаж, ощущение глубины и пространства; прозрачная синева; раскинулось шатром небо; безграничный прост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519120" y="1125360"/>
            <a:ext cx="80852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илой своего искусства художник открывает нам красоту скромных полевых цветов, позволяет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оказаться наедине с природой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, насладиться её тишиной и яркими краск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Картина «Полевая рябинка» притягивает взгляд, потому что художник сумел создать удивительно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трогательный образ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дорогой сердцу каждого русского человека родной прир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relax_cd1850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рябинка полевая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60048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1345320" y="539280"/>
            <a:ext cx="61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ЫЛОВ Аркадий Александрови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1870-193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533-2"/>
          <p:cNvPicPr/>
          <p:nvPr/>
        </p:nvPicPr>
        <p:blipFill>
          <a:blip r:embed="rId1"/>
          <a:stretch/>
        </p:blipFill>
        <p:spPr>
          <a:xfrm>
            <a:off x="2340000" y="1700280"/>
            <a:ext cx="441972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533-1"/>
          <p:cNvPicPr/>
          <p:nvPr/>
        </p:nvPicPr>
        <p:blipFill>
          <a:blip r:embed="rId1"/>
          <a:stretch/>
        </p:blipFill>
        <p:spPr>
          <a:xfrm>
            <a:off x="611280" y="404640"/>
            <a:ext cx="3600360" cy="25005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754920" y="2996280"/>
            <a:ext cx="31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В голубом просторе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080809125604"/>
          <p:cNvPicPr/>
          <p:nvPr/>
        </p:nvPicPr>
        <p:blipFill>
          <a:blip r:embed="rId2"/>
          <a:stretch/>
        </p:blipFill>
        <p:spPr>
          <a:xfrm>
            <a:off x="4788000" y="404640"/>
            <a:ext cx="3527280" cy="25243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9"/>
          <p:cNvSpPr/>
          <p:nvPr/>
        </p:nvSpPr>
        <p:spPr>
          <a:xfrm>
            <a:off x="5433480" y="3068640"/>
            <a:ext cx="221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Зеленый шу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324000" y="3573360"/>
            <a:ext cx="822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кадий Александрович Рылов (1870-1939 г.) – талантливый пейзажист. Всем известны его прославленные картины «Зелёный шум» и «В голубом просторе», воспевающие красоту земли. Природа в этих картинах предстаёт как чудесный, наполненный неразгаданными тайнами мир. Его полотна дышат свежестью и первозданной чистотой. Рылова прозвали «чародеем тайн сине-зелёного тона». В этих пейзажах живописец создал образы вечно торжествующей жизни: весеннего шумного празднества берёз и свободного полёта в незримом голубом небесном пространстве прекрасных птиц – белых лебе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362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 2" charset="2"/>
              <a:buChar char="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артин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от русского "карта") - произведение живописи в крас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 2" charset="2"/>
              <a:buChar char="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епродукция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лат.) - воспроизведённый посредством печати рисунок или карт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 2" charset="2"/>
              <a:buChar char="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ейзаж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(франц.)-1) общий вид местности, картина природы; 2) рисунок, картина, изображающая прир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Wingdings 2"/>
                <a:ea typeface="Wingdings 2"/>
              </a:rPr>
              <a:t>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ейзажист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художник, пишущий пейзаж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3"/>
          <p:cNvSpPr txBox="1"/>
          <p:nvPr/>
        </p:nvSpPr>
        <p:spPr>
          <a:xfrm>
            <a:off x="1332000" y="476280"/>
            <a:ext cx="6048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Этимологическая странич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356000" y="476280"/>
            <a:ext cx="460872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ле зыблется цветами…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небе льются света волны…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шних жаворонков пень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лубые бездны пол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зор мой тонет в блеске полдня…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видать певцов за светом…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к надежды молоды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шат сердце мне привето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3816360" cy="410400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5"/>
          <p:cNvSpPr/>
          <p:nvPr/>
        </p:nvSpPr>
        <p:spPr>
          <a:xfrm>
            <a:off x="395280" y="5084640"/>
            <a:ext cx="3995640" cy="57636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Аркадий Рылов. Полевая ряби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relax_cd1850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рябинка полевая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0048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468360" y="476280"/>
            <a:ext cx="842472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равните тексты. Подумайте, что их объединяет? Определите, какими чувствами проникнут каждый фрагмен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«Берёзы тихо переговариваются друг с другом, перешёптываются о чём-то задушевном. Чего-чего не нашепчет вам берёза, тихо склонившись к изголовью, каких не нашелестит ласковых слов, чудных сказок, каких не навеет светлых чувств ...»</a:t>
            </a:r>
            <a:br>
              <a:rPr sz="2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В.А.Солоух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«За рекой стояли, как шары серо-зелёного дыма, вековые ивы и ракиты… Листья висели, как в летаргии, пока не налетал неизвестно откуда взявшийся ветер и не переворачивал их кверху изнанкой. Тогда всё прибрежное царство ив и ракит превращалось в бурлящий водопад листвы ...»</a:t>
            </a:r>
            <a:br>
              <a:rPr sz="2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К.Г.Пауст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big"/>
          <p:cNvPicPr/>
          <p:nvPr/>
        </p:nvPicPr>
        <p:blipFill>
          <a:blip r:embed="rId1"/>
          <a:stretch/>
        </p:blipFill>
        <p:spPr>
          <a:xfrm>
            <a:off x="2124000" y="1700280"/>
            <a:ext cx="3889440" cy="29304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539640" y="567000"/>
            <a:ext cx="843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левая рябинк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народное название пижмы, лекарственного раст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А"/>
          <p:cNvPicPr/>
          <p:nvPr/>
        </p:nvPicPr>
        <p:blipFill>
          <a:blip r:embed="rId1"/>
          <a:stretch/>
        </p:blipFill>
        <p:spPr>
          <a:xfrm>
            <a:off x="1041480" y="476280"/>
            <a:ext cx="7272360" cy="5816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А"/>
          <p:cNvPicPr/>
          <p:nvPr/>
        </p:nvPicPr>
        <p:blipFill>
          <a:blip r:embed="rId2"/>
          <a:srcRect l="0" t="35709" r="0" b="0"/>
          <a:stretch/>
        </p:blipFill>
        <p:spPr>
          <a:xfrm>
            <a:off x="1042920" y="2492280"/>
            <a:ext cx="7274160" cy="3740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А"/>
          <p:cNvPicPr/>
          <p:nvPr/>
        </p:nvPicPr>
        <p:blipFill>
          <a:blip r:embed="rId3"/>
          <a:srcRect l="0" t="0" r="0" b="47795"/>
          <a:stretch/>
        </p:blipFill>
        <p:spPr>
          <a:xfrm>
            <a:off x="1042920" y="476280"/>
            <a:ext cx="7272360" cy="303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9T22:22:22Z</dcterms:created>
  <dc:creator>Nataliya</dc:creator>
  <dc:description/>
  <dc:language>en-US</dc:language>
  <cp:lastModifiedBy>Наталья</cp:lastModifiedBy>
  <dcterms:modified xsi:type="dcterms:W3CDTF">2012-05-29T04:42:50Z</dcterms:modified>
  <cp:revision>4</cp:revision>
  <dc:subject/>
  <dc:title>Слайд 1</dc:title>
</cp:coreProperties>
</file>