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1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945-099B-4778-9C25-7B6052FD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149-9159-42E4-9F5E-F06A5F52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188-E998-4E17-A9C9-5BF7220A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9EA-30B2-441D-B9B0-6CF73A13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4DF-2AC7-4D92-BEB6-97B6FD16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E73-D151-47A1-B439-10E19AB3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427-143E-4297-A88E-ED1BD95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7F0A-3F34-48F7-B843-CE2706C3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0E6-E6F3-46BD-B1A8-32DE0745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C55-239B-4EF2-A5E3-8976617C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A35-1138-48E0-BC61-5299697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A43-062D-45D8-8739-0B5E2E7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B996-8398-4D1D-AC38-CE35E60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6B5D-0AC0-4907-B9C4-A25F7B7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B05E-1B44-4941-97DA-FC29BB96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3906-7466-48EE-A3C6-4D110E93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A6E9-6A8C-4ACF-BF08-E49E3592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BC8C-CFFF-4BE2-B76D-118285D6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D02C-1EB5-4FB3-B647-BE6F02A0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EF0A-784C-4152-929B-79FC560E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B374-AC41-43D1-8530-FE0EFB0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5D19-5321-494F-B103-5A73AF70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B52-1906-4C85-875B-82B0CC31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3CC3-8DFC-4522-BBD3-09C326F9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FAD1-03C4-462D-8D97-09020CD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B01C-76FF-4304-BC37-82B37CA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2508-2475-4543-B701-E8345EB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C086-AB4A-4DC0-89B0-E1222B19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D2D3-E975-4062-B31E-D03A6C36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9350-B205-495A-8C5E-AEC027D7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C411-DE79-4A5C-BE30-7729D9CE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B9F4-05F7-4BE6-A32E-725DD3C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6F28-404B-4B1F-9CDE-81265E95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82A-06C1-42BC-8CDE-FB92A987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95BD-3820-4FCA-A794-90AC5026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2284-FB8A-41E6-981D-265BBD7A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09C8-5312-487B-876B-503180F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2698-A023-4485-8A36-94F591E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686D-D2AE-4C11-9CEC-C8B90B0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05BF-F44C-4914-A4A8-74BB0AC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FB3A-8244-418B-A1C0-C125A2C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891CE-A167-4F36-8CB3-9E8EB434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EFE3-C4DB-473E-AE9C-808E88FC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9B46-7594-4F73-A359-AF25EDF4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F2C-23E6-4F7E-97DE-DD64603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EA1B2-BCB3-49B6-9419-889616B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2144-6C52-4807-8903-DB9BA19E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7912-5CE9-4114-95B8-2743552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6B4A7-27A9-4A7B-9AC3-440C618E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E6D9-28A3-47DD-A70E-9794C757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C620-105E-4499-AE14-9B460BA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B29E-17B7-4D31-81E2-CC892A0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8B68-D3D9-4A09-B055-E7F354A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890A-960D-4901-830F-F40B7180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EE53C-4565-494F-8F19-A0E78979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CCB-73EE-4AC1-BA9C-D20B937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78FC-094D-41F4-9CC9-9D5CA074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45AA-7081-47B5-8629-E8C6AC4A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9B4B-663F-48A8-B721-D6C9ED1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47C41-65BF-4FA0-997A-5768E5A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432F-C1B6-4498-8119-F7463AB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3443-0263-46C5-B6D5-62B15E4A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9AA4-6D88-4089-B200-4438D1A4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A44EA-2089-4301-9683-A948023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13C3-2117-4DE3-BEC1-6971A1BF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488A-F4A1-4F37-981B-F0D6930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E49-D581-4DE2-8333-279BAC3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743C8-9D22-4DB0-9C8B-016B0C6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6C78-5571-4C4F-8745-C8ABC94E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E331-8174-4F1A-A7F9-805CA601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667-04CE-43E5-B100-16750B2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02C-7F6F-44CD-938D-EAEEB58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8D7E-0E9C-49A2-8601-569F20656C7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743C-6529-480F-A680-496921BFFA9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6A6-3EA7-49D1-AB5F-A381C84A997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136-FAEC-4052-A695-DA791447CEF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3AB-C337-43D5-842A-EFF7717DEDD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26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177C-8DAE-4A03-8284-00A351F9FD0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7929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«СОЦИАЛЬНО-ПЕДАГОГИЧЕСКАЯ ДЕЯТЕЛЬНОСТЬ ПО ЗАЩИТЕ ПРАВ РЕБЕНКА </a:t>
            </a:r>
            <a:br>
              <a:rPr sz="2500"/>
            </a:br>
            <a:r>
              <a:rPr b="1" lang="en-US" sz="25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В УСЛОВИЯХ ДОШКОЛЬНОГО ОБРАЗОВАТЕЛЬНОГО УЧРЕЖДЕНИЯ»</a:t>
            </a:r>
            <a:br>
              <a:rPr sz="2500"/>
            </a:br>
            <a:br>
              <a:rPr sz="16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571760" y="-249840"/>
            <a:ext cx="46080" cy="31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273" name="Picture 6" descr="53g 058"/>
          <p:cNvPicPr/>
          <p:nvPr/>
        </p:nvPicPr>
        <p:blipFill>
          <a:blip r:embed="rId2"/>
          <a:stretch/>
        </p:blipFill>
        <p:spPr>
          <a:xfrm>
            <a:off x="2050920" y="2276640"/>
            <a:ext cx="5867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-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28840" y="333000"/>
            <a:ext cx="7407360" cy="602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ОБЪЕКТ</a:t>
            </a:r>
            <a:r>
              <a:rPr b="1" lang="en-US" sz="19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ИССЛЕДОВАНИЯ</a:t>
            </a: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 -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а ребенк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ПРЕДМЕТ ИССЛЕДОВАНИЯ -</a:t>
            </a:r>
            <a:r>
              <a:rPr b="0" lang="en-US" sz="1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циально-педагогическая деятельность по защите прав ребёнка в условиях дошкольного образовательного учрежде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ЦЕЛЬ - </a:t>
            </a:r>
            <a:r>
              <a:rPr b="0" lang="en-US" sz="18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зучить теоретический аспект и методические основы социально-педагогической деятельности в ДОУ по защите прав ребенка.</a:t>
            </a: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ЗАДАЧИ 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Изучить современное положение детей в Росс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Охарактеризовать основные законы, регулирующие права детей в Росс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Раскрыть систему социальной защиты детств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Проанализировать организацию социально-педагогической деятельности по защите прав ребёнка в дошкольном образовательном учрежден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Обобщить опыт социально-педагогической деятельности по защите прав ребёнка в условиях МДОУ «Детский сад №53» г. Энгельса Саратовской обла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8840" y="142560"/>
            <a:ext cx="7407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ЗАКОНОДАТЕЛЬНАЯ БАЗА В ОБЛАСТИ ЗАЩИТЫ ПРАВ ДЕТЕ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00120" y="1214280"/>
            <a:ext cx="7407360" cy="507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ституция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Конвенция о правах ребенка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екларация прав ребенк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семирная декларация об обеспечении выживания, защиты и  развития детей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циональная доктрина образования в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головный кодекс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мейный кодекс Российской Федерации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тановление Правительства РФ от 20.07.1992 (о неотложных мерах по социальной защите детей-сирот и детей, оставшихся без попечения   родителей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тановление Правительства РФ от 6 мая 2006г. №272 «О Правительственной комиссии по делам несовершеннолетних и защите их прав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едеральный закон от 24 июня 1999г. №120-ФЗ «Об основах системы профилактики безнадзорности и правонарушений несовершеннолетних» /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оряжение Правительства РФ от 26 января 2007г. №79-р «Об утверждении федеральной целевой программы "Дети России" на 2007 - 2010годы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 положении детей в Саратовской област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ЗАЩИТА ПРАВ РЕБЕНКА В ДОУ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071720" y="4000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71720" y="535788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1071720" y="10022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социально-педагогической деятельности ДОУ по защите прав ребенка выделяют  три основных направлен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ик 8"/>
          <p:cNvGrpSpPr/>
          <p:nvPr/>
        </p:nvGrpSpPr>
        <p:grpSpPr>
          <a:xfrm>
            <a:off x="208080" y="2230560"/>
            <a:ext cx="3132000" cy="1371600"/>
            <a:chOff x="208080" y="2230560"/>
            <a:chExt cx="3132000" cy="1371600"/>
          </a:xfrm>
        </p:grpSpPr>
        <p:pic>
          <p:nvPicPr>
            <p:cNvPr id="2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08080" y="2230560"/>
              <a:ext cx="3132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85840" y="2286000"/>
              <a:ext cx="29289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работа по организации эффективного взаимодействия всех субъектов образовательного проце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оугольник 9"/>
          <p:cNvGrpSpPr/>
          <p:nvPr/>
        </p:nvGrpSpPr>
        <p:grpSpPr>
          <a:xfrm>
            <a:off x="3346560" y="2230560"/>
            <a:ext cx="2878200" cy="1446120"/>
            <a:chOff x="3346560" y="2230560"/>
            <a:chExt cx="2878200" cy="1446120"/>
          </a:xfrm>
        </p:grpSpPr>
        <p:pic>
          <p:nvPicPr>
            <p:cNvPr id="28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346560" y="2230560"/>
              <a:ext cx="28782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29000" y="2286000"/>
              <a:ext cx="27147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оугольник 11"/>
          <p:cNvGrpSpPr/>
          <p:nvPr/>
        </p:nvGrpSpPr>
        <p:grpSpPr>
          <a:xfrm>
            <a:off x="6205680" y="2230560"/>
            <a:ext cx="2877840" cy="1446120"/>
            <a:chOff x="6205680" y="2230560"/>
            <a:chExt cx="2877840" cy="1446120"/>
          </a:xfrm>
        </p:grpSpPr>
        <p:pic>
          <p:nvPicPr>
            <p:cNvPr id="289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6205680" y="2230560"/>
              <a:ext cx="287784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286680" y="2286000"/>
              <a:ext cx="27144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работа по вопросам социального развития 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0"/>
          <p:cNvSpPr/>
          <p:nvPr/>
        </p:nvSpPr>
        <p:spPr>
          <a:xfrm>
            <a:off x="3571920" y="264312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бота по защите прав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Стрелка вниз 12"/>
          <p:cNvGrpSpPr/>
          <p:nvPr/>
        </p:nvGrpSpPr>
        <p:grpSpPr>
          <a:xfrm>
            <a:off x="4552920" y="1805040"/>
            <a:ext cx="536760" cy="444600"/>
            <a:chOff x="4552920" y="1805040"/>
            <a:chExt cx="536760" cy="444600"/>
          </a:xfrm>
        </p:grpSpPr>
        <p:pic>
          <p:nvPicPr>
            <p:cNvPr id="293" name="Стрелка вниз 12" descr=""/>
            <p:cNvPicPr/>
            <p:nvPr/>
          </p:nvPicPr>
          <p:blipFill>
            <a:blip r:embed="rId5"/>
            <a:stretch/>
          </p:blipFill>
          <p:spPr>
            <a:xfrm>
              <a:off x="4552920" y="1805040"/>
              <a:ext cx="5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32200" y="1857240"/>
              <a:ext cx="179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трелка вниз 13"/>
          <p:cNvGrpSpPr/>
          <p:nvPr/>
        </p:nvGrpSpPr>
        <p:grpSpPr>
          <a:xfrm>
            <a:off x="2157480" y="1779480"/>
            <a:ext cx="476280" cy="446040"/>
            <a:chOff x="2157480" y="1779480"/>
            <a:chExt cx="476280" cy="446040"/>
          </a:xfrm>
        </p:grpSpPr>
        <p:pic>
          <p:nvPicPr>
            <p:cNvPr id="296" name="Стрелка вниз 13" descr=""/>
            <p:cNvPicPr/>
            <p:nvPr/>
          </p:nvPicPr>
          <p:blipFill>
            <a:blip r:embed="rId6"/>
            <a:stretch/>
          </p:blipFill>
          <p:spPr>
            <a:xfrm>
              <a:off x="2157480" y="1779480"/>
              <a:ext cx="476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1810800">
              <a:off x="2322000" y="1861920"/>
              <a:ext cx="177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Стрелка вниз 14"/>
          <p:cNvGrpSpPr/>
          <p:nvPr/>
        </p:nvGrpSpPr>
        <p:grpSpPr>
          <a:xfrm>
            <a:off x="7059600" y="1706400"/>
            <a:ext cx="450720" cy="446400"/>
            <a:chOff x="7059600" y="1706400"/>
            <a:chExt cx="450720" cy="446400"/>
          </a:xfrm>
        </p:grpSpPr>
        <p:pic>
          <p:nvPicPr>
            <p:cNvPr id="299" name="Стрелка вниз 14" descr=""/>
            <p:cNvPicPr/>
            <p:nvPr/>
          </p:nvPicPr>
          <p:blipFill>
            <a:blip r:embed="rId7"/>
            <a:stretch/>
          </p:blipFill>
          <p:spPr>
            <a:xfrm>
              <a:off x="7059600" y="170640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9054200">
              <a:off x="7184880" y="1793520"/>
              <a:ext cx="179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27" descr="100_2617"/>
          <p:cNvPicPr/>
          <p:nvPr/>
        </p:nvPicPr>
        <p:blipFill>
          <a:blip r:embed="rId8"/>
          <a:stretch/>
        </p:blipFill>
        <p:spPr>
          <a:xfrm>
            <a:off x="4356000" y="4005360"/>
            <a:ext cx="3568680" cy="2676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9"/>
          <a:stretch/>
        </p:blipFill>
        <p:spPr>
          <a:xfrm>
            <a:off x="1042920" y="386064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2"/>
          <p:cNvSpPr/>
          <p:nvPr/>
        </p:nvSpPr>
        <p:spPr>
          <a:xfrm>
            <a:off x="1214280" y="2142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ОРГАНИЗАЦИЮ РАБОТЫ ПО ЗАЩИТЕ ПРАВ РЕБЕНКА МОЖНО ПРЕДСТАВИТЬ В ВИДЕ СТРУКТУРНО-ФУНКЦИОНАЛЬНОЙ МОДЕЛИ, КОТОРАЯ УСЛОВНО СОСТОИТ ИЗ ТРЕХ БЛО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TextBox 3"/>
          <p:cNvGrpSpPr/>
          <p:nvPr/>
        </p:nvGrpSpPr>
        <p:grpSpPr>
          <a:xfrm>
            <a:off x="1663560" y="1925640"/>
            <a:ext cx="1036800" cy="549360"/>
            <a:chOff x="1663560" y="1925640"/>
            <a:chExt cx="1036800" cy="549360"/>
          </a:xfrm>
        </p:grpSpPr>
        <p:pic>
          <p:nvPicPr>
            <p:cNvPr id="305" name="TextBox 3" descr=""/>
            <p:cNvPicPr/>
            <p:nvPr/>
          </p:nvPicPr>
          <p:blipFill>
            <a:blip r:embed="rId2"/>
            <a:stretch/>
          </p:blipFill>
          <p:spPr>
            <a:xfrm>
              <a:off x="1663560" y="1925640"/>
              <a:ext cx="10368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788120" y="20001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TextBox 4"/>
          <p:cNvGrpSpPr/>
          <p:nvPr/>
        </p:nvGrpSpPr>
        <p:grpSpPr>
          <a:xfrm>
            <a:off x="1663560" y="3067200"/>
            <a:ext cx="1036800" cy="547560"/>
            <a:chOff x="1663560" y="3067200"/>
            <a:chExt cx="1036800" cy="547560"/>
          </a:xfrm>
        </p:grpSpPr>
        <p:pic>
          <p:nvPicPr>
            <p:cNvPr id="308" name="TextBox 4" descr=""/>
            <p:cNvPicPr/>
            <p:nvPr/>
          </p:nvPicPr>
          <p:blipFill>
            <a:blip r:embed="rId3"/>
            <a:stretch/>
          </p:blipFill>
          <p:spPr>
            <a:xfrm>
              <a:off x="1663560" y="3067200"/>
              <a:ext cx="103680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788120" y="31431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TextBox 5"/>
          <p:cNvGrpSpPr/>
          <p:nvPr/>
        </p:nvGrpSpPr>
        <p:grpSpPr>
          <a:xfrm>
            <a:off x="1590840" y="4211640"/>
            <a:ext cx="1036440" cy="549360"/>
            <a:chOff x="1590840" y="4211640"/>
            <a:chExt cx="1036440" cy="549360"/>
          </a:xfrm>
        </p:grpSpPr>
        <p:pic>
          <p:nvPicPr>
            <p:cNvPr id="311" name="TextBox 5" descr=""/>
            <p:cNvPicPr/>
            <p:nvPr/>
          </p:nvPicPr>
          <p:blipFill>
            <a:blip r:embed="rId4"/>
            <a:stretch/>
          </p:blipFill>
          <p:spPr>
            <a:xfrm>
              <a:off x="1590840" y="4211640"/>
              <a:ext cx="1036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716480" y="42861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Скругленный прямоугольник 6"/>
          <p:cNvGrpSpPr/>
          <p:nvPr/>
        </p:nvGrpSpPr>
        <p:grpSpPr>
          <a:xfrm>
            <a:off x="3054240" y="1700280"/>
            <a:ext cx="5089680" cy="1012680"/>
            <a:chOff x="3054240" y="1700280"/>
            <a:chExt cx="5089680" cy="1012680"/>
          </a:xfrm>
        </p:grpSpPr>
        <p:pic>
          <p:nvPicPr>
            <p:cNvPr id="314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054240" y="1700280"/>
              <a:ext cx="50896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176640" y="1795320"/>
              <a:ext cx="4846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информационно-анали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кругленный прямоугольник 7"/>
          <p:cNvGrpSpPr/>
          <p:nvPr/>
        </p:nvGrpSpPr>
        <p:grpSpPr>
          <a:xfrm>
            <a:off x="3054240" y="2925720"/>
            <a:ext cx="5089680" cy="1013040"/>
            <a:chOff x="3054240" y="2925720"/>
            <a:chExt cx="5089680" cy="1013040"/>
          </a:xfrm>
        </p:grpSpPr>
        <p:pic>
          <p:nvPicPr>
            <p:cNvPr id="317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054240" y="2925720"/>
              <a:ext cx="50896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176640" y="3021120"/>
              <a:ext cx="4846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прак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8"/>
          <p:cNvGrpSpPr/>
          <p:nvPr/>
        </p:nvGrpSpPr>
        <p:grpSpPr>
          <a:xfrm>
            <a:off x="3067200" y="4091040"/>
            <a:ext cx="5083200" cy="1011240"/>
            <a:chOff x="3067200" y="4091040"/>
            <a:chExt cx="5083200" cy="1011240"/>
          </a:xfrm>
        </p:grpSpPr>
        <p:pic>
          <p:nvPicPr>
            <p:cNvPr id="320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067200" y="4091040"/>
              <a:ext cx="5083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184560" y="4184640"/>
              <a:ext cx="4846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контрольно-оценоч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Стрелка вправо 10"/>
          <p:cNvGrpSpPr/>
          <p:nvPr/>
        </p:nvGrpSpPr>
        <p:grpSpPr>
          <a:xfrm>
            <a:off x="2633760" y="2011320"/>
            <a:ext cx="517320" cy="530280"/>
            <a:chOff x="2633760" y="2011320"/>
            <a:chExt cx="517320" cy="530280"/>
          </a:xfrm>
        </p:grpSpPr>
        <p:pic>
          <p:nvPicPr>
            <p:cNvPr id="323" name="Стрелка вправо 10" descr=""/>
            <p:cNvPicPr/>
            <p:nvPr/>
          </p:nvPicPr>
          <p:blipFill>
            <a:blip r:embed="rId8"/>
            <a:stretch/>
          </p:blipFill>
          <p:spPr>
            <a:xfrm>
              <a:off x="2633760" y="2011320"/>
              <a:ext cx="5173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714760" y="2160720"/>
              <a:ext cx="268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трелка вправо 11"/>
          <p:cNvGrpSpPr/>
          <p:nvPr/>
        </p:nvGrpSpPr>
        <p:grpSpPr>
          <a:xfrm>
            <a:off x="2633760" y="3151080"/>
            <a:ext cx="517320" cy="536760"/>
            <a:chOff x="2633760" y="3151080"/>
            <a:chExt cx="517320" cy="536760"/>
          </a:xfrm>
        </p:grpSpPr>
        <p:pic>
          <p:nvPicPr>
            <p:cNvPr id="326" name="Стрелка вправо 11" descr=""/>
            <p:cNvPicPr/>
            <p:nvPr/>
          </p:nvPicPr>
          <p:blipFill>
            <a:blip r:embed="rId9"/>
            <a:stretch/>
          </p:blipFill>
          <p:spPr>
            <a:xfrm>
              <a:off x="2633760" y="3151080"/>
              <a:ext cx="5173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14760" y="3303720"/>
              <a:ext cx="268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Стрелка вправо 12"/>
          <p:cNvGrpSpPr/>
          <p:nvPr/>
        </p:nvGrpSpPr>
        <p:grpSpPr>
          <a:xfrm>
            <a:off x="2633760" y="4297320"/>
            <a:ext cx="517320" cy="530280"/>
            <a:chOff x="2633760" y="4297320"/>
            <a:chExt cx="517320" cy="530280"/>
          </a:xfrm>
        </p:grpSpPr>
        <p:pic>
          <p:nvPicPr>
            <p:cNvPr id="329" name="Стрелка вправо 12" descr=""/>
            <p:cNvPicPr/>
            <p:nvPr/>
          </p:nvPicPr>
          <p:blipFill>
            <a:blip r:embed="rId10"/>
            <a:stretch/>
          </p:blipFill>
          <p:spPr>
            <a:xfrm>
              <a:off x="2633760" y="4297320"/>
              <a:ext cx="5173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14760" y="4446720"/>
              <a:ext cx="268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32" descr="100_2481"/>
          <p:cNvPicPr/>
          <p:nvPr/>
        </p:nvPicPr>
        <p:blipFill>
          <a:blip r:embed="rId11"/>
          <a:stretch/>
        </p:blipFill>
        <p:spPr>
          <a:xfrm>
            <a:off x="1908000" y="5237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3" descr="100_2724"/>
          <p:cNvPicPr/>
          <p:nvPr/>
        </p:nvPicPr>
        <p:blipFill>
          <a:blip r:embed="rId12"/>
          <a:stretch/>
        </p:blipFill>
        <p:spPr>
          <a:xfrm>
            <a:off x="4211640" y="5207040"/>
            <a:ext cx="2200320" cy="1650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4" descr="IMG_5661"/>
          <p:cNvPicPr/>
          <p:nvPr/>
        </p:nvPicPr>
        <p:blipFill>
          <a:blip r:embed="rId13"/>
          <a:stretch/>
        </p:blipFill>
        <p:spPr>
          <a:xfrm>
            <a:off x="6443640" y="5210280"/>
            <a:ext cx="2195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БАЗА ИССЛЕДОВАНИЯ: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БДОУ «Детский сад комбинированного вида № 53» Энгельсского муниципального района Саратовской области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5" name="Текст 2"/>
          <p:cNvGrpSpPr/>
          <p:nvPr/>
        </p:nvGrpSpPr>
        <p:grpSpPr>
          <a:xfrm>
            <a:off x="2066760" y="1073160"/>
            <a:ext cx="6083640" cy="888840"/>
            <a:chOff x="2066760" y="1073160"/>
            <a:chExt cx="6083640" cy="888840"/>
          </a:xfrm>
        </p:grpSpPr>
        <p:pic>
          <p:nvPicPr>
            <p:cNvPr id="336" name="Текст 2" descr=""/>
            <p:cNvPicPr/>
            <p:nvPr/>
          </p:nvPicPr>
          <p:blipFill>
            <a:blip r:embed="rId2"/>
            <a:stretch/>
          </p:blipFill>
          <p:spPr>
            <a:xfrm>
              <a:off x="2066760" y="1073160"/>
              <a:ext cx="60836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143080" y="1143000"/>
              <a:ext cx="59292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8631"/>
                  </a:solidFill>
                  <a:latin typeface="Times New Roman"/>
                  <a:ea typeface="Times New Roman"/>
                </a:rPr>
                <a:t>ДЕТСКИЙ САД КОМБИНИРОВАННОГО ВИДА № 53 В СВОЕЙ СТРУКТУРЕ ИМЕЕТ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оугольник 3"/>
          <p:cNvGrpSpPr/>
          <p:nvPr/>
        </p:nvGrpSpPr>
        <p:grpSpPr>
          <a:xfrm>
            <a:off x="2066760" y="2444760"/>
            <a:ext cx="2408400" cy="1285920"/>
            <a:chOff x="2066760" y="2444760"/>
            <a:chExt cx="2408400" cy="1285920"/>
          </a:xfrm>
        </p:grpSpPr>
        <p:pic>
          <p:nvPicPr>
            <p:cNvPr id="339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066760" y="2444760"/>
              <a:ext cx="24084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143080" y="2500200"/>
              <a:ext cx="22147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общеобразовательных груп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рямоугольник 4"/>
          <p:cNvGrpSpPr/>
          <p:nvPr/>
        </p:nvGrpSpPr>
        <p:grpSpPr>
          <a:xfrm>
            <a:off x="5919840" y="2444760"/>
            <a:ext cx="2303280" cy="1285920"/>
            <a:chOff x="5919840" y="2444760"/>
            <a:chExt cx="2303280" cy="1285920"/>
          </a:xfrm>
        </p:grpSpPr>
        <p:pic>
          <p:nvPicPr>
            <p:cNvPr id="342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919840" y="2444760"/>
              <a:ext cx="23032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000840" y="2500200"/>
              <a:ext cx="214308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ппы для детей с нарушением зр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Стрелка вниз 7" descr=""/>
          <p:cNvPicPr/>
          <p:nvPr/>
        </p:nvPicPr>
        <p:blipFill>
          <a:blip r:embed="rId5"/>
          <a:stretch/>
        </p:blipFill>
        <p:spPr>
          <a:xfrm>
            <a:off x="6834240" y="3651120"/>
            <a:ext cx="474480" cy="744840"/>
          </a:xfrm>
          <a:prstGeom prst="rect">
            <a:avLst/>
          </a:prstGeom>
          <a:ln w="0">
            <a:noFill/>
          </a:ln>
        </p:spPr>
      </p:pic>
      <p:grpSp>
        <p:nvGrpSpPr>
          <p:cNvPr id="345" name="Прямоугольник 8"/>
          <p:cNvGrpSpPr/>
          <p:nvPr/>
        </p:nvGrpSpPr>
        <p:grpSpPr>
          <a:xfrm>
            <a:off x="5992920" y="4230720"/>
            <a:ext cx="2303280" cy="1219320"/>
            <a:chOff x="5992920" y="4230720"/>
            <a:chExt cx="2303280" cy="1219320"/>
          </a:xfrm>
        </p:grpSpPr>
        <p:pic>
          <p:nvPicPr>
            <p:cNvPr id="346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5992920" y="4230720"/>
              <a:ext cx="23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072120" y="4286160"/>
              <a:ext cx="214308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ппы посещают 10-12 челов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Стрелка вниз 9" descr=""/>
          <p:cNvPicPr/>
          <p:nvPr/>
        </p:nvPicPr>
        <p:blipFill>
          <a:blip r:embed="rId7"/>
          <a:stretch/>
        </p:blipFill>
        <p:spPr>
          <a:xfrm>
            <a:off x="2975040" y="3651120"/>
            <a:ext cx="474480" cy="744840"/>
          </a:xfrm>
          <a:prstGeom prst="rect">
            <a:avLst/>
          </a:prstGeom>
          <a:ln w="0">
            <a:noFill/>
          </a:ln>
        </p:spPr>
      </p:pic>
      <p:grpSp>
        <p:nvGrpSpPr>
          <p:cNvPr id="349" name="Прямоугольник 10"/>
          <p:cNvGrpSpPr/>
          <p:nvPr/>
        </p:nvGrpSpPr>
        <p:grpSpPr>
          <a:xfrm>
            <a:off x="2066760" y="4230720"/>
            <a:ext cx="2372040" cy="1231920"/>
            <a:chOff x="2066760" y="4230720"/>
            <a:chExt cx="2372040" cy="1231920"/>
          </a:xfrm>
        </p:grpSpPr>
        <p:pic>
          <p:nvPicPr>
            <p:cNvPr id="350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066760" y="4230720"/>
              <a:ext cx="23720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143080" y="4286160"/>
              <a:ext cx="22147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ппы посещают 20 детей (в среднем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Стрелка вниз 11" descr=""/>
          <p:cNvPicPr/>
          <p:nvPr/>
        </p:nvPicPr>
        <p:blipFill>
          <a:blip r:embed="rId9"/>
          <a:stretch/>
        </p:blipFill>
        <p:spPr>
          <a:xfrm>
            <a:off x="2975040" y="1865160"/>
            <a:ext cx="474480" cy="744840"/>
          </a:xfrm>
          <a:prstGeom prst="rect">
            <a:avLst/>
          </a:prstGeom>
          <a:ln w="0">
            <a:noFill/>
          </a:ln>
        </p:spPr>
      </p:pic>
      <p:pic>
        <p:nvPicPr>
          <p:cNvPr id="353" name="Стрелка вниз 12" descr=""/>
          <p:cNvPicPr/>
          <p:nvPr/>
        </p:nvPicPr>
        <p:blipFill>
          <a:blip r:embed="rId10"/>
          <a:stretch/>
        </p:blipFill>
        <p:spPr>
          <a:xfrm>
            <a:off x="6834240" y="1865160"/>
            <a:ext cx="47448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100_2463"/>
          <p:cNvPicPr/>
          <p:nvPr/>
        </p:nvPicPr>
        <p:blipFill>
          <a:blip r:embed="rId2"/>
          <a:stretch/>
        </p:blipFill>
        <p:spPr>
          <a:xfrm>
            <a:off x="1116000" y="189000"/>
            <a:ext cx="3527280" cy="4703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100_2612"/>
          <p:cNvPicPr/>
          <p:nvPr/>
        </p:nvPicPr>
        <p:blipFill>
          <a:blip r:embed="rId3"/>
          <a:stretch/>
        </p:blipFill>
        <p:spPr>
          <a:xfrm>
            <a:off x="4859280" y="1700280"/>
            <a:ext cx="361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9" descr="100_2455"/>
          <p:cNvPicPr/>
          <p:nvPr/>
        </p:nvPicPr>
        <p:blipFill>
          <a:blip r:embed="rId2"/>
          <a:stretch/>
        </p:blipFill>
        <p:spPr>
          <a:xfrm>
            <a:off x="2484360" y="333360"/>
            <a:ext cx="4535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5"/>
          <p:cNvSpPr/>
          <p:nvPr/>
        </p:nvSpPr>
        <p:spPr>
          <a:xfrm>
            <a:off x="1571760" y="765000"/>
            <a:ext cx="64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100_2622"/>
          <p:cNvPicPr/>
          <p:nvPr/>
        </p:nvPicPr>
        <p:blipFill>
          <a:blip r:embed="rId2"/>
          <a:stretch/>
        </p:blipFill>
        <p:spPr>
          <a:xfrm>
            <a:off x="2484360" y="2060640"/>
            <a:ext cx="45766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2-05-29T15:48:59Z</dcterms:modified>
  <cp:revision>45</cp:revision>
  <dc:subject/>
  <dc:title>ОРГАНИЗАЦИЯ  ПСИХОЛОГО-ПЕДАГОГИЧЕСКОГО  СОПРОВОЖДЕНИЯ ДЕЯТЕЛЬНОСТИ  ВОСПИТАТЕЛЯ ИНКЛЮЗИВНОЙ  ГРУППЫ</dc:title>
</cp:coreProperties>
</file>