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31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F5F-786A-4091-9C65-1DA6AF4E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18C-0DA9-46D5-A76F-3E1AD0DC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CD3-42DA-4677-BF85-D87A285E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193-F550-40DC-A97F-8F0839F4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FE87-ED13-4356-98F5-45829B54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CC1B-D816-44B9-B4DA-2619BE61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F9B8-6250-47E5-9388-4EBDCB2E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18C6-89D3-4B8A-A47C-3BAC4088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6B6E-1FC2-4917-827A-E9ED18D5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4D85-8030-4377-9A29-3505EEF8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AD52-92C3-4711-B06C-C0F25CD4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7DE-996D-4CC2-BE28-5D4F3A8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862F-E020-41EB-9AC9-803A6080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0430-C199-4064-B89B-1E54D3C3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4782-936B-4A53-A5C6-4D7A73F5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B9EC-8135-4428-83FE-140C9F2D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093-D11F-44AD-BD9E-C59CDF94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6CD7-1357-4950-A97B-FF2128C8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C8BE-FEBB-4C2E-9A54-03BFFBFF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D635-4541-4A3A-8A8D-46993C80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546D6-319C-4C6B-9D96-FF11FD6D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1AB3-0A1B-4620-B3B8-AA14942B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A29-0B82-4B69-8AFB-B557D6DD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FF3FF-2A78-4399-8CAE-F3523EB9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C228A-A1E6-42D5-B909-8E806732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47E1-302D-4347-8425-27DBE1DB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4C0B-7EE3-45F1-B96F-3244CEAF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5C63E-9369-4A1A-AEC0-C50610FF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068AC-475D-40BB-B5E4-BCB6D7D7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4315F-37DF-49E4-93D2-923E35D7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0BE9D-2AB1-4840-BA77-812FB534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1C35B-C323-447B-846B-D95B4A63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4D1B-9097-4A5D-9523-7C8C679D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37C-4130-42BE-8DEE-0F103CD3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8BDC3-D546-45DA-99AC-6F09EC5E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A0EEE-777A-4749-AD48-FFC046FF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2453E-5B36-438E-BF8C-80632A75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5CCD-C877-4252-B106-D94A18C6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576B-0B0B-4E9D-8DBF-8EACB486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B0B56-8171-4FD6-9403-18ED540E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0B8A6-0951-4FAA-9EF9-37A2301B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1B627-00FF-456F-817A-1AAA9794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6E062-B662-401B-AFE0-27A3501D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BB78-3639-4D3A-96A0-6BD2C7DB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18B-063A-4FDF-B089-41E92A08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25DE3-6128-4E79-8AFA-EF30F405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91756-14AE-418C-A5DD-AFFCABD9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797CD-F745-4B50-BF1E-F476E909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A388D-AC32-4334-9434-3F071C91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92688-6D7F-4D57-B2DE-1900566F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4C724-1E48-41A3-A4D4-88A4816D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B7398-91A3-44D4-8841-713594BC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2168-693E-451E-AF0A-5018F2C5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B6CCD-AEFB-4427-BD16-E7F0186C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62D9B-826F-4393-AA9F-185B68D0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F60-9835-4901-B484-ECA610EB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81117-416C-4600-857A-BB7C75DB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6D128-1028-4A81-B8CC-07C27903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A74A7-38D0-4F39-A14F-E156785C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9F97A-A3FD-4936-AB3D-6EC3EA11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FADD7-0FB8-4E69-97AF-FC86796C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D4C5D-7BBF-4241-A3B7-128521F9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6E886-86AF-4ADA-8A74-5E334FFB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64935-2771-407F-A01E-E56B1D7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1DEA4-79B6-4294-BC9F-B70B3139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1EF68-B56D-4377-B0ED-10DB443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320-8C30-4003-8063-E523620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84D43-72EA-493D-900C-34255091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AB394-7735-4F5A-A9B8-5274349A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72A11-A538-4F49-9937-4C8A0FD2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29A-5DB4-422B-BC8C-217B9F19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2C2-7E20-4993-B169-5DEFB3D0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142C-16F4-4BE6-A426-26B103C5EDE9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DBDE-666B-40BC-B262-8452B9790E2A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97A2-143C-4F0C-92FB-448EF813CA95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848A-14AB-4053-A4E5-1AB9809BAD6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1180-9AFB-4E6B-9539-D899C6284770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26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6BBC-E62E-4157-9649-E20F5D772DCC}" type="slidenum">
              <a:rPr b="0" lang="en-US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7.pn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9720" y="142920"/>
            <a:ext cx="792972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«СОЦИАЛЬНО-ПЕДАГОГИЧЕСКАЯ ДЕЯТЕЛЬНОСТЬ ПО ЗАЩИТЕ ПРАВ РЕБЕНКА </a:t>
            </a:r>
            <a:br>
              <a:rPr sz="2500"/>
            </a:br>
            <a:r>
              <a:rPr b="1" lang="en-US" sz="25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В УСЛОВИЯХ ДОШКОЛЬНОГО ОБРАЗОВАТЕЛЬНОГО УЧРЕЖДЕНИЯ»</a:t>
            </a:r>
            <a:br>
              <a:rPr sz="2500"/>
            </a:br>
            <a:br>
              <a:rPr sz="16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571760" y="-249840"/>
            <a:ext cx="46080" cy="31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273" name="Picture 6" descr="53g 058"/>
          <p:cNvPicPr/>
          <p:nvPr/>
        </p:nvPicPr>
        <p:blipFill>
          <a:blip r:embed="rId2"/>
          <a:stretch/>
        </p:blipFill>
        <p:spPr>
          <a:xfrm>
            <a:off x="2050920" y="2276640"/>
            <a:ext cx="58676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8840" y="2858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- 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428840" y="333000"/>
            <a:ext cx="7407360" cy="6024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ОБЪЕКТ</a:t>
            </a:r>
            <a:r>
              <a:rPr b="1" lang="en-US" sz="19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ИССЛЕДОВАНИЯ</a:t>
            </a:r>
            <a:r>
              <a:rPr b="1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 -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ва ребенк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ПРЕДМЕТ ИССЛЕДОВАНИЯ -</a:t>
            </a:r>
            <a:r>
              <a:rPr b="0" lang="en-US" sz="1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циально-педагогическая деятельность по защите прав ребёнка в условиях дошкольного образовательного учрежде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ЦЕЛЬ - </a:t>
            </a:r>
            <a:r>
              <a:rPr b="0" lang="en-US" sz="18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изучить теоретический аспект и методические основы социально-педагогической деятельности в ДОУ по защите прав ребенка.</a:t>
            </a: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ЗАДАЧИ 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.Изучить современное положение детей в Росс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2. Охарактеризовать основные законы, регулирующие права детей в Росс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3. Раскрыть систему социальной защиты детств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4. Проанализировать организацию социально-педагогической деятельности по защите прав ребёнка в дошкольном образовательном учрежден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5. Обобщить опыт социально-педагогической деятельности по защите прав ребёнка в условиях МДОУ «Детский сад №53» г. Энгельса Саратовской област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28840" y="142560"/>
            <a:ext cx="7407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ЗАКОНОДАТЕЛЬНАЯ БАЗА В ОБЛАСТИ ЗАЩИТЫ ПРАВ ДЕТЕЙ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500120" y="1214280"/>
            <a:ext cx="7407360" cy="507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Конституция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«Конвенция о правах ребенка»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Декларация прав ребенк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семирная декларация об обеспечении выживания, защиты и  развития детей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Национальная доктрина образования в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Уголовный кодекс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емейный кодекс Российской Федерации.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тановление Правительства РФ от 20.07.1992 (о неотложных мерах по социальной защите детей-сирот и детей, оставшихся без попечения   родителей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становление Правительства РФ от 6 мая 2006г. №272 «О Правительственной комиссии по делам несовершеннолетних и защите их прав»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Федеральный закон от 24 июня 1999г. №120-ФЗ «Об основах системы профилактики безнадзорности и правонарушений несовершеннолетних» /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споряжение Правительства РФ от 26 января 2007г. №79-р «Об утверждении федеральной целевой программы "Дети России" на 2007 - 2010годы»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 положении детей в Саратовской област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ЗАЩИТА ПРАВ РЕБЕНКА В ДОУ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071720" y="40006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071720" y="535788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1071720" y="100224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социально-педагогической деятельности ДОУ по защите прав ребенка выделяют  три основных направлени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Прямоугольник 8"/>
          <p:cNvGrpSpPr/>
          <p:nvPr/>
        </p:nvGrpSpPr>
        <p:grpSpPr>
          <a:xfrm>
            <a:off x="208080" y="2230560"/>
            <a:ext cx="3132000" cy="1371600"/>
            <a:chOff x="208080" y="2230560"/>
            <a:chExt cx="3132000" cy="1371600"/>
          </a:xfrm>
        </p:grpSpPr>
        <p:pic>
          <p:nvPicPr>
            <p:cNvPr id="2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208080" y="2230560"/>
              <a:ext cx="3132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85840" y="2286000"/>
              <a:ext cx="2928960" cy="12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72314"/>
                  </a:solidFill>
                  <a:latin typeface="Times New Roman"/>
                  <a:ea typeface="Times New Roman"/>
                </a:rPr>
                <a:t>работа по организации эффективного взаимодействия всех субъектов образовательного проце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оугольник 9"/>
          <p:cNvGrpSpPr/>
          <p:nvPr/>
        </p:nvGrpSpPr>
        <p:grpSpPr>
          <a:xfrm>
            <a:off x="3346560" y="2230560"/>
            <a:ext cx="2878200" cy="1446120"/>
            <a:chOff x="3346560" y="2230560"/>
            <a:chExt cx="2878200" cy="1446120"/>
          </a:xfrm>
        </p:grpSpPr>
        <p:pic>
          <p:nvPicPr>
            <p:cNvPr id="28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3346560" y="2230560"/>
              <a:ext cx="287820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429000" y="2286000"/>
              <a:ext cx="271476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оугольник 11"/>
          <p:cNvGrpSpPr/>
          <p:nvPr/>
        </p:nvGrpSpPr>
        <p:grpSpPr>
          <a:xfrm>
            <a:off x="6205680" y="2230560"/>
            <a:ext cx="2877840" cy="1446120"/>
            <a:chOff x="6205680" y="2230560"/>
            <a:chExt cx="2877840" cy="1446120"/>
          </a:xfrm>
        </p:grpSpPr>
        <p:pic>
          <p:nvPicPr>
            <p:cNvPr id="289" name="Прямоугольник 11" descr=""/>
            <p:cNvPicPr/>
            <p:nvPr/>
          </p:nvPicPr>
          <p:blipFill>
            <a:blip r:embed="rId4"/>
            <a:stretch/>
          </p:blipFill>
          <p:spPr>
            <a:xfrm>
              <a:off x="6205680" y="2230560"/>
              <a:ext cx="287784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286680" y="2286000"/>
              <a:ext cx="27144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72314"/>
                  </a:solidFill>
                  <a:latin typeface="Times New Roman"/>
                  <a:ea typeface="Times New Roman"/>
                </a:rPr>
                <a:t>работа по вопросам социального развития ребен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10"/>
          <p:cNvSpPr/>
          <p:nvPr/>
        </p:nvSpPr>
        <p:spPr>
          <a:xfrm>
            <a:off x="3571920" y="264312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бота по защите прав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Стрелка вниз 12"/>
          <p:cNvGrpSpPr/>
          <p:nvPr/>
        </p:nvGrpSpPr>
        <p:grpSpPr>
          <a:xfrm>
            <a:off x="4552920" y="1805040"/>
            <a:ext cx="536760" cy="444600"/>
            <a:chOff x="4552920" y="1805040"/>
            <a:chExt cx="536760" cy="444600"/>
          </a:xfrm>
        </p:grpSpPr>
        <p:pic>
          <p:nvPicPr>
            <p:cNvPr id="293" name="Стрелка вниз 12" descr=""/>
            <p:cNvPicPr/>
            <p:nvPr/>
          </p:nvPicPr>
          <p:blipFill>
            <a:blip r:embed="rId5"/>
            <a:stretch/>
          </p:blipFill>
          <p:spPr>
            <a:xfrm>
              <a:off x="4552920" y="1805040"/>
              <a:ext cx="536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32200" y="1857240"/>
              <a:ext cx="1796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Стрелка вниз 13"/>
          <p:cNvGrpSpPr/>
          <p:nvPr/>
        </p:nvGrpSpPr>
        <p:grpSpPr>
          <a:xfrm>
            <a:off x="2157480" y="1779480"/>
            <a:ext cx="476280" cy="446040"/>
            <a:chOff x="2157480" y="1779480"/>
            <a:chExt cx="476280" cy="446040"/>
          </a:xfrm>
        </p:grpSpPr>
        <p:pic>
          <p:nvPicPr>
            <p:cNvPr id="296" name="Стрелка вниз 13" descr=""/>
            <p:cNvPicPr/>
            <p:nvPr/>
          </p:nvPicPr>
          <p:blipFill>
            <a:blip r:embed="rId6"/>
            <a:stretch/>
          </p:blipFill>
          <p:spPr>
            <a:xfrm>
              <a:off x="2157480" y="1779480"/>
              <a:ext cx="476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 rot="1810800">
              <a:off x="2322000" y="1861920"/>
              <a:ext cx="177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Стрелка вниз 14"/>
          <p:cNvGrpSpPr/>
          <p:nvPr/>
        </p:nvGrpSpPr>
        <p:grpSpPr>
          <a:xfrm>
            <a:off x="7059600" y="1706400"/>
            <a:ext cx="450720" cy="446400"/>
            <a:chOff x="7059600" y="1706400"/>
            <a:chExt cx="450720" cy="446400"/>
          </a:xfrm>
        </p:grpSpPr>
        <p:pic>
          <p:nvPicPr>
            <p:cNvPr id="299" name="Стрелка вниз 14" descr=""/>
            <p:cNvPicPr/>
            <p:nvPr/>
          </p:nvPicPr>
          <p:blipFill>
            <a:blip r:embed="rId7"/>
            <a:stretch/>
          </p:blipFill>
          <p:spPr>
            <a:xfrm>
              <a:off x="7059600" y="1706400"/>
              <a:ext cx="45072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rot="19054200">
              <a:off x="7184880" y="1793520"/>
              <a:ext cx="179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Picture 27" descr="100_2617"/>
          <p:cNvPicPr/>
          <p:nvPr/>
        </p:nvPicPr>
        <p:blipFill>
          <a:blip r:embed="rId8"/>
          <a:stretch/>
        </p:blipFill>
        <p:spPr>
          <a:xfrm>
            <a:off x="4356000" y="4005360"/>
            <a:ext cx="3568680" cy="2676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9"/>
          <a:stretch/>
        </p:blipFill>
        <p:spPr>
          <a:xfrm>
            <a:off x="1042920" y="3860640"/>
            <a:ext cx="214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2"/>
          <p:cNvSpPr/>
          <p:nvPr/>
        </p:nvSpPr>
        <p:spPr>
          <a:xfrm>
            <a:off x="1214280" y="21420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ОРГАНИЗАЦИЮ РАБОТЫ ПО ЗАЩИТЕ ПРАВ РЕБЕНКА МОЖНО ПРЕДСТАВИТЬ В ВИДЕ СТРУКТУРНО-ФУНКЦИОНАЛЬНОЙ МОДЕЛИ, КОТОРАЯ УСЛОВНО СОСТОИТ ИЗ ТРЕХ БЛО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TextBox 3"/>
          <p:cNvGrpSpPr/>
          <p:nvPr/>
        </p:nvGrpSpPr>
        <p:grpSpPr>
          <a:xfrm>
            <a:off x="1663560" y="1925640"/>
            <a:ext cx="1036800" cy="549360"/>
            <a:chOff x="1663560" y="1925640"/>
            <a:chExt cx="1036800" cy="549360"/>
          </a:xfrm>
        </p:grpSpPr>
        <p:pic>
          <p:nvPicPr>
            <p:cNvPr id="305" name="TextBox 3" descr=""/>
            <p:cNvPicPr/>
            <p:nvPr/>
          </p:nvPicPr>
          <p:blipFill>
            <a:blip r:embed="rId2"/>
            <a:stretch/>
          </p:blipFill>
          <p:spPr>
            <a:xfrm>
              <a:off x="1663560" y="1925640"/>
              <a:ext cx="10368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788120" y="2000160"/>
              <a:ext cx="8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бл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TextBox 4"/>
          <p:cNvGrpSpPr/>
          <p:nvPr/>
        </p:nvGrpSpPr>
        <p:grpSpPr>
          <a:xfrm>
            <a:off x="1663560" y="3067200"/>
            <a:ext cx="1036800" cy="547560"/>
            <a:chOff x="1663560" y="3067200"/>
            <a:chExt cx="1036800" cy="547560"/>
          </a:xfrm>
        </p:grpSpPr>
        <p:pic>
          <p:nvPicPr>
            <p:cNvPr id="308" name="TextBox 4" descr=""/>
            <p:cNvPicPr/>
            <p:nvPr/>
          </p:nvPicPr>
          <p:blipFill>
            <a:blip r:embed="rId3"/>
            <a:stretch/>
          </p:blipFill>
          <p:spPr>
            <a:xfrm>
              <a:off x="1663560" y="3067200"/>
              <a:ext cx="103680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788120" y="3143160"/>
              <a:ext cx="8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бл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TextBox 5"/>
          <p:cNvGrpSpPr/>
          <p:nvPr/>
        </p:nvGrpSpPr>
        <p:grpSpPr>
          <a:xfrm>
            <a:off x="1590840" y="4211640"/>
            <a:ext cx="1036440" cy="549360"/>
            <a:chOff x="1590840" y="4211640"/>
            <a:chExt cx="1036440" cy="549360"/>
          </a:xfrm>
        </p:grpSpPr>
        <p:pic>
          <p:nvPicPr>
            <p:cNvPr id="311" name="TextBox 5" descr=""/>
            <p:cNvPicPr/>
            <p:nvPr/>
          </p:nvPicPr>
          <p:blipFill>
            <a:blip r:embed="rId4"/>
            <a:stretch/>
          </p:blipFill>
          <p:spPr>
            <a:xfrm>
              <a:off x="1590840" y="4211640"/>
              <a:ext cx="103644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1716480" y="4286160"/>
              <a:ext cx="80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бл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Скругленный прямоугольник 6"/>
          <p:cNvGrpSpPr/>
          <p:nvPr/>
        </p:nvGrpSpPr>
        <p:grpSpPr>
          <a:xfrm>
            <a:off x="3054240" y="1700280"/>
            <a:ext cx="5089680" cy="1012680"/>
            <a:chOff x="3054240" y="1700280"/>
            <a:chExt cx="5089680" cy="1012680"/>
          </a:xfrm>
        </p:grpSpPr>
        <p:pic>
          <p:nvPicPr>
            <p:cNvPr id="314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3054240" y="1700280"/>
              <a:ext cx="508968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3176640" y="1795320"/>
              <a:ext cx="48466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72314"/>
                  </a:solidFill>
                  <a:latin typeface="Times New Roman"/>
                  <a:ea typeface="Times New Roman"/>
                </a:rPr>
                <a:t>информационно-аналит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Скругленный прямоугольник 7"/>
          <p:cNvGrpSpPr/>
          <p:nvPr/>
        </p:nvGrpSpPr>
        <p:grpSpPr>
          <a:xfrm>
            <a:off x="3054240" y="2925720"/>
            <a:ext cx="5089680" cy="1013040"/>
            <a:chOff x="3054240" y="2925720"/>
            <a:chExt cx="5089680" cy="1013040"/>
          </a:xfrm>
        </p:grpSpPr>
        <p:pic>
          <p:nvPicPr>
            <p:cNvPr id="317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3054240" y="2925720"/>
              <a:ext cx="508968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176640" y="3021120"/>
              <a:ext cx="48466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72314"/>
                  </a:solidFill>
                  <a:latin typeface="Times New Roman"/>
                  <a:ea typeface="Times New Roman"/>
                </a:rPr>
                <a:t>практиче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Скругленный прямоугольник 8"/>
          <p:cNvGrpSpPr/>
          <p:nvPr/>
        </p:nvGrpSpPr>
        <p:grpSpPr>
          <a:xfrm>
            <a:off x="3067200" y="4091040"/>
            <a:ext cx="5083200" cy="1011240"/>
            <a:chOff x="3067200" y="4091040"/>
            <a:chExt cx="5083200" cy="1011240"/>
          </a:xfrm>
        </p:grpSpPr>
        <p:pic>
          <p:nvPicPr>
            <p:cNvPr id="320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3067200" y="4091040"/>
              <a:ext cx="50832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184560" y="4184640"/>
              <a:ext cx="48466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72314"/>
                  </a:solidFill>
                  <a:latin typeface="Times New Roman"/>
                  <a:ea typeface="Times New Roman"/>
                </a:rPr>
                <a:t>контрольно-оценочны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Стрелка вправо 10"/>
          <p:cNvGrpSpPr/>
          <p:nvPr/>
        </p:nvGrpSpPr>
        <p:grpSpPr>
          <a:xfrm>
            <a:off x="2633760" y="2011320"/>
            <a:ext cx="517320" cy="530280"/>
            <a:chOff x="2633760" y="2011320"/>
            <a:chExt cx="517320" cy="530280"/>
          </a:xfrm>
        </p:grpSpPr>
        <p:pic>
          <p:nvPicPr>
            <p:cNvPr id="323" name="Стрелка вправо 10" descr=""/>
            <p:cNvPicPr/>
            <p:nvPr/>
          </p:nvPicPr>
          <p:blipFill>
            <a:blip r:embed="rId8"/>
            <a:stretch/>
          </p:blipFill>
          <p:spPr>
            <a:xfrm>
              <a:off x="2633760" y="2011320"/>
              <a:ext cx="5173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2714760" y="2160720"/>
              <a:ext cx="268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Стрелка вправо 11"/>
          <p:cNvGrpSpPr/>
          <p:nvPr/>
        </p:nvGrpSpPr>
        <p:grpSpPr>
          <a:xfrm>
            <a:off x="2633760" y="3151080"/>
            <a:ext cx="517320" cy="536760"/>
            <a:chOff x="2633760" y="3151080"/>
            <a:chExt cx="517320" cy="536760"/>
          </a:xfrm>
        </p:grpSpPr>
        <p:pic>
          <p:nvPicPr>
            <p:cNvPr id="326" name="Стрелка вправо 11" descr=""/>
            <p:cNvPicPr/>
            <p:nvPr/>
          </p:nvPicPr>
          <p:blipFill>
            <a:blip r:embed="rId9"/>
            <a:stretch/>
          </p:blipFill>
          <p:spPr>
            <a:xfrm>
              <a:off x="2633760" y="3151080"/>
              <a:ext cx="51732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714760" y="3303720"/>
              <a:ext cx="268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Стрелка вправо 12"/>
          <p:cNvGrpSpPr/>
          <p:nvPr/>
        </p:nvGrpSpPr>
        <p:grpSpPr>
          <a:xfrm>
            <a:off x="2633760" y="4297320"/>
            <a:ext cx="517320" cy="530280"/>
            <a:chOff x="2633760" y="4297320"/>
            <a:chExt cx="517320" cy="530280"/>
          </a:xfrm>
        </p:grpSpPr>
        <p:pic>
          <p:nvPicPr>
            <p:cNvPr id="329" name="Стрелка вправо 12" descr=""/>
            <p:cNvPicPr/>
            <p:nvPr/>
          </p:nvPicPr>
          <p:blipFill>
            <a:blip r:embed="rId10"/>
            <a:stretch/>
          </p:blipFill>
          <p:spPr>
            <a:xfrm>
              <a:off x="2633760" y="4297320"/>
              <a:ext cx="5173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2714760" y="4446720"/>
              <a:ext cx="268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32" descr="100_2481"/>
          <p:cNvPicPr/>
          <p:nvPr/>
        </p:nvPicPr>
        <p:blipFill>
          <a:blip r:embed="rId11"/>
          <a:stretch/>
        </p:blipFill>
        <p:spPr>
          <a:xfrm>
            <a:off x="1908000" y="523728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3" descr="100_2724"/>
          <p:cNvPicPr/>
          <p:nvPr/>
        </p:nvPicPr>
        <p:blipFill>
          <a:blip r:embed="rId12"/>
          <a:stretch/>
        </p:blipFill>
        <p:spPr>
          <a:xfrm>
            <a:off x="4211640" y="5207040"/>
            <a:ext cx="2200320" cy="16509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4" descr="IMG_5661"/>
          <p:cNvPicPr/>
          <p:nvPr/>
        </p:nvPicPr>
        <p:blipFill>
          <a:blip r:embed="rId13"/>
          <a:stretch/>
        </p:blipFill>
        <p:spPr>
          <a:xfrm>
            <a:off x="6443640" y="5210280"/>
            <a:ext cx="21956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БАЗА ИССЛЕДОВАНИЯ: </a:t>
            </a:r>
            <a:r>
              <a:rPr b="0" lang="en-US" sz="1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МБДОУ «Детский сад комбинированного вида № 53» Энгельсского муниципального района Саратовской области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35" name="Текст 2"/>
          <p:cNvGrpSpPr/>
          <p:nvPr/>
        </p:nvGrpSpPr>
        <p:grpSpPr>
          <a:xfrm>
            <a:off x="2066760" y="1073160"/>
            <a:ext cx="6083640" cy="888840"/>
            <a:chOff x="2066760" y="1073160"/>
            <a:chExt cx="6083640" cy="888840"/>
          </a:xfrm>
        </p:grpSpPr>
        <p:pic>
          <p:nvPicPr>
            <p:cNvPr id="336" name="Текст 2" descr=""/>
            <p:cNvPicPr/>
            <p:nvPr/>
          </p:nvPicPr>
          <p:blipFill>
            <a:blip r:embed="rId2"/>
            <a:stretch/>
          </p:blipFill>
          <p:spPr>
            <a:xfrm>
              <a:off x="2066760" y="1073160"/>
              <a:ext cx="60836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143080" y="1143000"/>
              <a:ext cx="59292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826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8631"/>
                  </a:solidFill>
                  <a:latin typeface="Times New Roman"/>
                  <a:ea typeface="Times New Roman"/>
                </a:rPr>
                <a:t>ДЕТСКИЙ САД КОМБИНИРОВАННОГО ВИДА № 53 В СВОЕЙ СТРУКТУРЕ ИМЕЕТ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Прямоугольник 3"/>
          <p:cNvGrpSpPr/>
          <p:nvPr/>
        </p:nvGrpSpPr>
        <p:grpSpPr>
          <a:xfrm>
            <a:off x="2066760" y="2444760"/>
            <a:ext cx="2408400" cy="1285920"/>
            <a:chOff x="2066760" y="2444760"/>
            <a:chExt cx="2408400" cy="1285920"/>
          </a:xfrm>
        </p:grpSpPr>
        <p:pic>
          <p:nvPicPr>
            <p:cNvPr id="339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2066760" y="2444760"/>
              <a:ext cx="240840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2143080" y="2500200"/>
              <a:ext cx="22147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 общеобразовательных груп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Прямоугольник 4"/>
          <p:cNvGrpSpPr/>
          <p:nvPr/>
        </p:nvGrpSpPr>
        <p:grpSpPr>
          <a:xfrm>
            <a:off x="5919840" y="2444760"/>
            <a:ext cx="2303280" cy="1285920"/>
            <a:chOff x="5919840" y="2444760"/>
            <a:chExt cx="2303280" cy="1285920"/>
          </a:xfrm>
        </p:grpSpPr>
        <p:pic>
          <p:nvPicPr>
            <p:cNvPr id="342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5919840" y="2444760"/>
              <a:ext cx="23032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000840" y="2500200"/>
              <a:ext cx="214308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ппы для детей с нарушением зр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Стрелка вниз 7" descr=""/>
          <p:cNvPicPr/>
          <p:nvPr/>
        </p:nvPicPr>
        <p:blipFill>
          <a:blip r:embed="rId5"/>
          <a:stretch/>
        </p:blipFill>
        <p:spPr>
          <a:xfrm>
            <a:off x="6834240" y="3651120"/>
            <a:ext cx="474480" cy="744840"/>
          </a:xfrm>
          <a:prstGeom prst="rect">
            <a:avLst/>
          </a:prstGeom>
          <a:ln w="0">
            <a:noFill/>
          </a:ln>
        </p:spPr>
      </p:pic>
      <p:grpSp>
        <p:nvGrpSpPr>
          <p:cNvPr id="345" name="Прямоугольник 8"/>
          <p:cNvGrpSpPr/>
          <p:nvPr/>
        </p:nvGrpSpPr>
        <p:grpSpPr>
          <a:xfrm>
            <a:off x="5992920" y="4230720"/>
            <a:ext cx="2303280" cy="1219320"/>
            <a:chOff x="5992920" y="4230720"/>
            <a:chExt cx="2303280" cy="1219320"/>
          </a:xfrm>
        </p:grpSpPr>
        <p:pic>
          <p:nvPicPr>
            <p:cNvPr id="346" name="Прямоугольник 8" descr=""/>
            <p:cNvPicPr/>
            <p:nvPr/>
          </p:nvPicPr>
          <p:blipFill>
            <a:blip r:embed="rId6"/>
            <a:stretch/>
          </p:blipFill>
          <p:spPr>
            <a:xfrm>
              <a:off x="5992920" y="4230720"/>
              <a:ext cx="23032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6072120" y="4286160"/>
              <a:ext cx="214308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ппы посещают 10-12 челов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Стрелка вниз 9" descr=""/>
          <p:cNvPicPr/>
          <p:nvPr/>
        </p:nvPicPr>
        <p:blipFill>
          <a:blip r:embed="rId7"/>
          <a:stretch/>
        </p:blipFill>
        <p:spPr>
          <a:xfrm>
            <a:off x="2975040" y="3651120"/>
            <a:ext cx="474480" cy="744840"/>
          </a:xfrm>
          <a:prstGeom prst="rect">
            <a:avLst/>
          </a:prstGeom>
          <a:ln w="0">
            <a:noFill/>
          </a:ln>
        </p:spPr>
      </p:pic>
      <p:grpSp>
        <p:nvGrpSpPr>
          <p:cNvPr id="349" name="Прямоугольник 10"/>
          <p:cNvGrpSpPr/>
          <p:nvPr/>
        </p:nvGrpSpPr>
        <p:grpSpPr>
          <a:xfrm>
            <a:off x="2066760" y="4230720"/>
            <a:ext cx="2372040" cy="1231920"/>
            <a:chOff x="2066760" y="4230720"/>
            <a:chExt cx="2372040" cy="1231920"/>
          </a:xfrm>
        </p:grpSpPr>
        <p:pic>
          <p:nvPicPr>
            <p:cNvPr id="350" name="Прямоугольник 10" descr=""/>
            <p:cNvPicPr/>
            <p:nvPr/>
          </p:nvPicPr>
          <p:blipFill>
            <a:blip r:embed="rId8"/>
            <a:stretch/>
          </p:blipFill>
          <p:spPr>
            <a:xfrm>
              <a:off x="2066760" y="4230720"/>
              <a:ext cx="23720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2143080" y="4286160"/>
              <a:ext cx="22147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ппы посещают 20 детей (в среднем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2" name="Стрелка вниз 11" descr=""/>
          <p:cNvPicPr/>
          <p:nvPr/>
        </p:nvPicPr>
        <p:blipFill>
          <a:blip r:embed="rId9"/>
          <a:stretch/>
        </p:blipFill>
        <p:spPr>
          <a:xfrm>
            <a:off x="2975040" y="1865160"/>
            <a:ext cx="474480" cy="744840"/>
          </a:xfrm>
          <a:prstGeom prst="rect">
            <a:avLst/>
          </a:prstGeom>
          <a:ln w="0">
            <a:noFill/>
          </a:ln>
        </p:spPr>
      </p:pic>
      <p:pic>
        <p:nvPicPr>
          <p:cNvPr id="353" name="Стрелка вниз 12" descr=""/>
          <p:cNvPicPr/>
          <p:nvPr/>
        </p:nvPicPr>
        <p:blipFill>
          <a:blip r:embed="rId10"/>
          <a:stretch/>
        </p:blipFill>
        <p:spPr>
          <a:xfrm>
            <a:off x="6834240" y="1865160"/>
            <a:ext cx="47448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8" descr="100_2463"/>
          <p:cNvPicPr/>
          <p:nvPr/>
        </p:nvPicPr>
        <p:blipFill>
          <a:blip r:embed="rId2"/>
          <a:stretch/>
        </p:blipFill>
        <p:spPr>
          <a:xfrm>
            <a:off x="1116000" y="189000"/>
            <a:ext cx="3527280" cy="4703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100_2612"/>
          <p:cNvPicPr/>
          <p:nvPr/>
        </p:nvPicPr>
        <p:blipFill>
          <a:blip r:embed="rId3"/>
          <a:stretch/>
        </p:blipFill>
        <p:spPr>
          <a:xfrm>
            <a:off x="4859280" y="1700280"/>
            <a:ext cx="3618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9" descr="100_2455"/>
          <p:cNvPicPr/>
          <p:nvPr/>
        </p:nvPicPr>
        <p:blipFill>
          <a:blip r:embed="rId2"/>
          <a:stretch/>
        </p:blipFill>
        <p:spPr>
          <a:xfrm>
            <a:off x="2484360" y="333360"/>
            <a:ext cx="45356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5"/>
          <p:cNvSpPr/>
          <p:nvPr/>
        </p:nvSpPr>
        <p:spPr>
          <a:xfrm>
            <a:off x="1571760" y="765000"/>
            <a:ext cx="64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8631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7" descr="100_2622"/>
          <p:cNvPicPr/>
          <p:nvPr/>
        </p:nvPicPr>
        <p:blipFill>
          <a:blip r:embed="rId2"/>
          <a:stretch/>
        </p:blipFill>
        <p:spPr>
          <a:xfrm>
            <a:off x="2484360" y="2060640"/>
            <a:ext cx="45766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 Каленюк</cp:lastModifiedBy>
  <dcterms:modified xsi:type="dcterms:W3CDTF">2012-05-29T15:48:59Z</dcterms:modified>
  <cp:revision>45</cp:revision>
  <dc:subject/>
  <dc:title>ОРГАНИЗАЦИЯ  ПСИХОЛОГО-ПЕДАГОГИЧЕСКОГО  СОПРОВОЖДЕНИЯ ДЕЯТЕЛЬНОСТИ  ВОСПИТАТЕЛЯ ИНКЛЮЗИВНОЙ  ГРУППЫ</dc:title>
</cp:coreProperties>
</file>