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AE0-0A50-40A5-9530-76C081DB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402-063B-45FB-8650-14CBC03D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938-BEEF-49DF-A5D2-B1BF1595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F10-4820-4A93-86A5-D4C79F49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7B06-BB93-4602-80DF-5AB53AFE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3B5-A699-4EF7-8B85-09746D26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7355-1AAB-4E5A-B13F-5A0DD76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03BE-BFC9-45E0-B515-B87483B5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EAA-BA3A-4257-86A9-F5147BCF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64D9-CE33-4947-B606-C21410A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B7A2-59D5-4226-8FED-38498C4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1A2-6EB3-415C-9B23-3AE29579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5BA9-DB34-4D78-9BD6-C616471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AD2E-4561-477B-A135-225552B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3786-850B-40CB-A7E9-DACDEC5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EBCE-3A83-4709-94DB-B4F6A558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043-B945-422F-BD0A-FA4FAE0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F52-AE13-45CC-8295-4E4DD6BA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1E8-5D0E-434C-85B0-B8BE21B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5C8-18B4-4553-BAB2-C25B1184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12F-C478-4728-982F-45AB53E2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A27-2739-4842-AEC6-848FF7D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C1F-FFB7-40E1-8195-2CB10E5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69B-2C16-40B9-885C-7FFEA8F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A5F-7765-4EA3-98BE-1A11888194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717-D263-45B7-920A-D302B99B90E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77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Bodoni MT Condensed"/>
              </a:rPr>
              <a:t>Корень- подземная часть растения. С помощью корня растение держится в земле, получает из почвы воду и полезные вещества, а часто и размножаетс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petrushka"/>
          <p:cNvPicPr/>
          <p:nvPr/>
        </p:nvPicPr>
        <p:blipFill>
          <a:blip r:embed="rId1"/>
          <a:stretch/>
        </p:blipFill>
        <p:spPr>
          <a:xfrm>
            <a:off x="1676520" y="2362320"/>
            <a:ext cx="2286000" cy="226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levzeia"/>
          <p:cNvPicPr/>
          <p:nvPr/>
        </p:nvPicPr>
        <p:blipFill>
          <a:blip r:embed="rId2"/>
          <a:stretch/>
        </p:blipFill>
        <p:spPr>
          <a:xfrm>
            <a:off x="6400800" y="2362320"/>
            <a:ext cx="2592360" cy="245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histotel"/>
          <p:cNvPicPr/>
          <p:nvPr/>
        </p:nvPicPr>
        <p:blipFill>
          <a:blip r:embed="rId3"/>
          <a:stretch/>
        </p:blipFill>
        <p:spPr>
          <a:xfrm>
            <a:off x="228600" y="4343400"/>
            <a:ext cx="138924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eviasil"/>
          <p:cNvPicPr/>
          <p:nvPr/>
        </p:nvPicPr>
        <p:blipFill>
          <a:blip r:embed="rId4"/>
          <a:stretch/>
        </p:blipFill>
        <p:spPr>
          <a:xfrm>
            <a:off x="3962520" y="4038480"/>
            <a:ext cx="2376360" cy="256536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1">
            <a:hlinkClick r:id="rId5" action="ppaction://hlinksldjump"/>
          </p:cNvPr>
          <p:cNvSpPr/>
          <p:nvPr/>
        </p:nvSpPr>
        <p:spPr>
          <a:xfrm>
            <a:off x="7086600" y="5410080"/>
            <a:ext cx="1066680" cy="8384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 воздухе, в воде, в поч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114720" cy="414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4038480" y="2590920"/>
            <a:ext cx="2367000" cy="346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6858000" y="3962520"/>
            <a:ext cx="1905120" cy="207648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>
            <a:off x="7238880" y="12952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8769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2209320" y="137160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70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оме основного корня, многие растения имеют боковые и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даточные корни 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вокупность всех корней растения называют 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корневой системой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3152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корневой систе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1980720" y="13716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5257800" y="1371600"/>
            <a:ext cx="1676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762120" y="24382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ержнев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5410080" y="24382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очковата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8" descr="petrushka"/>
          <p:cNvPicPr/>
          <p:nvPr/>
        </p:nvPicPr>
        <p:blipFill>
          <a:blip r:embed="rId1"/>
          <a:stretch/>
        </p:blipFill>
        <p:spPr>
          <a:xfrm>
            <a:off x="939960" y="3505320"/>
            <a:ext cx="2070000" cy="312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histotel"/>
          <p:cNvPicPr/>
          <p:nvPr/>
        </p:nvPicPr>
        <p:blipFill>
          <a:blip r:embed="rId2"/>
          <a:stretch/>
        </p:blipFill>
        <p:spPr>
          <a:xfrm>
            <a:off x="5791320" y="3581280"/>
            <a:ext cx="2133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на или ель устоит против сильного ветр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де добывают воду воздушные корн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его не хватает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рням, располагающимся в вод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7162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 даже стебелек травы достоин великого мира, в котором он растет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467480" cy="3921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6705720" y="6095880"/>
            <a:ext cx="2286000" cy="3812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биндрант Таг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4:56:28Z</dcterms:created>
  <dc:creator>Леночек</dc:creator>
  <dc:description/>
  <dc:language>en-US</dc:language>
  <cp:lastModifiedBy>Домашний</cp:lastModifiedBy>
  <dcterms:modified xsi:type="dcterms:W3CDTF">2012-05-29T13:41:4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