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04F-FBD6-4F2C-B48A-7B28FAD2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211-7D83-43FF-944F-0C938C61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949-A2D8-45D3-90A9-117B6FCF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3C4-1D3E-430E-A0F0-54E7578F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5450-F028-4993-AF7C-4964B7DC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6AD8-C9B8-4AAF-AC95-7F96082D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32FB-C8E7-47BD-BE8A-1F7E668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B1C1-1C85-4E9A-B0F4-6A3E5475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C7FF-EF7F-49CA-943A-32979B2E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9E1B-09F0-4BC5-ABD5-19CC5F5C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D287-C6F4-4EBB-91D3-D9E26FF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BED-4F94-451F-8094-F51ACB61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C362-A220-4A09-9065-D366E158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92B0-7910-4C7F-88F6-BC6C263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C9CC-1D14-453F-93DC-85861D95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3192-CAE5-4319-8820-7CF048E6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AB19-8154-4DA9-9A85-72006566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691B-D380-45B7-9BF3-60DAEA8B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A1B-2347-4931-81AE-65BD228D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03D-6C11-4840-8094-14110A73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6E7-EACD-4C3B-8F30-69D30922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E76-554B-42D2-99C1-5BB1711F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798-C899-44E5-921D-DB09B92F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ADB-830E-4632-A4FF-C117C0F1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ABF4-5B61-41B1-857F-F5296BB766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E3E0-37DA-47CB-B481-6D7BB4CFA0C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774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Bodoni MT Condensed"/>
              </a:rPr>
              <a:t>Корень- подземная часть растения. С помощью корня растение держится в земле, получает из почвы воду и полезные вещества, а часто и размножается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5" descr="petrushka"/>
          <p:cNvPicPr/>
          <p:nvPr/>
        </p:nvPicPr>
        <p:blipFill>
          <a:blip r:embed="rId1"/>
          <a:stretch/>
        </p:blipFill>
        <p:spPr>
          <a:xfrm>
            <a:off x="1676520" y="2362320"/>
            <a:ext cx="2286000" cy="2265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levzeia"/>
          <p:cNvPicPr/>
          <p:nvPr/>
        </p:nvPicPr>
        <p:blipFill>
          <a:blip r:embed="rId2"/>
          <a:stretch/>
        </p:blipFill>
        <p:spPr>
          <a:xfrm>
            <a:off x="6400800" y="2362320"/>
            <a:ext cx="2592360" cy="245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histotel"/>
          <p:cNvPicPr/>
          <p:nvPr/>
        </p:nvPicPr>
        <p:blipFill>
          <a:blip r:embed="rId3"/>
          <a:stretch/>
        </p:blipFill>
        <p:spPr>
          <a:xfrm>
            <a:off x="228600" y="4343400"/>
            <a:ext cx="1389240" cy="21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eviasil"/>
          <p:cNvPicPr/>
          <p:nvPr/>
        </p:nvPicPr>
        <p:blipFill>
          <a:blip r:embed="rId4"/>
          <a:stretch/>
        </p:blipFill>
        <p:spPr>
          <a:xfrm>
            <a:off x="3962520" y="4038480"/>
            <a:ext cx="2376360" cy="256536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1">
            <a:hlinkClick r:id="rId5" action="ppaction://hlinksldjump"/>
          </p:cNvPr>
          <p:cNvSpPr/>
          <p:nvPr/>
        </p:nvSpPr>
        <p:spPr>
          <a:xfrm>
            <a:off x="7086600" y="5410080"/>
            <a:ext cx="1066680" cy="83844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339966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 воздухе, в воде, в поч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114720" cy="414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>
            <a:off x="4038480" y="2590920"/>
            <a:ext cx="2367000" cy="346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6858000" y="3962520"/>
            <a:ext cx="1905120" cy="2076480"/>
          </a:xfrm>
          <a:prstGeom prst="rect">
            <a:avLst/>
          </a:prstGeom>
          <a:ln w="0">
            <a:noFill/>
          </a:ln>
        </p:spPr>
      </p:pic>
      <p:sp>
        <p:nvSpPr>
          <p:cNvPr id="124" name="Line 7"/>
          <p:cNvSpPr/>
          <p:nvPr/>
        </p:nvSpPr>
        <p:spPr>
          <a:xfrm>
            <a:off x="7238880" y="1295280"/>
            <a:ext cx="4572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876920" y="1295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Line 10"/>
          <p:cNvSpPr/>
          <p:nvPr/>
        </p:nvSpPr>
        <p:spPr>
          <a:xfrm flipH="1">
            <a:off x="2209320" y="137160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703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оме основного корня, многие растения имеют боковые и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даточные корни .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вокупность всех корней растения называют </a:t>
            </a: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корневой системой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31520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иды корневой систе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1980720" y="1371600"/>
            <a:ext cx="1676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5257800" y="1371600"/>
            <a:ext cx="1676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762120" y="24382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тержнева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5410080" y="24382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очковата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8" descr="petrushka"/>
          <p:cNvPicPr/>
          <p:nvPr/>
        </p:nvPicPr>
        <p:blipFill>
          <a:blip r:embed="rId1"/>
          <a:stretch/>
        </p:blipFill>
        <p:spPr>
          <a:xfrm>
            <a:off x="939960" y="3505320"/>
            <a:ext cx="2070000" cy="312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histotel"/>
          <p:cNvPicPr/>
          <p:nvPr/>
        </p:nvPicPr>
        <p:blipFill>
          <a:blip r:embed="rId2"/>
          <a:stretch/>
        </p:blipFill>
        <p:spPr>
          <a:xfrm>
            <a:off x="5791320" y="3581280"/>
            <a:ext cx="2133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опросы для обсуждени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сна или ель устоит против сильного ветр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Где добывают воду воздушные корн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его не хватает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орням, располагающимся в воде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7162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 даже стебелек травы достоин великого мира, в котором он растет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Объект 2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467480" cy="3921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6705720" y="6095880"/>
            <a:ext cx="2286000" cy="3812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Рабиндрант Тагор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4:56:28Z</dcterms:created>
  <dc:creator>Леночек</dc:creator>
  <dc:description/>
  <dc:language>en-US</dc:language>
  <cp:lastModifiedBy>Домашний</cp:lastModifiedBy>
  <dcterms:modified xsi:type="dcterms:W3CDTF">2012-05-29T13:41:47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