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3732-12D4-4D7B-A65D-4B7D1A1B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F14-30EC-434E-8341-ABFF0EEC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639-0B97-45DC-B830-E32D830D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6A5-9935-420D-8083-BBEEB5BC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D313-A931-4BBB-815C-CBF6EA0B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0326-FBCB-4D1A-B2C4-8F25CA2D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6F5D-7AFD-4693-94F7-ABBC011E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4793-F028-4078-BC49-08CA3DDB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A6B3-83FA-4905-82AB-20210995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F835-4A53-4873-9DF7-064D81F0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7966-A5ED-4E9B-B65A-1E2ECE7B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6592-5773-4D86-82FC-BDE7619E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4000-8846-443E-B6ED-8DC52BE3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46FA-3F5D-4DC8-8A83-7047655B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F4A8-5ED2-4AC9-8A76-DB54ACBE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2590-6283-47AD-8957-213E77DA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B1E1-7D92-473C-BFC7-D2EE666F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3F07B-5429-4B3E-B466-E7352846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24691-EF94-4AF2-BE51-E64E18A0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CA7B8-11DF-492A-AFCC-3DF78689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47A344-19E6-4D48-8F9F-90114A06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C1CC2-6A8F-45A1-9F81-CE0222BE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F8D-E9FA-420B-8E91-468F1503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FA279B-C1C7-488F-A1D3-867E8936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596C3-513A-46C5-890D-08A5125C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85DCDD-C457-4796-B157-81A7311D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1B59B-7189-4595-B7DF-E1566085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407BF-169C-46CF-93AC-47CBB0F4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91986-92FD-4577-8C2E-65EEFAFE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92E75-40C6-4D91-8E4B-4E77A5A6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734D9-7EB3-46C7-96AB-3BE34ABB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EDBCD-419A-4BBA-A12F-1C723D08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D292F-0084-486E-A985-42CCAC16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B9A2-30DC-4B7E-9DA6-408CFC47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94ACD-221A-423D-9531-5D3A529A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D7155-F7CE-412C-9910-234CBAB5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3CE71-B325-4958-997C-B9D31EBF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98838-A981-4B3D-AB1B-6AED41CF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90C77-F431-4E94-8798-EDA8C098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EB47D-0270-432E-9DC3-9CA60D49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A7910-EF4F-4E5D-8B66-ACECB9C9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128C5-230E-403D-8515-D0116311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58373-D0E9-46FE-92D8-FFE59014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21F81E-E762-490D-8F02-71C579B6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241-A985-4E95-9305-A0D35942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F24D67-C16F-425C-9600-5BA3B13D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14BD4C-7EE8-4515-BB17-4BE5714B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F194D-05A9-4AF0-A0AC-5C216227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650DD6-8B55-488D-949C-421325E0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53AE63-4403-47FF-9597-68B2D2BC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93A849-DBF6-40C0-9C3B-C462F78B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39A8C-2DA1-4657-98D0-2824DB6D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B75B94-4CA8-447D-BF6A-6A154269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11ED83-1D26-48CC-8336-77B0DD8D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816D02-53E7-4205-862F-BEDE352A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167B-3B4C-4529-9DB8-428D25C8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9C80F-6F20-4341-8C5C-BCAB0FB6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2CC0BD-4907-4719-8C45-0EA65892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28BD7B-D97E-4B1D-8F2B-96F9B2A2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08696A-E773-4F10-B83C-A020B433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5663D8-9385-444C-87C6-43FA45D9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D8B510-173E-45FE-AC07-68E37299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1483AC-96CD-4B0C-BDA0-F980C166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4A97C8-DCB1-462B-8360-8B2B90B0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5F6488-5550-4A79-A2E1-04FC4CC0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C36757-36A4-4C4D-8D93-3CF14967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8EB-4EE5-4A87-A26B-819AFAE5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A24FCD-01C3-405F-84CF-22DA5A95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D8A5B0-8267-4902-A6CF-271793A7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71400C-42D9-4B30-B485-A81200DF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DCF3E8-DE79-4F06-BC57-B944FAFE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A2B57E-26E2-4153-A109-CC63468B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425717-A29D-4CB3-84DB-4F1AB493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A8D2E6-0E00-4EE2-ADEF-AF539122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6E36FD-ADBF-43C5-9562-464D8AD8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0E8F6A-956F-4599-8911-A85F42A6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5BA219-1451-4672-866E-B2DA4164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4B69-9A81-4298-87C0-FAABE156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8DF2C2-A030-4FEB-8984-48ADB516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4FB269-D8C2-4704-96CA-B67AAFD0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5D4CE2-A8B9-4EA5-A6D8-BD3B6702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182B4D-F76C-4D55-A5A4-B51019FC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F8C528-8D40-4186-B9DC-D48F1608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ECF96-2313-4245-99E7-9649A199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74FAF-E41D-4224-98DA-4286CFC1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0E2C2-4368-43F2-82D4-7915C350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DC6AC-0B3B-4212-90F1-BA7CC52C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0F59B-8B43-4F83-8994-BD1482F4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8A8-C678-4AAF-8A0A-A4CE4207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028BC-1B5B-4A1A-9BF1-E1319BAE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3DA9F-46D4-41DB-9305-5721774F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F9773-D026-4C0F-99EC-7E432B57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1E4A1-8724-405F-8026-E072FA8E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0E1E9-B610-43F2-850C-C2D1A141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FA63E-788B-450C-9DA0-23405A17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38F96-AEF8-448D-B36E-C94C8BA3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AF6B-3E32-4DC7-9D34-72C7428C9F3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CD44-8457-4AFE-8277-4BAFE16F332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55D7-A556-4AF9-B1BA-64DA6DF559B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9611-F6CC-4487-A0A8-2D42C407E91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9D7A-2602-4F18-ACFB-3EA5085A5FF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6149-DDD2-46D8-A904-2D1AE6A6993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48CF-716B-49FF-936D-5070A3F4ADC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E0F2-1327-44B8-A20A-7F644C44FBA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68000" y="5490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Century Schoolbook"/>
              </a:rPr>
              <a:t>ГЛАЗ ЧЕЛОВЕКА - </a:t>
            </a:r>
            <a:endParaRPr b="0" lang="en-US" sz="54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02920" y="26370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f497d"/>
                </a:solidFill>
                <a:uFillTx/>
                <a:latin typeface="Century Schoolbook"/>
              </a:rPr>
              <a:t>ЦЕЛИ: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6840" y="907560"/>
            <a:ext cx="746748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ВТОРИТЬ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троение и функции зрительного анализатора. Виды нарушений зре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ИЗУЧИТЬ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иды линз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УЧИТЬС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пределять линзы по форме и виду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_______________________________________________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Домашнее задание: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тр. 161 – 163                       учебника физики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1722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1" lang="ru-RU" sz="3600" spc="-1" strike="noStrike">
                <a:solidFill>
                  <a:srgbClr val="1f497d"/>
                </a:solidFill>
                <a:latin typeface="Century Schoolbook"/>
              </a:rPr>
              <a:t>КАК,  ОПРЕДЕЛИТЬ ДЛЯ БЛИЗОРУКИХ ИЛИ ДЛЯ ДАЛЬНОЗОРКИХ ГЛАЗ ОНИ ПРЕДНАЗНАЧЕНЫ? 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2771640" y="3716280"/>
            <a:ext cx="5400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entury Schoolbook"/>
              </a:rPr>
              <a:t>Работаем в парах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1" lang="ru-RU" sz="3600" spc="-1" strike="noStrike">
                <a:solidFill>
                  <a:srgbClr val="1f497d"/>
                </a:solidFill>
                <a:latin typeface="Century Schoolbook"/>
              </a:rPr>
              <a:t>Задание №1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entury Schoolbook"/>
              </a:rPr>
              <a:t>ЦЕЛИ: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ВТОРИТЬ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троение и функции зрительного анализатора. Виды нарушений зре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ИЗУЧИТЬ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иды линз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УЧИТЬС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пределять линзы по форме и виду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Рисунок 1" descr="stroenie_glaza.jpg"/>
          <p:cNvPicPr/>
          <p:nvPr/>
        </p:nvPicPr>
        <p:blipFill>
          <a:blip r:embed="rId1"/>
          <a:stretch/>
        </p:blipFill>
        <p:spPr>
          <a:xfrm>
            <a:off x="250920" y="765000"/>
            <a:ext cx="4221000" cy="5543640"/>
          </a:xfrm>
          <a:prstGeom prst="rect">
            <a:avLst/>
          </a:prstGeom>
          <a:ln w="0">
            <a:noFill/>
          </a:ln>
        </p:spPr>
      </p:pic>
      <p:pic>
        <p:nvPicPr>
          <p:cNvPr id="405" name="Прямоугольник 2" descr=""/>
          <p:cNvPicPr/>
          <p:nvPr/>
        </p:nvPicPr>
        <p:blipFill>
          <a:blip r:embed="rId2"/>
          <a:stretch/>
        </p:blipFill>
        <p:spPr>
          <a:xfrm>
            <a:off x="3986280" y="85680"/>
            <a:ext cx="4346640" cy="666288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3"/>
          <p:cNvSpPr/>
          <p:nvPr/>
        </p:nvSpPr>
        <p:spPr>
          <a:xfrm>
            <a:off x="3995640" y="76500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ужная оболочка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чатка (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ая мышца глаза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рительный нерв (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удистая оболочка (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кловидное тело 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очная оболочка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усталик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пое пятно 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говица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рачок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050560" y="9806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entury Schoolbook"/>
              </a:rPr>
              <a:t>ГЛАЗ ЧЕЛОВЕКА – ОПТИЧЕСКАЯ СИСТЕМА</a:t>
            </a:r>
            <a:endParaRPr b="0" lang="en-US" sz="4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2410920" y="37893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entury Schoolbook"/>
              </a:rPr>
              <a:t>Глаза лучшие свидетели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Century Schoolbook"/>
              </a:rPr>
              <a:t>чем уш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1f497d"/>
                </a:solidFill>
                <a:uFillTx/>
                <a:latin typeface="Century Schoolbook"/>
              </a:rPr>
              <a:t>Л И Н З Ы</a:t>
            </a:r>
            <a:br>
              <a:rPr sz="2700"/>
            </a:br>
            <a:endParaRPr b="0" lang="en-US" sz="27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</a:t>
            </a:r>
            <a:r>
              <a:rPr b="0" lang="ru-RU" sz="2400" spc="-1" strike="noStrike">
                <a:solidFill>
                  <a:srgbClr val="1f497d"/>
                </a:solidFill>
                <a:latin typeface="Century Schoolbook"/>
              </a:rPr>
              <a:t>ПО ФОРМЕ                             </a:t>
            </a:r>
            <a:r>
              <a:rPr b="0" lang="ru-RU" sz="2400" spc="-1" strike="noStrike">
                <a:solidFill>
                  <a:srgbClr val="4f6228"/>
                </a:solidFill>
                <a:latin typeface="Century Schoolbook"/>
              </a:rPr>
              <a:t>ПО ВИД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entury Schoolbook"/>
              </a:rPr>
              <a:t>ВЫПУКЛЫЕ   ВОГНУТ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4f6228"/>
                </a:solidFill>
                <a:latin typeface="Century Schoolbook"/>
              </a:rPr>
              <a:t>СОБИРАЮЩ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entury Schoolbook"/>
              </a:rPr>
              <a:t>                                                                                 </a:t>
            </a:r>
            <a:r>
              <a:rPr b="0" lang="ru-RU" sz="2400" spc="-1" strike="noStrike">
                <a:solidFill>
                  <a:srgbClr val="4f6228"/>
                </a:solidFill>
                <a:latin typeface="Century Schoolbook"/>
              </a:rPr>
              <a:t>РАССЕИВАЮЩ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 – </a:t>
            </a:r>
            <a:r>
              <a:rPr b="0" lang="ru-RU" sz="2400" spc="-1" strike="noStrike">
                <a:solidFill>
                  <a:srgbClr val="4f6228"/>
                </a:solidFill>
                <a:latin typeface="Century Schoolbook"/>
              </a:rPr>
              <a:t>фокус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 – </a:t>
            </a:r>
            <a:r>
              <a:rPr b="0" lang="ru-RU" sz="2400" spc="-1" strike="noStrike">
                <a:solidFill>
                  <a:srgbClr val="4f6228"/>
                </a:solidFill>
                <a:latin typeface="Century Schoolbook"/>
              </a:rPr>
              <a:t>центр оптическо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entury Schoolbook"/>
              </a:rPr>
              <a:t>               </a:t>
            </a:r>
            <a:r>
              <a:rPr b="0" lang="ru-RU" sz="2400" spc="-1" strike="noStrike">
                <a:solidFill>
                  <a:srgbClr val="4f6228"/>
                </a:solidFill>
                <a:latin typeface="Century Schoolbook"/>
              </a:rPr>
              <a:t>оси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entury Schoolbook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11" name="Прямая со стрелкой 4"/>
          <p:cNvCxnSpPr/>
          <p:nvPr/>
        </p:nvCxnSpPr>
        <p:spPr>
          <a:xfrm>
            <a:off x="4642920" y="549360"/>
            <a:ext cx="1081800" cy="504000"/>
          </a:xfrm>
          <a:prstGeom prst="straightConnector1">
            <a:avLst/>
          </a:prstGeom>
          <a:ln w="38160">
            <a:solidFill>
              <a:srgbClr val="bc2c28"/>
            </a:solidFill>
            <a:miter/>
            <a:tailEnd len="med" type="arrow" w="med"/>
          </a:ln>
        </p:spPr>
      </p:cxnSp>
      <p:cxnSp>
        <p:nvCxnSpPr>
          <p:cNvPr id="412" name="Прямая со стрелкой 6"/>
          <p:cNvCxnSpPr/>
          <p:nvPr/>
        </p:nvCxnSpPr>
        <p:spPr>
          <a:xfrm flipH="1">
            <a:off x="2842920" y="620640"/>
            <a:ext cx="937440" cy="505440"/>
          </a:xfrm>
          <a:prstGeom prst="straightConnector1">
            <a:avLst/>
          </a:prstGeom>
          <a:ln w="38160">
            <a:solidFill>
              <a:srgbClr val="bc2c28"/>
            </a:solidFill>
            <a:miter/>
            <a:tailEnd len="med" type="arrow" w="med"/>
          </a:ln>
        </p:spPr>
      </p:cxnSp>
      <p:cxnSp>
        <p:nvCxnSpPr>
          <p:cNvPr id="413" name="Прямая со стрелкой 8"/>
          <p:cNvCxnSpPr/>
          <p:nvPr/>
        </p:nvCxnSpPr>
        <p:spPr>
          <a:xfrm>
            <a:off x="2843280" y="1413000"/>
            <a:ext cx="216720" cy="504000"/>
          </a:xfrm>
          <a:prstGeom prst="straightConnector1">
            <a:avLst/>
          </a:prstGeom>
          <a:ln w="38160">
            <a:solidFill>
              <a:srgbClr val="bc2c28"/>
            </a:solidFill>
            <a:miter/>
            <a:tailEnd len="med" type="arrow" w="med"/>
          </a:ln>
        </p:spPr>
      </p:cxnSp>
      <p:cxnSp>
        <p:nvCxnSpPr>
          <p:cNvPr id="414" name="Прямая со стрелкой 10"/>
          <p:cNvCxnSpPr/>
          <p:nvPr/>
        </p:nvCxnSpPr>
        <p:spPr>
          <a:xfrm flipH="1">
            <a:off x="539280" y="1484280"/>
            <a:ext cx="1153440" cy="505440"/>
          </a:xfrm>
          <a:prstGeom prst="straightConnector1">
            <a:avLst/>
          </a:prstGeom>
          <a:ln w="38160">
            <a:solidFill>
              <a:srgbClr val="bc2c28"/>
            </a:solidFill>
            <a:miter/>
            <a:tailEnd len="med" type="arrow" w="med"/>
          </a:ln>
        </p:spPr>
      </p:cxnSp>
      <p:cxnSp>
        <p:nvCxnSpPr>
          <p:cNvPr id="415" name="Прямая со стрелкой 13"/>
          <p:cNvCxnSpPr/>
          <p:nvPr/>
        </p:nvCxnSpPr>
        <p:spPr>
          <a:xfrm>
            <a:off x="6516360" y="1483920"/>
            <a:ext cx="1369080" cy="2089800"/>
          </a:xfrm>
          <a:prstGeom prst="straightConnector1">
            <a:avLst/>
          </a:prstGeom>
          <a:ln w="38160">
            <a:solidFill>
              <a:srgbClr val="bc2c28"/>
            </a:solidFill>
            <a:miter/>
            <a:tailEnd len="med" type="arrow" w="med"/>
          </a:ln>
        </p:spPr>
      </p:cxnSp>
      <p:cxnSp>
        <p:nvCxnSpPr>
          <p:cNvPr id="416" name="Прямая со стрелкой 15"/>
          <p:cNvCxnSpPr/>
          <p:nvPr/>
        </p:nvCxnSpPr>
        <p:spPr>
          <a:xfrm flipH="1">
            <a:off x="4787280" y="1484280"/>
            <a:ext cx="937080" cy="1153440"/>
          </a:xfrm>
          <a:prstGeom prst="straightConnector1">
            <a:avLst/>
          </a:prstGeom>
          <a:ln w="38160">
            <a:solidFill>
              <a:srgbClr val="bc2c28"/>
            </a:solidFill>
            <a:miter/>
            <a:tailEnd len="med" type="arrow" w="med"/>
          </a:ln>
        </p:spPr>
      </p:cxnSp>
      <p:pic>
        <p:nvPicPr>
          <p:cNvPr id="417" name="Рисунок 23" descr="C:\Users\DNS\Documents\Оптическая система глаза_files\Lens_types.png"/>
          <p:cNvPicPr/>
          <p:nvPr/>
        </p:nvPicPr>
        <p:blipFill>
          <a:blip r:embed="rId1"/>
          <a:stretch/>
        </p:blipFill>
        <p:spPr>
          <a:xfrm>
            <a:off x="0" y="2781360"/>
            <a:ext cx="3780000" cy="1584360"/>
          </a:xfrm>
          <a:prstGeom prst="rect">
            <a:avLst/>
          </a:prstGeom>
          <a:ln w="0">
            <a:noFill/>
          </a:ln>
        </p:spPr>
      </p:pic>
      <p:cxnSp>
        <p:nvCxnSpPr>
          <p:cNvPr id="418" name="Прямая со стрелкой 25"/>
          <p:cNvCxnSpPr/>
          <p:nvPr/>
        </p:nvCxnSpPr>
        <p:spPr>
          <a:xfrm>
            <a:off x="2556000" y="2421000"/>
            <a:ext cx="288000" cy="288000"/>
          </a:xfrm>
          <a:prstGeom prst="straightConnector1">
            <a:avLst/>
          </a:prstGeom>
          <a:ln w="38160">
            <a:solidFill>
              <a:srgbClr val="bc2c28"/>
            </a:solidFill>
            <a:miter/>
            <a:tailEnd len="med" type="arrow" w="med"/>
          </a:ln>
        </p:spPr>
      </p:cxnSp>
      <p:cxnSp>
        <p:nvCxnSpPr>
          <p:cNvPr id="419" name="Прямая со стрелкой 27"/>
          <p:cNvCxnSpPr/>
          <p:nvPr/>
        </p:nvCxnSpPr>
        <p:spPr>
          <a:xfrm flipH="1">
            <a:off x="826560" y="2349000"/>
            <a:ext cx="432720" cy="359640"/>
          </a:xfrm>
          <a:prstGeom prst="straightConnector1">
            <a:avLst/>
          </a:prstGeom>
          <a:ln w="38160">
            <a:solidFill>
              <a:srgbClr val="bc2c28"/>
            </a:solidFill>
            <a:miter/>
            <a:tailEnd len="med" type="arrow" w="med"/>
          </a:ln>
        </p:spPr>
      </p:cxnSp>
      <p:pic>
        <p:nvPicPr>
          <p:cNvPr id="420" name="Рисунок 32" descr="C:\Users\DNS\Documents\Оптическая система глаза_files\4.gif"/>
          <p:cNvPicPr/>
          <p:nvPr/>
        </p:nvPicPr>
        <p:blipFill>
          <a:blip r:embed="rId2"/>
          <a:stretch/>
        </p:blipFill>
        <p:spPr>
          <a:xfrm>
            <a:off x="3132000" y="4365720"/>
            <a:ext cx="5688000" cy="2203200"/>
          </a:xfrm>
          <a:prstGeom prst="rect">
            <a:avLst/>
          </a:prstGeom>
          <a:ln w="0">
            <a:noFill/>
          </a:ln>
        </p:spPr>
      </p:pic>
      <p:cxnSp>
        <p:nvCxnSpPr>
          <p:cNvPr id="421" name="Прямая со стрелкой 34"/>
          <p:cNvCxnSpPr/>
          <p:nvPr/>
        </p:nvCxnSpPr>
        <p:spPr>
          <a:xfrm>
            <a:off x="7451280" y="4076640"/>
            <a:ext cx="289440" cy="505440"/>
          </a:xfrm>
          <a:prstGeom prst="straightConnector1">
            <a:avLst/>
          </a:prstGeom>
          <a:ln w="38160">
            <a:solidFill>
              <a:srgbClr val="bc2c28"/>
            </a:solidFill>
            <a:miter/>
            <a:tailEnd len="med" type="arrow" w="med"/>
          </a:ln>
        </p:spPr>
      </p:cxnSp>
      <p:cxnSp>
        <p:nvCxnSpPr>
          <p:cNvPr id="422" name="Прямая со стрелкой 36"/>
          <p:cNvCxnSpPr/>
          <p:nvPr/>
        </p:nvCxnSpPr>
        <p:spPr>
          <a:xfrm flipH="1">
            <a:off x="4715640" y="3284280"/>
            <a:ext cx="361080" cy="1081800"/>
          </a:xfrm>
          <a:prstGeom prst="straightConnector1">
            <a:avLst/>
          </a:prstGeom>
          <a:ln w="38160">
            <a:solidFill>
              <a:srgbClr val="bc2c2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ЕХАНИЗМ РАБОТЫ ОПТИЧЕСКОЙ СИСТЕМЫ ГЛАЗА.</a:t>
            </a:r>
            <a:endParaRPr b="0" lang="en-US" sz="32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2152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0" algn="just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Garamond"/>
              </a:rPr>
              <a:t>Отраженные от предмета лучи света проходят через оптическую систему глаза и создают обратное и уменьшенное изображение на сетчатке </a:t>
            </a:r>
            <a:r>
              <a:rPr b="1" lang="ru-RU" sz="2400" spc="-1" strike="noStrike">
                <a:solidFill>
                  <a:srgbClr val="003366"/>
                </a:solidFill>
                <a:latin typeface="Garamond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Garamond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мозг 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переворачивает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  <a:ea typeface="Times New Roman"/>
              </a:rPr>
              <a:t>» 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обратное изображение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и оно воспринимается как прямое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5" name="Picture 5" descr="Как мы видим"/>
          <p:cNvPicPr/>
          <p:nvPr/>
        </p:nvPicPr>
        <p:blipFill>
          <a:blip r:embed="rId1"/>
          <a:stretch/>
        </p:blipFill>
        <p:spPr>
          <a:xfrm>
            <a:off x="785880" y="214200"/>
            <a:ext cx="742932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 Schoolbook"/>
              </a:rPr>
              <a:t>СИМПТОМЫ НАРУШЕНИЯ ЗРЕНИЯ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79280" y="1773000"/>
            <a:ext cx="446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альнозоркост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лохо видят близко расположенные предметы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учи фокусируются за сетчаткой глаз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43280" y="1773360"/>
            <a:ext cx="3889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лизорукост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ечетко видят удаленные предметы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учи фокусируются не достигая сетчатки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mb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497d"/>
                </a:solidFill>
                <a:latin typeface="Century Schoolbook"/>
              </a:rPr>
              <a:t>КАК ОПРЕДЕЛИТЬ ДЛЯ БЛИЗОРУКИХ ИЛИ ДАЛЬНОЗОРКИХ ГЛАЗ ПРЕДНАЗНАЧЕНЫ ОЧКИ?</a:t>
            </a:r>
            <a:endParaRPr b="0" lang="en-US" sz="27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430" name="Содержимое 3" descr="c0553e3c50cf5adf05051eadbf353a20_600.jpg"/>
          <p:cNvPicPr/>
          <p:nvPr/>
        </p:nvPicPr>
        <p:blipFill>
          <a:blip r:embed="rId1"/>
          <a:stretch/>
        </p:blipFill>
        <p:spPr>
          <a:xfrm>
            <a:off x="539640" y="1628640"/>
            <a:ext cx="3859200" cy="3745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C:\Users\DNS\Documents\Оптическая система глаза_files\e4c620c5156a0de825b4d2a84f146774_600.jpg"/>
          <p:cNvPicPr/>
          <p:nvPr/>
        </p:nvPicPr>
        <p:blipFill>
          <a:blip r:embed="rId2"/>
          <a:stretch/>
        </p:blipFill>
        <p:spPr>
          <a:xfrm>
            <a:off x="4643280" y="1557360"/>
            <a:ext cx="3865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NS</dc:creator>
  <dc:description/>
  <dc:language>en-US</dc:language>
  <cp:lastModifiedBy>DNS</cp:lastModifiedBy>
  <dcterms:modified xsi:type="dcterms:W3CDTF">2012-05-29T12:16:23Z</dcterms:modified>
  <cp:revision>62</cp:revision>
  <dc:subject/>
  <dc:title>ГЛАЗ-КАК ОПТИЧЕСКИЙ ПРИБОР</dc:title>
</cp:coreProperties>
</file>