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02A-83AE-47F7-8418-DD07A366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0BD-ADFE-4A9A-B725-173FFBB0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39A-17C6-4797-993B-82461B6D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834-130A-4587-8EE6-6E6AE4AD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214-DF61-45D3-A094-64605892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959-CEF1-403A-B375-731ACFEA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B647-6D32-41BA-8533-B01F234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DCE0-8130-4509-ABA9-128377B2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8B6D-0156-482E-A7BB-7BEC11B4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9B24-4FC2-49FD-B0D1-FC189B2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F972-2C5C-47F3-8806-E2675C4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BC9-6AFD-4D85-B0B8-6D661A5D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EF71-9048-438E-A91F-6E729A1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5970-717F-4DB7-BC69-B2A29557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9F75-1100-4D57-BA93-BBF13027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52D9-625C-4B80-B7EE-5BCEF541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79E5-C3E3-4FCA-9E78-9C814F52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78A76-D171-4C20-A322-290677BE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89536-4E0A-4B51-97E6-7F59D152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516838-47F2-4454-92E8-A7F50716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DA1E6-25D7-4150-8DE2-974B64F5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2F4EF-F5C9-4C4F-A98D-EA03B3C4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0E8-00B7-4A52-A104-3A58BE62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AA680-A386-4624-A937-8C072D0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B66AA-6923-4E31-A163-83EEF6AF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BC362-DD79-41F2-B0AC-14F0826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2555CE-0AB1-49C4-A14A-AFD81FEA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38D9B-9F5C-4A52-9EB7-2BD88FDA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1CBF5-43A8-4969-8A19-7B3471BB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E237B-86C2-42EA-9183-431D0844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3CC3-ED06-40FE-BB06-407DBECC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D37FF-E02D-41E2-9FB1-759A2859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FACFC-7CB9-4569-8C26-C82B9325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8E2-1474-4F4F-9227-4931EED3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978C5-52C6-42F6-A850-9D4E30B9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FC6F-99E4-420D-8A0B-5D2D1893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F013-B39D-4420-9C42-D4BB2806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F7D4-BA55-4FC3-AF52-B2E302F3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88283-3D52-4523-9C5C-11029CDD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C57E-F5AA-42E0-91C4-8CCF444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E1385-CB07-4B04-B49C-E85A70DF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6C78-2B4C-4FCD-9261-9846242D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02186-CE35-4D60-8DE6-60553311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0C864-8EBB-4C3F-AEA5-323668A3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19F-ACD7-4D29-B1EF-EF63D2D2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5F3E2-BDE2-4E67-A4E1-007D4E02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EAC78-EDC3-42F9-8792-3EDC38B8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C775E-131C-4CB2-88D6-854F344D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50D3D-71C8-4BE8-98CC-C67C0B46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79854-5F63-42EE-851C-291BBBC9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3BDAD-1133-49BC-80B8-7D16D0ED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2B5D0-84BB-4E18-BB1B-042DAB25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B7D2F-C8A6-43FF-929E-31F736B6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65540-09E7-4344-848A-5B911FD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6D4AA-FC35-4573-9060-CE7666FF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7D7-E06F-4AD0-81B8-4F90D593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D6139-0389-43D5-B7D7-877B3302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8C85B5-29CF-4587-90E4-24659F4B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3D182-B625-4625-8849-60F4D24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48E75-2FFC-45E1-9EE2-D279A088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D6547-87CE-41E7-B1C8-2F182C2B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6E1EF5-2897-44C3-BBA2-380707B2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C5C03-D21E-4212-AC91-EA54698D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48C04-6DBC-457C-B884-DE4533D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1E904-306E-49EF-9A86-E6521B96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7213C-BE4B-4D7C-82D4-2BBBD4F9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BBC-924B-4FED-A38C-1A05270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6CF34-0D4F-4B0C-A05D-D39D8AE9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86D0A-3776-430A-A321-29E44DA2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0A9D0-17BE-44E7-AE64-03575433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C59A4-2462-4EA6-9C80-2E26379D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0FA21-AADB-46CD-A7F5-AB7496B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09BFB2-50FF-4B0D-9100-BBD68268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496C5-D240-4299-9B2C-4482428E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B3826-EDF2-4A37-9012-A3C449F9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B44AE-3B4D-4545-937E-165F3BCA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5DC1C-0949-417F-ADBB-0A2CB6C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63E-B94C-46F9-8734-56F57F62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716ED-830C-40A1-AA06-FF3B1D3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13E7E-5391-4360-B4D9-31E2AC47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E04D1-7A41-4D41-A712-7E69FAF8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F7D308-4EB8-4BCA-A093-D1FEE277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6627F-3D3B-42DC-B655-AF830EA9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794AE-9CEA-4E8E-BED6-630DB61C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11ADB-62A6-4545-AFED-A377D125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76DD0-818F-4B7C-BDCF-9E93B230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C5A9C-C561-42AC-9408-A58E3B3C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1F7F-CB22-4C92-B8C6-A736C6FA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EB9-6458-4C89-BBC3-A8B64E3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05BC-1F76-4AF9-99F8-F9C89D8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AA07E-CC86-413F-A02F-410C62E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51B56-2A4B-4DA2-87AD-1496E51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5FA1-590C-4863-B4EF-4C0C9851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E1F5F-9E8D-4A0B-B77A-5185706A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22206-1903-4AB2-B99F-5D993C8D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6B6AE-5ECC-468C-8CAA-1F405781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E764-A71B-4AFD-876F-C51FB10D2E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24E-90B0-43EF-9BA1-F34B25EA33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4AFC-A7E5-4465-8E08-9573C925B8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0C6F-2B1E-4CC6-AF15-4D4EAC7A6D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4AC-D723-4BEC-BFD7-C19BA9D800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CBB-F69B-466F-8DE6-BB0F6B13F9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6C65-9565-45DE-A43D-60B9AD1C95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464C-042E-4076-9284-FDE851EBCBA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68000" y="54900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entury Schoolbook"/>
              </a:rPr>
              <a:t>ГЛАЗ ЧЕЛОВЕКА - </a:t>
            </a:r>
            <a:endParaRPr b="0" lang="en-US" sz="54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02920" y="2637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f497d"/>
                </a:solidFill>
                <a:uFillTx/>
                <a:latin typeface="Century Schoolbook"/>
              </a:rPr>
              <a:t>ЦЕЛИ: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ВТОРИТЬ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оение и функции зрительного анализатора. Виды нарушений зр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ЗУЧИТЬ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иды линз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УЧИТЬС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ределять линзы по форме и вид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_______________________________________________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Домашнее задание: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. 161 – 163                       учебника физик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1722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КАК,  ОПРЕДЕЛИТЬ ДЛЯ БЛИЗОРУКИХ ИЛИ ДЛЯ ДАЛЬНОЗОРКИХ ГЛАЗ ОНИ ПРЕДНАЗНАЧЕНЫ? 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771640" y="3716280"/>
            <a:ext cx="5400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Работаем в парах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1f497d"/>
                </a:solidFill>
                <a:latin typeface="Century Schoolbook"/>
              </a:rPr>
              <a:t>Задание №1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Century Schoolbook"/>
              </a:rPr>
              <a:t>ЦЕЛИ: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ПОВТОРИТЬ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троение и функции зрительного анализатора. Виды нарушений зре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ИЗУЧИТЬ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иды линз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УЧИТЬС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пределять линзы по форме и виду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" descr="stroenie_glaza.jpg"/>
          <p:cNvPicPr/>
          <p:nvPr/>
        </p:nvPicPr>
        <p:blipFill>
          <a:blip r:embed="rId1"/>
          <a:stretch/>
        </p:blipFill>
        <p:spPr>
          <a:xfrm>
            <a:off x="250920" y="765000"/>
            <a:ext cx="4221000" cy="5543640"/>
          </a:xfrm>
          <a:prstGeom prst="rect">
            <a:avLst/>
          </a:prstGeom>
          <a:ln w="0">
            <a:noFill/>
          </a:ln>
        </p:spPr>
      </p:pic>
      <p:pic>
        <p:nvPicPr>
          <p:cNvPr id="405" name="Прямоугольник 2" descr=""/>
          <p:cNvPicPr/>
          <p:nvPr/>
        </p:nvPicPr>
        <p:blipFill>
          <a:blip r:embed="rId2"/>
          <a:stretch/>
        </p:blipFill>
        <p:spPr>
          <a:xfrm>
            <a:off x="3986280" y="85680"/>
            <a:ext cx="4346640" cy="666288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3"/>
          <p:cNvSpPr/>
          <p:nvPr/>
        </p:nvSpPr>
        <p:spPr>
          <a:xfrm>
            <a:off x="3995640" y="76500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ужная оболочка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чатка 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мышца глаза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рительный нерв 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удистая оболочка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ловидное тело 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очная оболочка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усталик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ое пятно 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говица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рачок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050560" y="9806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Century Schoolbook"/>
              </a:rPr>
              <a:t>ГЛАЗ ЧЕЛОВЕКА – ОПТИЧЕСКАЯ СИСТЕМА</a:t>
            </a:r>
            <a:endParaRPr b="0" lang="en-US" sz="4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410920" y="37893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entury Schoolbook"/>
              </a:rPr>
              <a:t>Глаза лучшие свидетели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entury Schoolbook"/>
              </a:rPr>
              <a:t>чем уш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1f497d"/>
                </a:solidFill>
                <a:uFillTx/>
                <a:latin typeface="Century Schoolbook"/>
              </a:rPr>
              <a:t>Л И Н З Ы</a:t>
            </a:r>
            <a:br>
              <a:rPr sz="2700"/>
            </a:b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</a:t>
            </a:r>
            <a:r>
              <a:rPr b="0" lang="ru-RU" sz="2400" spc="-1" strike="noStrike">
                <a:solidFill>
                  <a:srgbClr val="1f497d"/>
                </a:solidFill>
                <a:latin typeface="Century Schoolbook"/>
              </a:rPr>
              <a:t>ПО ФОРМЕ              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ПО ВИД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entury Schoolbook"/>
              </a:rPr>
              <a:t>ВЫПУКЛЫЕ   ВОГНУТ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СОБИРАЮ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                                                                  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РАССЕИВАЮЩ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 –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фоку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 –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центр оптическ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               </a:t>
            </a: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оси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entury Schoolbook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1" name="Прямая со стрелкой 4"/>
          <p:cNvCxnSpPr/>
          <p:nvPr/>
        </p:nvCxnSpPr>
        <p:spPr>
          <a:xfrm>
            <a:off x="4642920" y="549360"/>
            <a:ext cx="1081800" cy="5040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2" name="Прямая со стрелкой 6"/>
          <p:cNvCxnSpPr/>
          <p:nvPr/>
        </p:nvCxnSpPr>
        <p:spPr>
          <a:xfrm flipH="1">
            <a:off x="2842920" y="620640"/>
            <a:ext cx="937440" cy="505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3" name="Прямая со стрелкой 8"/>
          <p:cNvCxnSpPr/>
          <p:nvPr/>
        </p:nvCxnSpPr>
        <p:spPr>
          <a:xfrm>
            <a:off x="2843280" y="1413000"/>
            <a:ext cx="216720" cy="5040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4" name="Прямая со стрелкой 10"/>
          <p:cNvCxnSpPr/>
          <p:nvPr/>
        </p:nvCxnSpPr>
        <p:spPr>
          <a:xfrm flipH="1">
            <a:off x="539280" y="1484280"/>
            <a:ext cx="1153440" cy="505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5" name="Прямая со стрелкой 13"/>
          <p:cNvCxnSpPr/>
          <p:nvPr/>
        </p:nvCxnSpPr>
        <p:spPr>
          <a:xfrm>
            <a:off x="6516360" y="1483920"/>
            <a:ext cx="1369080" cy="20898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6" name="Прямая со стрелкой 15"/>
          <p:cNvCxnSpPr/>
          <p:nvPr/>
        </p:nvCxnSpPr>
        <p:spPr>
          <a:xfrm flipH="1">
            <a:off x="4787280" y="1484280"/>
            <a:ext cx="937080" cy="1153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pic>
        <p:nvPicPr>
          <p:cNvPr id="417" name="Рисунок 23" descr="C:\Users\DNS\Documents\Оптическая система глаза_files\Lens_types.png"/>
          <p:cNvPicPr/>
          <p:nvPr/>
        </p:nvPicPr>
        <p:blipFill>
          <a:blip r:embed="rId1"/>
          <a:stretch/>
        </p:blipFill>
        <p:spPr>
          <a:xfrm>
            <a:off x="0" y="2781360"/>
            <a:ext cx="3780000" cy="158436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25"/>
          <p:cNvCxnSpPr/>
          <p:nvPr/>
        </p:nvCxnSpPr>
        <p:spPr>
          <a:xfrm>
            <a:off x="2556000" y="2421000"/>
            <a:ext cx="288000" cy="2880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19" name="Прямая со стрелкой 27"/>
          <p:cNvCxnSpPr/>
          <p:nvPr/>
        </p:nvCxnSpPr>
        <p:spPr>
          <a:xfrm flipH="1">
            <a:off x="826560" y="2349000"/>
            <a:ext cx="432720" cy="3596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pic>
        <p:nvPicPr>
          <p:cNvPr id="420" name="Рисунок 32" descr="C:\Users\DNS\Documents\Оптическая система глаза_files\4.gif"/>
          <p:cNvPicPr/>
          <p:nvPr/>
        </p:nvPicPr>
        <p:blipFill>
          <a:blip r:embed="rId2"/>
          <a:stretch/>
        </p:blipFill>
        <p:spPr>
          <a:xfrm>
            <a:off x="3132000" y="4365720"/>
            <a:ext cx="5688000" cy="2203200"/>
          </a:xfrm>
          <a:prstGeom prst="rect">
            <a:avLst/>
          </a:prstGeom>
          <a:ln w="0">
            <a:noFill/>
          </a:ln>
        </p:spPr>
      </p:pic>
      <p:cxnSp>
        <p:nvCxnSpPr>
          <p:cNvPr id="421" name="Прямая со стрелкой 34"/>
          <p:cNvCxnSpPr/>
          <p:nvPr/>
        </p:nvCxnSpPr>
        <p:spPr>
          <a:xfrm>
            <a:off x="7451280" y="4076640"/>
            <a:ext cx="289440" cy="50544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  <p:cxnSp>
        <p:nvCxnSpPr>
          <p:cNvPr id="422" name="Прямая со стрелкой 36"/>
          <p:cNvCxnSpPr/>
          <p:nvPr/>
        </p:nvCxnSpPr>
        <p:spPr>
          <a:xfrm flipH="1">
            <a:off x="4715640" y="3284280"/>
            <a:ext cx="361080" cy="1081800"/>
          </a:xfrm>
          <a:prstGeom prst="straightConnector1">
            <a:avLst/>
          </a:prstGeom>
          <a:ln w="38160">
            <a:solidFill>
              <a:srgbClr val="bc2c2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ХАНИЗМ РАБОТЫ ОПТИЧЕСКОЙ СИСТЕМЫ ГЛАЗА.</a:t>
            </a:r>
            <a:endParaRPr b="0" lang="en-US" sz="32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152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 algn="just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3366"/>
                </a:solidFill>
                <a:latin typeface="Garamond"/>
              </a:rPr>
              <a:t>Отраженные от предмета лучи света проходят через оптическую систему глаза и создают обратное и уменьшенное изображение на сетчатке </a:t>
            </a:r>
            <a:r>
              <a:rPr b="1" lang="ru-RU" sz="2400" spc="-1" strike="noStrike">
                <a:solidFill>
                  <a:srgbClr val="003366"/>
                </a:solidFill>
                <a:latin typeface="Garamond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Garamond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мозг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переворачивает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»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обратное изображение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и оно воспринимается как прямое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5" descr="Как мы видим"/>
          <p:cNvPicPr/>
          <p:nvPr/>
        </p:nvPicPr>
        <p:blipFill>
          <a:blip r:embed="rId1"/>
          <a:stretch/>
        </p:blipFill>
        <p:spPr>
          <a:xfrm>
            <a:off x="785880" y="214200"/>
            <a:ext cx="742932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СИМПТОМЫ НАРУШЕНИЯ ЗРЕНИЯ</a:t>
            </a:r>
            <a:endParaRPr b="0" lang="en-US" sz="36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9280" y="1773000"/>
            <a:ext cx="446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альнозорк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охо видят близко расположенные предмет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учи фокусируются за сетчаткой гла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3280" y="1773360"/>
            <a:ext cx="388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лизорукость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ечетко видят удаленные предметы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учи фокусируются не достигая сетчатки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mb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Century Schoolbook"/>
              </a:rPr>
              <a:t>КАК ОПРЕДЕЛИТЬ ДЛЯ БЛИЗОРУКИХ ИЛИ ДАЛЬНОЗОРКИХ ГЛАЗ ПРЕДНАЗНАЧЕНЫ ОЧКИ?</a:t>
            </a:r>
            <a:endParaRPr b="0" lang="en-US" sz="2700" spc="-1" strike="noStrike">
              <a:solidFill>
                <a:srgbClr val="1f497d"/>
              </a:solidFill>
              <a:latin typeface="Century Schoolbook"/>
            </a:endParaRPr>
          </a:p>
        </p:txBody>
      </p:sp>
      <p:pic>
        <p:nvPicPr>
          <p:cNvPr id="430" name="Содержимое 3" descr="c0553e3c50cf5adf05051eadbf353a20_600.jpg"/>
          <p:cNvPicPr/>
          <p:nvPr/>
        </p:nvPicPr>
        <p:blipFill>
          <a:blip r:embed="rId1"/>
          <a:stretch/>
        </p:blipFill>
        <p:spPr>
          <a:xfrm>
            <a:off x="539640" y="1628640"/>
            <a:ext cx="3859200" cy="3745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C:\Users\DNS\Documents\Оптическая система глаза_files\e4c620c5156a0de825b4d2a84f146774_600.jpg"/>
          <p:cNvPicPr/>
          <p:nvPr/>
        </p:nvPicPr>
        <p:blipFill>
          <a:blip r:embed="rId2"/>
          <a:stretch/>
        </p:blipFill>
        <p:spPr>
          <a:xfrm>
            <a:off x="4643280" y="1557360"/>
            <a:ext cx="3865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NS</dc:creator>
  <dc:description/>
  <dc:language>en-US</dc:language>
  <cp:lastModifiedBy>DNS</cp:lastModifiedBy>
  <dcterms:modified xsi:type="dcterms:W3CDTF">2012-05-29T12:16:23Z</dcterms:modified>
  <cp:revision>62</cp:revision>
  <dc:subject/>
  <dc:title>ГЛАЗ-КАК ОПТИЧЕСКИЙ ПРИБОР</dc:title>
</cp:coreProperties>
</file>