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649-FEE6-4792-9F43-9203D34F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E42-349C-4217-AF56-E0ED4337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406-B56A-482A-9DF7-697A4E55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DED-2826-4572-85EC-84CBC21B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8BB6-5599-4260-8466-92EAB202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D59B-8713-4E05-A0C0-60607BE7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D155-18A9-4CEE-94FB-5154D0CA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4DAE-000A-4B11-B8B8-18B0C9CF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4399-5A97-4EAF-BB87-FB4A582E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34F-0354-4060-BEE4-C02E24CB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B359-FF0F-43F3-9B7B-3B563D6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81F-9BF5-4B89-9FBD-42370E8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591C-94B7-4931-8768-5991F30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E76-EBD1-4C0A-A7AF-274BD24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A919-8B74-494C-9960-5B8CB8E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3813-9A22-4743-9800-BF8EB7FD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BDEA-6F28-44D5-B9F1-CC483828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FF3C-6A79-492E-8796-9373E2DD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E5E8-7BCF-47A7-9538-94C3B7E8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4A5BE-74A6-4514-9693-8AF2C7D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04AF-4F40-4A69-8400-1F64BBC5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FA51-995C-473B-9A59-B4336028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F4E-682F-44D3-9481-BFD54DD6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D2CB-EAE7-4818-A408-4164D686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4376-CF0A-4158-BD91-DBB7529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6C96-CA5E-49A9-955F-26C7729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80E0-7EE8-4D24-8279-7304B32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2B42-ABEC-47A3-86B7-0883058B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5C0E-C2AC-447B-AD7B-25A683B6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F112-442B-4964-B3AE-A8BE42C2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B5416-4C3F-439D-9C2A-8C19B7EC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DF0E-FFB1-4446-B8E2-498C1DC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3DE3-6A38-4D68-99AD-50EE1A2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C80-817C-41E0-A82A-1BF30C6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6329-0D17-46DD-8632-89C6992B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F852-3B48-40B7-AD1A-15640797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1258-06CD-4285-8238-FC2E25D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B7FA-A4B2-433A-AB16-68F0FC2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6F37-66E9-416F-BE9A-97B0E177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E21A-18F7-4E25-8645-BA94723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A949-681E-48C1-BB53-4D53BCF2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67FA8-4FE3-497F-965F-2F73FE23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8E7E-1967-4303-9C16-058FC645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755F-8551-45AB-8D04-E684CC71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940-61F5-41ED-8396-1B67BB75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086A-2E8D-4E95-BEF2-09043625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95C9-25F6-42E2-967C-F2230B7F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F4BF-05CB-488E-93AD-2C775235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128A-28CC-4951-BB16-162A0B2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5790-81AF-4790-8F4C-8A94CC4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94F3-4436-4A11-B46D-F4F5022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1D295-D989-4952-8E6D-6DE89F2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BA6F-5092-4B78-A801-9283183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F2D5-4483-4659-9EF3-F9475E6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B1852-7469-4AAA-897C-EE32256B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3D6-6997-4B98-88F3-98509BE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B1CF-3245-48EC-9E5D-601F7002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D5AB-B92E-4C56-9144-5B1D2FED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10CFC-EBFB-4D49-9F8A-E1BBCCB3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CEB8-DAA1-4C4B-99F8-ABC19215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B6E9E-065B-48F6-813C-12D2C838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DD59E-FEC9-45EF-A4AE-1362832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58A7A-374E-44B1-B267-78C2D1F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73729-F1A5-4A34-A01D-8CBE8A2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060B-8299-47DC-9B78-4837CA9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C0943-2CD4-4DE1-AD7E-AA0C341E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95D-6505-40F6-B182-0E528E90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342C-01CA-417A-97E8-1FD1FC0D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1896-DAE4-40AE-B724-BD66EDCB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24B4-5669-4463-AC92-1E9417EF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C2BC-29E4-496C-BD79-DEA023FD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EB773-A87C-44BD-B335-A4BF12CF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EB1B-3049-483E-A152-E0F346DE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70B6A-41CB-4FB4-B8BF-7DDE4C98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6E8F-46FA-4EE9-AEAB-76408D61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88C5-014A-4869-A812-28CE3D54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237CD-0874-45ED-9767-C92595F9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0C8-3D6C-4B74-AA37-54EFD21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9D91C-7252-468F-A50D-E32C30A9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167F-39C2-4716-AF6D-64D6EF3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F8EB6-C342-4A65-9E0A-E039F50A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1E2F-A4B6-41D2-A281-FB2D81D9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FA75-87D6-491E-99FA-B85BD088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3B0-5300-4B8C-BC16-DCA82BD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F084-5EFF-4B0F-B56B-2C54B9A8B46D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3DE-397D-4997-A4D8-F9378BA8D4C0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FAD-A31E-4768-B7CC-4572518E10A3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B716-A446-45CA-8E09-F5ED186AF826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FCCD-8BAE-437F-9B43-C10501140143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BBB-E357-443F-B59D-C2B3F346E7DC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6E0-45EA-402F-97AE-F1C03A4EAAAD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530280" y="4157640"/>
            <a:ext cx="816300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итель физики Малдбекова З. З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7120" y="512640"/>
            <a:ext cx="832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e587f"/>
                </a:solidFill>
                <a:latin typeface="Consolas"/>
              </a:rPr>
              <a:t>Свойства э/м волн:</a:t>
            </a:r>
            <a:endParaRPr b="0" lang="en-US" sz="66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поглощение;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отражение;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преломление;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поперечность.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7 мая 1895 г День рождения Радио А. С. Попова.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90" name="Picture 2" descr="wave_3"/>
          <p:cNvPicPr/>
          <p:nvPr/>
        </p:nvPicPr>
        <p:blipFill>
          <a:blip r:embed="rId1"/>
          <a:stretch/>
        </p:blipFill>
        <p:spPr>
          <a:xfrm>
            <a:off x="2714760" y="1714680"/>
            <a:ext cx="3735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321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587f"/>
                </a:solidFill>
                <a:latin typeface="Consolas"/>
              </a:rPr>
              <a:t>Амплитудная модуляция</a:t>
            </a:r>
            <a:endParaRPr b="0" lang="en-US" sz="2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Принцип радиосвязи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e587f"/>
                </a:solidFill>
                <a:latin typeface="Consolas"/>
              </a:rPr>
              <a:t>1. Что такое электромагнитные волны? </a:t>
            </a:r>
            <a:br>
              <a:rPr sz="6000"/>
            </a:br>
            <a:endParaRPr b="0" lang="en-US" sz="6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57120" y="285768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. Распространяющееся в пространстве переменное магнитное пол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. Распространяющееся в пространстве переменное электриче­ское пол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. Распространяющееся в пространстве переменное электро­магнитное пол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2.</a:t>
            </a: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	</a:t>
            </a: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Каковы основные положения теории электромагнитного поля</a:t>
            </a:r>
            <a:br>
              <a:rPr sz="3600"/>
            </a:b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Максвелла?</a:t>
            </a:r>
            <a:br>
              <a:rPr sz="3600"/>
            </a:br>
            <a:endParaRPr b="0" lang="en-US" sz="36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57120" y="221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A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и всяком изменении электрического поля возникает вихревое магнитное поле, распространяющееся со скоростью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ве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. При всяком изменении магнитного поля возникает переменное вихревое электрическое поле, распространяющееся в окружающем пространстве со скоростью све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B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и всяком изменении магнитного поля возникает вихревое электрическое поле, при изменении электрического поля возникает магнитное пол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e587f"/>
                </a:solidFill>
                <a:latin typeface="Consolas"/>
              </a:rPr>
              <a:t>3.Как в воздухе изменится длина электромагнитных волн, излучаемых колеба-тельным контуром, если емкость колебательного контура увеличить в 4 раза:</a:t>
            </a:r>
            <a:endParaRPr b="0" lang="en-US" sz="42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71360" y="4357800"/>
            <a:ext cx="607212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меньшится в 4 ра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. Увеличится в 2 ра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величится в 4 ра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429000" cy="1143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42560" y="20718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се три вектора взаимно перпендикулярн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ектор совпадает с вектором и перпендикулярен вектору 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ектор совпадает с вектором , но перпендикулярен вектору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-297720" y="142920"/>
            <a:ext cx="885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4.Какова взаимная ори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5. Определите частоту колебаний электромагнитных волн в вакууме, если длина их равна 2 см.</a:t>
            </a:r>
            <a:endParaRPr b="0" lang="en-US" sz="36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143080" y="3071880"/>
            <a:ext cx="43578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e587f"/>
                </a:solidFill>
                <a:latin typeface="Consolas"/>
              </a:rPr>
              <a:t>6. Как должна двигаться заряженная частица, чтобы возникло электромагнитное излучение?</a:t>
            </a:r>
            <a:endParaRPr b="0" lang="en-US" sz="48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57120" y="3357720"/>
            <a:ext cx="8786880" cy="19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A. С постоянной скоростью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Б. Находиться в покое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B. Двигаться с ускорением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7.</a:t>
            </a: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	</a:t>
            </a: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Можно ли выбрать систему отсчета, в которой  обнаружилась бы только магнитная составляющая?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314280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A.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льз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. Можно, если система будет двигаться с такой же скорость, что и электрон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B.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жно, если система будет двигаться со скоростью больше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корости электрон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Распространение радиоволн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86" name="Picture 2" descr="wave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02:08Z</dcterms:created>
  <dc:creator>Гульсара</dc:creator>
  <dc:description/>
  <dc:language>en-US</dc:language>
  <cp:lastModifiedBy>user</cp:lastModifiedBy>
  <dcterms:modified xsi:type="dcterms:W3CDTF">2012-05-29T11:15:31Z</dcterms:modified>
  <cp:revision>10</cp:revision>
  <dc:subject/>
  <dc:title>Принципы радиосвязи</dc:title>
</cp:coreProperties>
</file>