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AB01-A709-4AA7-BDE9-E0254A51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C60-C56B-48F7-8A2D-DF1E368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FF6-AC80-4C53-A102-8E800B06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335-698E-43EA-8E59-2751AE92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E6AF-D3C1-4349-948D-2F58DD3C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22FA-EC66-4C6F-ADEB-4016A415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9EE7-6B41-401E-871F-A70146CE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214-380E-47A7-BED4-71F86B1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C5A9-601D-447A-BACB-F9036CB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A2AF-2366-4A01-8945-EA42C59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9E21-76F0-45B4-B075-0983D809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4AB-3838-4FCA-91D0-FA68471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214-52EE-4108-AA4D-58B5DF99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E69E-0C5D-4EAC-BDFE-490D9CD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DB2A-1752-4DE8-A992-709446B4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6B30-3A42-467D-8162-2C04BC3C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BE6-0C28-4865-B00A-19D06306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D99C-9F5A-4056-A0D3-4DB0973A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8263-D0DD-4C20-9143-9084A45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3B3B-D7C0-4375-88EB-9DA9324D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8B69-421F-49E3-8AD6-8C1EB806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F75A-C460-49BF-B9C5-E7B52F6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B50-BA40-442A-AED2-1B0834F7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8DAC9-97D8-41D8-A85D-74BA95B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8E90-B8CE-4971-90E8-35A3B4C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06E97-0CB1-441B-85C6-C95A6559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42EC-BF3D-4026-A0C3-22227075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77E9-2EC2-4303-9DD8-88D1993D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26A6B-0DFD-425F-8350-9225795B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CC58-9E83-456F-9BB3-0EE1FF01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C48D-9223-448E-8A55-0C9CE129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F549-0394-4637-B3E6-DB6CA95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BC6C-779E-4CEC-99DF-1D653DC3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399-725B-49E9-B9E8-A6E0B25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F2C51-9A59-4611-8B62-6E6B0125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8BF4-D76C-482E-BA55-7A88719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F9547-8BE9-488A-B754-E5773D5F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8390-5C40-4719-969B-4A1421C7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923F-9922-4AAD-A1DC-11196E26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BA62C-B132-4F59-A586-33A213FB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8D0A-2553-402A-B11B-389806A7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03F2-09A4-40FB-A81E-31F0B22C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E6B1-7460-4DC1-8304-6CF438AA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410CB-2281-4988-ACAF-7E2C59BA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ECD-8BBF-46E7-BD95-27BFBDE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C853-04F4-43D2-A0D9-F24F1C5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8617C-8896-4398-86A5-FA2573BE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9F7A-E546-44F9-BF17-9FD84BC0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61355-79D3-4BE9-A70D-CDD9E486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D16A-FFFB-4FF3-ABE3-39F495CF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7049B-79C8-4A09-92C7-6CDBF58B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6E327-0F1C-4498-8F92-FBD810A7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7A4E-3538-4F86-A02A-07DC9ABC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46A6-E0B6-4A74-ACA8-46F26AB8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9566-C917-4C76-9B43-9631048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E3F-D604-4637-8B15-A416FD0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7215-AC08-42C2-A889-F769F93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0C6B-42D2-48A7-A7E2-5FDE1BFA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BC129-B434-4A6E-ADB2-C09253A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9275-EAF9-4A86-9056-A2BBA64D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73AA-FC69-41C1-9F07-0FD7E74B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B2C1B-61DF-46B5-8615-07C8AA3F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DB3D6-6916-4FEA-B834-9C25CFA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7B68A-D333-4B02-AF88-0B2E92AA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1B14-B5C2-455C-B284-4F76BB39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EFB05-8A08-41BD-8185-D2BCD08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173-9FDC-438C-8485-BCDFA11C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2B2A-5F01-4EA0-9806-FA2686F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664F5-54F6-417F-ADF3-96859CF6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AC79C-6C10-42FC-9690-2D61F826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FC2AB-96ED-4948-8076-FE5C0340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3944E-162B-4EDC-ADE8-A77C0291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40D78-2EFA-4C17-86DD-79FDEDC7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EF5A-54E0-42E9-A563-88EFE3B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0D1E4-D504-47DF-B884-4ECC526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E9057-7DD8-4D09-B8F3-785F3DD1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594BF-4C0B-41D4-921D-8B03733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A7FD-43A2-43C5-9F97-CC17C5F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FD00-1A86-4A6C-B095-33178038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B36A-0B88-4561-801D-62B6E259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A2260-DEF2-41B0-B549-966E573F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A4F18-BAB4-4F77-8C9D-17E8B9FD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9C55-03F1-4BD6-8CB7-11367BD3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1A9F-C9B3-4636-AFAE-7F7445F7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FC8D-A927-4304-93FF-80481148F190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BA4-001F-45EB-81A5-ABD8E09DCA81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A87-33A0-4DC0-AABE-03016930D96F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619F-550E-4517-800E-B9D672E66463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3EC-E610-4EE2-AE8E-9C5A939C0AE5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96B-E2C7-4FD6-A727-5D24508E2596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6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5b6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CD0-9DC4-4F04-9630-38A1518E8BFD}" type="slidenum">
              <a:rPr b="0" lang="ru-RU" sz="1200" spc="-1" strike="noStrike">
                <a:solidFill>
                  <a:srgbClr val="4e5b6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530280" y="4157640"/>
            <a:ext cx="8163000" cy="28764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читель физики Малдбекова З. З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7120" y="512640"/>
            <a:ext cx="832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e587f"/>
                </a:solidFill>
                <a:latin typeface="Consolas"/>
              </a:rPr>
              <a:t>Свойства э/м волн:</a:t>
            </a:r>
            <a:endParaRPr b="0" lang="en-US" sz="66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оглощ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отраж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реломление;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rbel"/>
              </a:rPr>
              <a:t>поперечность.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7 мая 1895 г День рождения Радио А. С. Попова.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0" name="Picture 2" descr="wave_3"/>
          <p:cNvPicPr/>
          <p:nvPr/>
        </p:nvPicPr>
        <p:blipFill>
          <a:blip r:embed="rId1"/>
          <a:stretch/>
        </p:blipFill>
        <p:spPr>
          <a:xfrm>
            <a:off x="2714760" y="1714680"/>
            <a:ext cx="37353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3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3214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587f"/>
                </a:solidFill>
                <a:latin typeface="Consolas"/>
              </a:rPr>
              <a:t>Амплитудная модуляция</a:t>
            </a:r>
            <a:endParaRPr b="0" lang="en-US" sz="2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Принцип радиосвязи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e587f"/>
                </a:solidFill>
                <a:latin typeface="Consolas"/>
              </a:rPr>
              <a:t>1. Что такое электромагнитные волны? </a:t>
            </a:r>
            <a:br>
              <a:rPr sz="6000"/>
            </a:br>
            <a:endParaRPr b="0" lang="en-US" sz="6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57120" y="285768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. Распространяющееся в пространстве переменное магнитное пол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Распространяющееся в пространстве переменное электриче­ское поле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. Распространяющееся в пространстве переменное электро­магнитное пол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2.</a:t>
            </a: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	</a:t>
            </a: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Каковы основные положения теории электромагнитного поля</a:t>
            </a:r>
            <a:br>
              <a:rPr sz="3600"/>
            </a:b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Максвелла?</a:t>
            </a:r>
            <a:br>
              <a:rPr sz="3600"/>
            </a:br>
            <a:endParaRPr b="0" lang="en-US" sz="36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57120" y="221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и всяком изменении электрического поля возникает вихревое магнитное поле, распространяющееся со скоростью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ве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. При всяком изменении магнитного поля возникает переменное вихревое электрическое поле, распространяющееся в окружающем пространстве со скоростью свет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и всяком изменении магнитного поля возникает вихревое электрическое поле, при изменении электрического поля возникает магнитное пол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e587f"/>
                </a:solidFill>
                <a:latin typeface="Consolas"/>
              </a:rPr>
              <a:t>3.Как в воздухе изменится длина электромагнитных волн, излучаемых колеба-тельным контуром, если емкость колебательного контура увеличить в 4 раза:</a:t>
            </a:r>
            <a:endParaRPr b="0" lang="en-US" sz="42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71360" y="4357800"/>
            <a:ext cx="607212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меньшится в 4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Увеличится в 2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величится в 4 раз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1143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142560" y="20718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се три вектора взаимно перпендикулярны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ектор совпадает с вектором и перпендикулярен вектору 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700"/>
              </a:spcBef>
              <a:buClr>
                <a:srgbClr val="4e5b6f"/>
              </a:buClr>
              <a:buSzPct val="95000"/>
              <a:buFont typeface="Corbe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ектор совпадает с вектором , но перпендикулярен вектору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3"/>
          <p:cNvSpPr/>
          <p:nvPr/>
        </p:nvSpPr>
        <p:spPr>
          <a:xfrm>
            <a:off x="-297720" y="142920"/>
            <a:ext cx="885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4.Какова взаимная ори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e587f"/>
                </a:solidFill>
                <a:latin typeface="Consolas"/>
              </a:rPr>
              <a:t>5. Определите частоту колебаний электромагнитных волн в вакууме, если длина их равна 2 см.</a:t>
            </a:r>
            <a:endParaRPr b="0" lang="en-US" sz="36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143080" y="3071880"/>
            <a:ext cx="43578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e587f"/>
                </a:solidFill>
                <a:latin typeface="Consolas"/>
              </a:rPr>
              <a:t>6. Как должна двигаться заряженная частица, чтобы возникло электромагнитное излучение?</a:t>
            </a:r>
            <a:endParaRPr b="0" lang="en-US" sz="48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57120" y="3357720"/>
            <a:ext cx="8786880" cy="19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A. С постоянной скоростью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Б. Находиться в покое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3000" indent="-27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B. Двигаться с ускорением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7.</a:t>
            </a: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	</a:t>
            </a: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Можно ли выбрать систему отсчета, в которой  обнаружилась бы только магнитная составляющая?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8760" y="314280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A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льз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. Можно, если система будет двигаться с такой же скорость, что и электрон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B.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ожно, если система будет двигаться со скоростью большей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корости электрон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587f"/>
                </a:solidFill>
                <a:latin typeface="Consolas"/>
              </a:rPr>
              <a:t>Распространение радиоволн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pic>
        <p:nvPicPr>
          <p:cNvPr id="386" name="Picture 2" descr="wave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02:08Z</dcterms:created>
  <dc:creator>Гульсара</dc:creator>
  <dc:description/>
  <dc:language>en-US</dc:language>
  <cp:lastModifiedBy>user</cp:lastModifiedBy>
  <dcterms:modified xsi:type="dcterms:W3CDTF">2012-05-29T11:15:31Z</dcterms:modified>
  <cp:revision>10</cp:revision>
  <dc:subject/>
  <dc:title>Принципы радиосвязи</dc:title>
</cp:coreProperties>
</file>