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AC56-ED9C-471C-8F90-CDE655DBD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5FCC-1290-4662-8490-820ECE60D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1AAB-2EAE-4333-9788-C1E56897B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84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1000" y="198108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84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1000" y="4122360"/>
            <a:ext cx="249732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8E98-0686-4438-8373-5C03F738F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9C98-E72B-4D0F-AB39-3FC4E4930B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F40B-554A-4BB8-A3FA-383D5AEBF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E786-5CA7-4CF1-AD7B-3F389C969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F0F-0307-4697-ACC7-F66A38DDE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56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BD18F-7677-4068-9A13-AF2DC27B8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C341-4670-4318-9CE8-30B1D331C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0560" y="412236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0388-7187-45C8-9E36-89EA2B55C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981080"/>
            <a:ext cx="378504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2360"/>
            <a:ext cx="7756560" cy="195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190F-C1C3-4F0C-A5BB-A70A56C76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56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56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3E71A-207B-4103-9E38-CAFF3D02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4200"/>
            <a:ext cx="8244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Развитие познавательных 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Выполн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Педагог-психол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ОУ «СОШ № 1 р.п.Татищев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ДОУ «Детский сад № 1 р.п.Татище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Lucida Sans Unicode"/>
              </a:rPr>
              <a:t>Маслина Н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413000"/>
            <a:ext cx="777240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14200"/>
            <a:ext cx="824400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9640" y="1413000"/>
            <a:ext cx="730404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619280" y="1979640"/>
            <a:ext cx="6119640" cy="46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60360" y="179280"/>
            <a:ext cx="755964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айди пару каждому зонтик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57360" y="69228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йди две одинаковые бабоч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19280" y="1800360"/>
            <a:ext cx="6659640" cy="48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1079640"/>
            <a:ext cx="7920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6760" y="2160720"/>
            <a:ext cx="3692520" cy="45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19640" y="2160720"/>
            <a:ext cx="369252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55720" y="900000"/>
            <a:ext cx="753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отличия между нарисованными котя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1079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60360" y="1414440"/>
            <a:ext cx="6840720" cy="524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ой предмет лишн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079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19280" y="1355760"/>
            <a:ext cx="6480000" cy="53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1979640"/>
            <a:ext cx="792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1800360"/>
            <a:ext cx="57592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79640" y="1260360"/>
            <a:ext cx="7199280" cy="5481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6280" y="179280"/>
            <a:ext cx="4564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то перепутал худож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333360"/>
            <a:ext cx="8785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1979640"/>
            <a:ext cx="79200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0000" y="1800360"/>
            <a:ext cx="57592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6280" y="179280"/>
            <a:ext cx="4564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бывчивый худож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60360" y="1619280"/>
            <a:ext cx="66596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40:53Z</dcterms:created>
  <dc:creator>KLIM</dc:creator>
  <dc:description/>
  <dc:language>en-US</dc:language>
  <cp:lastModifiedBy>User</cp:lastModifiedBy>
  <dcterms:modified xsi:type="dcterms:W3CDTF">2012-03-25T13:21:13Z</dcterms:modified>
  <cp:revision>39</cp:revision>
  <dc:subject/>
  <dc:title>Работа социального педагога по охране прав детства.</dc:title>
</cp:coreProperties>
</file>