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C43B2-199F-4BB7-A6E8-AC6C3B9E68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565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2360"/>
            <a:ext cx="77565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4D715-D952-4776-80CE-02A366676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0560" y="198108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236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0560" y="412236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8E70D-3160-4219-A7FD-43E7883E8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497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8400" y="1981080"/>
            <a:ext cx="2497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1000" y="1981080"/>
            <a:ext cx="2497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2360"/>
            <a:ext cx="2497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8400" y="4122360"/>
            <a:ext cx="2497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1000" y="4122360"/>
            <a:ext cx="2497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3144A-A600-4EA5-B0BF-A04603AD49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56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15063-B563-4B54-A9C1-BD4BE2A256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5656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9F8EA-1C7E-4FD9-9110-26A6B7B7D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504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0560" y="1981080"/>
            <a:ext cx="378504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0FFBC-2539-4E0A-81D1-16C45F75D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171D0-CF1B-445E-9208-A6BA6325A8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565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1E8EF-0635-4822-BDAE-9ABD312D2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0560" y="1981080"/>
            <a:ext cx="378504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236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5EA3B-BA1A-4816-B101-89B65AF2F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504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0560" y="198108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0560" y="412236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A906-2762-43A1-AE6E-44B7EB2C0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0560" y="198108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2360"/>
            <a:ext cx="77565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3E421-A4E2-4A84-840A-60CDD2483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5656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2FB72-67B2-4552-AA64-8E5EB2CCE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4200"/>
            <a:ext cx="824400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Lucida Sans Unicode"/>
              </a:rPr>
              <a:t>Развитие познавательных процесс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Lucida Sans Unicode"/>
              </a:rPr>
              <a:t>Выполнил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Lucida Sans Unicode"/>
              </a:rPr>
              <a:t>Педагог-психол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Lucida Sans Unicode"/>
              </a:rPr>
              <a:t>МОУ «СОШ № 1 р.п.Татищево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Lucida Sans Unicode"/>
              </a:rPr>
              <a:t>МДОУ «Детский сад № 1 р.п.Татищево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Lucida Sans Unicode"/>
              </a:rPr>
              <a:t>Маслина Н.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413000"/>
            <a:ext cx="7772400" cy="46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14200"/>
            <a:ext cx="824400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79640" y="1413000"/>
            <a:ext cx="7304040" cy="46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619280" y="1979640"/>
            <a:ext cx="6119640" cy="4680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60360" y="179280"/>
            <a:ext cx="755964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Найди пару каждому зонтик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57360" y="692280"/>
            <a:ext cx="799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айди две одинаковые бабоч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19280" y="1800360"/>
            <a:ext cx="6659640" cy="48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333360"/>
            <a:ext cx="8785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20720" y="1079640"/>
            <a:ext cx="7920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66760" y="2160720"/>
            <a:ext cx="3692520" cy="450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219640" y="2160720"/>
            <a:ext cx="3692520" cy="4500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55720" y="900000"/>
            <a:ext cx="753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 отличия между нарисованными котят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33336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акой предмет лишни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0720" y="107964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60360" y="1414440"/>
            <a:ext cx="6840720" cy="524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33336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акой предмет лишни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0720" y="107964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19280" y="1355760"/>
            <a:ext cx="6480000" cy="53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333360"/>
            <a:ext cx="8785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0720" y="1979640"/>
            <a:ext cx="792000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0000" y="1800360"/>
            <a:ext cx="575928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79640" y="1260360"/>
            <a:ext cx="7199280" cy="5481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816280" y="179280"/>
            <a:ext cx="4564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Что перепутал худож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333360"/>
            <a:ext cx="8785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0720" y="1979640"/>
            <a:ext cx="792000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0000" y="1800360"/>
            <a:ext cx="575928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6280" y="179280"/>
            <a:ext cx="4564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абывчивый худож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60360" y="1619280"/>
            <a:ext cx="6659640" cy="5043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8:40:53Z</dcterms:created>
  <dc:creator>KLIM</dc:creator>
  <dc:description/>
  <dc:language>en-US</dc:language>
  <cp:lastModifiedBy>User</cp:lastModifiedBy>
  <dcterms:modified xsi:type="dcterms:W3CDTF">2012-03-25T13:21:13Z</dcterms:modified>
  <cp:revision>39</cp:revision>
  <dc:subject/>
  <dc:title>Работа социального педагога по охране прав детства.</dc:title>
</cp:coreProperties>
</file>