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593-732B-403B-82FC-0AA193A4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B47-1547-4DE8-8E3E-4BB6B430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E7B-A111-4A3A-B4D3-08C33A5C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AC7-392D-4A85-AEA5-7C3BEE98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9E04-32FA-499B-905E-0F918FD8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E61D-A932-49BF-84E0-BDAE0B8F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C21C-1093-49C4-83E2-A2DD010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AF46-D221-4516-9F02-C19C9B6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4545-65A8-43EA-9DF4-E747A6CA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A22-8E20-459E-8A5C-1AEB010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07B-12A7-44A1-9728-B69528B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76F-2986-4D4A-9880-33D1802A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A5BF-2A99-4AF7-8982-4F80EE4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A4B-5BEB-4997-A1AC-29062437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9A2C-9C75-4002-997B-D3A138C1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6BF-7F9F-43AA-8AB1-8C765ED8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4BE1-6C57-40A2-BD67-AE8FE0D9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9C48-823F-4B24-A8EF-02967281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0AD5-8BBF-4C86-94D2-449C5F6E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50A9-E140-46A4-B780-22397C30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AAF1-4182-49B0-A108-2DAD93FE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4A7B-110B-4D6B-B93D-4DC4308B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2C3-780E-44C8-8DFD-1FAD459A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68B9-0132-42D2-A583-8607CAF5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9EC5-2B29-4A6B-8AAE-C1C3C4AE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DD420-D1D7-4D43-B631-4287ACD7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67F2-CD13-4B14-8AC4-1FBF7C2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9071-B810-4CB5-909D-08650D9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1A78-03FB-498C-AEDA-E71F383E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6C7E-C5BC-461D-AABF-98131A12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B264-0258-4C20-BD8A-7AC8FCA9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6E9DA-B9FB-4D1C-86DE-15AAE35A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F205-370C-4F37-94A2-33ACB946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72A-0F4F-470C-B7E0-89E9D91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8D525-E567-457B-8ADB-13CC9E4D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D344-0309-4C2A-88D1-5FF7907C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AFDF4-3D6F-4758-9EA8-4587257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5A54-12ED-48E3-81B0-7FBC147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D2CB8-8557-4120-A1BB-574DA6CA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4022-6066-452A-869B-E76BBFF0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0F4C-B7F7-4A6C-A55D-63AB5E57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96A4-90AD-4416-8ABA-56BEBEFE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EEF4-B6DA-4383-97F2-FBD13E4F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F1CC-B878-4624-B494-502BB228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24B7-D559-4838-964D-4E1471E4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77BA-B119-4A6E-8ED9-4F4D6024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D1B7B-A867-4EBB-9613-FCF3068E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0A84-B43D-4622-9AD0-915897F5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C0D00-2180-4D60-A468-9AAE10B6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CFBF3-E0A6-4BA6-B8EF-07C4EBAD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85DF-BED2-4F49-81D0-0C7E9B99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D2F1-E2EF-4636-A5D6-1D07D896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2D37C-6BEA-40EE-97B2-D121A7C5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896B8-4643-4060-AEC5-DAE8DBD4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6A4C-18CD-4BBC-AA3B-E3B80D4D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723-EB22-47B2-8BC4-10AEFB0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B2F1E-CD7C-47C5-8E1E-FC0E2FE4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64276-FB66-41D2-803F-F4C3FA11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776D-5349-47AB-B66B-D255DA99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2235B-24CD-42C4-8DC3-D7E30F3D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B02FE-EB27-436C-B804-ADABB087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1FBDB-FB26-47DF-A04C-4D356C71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7F14-AADB-4961-86D6-6297EEBB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2AE8-90A8-4491-8D7E-F46F9C72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3B18-AAE0-42D1-AFC5-36EA1217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A7E7A-FE10-4B49-BE04-52872B2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1C1-1CD4-4C7D-B44C-2926CC5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9FEF6-3EC4-4663-A755-0970AC45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F78AB-2A37-437A-B524-28F7C5C2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A496-CFAB-4FC3-9DCE-538B4AFF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DBC-DE05-4491-951E-ECC7B7BC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CC2-0A6E-4E45-BCCF-FE093F6C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C3BF-E119-4508-9979-897E509E9C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04D4-BE8E-4A58-AF56-8F0ED3BA74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C3D7-57E1-4C47-9B1C-C7E1C2621A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7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584C-FFFB-4D3B-A083-DED1DA26B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DC3F-0C6B-41E6-B4B9-2E4E32A3F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F48-55D1-4701-9B95-3A8D5D829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Arial"/>
              </a:rPr>
              <a:t>Районный конкурс педагогических достижений</a:t>
            </a:r>
            <a:br>
              <a:rPr sz="5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008-2009 учебный го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Номинация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Сердце отдаю детям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1909800" cy="2616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5486400" y="304920"/>
            <a:ext cx="1849320" cy="2514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7086600" y="533520"/>
            <a:ext cx="177012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ши дости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2112840" y="1523880"/>
            <a:ext cx="1697040" cy="2362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3657600" y="1752480"/>
            <a:ext cx="1681200" cy="2362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257800" y="2133720"/>
            <a:ext cx="177156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2819520" y="3429000"/>
            <a:ext cx="176832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4419720" y="3886200"/>
            <a:ext cx="176688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6934320" y="2438280"/>
            <a:ext cx="1731960" cy="2438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5791320" y="4114800"/>
            <a:ext cx="1776240" cy="24382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7315200" y="4419720"/>
            <a:ext cx="1652760" cy="22906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37" name="" descr=""/>
          <p:cNvPicPr/>
          <p:nvPr/>
        </p:nvPicPr>
        <p:blipFill>
          <a:blip r:embed="rId12"/>
          <a:srcRect l="5268" t="0" r="5212" b="1886"/>
          <a:stretch/>
        </p:blipFill>
        <p:spPr>
          <a:xfrm>
            <a:off x="152280" y="2743200"/>
            <a:ext cx="2590920" cy="39625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6553080" y="30492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всё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жиз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 ты её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неё и держис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мам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стра, брат, и пап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буля, дедул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кошечка Му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сбережё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ймёт и согр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место глав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жизни им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бите семь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регите семью,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всё будет лучш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ем в небе-Раю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лья Селе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4467240"/>
            <a:ext cx="617220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ое счаст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мья – это счастье! Когда я прихожу домой, мне всё улыбается: картины, которые мой папа написал, чтобы я радовался, квартира, которую папа и мама заботливо обустраивали, чтобы всем нам было в ней хорошо, тепло и уютно. Когда я сам буду отцом, то в своей семье введу такую традицию: мы будем выезжать в поход с палаткой на свежий воздух. Я желаю всем ребятам счастливой семьи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иркунов Ив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57200" y="2181240"/>
            <a:ext cx="1633680" cy="2195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2209680" y="1066680"/>
            <a:ext cx="4172040" cy="3129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д Семьи – это наш год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От семейных традиций – к традициям кл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1457" r="0" b="2428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т семейных традиций – к традициям класс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8620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Елисеева Татьяна Евген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читель математики, классный руководитель Государственного общеобразовательного учреждения лицей №32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дагогический стаж: 18 ле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лицее №329: с 1995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ссное руководство: выпустила в 2006 году 11 класс, сейчас – 7-а клас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048120" cy="457200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ое педагогическое кред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Я тебе отдаю мое сердце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об зимою от холода греться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об весной солнце ярче сияло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 тепло на душе тебе стало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Чтобы чаще ты мог улыбаться,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 чтоб сердце наполнилось счастьем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68632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62120" y="4068720"/>
            <a:ext cx="3759120" cy="2619360"/>
          </a:xfrm>
          <a:prstGeom prst="rect">
            <a:avLst/>
          </a:prstGeom>
          <a:ln w="9360">
            <a:solidFill>
              <a:srgbClr val="720000"/>
            </a:solidFill>
            <a:miter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124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йчас мои выпускники – взрослые состоявшиеся личности, занимающие активную жизненную позиц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пуск – 200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581280" cy="23209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5473440" cy="3624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heel spokes="1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14440" y="914040"/>
            <a:ext cx="434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Ценности нашего клас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04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сто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762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ствен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219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удолюб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1676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ноправие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2133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порств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2590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ружелюб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3048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зависим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19320" y="3505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кренн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962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естност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19320" y="44197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диноду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19320" y="48769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на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19320" y="5334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вор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19320" y="5791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ра в побе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62485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зывчив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 rot="5400000">
            <a:off x="-2443680" y="3281400"/>
            <a:ext cx="63248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СОТРУДНИЧЕСТВО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 rot="198600">
            <a:off x="3505320" y="2590560"/>
            <a:ext cx="5333760" cy="3860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 семейных традиций – к традициям класс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590920" y="2286000"/>
            <a:ext cx="1218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ДЕТИ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495680" y="2286000"/>
            <a:ext cx="1752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УЧИТЕЛЬ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0" y="228600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РОДИТЕЛИ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62520" y="236232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+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324480" y="23623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+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334120" y="3581280"/>
            <a:ext cx="380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99ccff"/>
                </a:solidFill>
                <a:latin typeface="Times New Roman"/>
              </a:rPr>
              <a:t>=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99cc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320040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ЕМЬ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 rot="21286200">
            <a:off x="228600" y="1143000"/>
            <a:ext cx="1928880" cy="266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 rot="20689200">
            <a:off x="456840" y="3886200"/>
            <a:ext cx="1865160" cy="25909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3720960" cy="2469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2209680" y="3581280"/>
            <a:ext cx="2934000" cy="215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172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КЛАССНЫЙ КАЛЕНДАР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63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Н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 «С днем рождения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товыставка «Моя семь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енний день здоров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пожилого человека. «Бабушкины посиделки» (встреча с бабушкам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О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курс плакатов к Всемирному дню мужчин «Из чего же сделаны наши мальчишки?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Мой папа – самый лучший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 Дню матери России «Моя мама – лучшая на свете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rcRect l="0" t="9598" r="40177" b="0"/>
          <a:stretch/>
        </p:blipFill>
        <p:spPr>
          <a:xfrm>
            <a:off x="6095880" y="304920"/>
            <a:ext cx="2819520" cy="21542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9520" cy="1998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4" name="" descr=""/>
          <p:cNvPicPr/>
          <p:nvPr/>
        </p:nvPicPr>
        <p:blipFill>
          <a:blip r:embed="rId3"/>
          <a:srcRect l="0" t="0" r="0" b="7637"/>
          <a:stretch/>
        </p:blipFill>
        <p:spPr>
          <a:xfrm>
            <a:off x="6095880" y="4724280"/>
            <a:ext cx="2819520" cy="2057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КЛАССНЫЙ КАЛЕНДАР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791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КА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ие классного театрального сез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вогодний праздник, выезд на турбазу вместе с родител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курсия по местам боевой славы ко Дню снятия блокады Ленингра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нь святого Валентина в нашем класс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аздник настоящих мужч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747880" cy="2060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248520" y="2590920"/>
            <a:ext cx="2736720" cy="1895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6248520" y="609480"/>
            <a:ext cx="2743200" cy="18576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Arial"/>
              </a:rPr>
              <a:t>КЛАССНЫЙ КАЛЕНДАР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867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Р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а «А ну-ка, девочки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сские народные традиции: «Масленица». «К маме – на блины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ПР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Международному дню детской книги. «Читаем всей семьей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ный час: «9 мая – День Победы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ждународный день семьи. Выезд на турбазу с родителями. Подведение итогов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590920" cy="2092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559240" cy="1909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324480" y="2492280"/>
            <a:ext cx="2590920" cy="1997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рубская</cp:lastModifiedBy>
  <dcterms:modified xsi:type="dcterms:W3CDTF">2008-12-17T17:28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