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ECA-3CAD-4961-8BA0-956250BF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BDAD-B096-4C23-AF9C-2BB06C25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2BCE-D6B4-4D2A-A714-2459AADF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CBE1-BA24-4753-8665-6EDF7E84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A592-D2C3-47DF-AC31-A44D5466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611A-D72E-4D47-BEFC-C018686C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F34C-B208-44F4-8FA1-6E4B78CD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389F-41F9-48FF-B118-6BB8C45F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A9C9-5F4A-4C83-B657-156C136E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3BE3-1040-47A4-90D8-F0C0F18D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1379-9385-4456-B18E-2DF3D676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18E7-E331-471E-9CA7-03B731C4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D70F-3F4B-48D9-8CE3-F13B4533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65B5-B804-4BA0-8064-00CCF109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7FC1-4F0F-4722-836D-4D09FA77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8654-4868-4C74-824C-949717D3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9BE0-2E83-4881-9709-776451DA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F6B0F-377F-453B-8EA3-018AF151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54AF1-7B04-48F6-B16F-E74F6B42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A4A10-8E0F-4BF2-B8B3-A5537C44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2875F-AF32-481D-9229-E6AC4953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8E7D1-8430-44CB-831C-7497FAA3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AED2-6133-442B-8F17-2986BCCA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46F33-C301-41D0-8609-A03653E1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B0940-F7D8-45E5-B6E3-0187BF7E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036FC-C07A-4E33-906C-504C7363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19D3D-0CC9-471D-AF05-3CEB1A80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119DA-DD07-4AC0-A824-4B6B7A5A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45EFD-075C-4D05-B1A0-139FE261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48148-7619-4AA1-B6AF-0A86CFDB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AD522-5551-470F-9D1A-4BDD4A98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E85FE-F41C-419B-AF66-E2086937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5263B-43A4-4E2D-BBF6-3843E92A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76A7-3958-4EB5-B9DC-F43B825C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5BC1C-B297-41D8-9AAF-5DFD147A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655EE-9FED-4A72-B9D4-2B8AFFE1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B4046-9BD7-4651-B36D-19D56F84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86BEA-3E6B-464A-91E2-1E050BBF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2E4B2-1693-48E4-85FE-79A85767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282BB-B59C-4B42-B4F9-1F045703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D702F-F28D-43B8-8FF7-FFF5859A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F3EE2-E4E4-4D87-8FE6-F506B48F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5A4DC-ED9C-4E62-BEA8-4A940E77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BF09E-F4A3-4A77-8C3A-7A430269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E27-64E7-4958-80BD-E4CCB3AB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1434F-0A18-47E6-B361-05230239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8E89C-B451-4A4A-BE6D-02E8AF05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08588-FC9C-452A-8E97-4B8EF37F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E5C6E-D3F2-4DA6-A3C7-766DAE92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ADE58-7949-403E-94C1-4A9EFCC6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A0FFD-9B6A-48BE-9BB4-7886460D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07970-FA06-4079-B811-B7881B76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C796D-3EC5-4D9E-A751-70EC7E3B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980DA-758F-4EDA-ACA3-6C6DBA05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79CD0-2686-43FB-8D76-653C91A8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8989-F5C0-401B-85E4-7C20CB3F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979C5-7262-4864-B7AF-85D69806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99048-F06A-4E8A-933F-CD6DCFBE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5BB30-A723-476B-BA56-0A1F9B88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42019-C9E8-4FED-95EB-BC74D7F3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89C3E-78F2-4820-91D9-1A1003DC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CC75F-252C-47C0-AED5-CF3F9CF9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F269C-669D-450B-99AD-C20658EE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FE2E8-857E-4228-B016-C431C285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AC793-5B8A-43B1-B04C-9C8F8766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9BE72-A600-491D-BA31-D6037F76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C4FC-B163-4D1B-9AD2-39DADD17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8C425-6F42-42CD-9F82-4D0E058A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83E4B-A079-47AB-8D4A-ED89541D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A3648-55D5-44A3-BDC8-5EB71F09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7981-375B-4763-B894-8D5D036E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3F8F-725C-4A13-BEE5-24500286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F941-64B3-418D-8AB6-7F5CA54F9ED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8046-BAD0-4582-B9F2-66241B37DF5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97A0-C2DA-4BCD-A7B0-4BBA854E99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7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B03F-E8A5-474D-80A8-C258EA9086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5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6122-29F3-451C-A80B-E4238FC659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1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4118-CFCB-47B2-A227-431A3F8197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jpeg"/><Relationship Id="rId13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Районный конкурс педагогических достижений</a:t>
            </a:r>
            <a:br>
              <a:rPr sz="5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008-2009 учебный год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4191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оминация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Сердце отдаю детям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809880" y="152280"/>
            <a:ext cx="1909800" cy="26164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5486400" y="304920"/>
            <a:ext cx="1849320" cy="25146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7086600" y="533520"/>
            <a:ext cx="1770120" cy="2438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аши достиж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2112840" y="1523880"/>
            <a:ext cx="1697040" cy="23623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430" name="" descr=""/>
          <p:cNvPicPr/>
          <p:nvPr/>
        </p:nvPicPr>
        <p:blipFill>
          <a:blip r:embed="rId5"/>
          <a:stretch/>
        </p:blipFill>
        <p:spPr>
          <a:xfrm>
            <a:off x="3657600" y="1752480"/>
            <a:ext cx="1681200" cy="23623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6"/>
          <a:stretch/>
        </p:blipFill>
        <p:spPr>
          <a:xfrm>
            <a:off x="5257800" y="2133720"/>
            <a:ext cx="1771560" cy="2438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432" name="" descr=""/>
          <p:cNvPicPr/>
          <p:nvPr/>
        </p:nvPicPr>
        <p:blipFill>
          <a:blip r:embed="rId7"/>
          <a:stretch/>
        </p:blipFill>
        <p:spPr>
          <a:xfrm>
            <a:off x="2819520" y="3429000"/>
            <a:ext cx="1768320" cy="2438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433" name="" descr=""/>
          <p:cNvPicPr/>
          <p:nvPr/>
        </p:nvPicPr>
        <p:blipFill>
          <a:blip r:embed="rId8"/>
          <a:stretch/>
        </p:blipFill>
        <p:spPr>
          <a:xfrm>
            <a:off x="4419720" y="3886200"/>
            <a:ext cx="1766880" cy="2438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434" name="" descr=""/>
          <p:cNvPicPr/>
          <p:nvPr/>
        </p:nvPicPr>
        <p:blipFill>
          <a:blip r:embed="rId9"/>
          <a:stretch/>
        </p:blipFill>
        <p:spPr>
          <a:xfrm>
            <a:off x="6934320" y="2438280"/>
            <a:ext cx="1731960" cy="2438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435" name="" descr=""/>
          <p:cNvPicPr/>
          <p:nvPr/>
        </p:nvPicPr>
        <p:blipFill>
          <a:blip r:embed="rId10"/>
          <a:stretch/>
        </p:blipFill>
        <p:spPr>
          <a:xfrm>
            <a:off x="5791320" y="4114800"/>
            <a:ext cx="1776240" cy="2438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436" name="" descr=""/>
          <p:cNvPicPr/>
          <p:nvPr/>
        </p:nvPicPr>
        <p:blipFill>
          <a:blip r:embed="rId11"/>
          <a:stretch/>
        </p:blipFill>
        <p:spPr>
          <a:xfrm>
            <a:off x="7315200" y="4419720"/>
            <a:ext cx="1652760" cy="22906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437" name="" descr=""/>
          <p:cNvPicPr/>
          <p:nvPr/>
        </p:nvPicPr>
        <p:blipFill>
          <a:blip r:embed="rId12"/>
          <a:srcRect l="5268" t="0" r="5212" b="1886"/>
          <a:stretch/>
        </p:blipFill>
        <p:spPr>
          <a:xfrm>
            <a:off x="152280" y="2743200"/>
            <a:ext cx="2590920" cy="3962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6553080" y="304920"/>
            <a:ext cx="2362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мья – это всё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мья – это жизн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юби ты её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 неё и держис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мья – это мам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стра, брат, и пап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абуля, дедуля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кошечка Мул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мья сбережёт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ймёт и согре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мья место главн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жизни име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юбите семью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регите семью,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всё будет лучш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ем в небе-Раю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лья Селенск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04920" y="4467240"/>
            <a:ext cx="617220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мейное счасть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мья – это счастье! Когда я прихожу домой, мне всё улыбается: картины, которые мой папа написал, чтобы я радовался, квартира, которую папа и мама заботливо обустраивали, чтобы всем нам было в ней хорошо, тепло и уютно. Когда я сам буду отцом, то в своей семье введу такую традицию: мы будем выезжать в поход с палаткой на свежий воздух. Я желаю всем ребятам счастливой семьи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Чиркунов Ив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57200" y="2181240"/>
            <a:ext cx="1633680" cy="2195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2209680" y="1066680"/>
            <a:ext cx="4172040" cy="31291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од Семьи – это наш год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т семейных традиций – к традициям класс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0" t="1457" r="0" b="2428"/>
          <a:stretch/>
        </p:blipFill>
        <p:spPr>
          <a:xfrm>
            <a:off x="685800" y="1600200"/>
            <a:ext cx="7848720" cy="5029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От семейных традиций – к традициям класс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886200" y="20570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Елисеева Татьяна Евгень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ль математики, классный руководитель Государственного общеобразовательного учреждения лицей №32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дагогический стаж: 18 ле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лицее №329: с 1995 г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лассное руководство: выпустила в 2006 году 11 класс, сейчас – 7-а клас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048120" cy="4572000"/>
          </a:xfrm>
          <a:prstGeom prst="rect">
            <a:avLst/>
          </a:prstGeom>
          <a:ln w="9360">
            <a:solidFill>
              <a:srgbClr val="720000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Мое педагогическое кред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47960" y="1904760"/>
            <a:ext cx="4267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Я тебе отдаю мое сердце,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Чтоб зимою от холода греться,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Чтоб весной солнце ярче сияло,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И тепло на душе тебе стало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Чтобы чаще ты мог улыбаться,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И чтоб сердце наполнилось счастьем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581280" cy="2686320"/>
          </a:xfrm>
          <a:prstGeom prst="rect">
            <a:avLst/>
          </a:prstGeom>
          <a:ln w="9360">
            <a:solidFill>
              <a:srgbClr val="720000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762120" y="4068720"/>
            <a:ext cx="3759120" cy="2619360"/>
          </a:xfrm>
          <a:prstGeom prst="rect">
            <a:avLst/>
          </a:prstGeom>
          <a:ln w="9360">
            <a:solidFill>
              <a:srgbClr val="720000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3124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йчас мои выпускники – взрослые состоявшиеся личности, занимающие активную жизненную позици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ыпуск – 200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5334120" y="380880"/>
            <a:ext cx="3581280" cy="2320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3505320" y="2971800"/>
            <a:ext cx="5473440" cy="36241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>
    <p:wheel spokes="1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14440" y="914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Ценности нашего клас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219320" y="3049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мостоятель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19320" y="7621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ветствен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19320" y="12193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рудолюб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19320" y="16765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вноправие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21337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порств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19320" y="25909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ружелюб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19320" y="30481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зависимость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219320" y="35053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кренность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219320" y="39625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естность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44197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динодуш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19320" y="48769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знатель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19320" y="53341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вор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219320" y="57913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ра в побе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219320" y="62485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зывчив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 rot="5400000">
            <a:off x="-2443680" y="3281400"/>
            <a:ext cx="63248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99ccff"/>
                </a:solidFill>
                <a:latin typeface="Times New Roman"/>
              </a:rPr>
              <a:t>СОТРУДНИЧЕСТВО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99ccff"/>
              </a:solidFill>
              <a:latin typeface="Times New Roman"/>
              <a:ea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 rot="198600">
            <a:off x="3505320" y="2590560"/>
            <a:ext cx="5333760" cy="3860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>
    <p:wheel spokes="1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 семейных традиций – к традициям класс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590920" y="2286000"/>
            <a:ext cx="1218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99ccff"/>
                </a:solidFill>
                <a:latin typeface="Times New Roman"/>
              </a:rPr>
              <a:t>ДЕТИ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99ccff"/>
              </a:solidFill>
              <a:latin typeface="Times New Roman"/>
              <a:ea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495680" y="2286000"/>
            <a:ext cx="1752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99ccff"/>
                </a:solidFill>
                <a:latin typeface="Times New Roman"/>
              </a:rPr>
              <a:t>УЧИТЕЛЬ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99ccff"/>
              </a:solidFill>
              <a:latin typeface="Times New Roman"/>
              <a:ea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858000" y="228600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99ccff"/>
                </a:solidFill>
                <a:latin typeface="Times New Roman"/>
              </a:rPr>
              <a:t>РОДИТЕЛИ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99ccff"/>
              </a:solidFill>
              <a:latin typeface="Times New Roman"/>
              <a:ea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962520" y="2362320"/>
            <a:ext cx="380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99ccff"/>
                </a:solidFill>
                <a:latin typeface="Times New Roman"/>
              </a:rPr>
              <a:t>+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99ccff"/>
              </a:solidFill>
              <a:latin typeface="Times New Roman"/>
              <a:ea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324480" y="2362320"/>
            <a:ext cx="381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99ccff"/>
                </a:solidFill>
                <a:latin typeface="Times New Roman"/>
              </a:rPr>
              <a:t>+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99ccff"/>
              </a:solidFill>
              <a:latin typeface="Times New Roman"/>
              <a:ea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334120" y="3581280"/>
            <a:ext cx="380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99ccff"/>
                </a:solidFill>
                <a:latin typeface="Times New Roman"/>
              </a:rPr>
              <a:t>=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99ccff"/>
              </a:solidFill>
              <a:latin typeface="Times New Roman"/>
              <a:ea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943600" y="320040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ЕМЬ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 rot="21286200">
            <a:off x="228600" y="1143000"/>
            <a:ext cx="1928880" cy="2666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 rot="20689200">
            <a:off x="456840" y="3886200"/>
            <a:ext cx="1865160" cy="25909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5257800" y="4191120"/>
            <a:ext cx="3720960" cy="24699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2209680" y="3581280"/>
            <a:ext cx="2934000" cy="2156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6172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Arial"/>
              </a:rPr>
              <a:t>КЛАССНЫЙ КАЛЕНДАРЬ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563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НТЯБ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здник «С днем рождения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товыставка «Моя семья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енний день здоровь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КТЯБ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нь пожилого человека. «Бабушкины посиделки» (встреча с бабушкам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ОЯБ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курс плакатов к Всемирному дню мужчин «Из чего же сделаны наши мальчишки?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Мой папа – самый лучший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 Дню матери России «Моя мама – лучшая на свете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rcRect l="0" t="9598" r="40177" b="0"/>
          <a:stretch/>
        </p:blipFill>
        <p:spPr>
          <a:xfrm>
            <a:off x="6095880" y="304920"/>
            <a:ext cx="2819520" cy="21542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6095880" y="2590920"/>
            <a:ext cx="2819520" cy="19987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414" name="" descr=""/>
          <p:cNvPicPr/>
          <p:nvPr/>
        </p:nvPicPr>
        <p:blipFill>
          <a:blip r:embed="rId3"/>
          <a:srcRect l="0" t="0" r="0" b="7637"/>
          <a:stretch/>
        </p:blipFill>
        <p:spPr>
          <a:xfrm>
            <a:off x="6095880" y="4724280"/>
            <a:ext cx="2819520" cy="20574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6400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Arial"/>
              </a:rPr>
              <a:t>КЛАССНЫЙ КАЛЕНДАРЬ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5791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ЕКАБ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ие классного театрального сезо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вогодний праздник, выезд на турбазу вместе с родителя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НВА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кскурсия по местам боевой славы ко Дню снятия блокады Ленингра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ЕВРА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нь святого Валентина в нашем класс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здник настоящих мужч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6248520" y="4572000"/>
            <a:ext cx="2747880" cy="2060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6248520" y="2590920"/>
            <a:ext cx="2736720" cy="18954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6248520" y="609480"/>
            <a:ext cx="2743200" cy="18576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p:transition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6400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Arial"/>
              </a:rPr>
              <a:t>КЛАССНЫЙ КАЛЕНДАРЬ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58676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АР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гра «А ну-ка, девочки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усские народные традиции: «Масленица». «К маме – на блины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ПР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Международному дню детской книги. «Читаем всей семьей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А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лассный час: «9 мая – День Победы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ждународный день семьи. Выезд на турбазу с родителями. Подведение итогов го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6324480" y="4572000"/>
            <a:ext cx="2590920" cy="20923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559240" cy="19098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6324480" y="2492280"/>
            <a:ext cx="2590920" cy="19972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p:transition>
    <p:comb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рубская</cp:lastModifiedBy>
  <dcterms:modified xsi:type="dcterms:W3CDTF">2008-12-17T17:28:2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