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278E-63F9-4359-98A2-4765FD51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86D9-3A57-4E84-B6E1-937DD5E0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E155C5-DCC0-4257-98E0-867F45DB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F2732E-64FE-4E58-A2AF-DA180E7A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0FC543-31C2-45E1-A88E-81EE9F77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E8B69E-BC5C-435B-8BFE-56637596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AFC533-F618-4E8E-9FA9-4165EFD6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552CC2-1DDE-4CE2-A2BE-23161F23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04497B-6DFA-4B7C-8918-F31CC4AA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079D83-17C0-4F7B-9C2D-4043256D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7A02AA-5D06-4D10-85E4-022C0174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DDE88-A35E-46C1-9FB8-752CA58A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7620-0EC0-4EAD-84D7-EDD234B67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00FFE-6771-4036-BA67-5C7A3D41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1994B-4FF0-48DD-AC2D-75A8038C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D8648-ACE7-4327-A9D1-FB701F58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964D0-FAED-4E43-8EC4-8138D43A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78F6E-4ABA-44F8-879C-B5E26E50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C2E69-D4D5-45A0-8372-C73ECF00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7BE40-E63E-4303-B125-C12798DD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9C25C-D231-4040-B334-6DBD73CA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D8C46-02D1-4090-B99B-4C3A41EB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9FF83-93BF-49C4-A588-446F928B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4335-C4BC-4706-8873-F737B0A2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A81D8-15D8-4D9C-A22D-3502F398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A99E4-7AB6-4E07-8670-B461D299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AD6A3-4F7A-4932-9891-986E2BAA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7EED8-8F29-4450-BA4C-553DABD8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9D7CF-013E-41AF-AF71-9989C5E0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1DDA3-DC4F-4670-A82C-9A5DD3D9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82612-E602-4EAC-AF3A-48F1AA70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E020C-3A44-4C86-A5B7-3C3113FD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DE039-B01F-4A7C-BD81-C74E8385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2BEAE-61F5-499E-BF11-B6E8BABF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A9E2F-DB1C-4546-88D1-A75C696E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692DB-BE52-440D-B7DF-D2F19630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8EC6D-CFDD-4DFE-A62E-89584977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1973D-1CA0-49FB-BA6A-6C68791D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13F45-ACC8-48FB-BED9-7363CB95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4CAF3-2709-432F-8A76-8148183D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404A1-4833-4255-A30D-7E131439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AF26B-C75C-43F9-ADCA-54F2A37F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C6FE4-E2D6-4C8C-AC10-8EBC3F38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E5439-1C67-4809-995D-5DA88823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FDBF3-E912-4F70-A2F0-AF67FD6E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A283E-4E41-4D50-B43F-633BBB22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E7D4C-7005-41CB-9F45-0F92DE68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8A0B1-C84A-4837-A83F-998C8088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C8571-0D0D-4CA1-B2B7-DD2875D3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02A99-05BC-4E43-BD51-41A9367B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D702B-5E47-411E-8B51-2E1EF9C1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DBB1A4-75EA-4329-B22B-F263AFD2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3D71B-234C-4F9A-9C60-F7E1059B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79E986-5853-49F8-B981-45FE558A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7F17E9-4AD6-4E44-A41E-DE8D2689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253A05-0638-4B6A-91A3-5872F0FF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A086E-E387-4D2D-8E90-0F2D7058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F6769B-01BF-45AC-8EEF-FCEE10D3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D39A49-FF85-4FA1-A39A-0014B59A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9B44A7-BFD9-40BE-BB59-68B8C126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896D32-8F00-45A7-A550-86A887AC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11FC55-A12E-4ABC-8F38-DAF5FB6A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4C19F8-8169-4F2D-8BA4-C24F3113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42448D-E7F0-43C6-9540-394669BD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CFD84D-C704-4C61-BAAB-FF32CDA7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3F83F4-1127-4558-B3E1-DFD6D88B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999780-B98C-483B-95C1-9747A966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3E29A-B47C-440F-A05D-A7223172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0584C0-9864-4097-8C1E-C9DFF0BA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08DCDF-44D0-4F08-B06C-3D6B2755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7F77F4-2FF2-4877-A941-98505433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522120-F277-4591-8094-5BB7FD2D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42A1AE-EB5A-4482-BDA8-A496A010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34832D-8BE7-4BB8-B6F3-1556A753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C72A10-910D-499E-B1EE-63BAD116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14BC02-ECE3-4837-AFED-43A059EB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7B38F9-B793-4CB9-AEBF-D0B7C2D0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6F9F3C-2286-4994-A743-D69B5A39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781B2-29B9-4B2F-BB27-8904B095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4C761E-0C46-492F-BEA9-8CFB90A7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AD9814-188C-4C62-8D60-16022E89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AC9F95-0D81-49EF-B7C0-1549E310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C4B38D-36BB-4ACC-B988-530DC42D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CCC24E-A1E6-412E-BA89-014423AE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58A9B4-AEC7-40A3-B651-36E9B686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0FD3E2-8FD9-446D-98FA-E19BE560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11E196-0A58-497D-8EFF-8E3495DA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81D139-B73E-4F7C-B998-BAAA7839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0E3B34-59A2-469D-862F-F104636EF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978C0-3B86-4D70-A6F4-BF516876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BE36A0-ED45-4AB0-8011-41E7BFF2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D86691-A1BB-4B2D-BA8E-7BCE2938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F03EBF-635D-4A4F-9B8A-8738371F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6E91CC-AEED-4C14-BE92-D53E2EE5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33FD5B-A6E9-4A8C-BF30-8A35EEC4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01073D-5F29-46FB-B537-CFA3853F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198E06-5112-4F72-B15A-90628D5F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B73AFC-4F0F-4064-B3FE-6C5E2B4A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D4B591-730C-45F3-98CD-6A58762D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27AE48-5B2B-417F-9DF5-261A309C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E5A3A-49AF-497C-8953-66066B23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840BD0-6744-49B3-9774-225972FD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420AD6-8342-499A-837D-ECD1E88C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F61C25-0860-4409-9B2B-9746BBA4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0829-612A-499E-86E8-9A13B719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3FA90-5CC2-4548-AD98-D0746862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8EB0A-1F3B-4C5D-AE30-DD0DC04D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DB5C8-94AB-48A0-95BC-BF4217BB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70822-6088-4BEE-B8A8-D6B8585B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2F53E-3A44-448E-964F-993B4813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E5699-D4CB-4316-A45C-C1C1EA45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FF6C9-2235-448B-A8A2-32D02C26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525C5-FC30-4C7C-B76A-54C29FA0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87B90-C12D-4014-9242-F0E3DD4C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82052-A1F3-43F7-BC1C-7C57B93E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F06-1AD9-4D42-BCF5-CC889C99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E0912-9F1B-4C0A-A57C-46B56E5D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C5E1D-D757-476B-8EB4-F7F9E221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61EF6-4423-4DE0-8CBC-39D0AF41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3F426-D698-4981-82A2-F7990C8E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3A3A3-E71F-499C-BDCC-74511C76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831FA-342D-4F12-B250-E6F02EAC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FE990-4A2D-4644-8F8D-CE93D767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A20D3-6CDA-419C-A628-DA62F78F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137AC-5ECB-4038-83E7-10B653CC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A21B5-28BD-4CF8-BFA6-5212D85C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D88F-C81F-4E68-B838-2EFBEEC2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95A2D-C262-4D88-A07C-C310EB7C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577A4-92BB-4569-9E6F-C23022D8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B2720-D06C-46C4-A051-14EE9153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DAEB2-EF80-4EC5-A0E3-20E089C4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AB719-BF23-45C0-9604-06AFF60F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94BFE-4D0F-41A3-804A-16DBA095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3156A-D941-4551-BA87-CC97590E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807ED-0F53-4961-9C03-8E920414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82B0D-FC70-4727-ABB2-B03BB4C1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6D95A-53F2-47CD-9A56-5587A8E0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F107-A0A0-44DE-B866-5BF6E958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79A5C-2D35-416A-AC7A-CA51D7C8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4114E-AF18-479D-9DCC-6CD30578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6855A-9151-45DB-ACCB-A22986C4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A4C61-4A30-484A-96FE-951B0028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8A093-8897-484C-AAF8-0F4ECB92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1AD41-5372-4EBA-9D1D-743DC49E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8F62A-007C-4322-8A26-C76A0475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E88E4-0F3E-4881-A3ED-AC92412D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F25DE-E691-456D-BCA2-A1014643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68447-DC94-40AC-B7B1-85FA0174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655C-FA04-4CA1-A34F-ACCA0652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89673-EF46-4933-BFE3-4E769218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CFF22-D363-4DCD-9123-0C77AC4E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E7221-1E7E-454F-8797-354DA1CD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78F68-F051-4B50-A384-758A57CA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23072-ABFB-47E6-866A-651268A4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12FB2-6BE5-4BDF-9288-ADE5D68D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F240D-175C-4720-9F40-69B8AF47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8CF79-BEA3-4CC8-B352-F6E526F7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82EA5-B187-40BD-B54C-2DE80530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DF1A5-CFE8-4EB0-A12B-9CF5E78A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17C3-123C-4643-80EC-C01C22A2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76A80-5CCD-424D-909B-CC2589DA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737C8-73C4-48F9-ADBE-EC87E215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44D61-263E-4CD2-B217-4AC3E63F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B5249-4825-418C-8B84-7B8A2CFA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FAB0B-F35C-439A-B409-75770E4E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670FE-E09A-4244-99C8-A4E66F9C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B83E6-1270-474C-BCD7-C590EF5E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2E350-5D13-4A07-B0CC-B0C62464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8A07E-D84E-4253-B0DA-3E9D43C8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5E219-C394-4439-92ED-531BAC59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75E1-F246-42DA-BD14-49C7A4DB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C2F7E-D6A2-49C5-9DE0-26931047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5B95F-A0F8-43C9-B34D-B068968B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3F8B6-B97B-469E-A610-5C3EEE43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5CC4A-B6D7-4E0B-B79E-B9D6502B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FB9FB-0C0C-4749-AC75-96F0A440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AC0F2-0450-423E-937B-8FC78F1E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18C7E-060F-49CD-A1E8-B9DDDC30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1015E-EFF9-48A5-8CFB-E7356B03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0F8F6-9D57-4750-9B17-83BB167A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832AB-512E-4E18-AAE4-43AED6A8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C455-1D8C-4597-9DB6-737520BC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9B5BC-BF59-43E2-B919-FC723B71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BE8C1-E336-46CF-BD06-BC444C6B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4921B-1305-40A2-8A00-A9D135FD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093A3-1DE4-4012-BE36-C32D542D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7A730-7E3C-4CEB-B090-4AE6B1B0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BC220-B925-4BC6-8390-24DAAD2F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5922E-1DA3-4E89-9304-557796D3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C35A17-3427-4232-A1E9-D4D1771C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BDB222-1888-422A-9A9E-7D0E16C4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A4882A-ACE3-4EA9-9676-6490B094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B390-0D3D-4778-8F7A-C2B34FD7B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8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8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ftr" idx="2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CCA0-CB5F-450D-97F8-E2CEB4EDC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63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63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63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63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64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64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5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66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67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67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67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68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68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68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9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0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0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1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71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71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71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72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72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72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73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73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73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73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74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4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96F3-F962-4BD0-A8F4-B8F27C828C13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80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80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81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81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81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81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81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82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82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82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83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83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83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83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84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84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84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85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85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85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86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86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86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86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87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87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87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8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88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88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8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9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9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9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90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90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90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91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91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1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91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91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92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0302-C9CE-419B-86DC-57AA316BFD8D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8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A1B4-8AEE-4203-A7FA-A7CF096B1C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3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718C-61CF-497C-BA1C-B5B66E7B664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9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6377-303D-4BCC-BE6F-34A66F450D7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15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1D39-0769-4619-8354-8944A074952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61D8-5A3F-44B5-9853-3B8266BB6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21F3-8F72-496B-851C-D9082023E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8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4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B1C8-0879-460C-8E46-25F8FF681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93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06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F433-EFF1-4770-B2FB-464EF48712F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73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86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E0E6-BE72-46AA-AC5F-CD3E96F5554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D480-73D6-41A1-ABC7-065CC95C6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CA3A-E232-456B-B657-3E37BF3E4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1204-86EC-42A5-B94D-E7689E736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3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3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7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Государственное вечернее(сменное)общеобразовательное учреждение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«Республиканский центр образования». Ухтинский филиал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ектно- творческая раб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ема: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Тайны  предсказания пог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ыполнил: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Брызгалов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еник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8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лас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уководитель  - Плехова Н.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читель физ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.УХ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011-2012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"/>
          <p:cNvSpPr/>
          <p:nvPr/>
        </p:nvSpPr>
        <p:spPr>
          <a:xfrm>
            <a:off x="404640" y="504360"/>
            <a:ext cx="84711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Заключ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айны предсказания  пог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 например изменения влажности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мой простой, забавный прибор раскрывает  таким образо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ожидается дождь, чешуйки шишки начинают сжимать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 передвигают стрелку в направлении зон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если ожидается сухая погода, чешуйки раскрываю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 передвигают  стрелку на картинку с солнышк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Я убедился, что наблюдения  приводят человека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ворческому порыву, желанию сделать что-то интерес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воими рук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1332000" y="1845360"/>
            <a:ext cx="627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С П А С И Б 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/>
          <p:nvPr/>
        </p:nvSpPr>
        <p:spPr>
          <a:xfrm>
            <a:off x="401400" y="-592200"/>
            <a:ext cx="879156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веде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Цель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изготовить  самодельный прибор, предсказывающ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изменения   погод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Задач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убедиться   при помощи самостоятельно выполнен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бора в справедливости слов « Погода – сам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еличественный спектакль на Земле, в котором участву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олько три актёра: воздух, солнечная радиация и ВЛАГА 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выработать навык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формления проектной работ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Garamond"/>
              </a:rPr>
              <a:t>Основное содержание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ЭТО ИНТЕРЕСН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1.Раньше в деревнях для предсказания погоды использовал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хорошо промытую овечью шерст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сухую погоду уравновешивали на палке как на рычажных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есах пучок шерст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еред дождем, когда воздух становился влажным, шерсть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тсыревала и выводила весы из равновес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.Мелкие сухие веточки на стволе елки в сухом воздух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пускаются, а во влажном- поднимаютс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.Чешуйки сосновой шишки при сухой погоде распрямляются-шишка-«опухшая»,  во влажную- «похудевшая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Основное содержа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Оборудование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основая шишка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онкая веточк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или спичка)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ластиковая бутылка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ластилин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ожницы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фломастеры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лей ПВ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3" name="" descr=""/>
          <p:cNvPicPr/>
          <p:nvPr/>
        </p:nvPicPr>
        <p:blipFill>
          <a:blip r:embed="rId10"/>
          <a:stretch/>
        </p:blipFill>
        <p:spPr>
          <a:xfrm>
            <a:off x="3995640" y="1916280"/>
            <a:ext cx="491976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Мои действия: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зрезаем пластиковую бутылку пополам. Для дальнейшей работы нам понадобится только нижняя ча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6" name="" descr=""/>
          <p:cNvPicPr/>
          <p:nvPr/>
        </p:nvPicPr>
        <p:blipFill>
          <a:blip r:embed="rId1"/>
          <a:stretch/>
        </p:blipFill>
        <p:spPr>
          <a:xfrm>
            <a:off x="4211640" y="1844640"/>
            <a:ext cx="464976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"/>
          <p:cNvSpPr/>
          <p:nvPr/>
        </p:nvSpPr>
        <p:spPr>
          <a:xfrm>
            <a:off x="168120" y="373680"/>
            <a:ext cx="835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. Из этой части бутылки делаем подставку для прибора высотой 4 с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а для шкалы оставляем часть стенки высотой 10 см и шириной 4 с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8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2374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958680" y="646560"/>
            <a:ext cx="796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. На листочке бумаги рисуем шкалу: в нижней части – солнышк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 верхней – зонтик. Приклеиваем эту картинку к стенк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одставки при помощи прозрачного скотч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0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6186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/>
          <p:nvPr/>
        </p:nvSpPr>
        <p:spPr>
          <a:xfrm>
            <a:off x="1050480" y="673200"/>
            <a:ext cx="725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К одной из нижних чешуек шишки приклеива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онкую веточку – это будет стрелка приб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977760" y="1661400"/>
            <a:ext cx="798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 Укрепляем шишку со “стрелкой” в центре подстав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 помощи кусочка пластил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ибор готов! Поставим его на балконе или во дворе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аблюда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3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9:41:01Z</dcterms:created>
  <dc:creator>Ivan</dc:creator>
  <dc:description/>
  <dc:language>en-US</dc:language>
  <cp:lastModifiedBy>Ivan</cp:lastModifiedBy>
  <dcterms:modified xsi:type="dcterms:W3CDTF">2012-03-12T16:30:43Z</dcterms:modified>
  <cp:revision>5</cp:revision>
  <dc:subject/>
  <dc:title> Государственное вечернее(сменное)общеобразовательное учреждение «Республиканский центр образования». Ухтинский филиал.  Проектно- творческая работа</dc:title>
</cp:coreProperties>
</file>