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694-CD46-42B6-BE49-11FACDD9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BF3-A999-47B3-BD64-5971B40F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811E1-1047-4050-9225-CB4883F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CC0B1A-3C73-4776-9E57-93BE6BCE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031665-90B9-469A-9BFD-3F028641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5FF7D-BA77-4E53-BF88-336250F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B46DE-3687-44D2-B83D-AD5C9E14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08273-E88F-4C02-B537-1FE1A76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A8FEE-39E3-40A0-AADC-BA93045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FFA5F-78E6-4499-852D-B33E1987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3AE823-6DC5-4C9A-871D-3A851AC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C0684-5FBC-48B6-95AD-B5EA4005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245-2EFE-4BE5-BF26-FB302F4B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5C5AC-FAB7-4E55-A50D-EBC87D9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E44F5-2D62-4410-AC7F-4E25F17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66B31-C7BC-488D-A5C3-9D3D79E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BCC5E-8892-4AD6-BF63-ACAC420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C2554-9A36-40F5-AF7B-36C1034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D9367-531B-40A9-8686-0999BB1F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55F00-DB33-427E-86C3-56C26B7E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24108-054B-4CD5-B2E6-541E702D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F0943-919B-4C84-A203-D14615E9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41CC1-6C60-4D56-A76D-D4D9FABC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B1E-6944-478D-AD73-8F80E3F1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B096-69FE-48C2-831A-73270F5D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87AB2-5702-44C5-8DD5-8D24A734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03BBC-9F35-4808-B402-A2F935F0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FE536-7D12-4BAE-B5CB-B1F84D1F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D105A-C22A-4BD6-A5C0-660DEEF5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AA237-5A33-447F-AFD1-0B118A8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435E-E389-4506-9B07-B7B3621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F060-7F9B-48FC-A06E-49C0F068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2CA01-FBEB-47C0-869E-E352C3B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DD07A-7BB4-4EED-A732-AE318BE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6107F-55A4-4E66-B212-C8130D71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2FF44-E7E3-4191-9C7C-F78E9C1F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8D789-E6DE-49E0-BB6B-9AE27CC9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E5A07-4B42-43E8-9B34-D68FC773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7FE8F-53F6-41B9-98A5-080E973B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FF29E-3BD2-4E91-A4F5-DE8551C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77328-1F72-410F-88FA-4E8C6E31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DE46E-B2BB-4328-8CB8-097752D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FECF-914D-43B6-8617-9A65D6E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4F78F-9C92-4DEC-B8AA-535B52B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DF912-A01F-43A3-9F67-7D77F7C4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79DBB-043B-42DC-8CA9-AB478758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BAB69-D91D-4ED2-9067-6B5CDA3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95D33-73C8-46C3-823E-8919A77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51D42-B1A7-42A0-8B6B-AFC2BA5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1EC18-E225-46B9-AE69-E64EECFC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D0A74-6C36-4B6B-BDAA-75939314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5E791-67E7-434D-99AF-1DA92928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45CF2-AF43-47E7-873E-46CCADFF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A8CD6-2D81-46F5-89A1-1B3D134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FCA78-F158-4D28-BF1C-89DBB405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36C53-077D-4B76-A98A-6ADE0309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4E44-8ECE-4B4C-8ECF-06AF71B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66A08-4C43-48D5-BF19-69794019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F6F6F-BE05-4A08-BC55-B575C1D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AD956-3E04-487F-BFEB-E6F730D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6E0BE-1A81-400B-AE66-BC8BA9B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6BA56-1FFF-4513-9B9B-46CDDFF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D8292-3F90-4CDF-873E-852B33DD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AEE10-B703-4D8C-BD97-CC87DA23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230B2-7CFE-4C2E-88F2-D5D25B34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F8FAF-ACF7-475F-9F9F-4A53F012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19382-5AC9-4DCC-BB66-D83F2E7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0CBB-1002-485C-9B54-374C254D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5745B-1F22-4F73-8DD4-287F7D7B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D504D-1D9B-49E5-BEE3-47687FF8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1AE76-FBBD-4590-A2A5-972B6E4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11106-8525-451A-8E7B-52F6276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D6784-EA8B-4918-85E5-B6494FA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137EE-CFC4-4F6F-B4C4-04EA8330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BBE41-5BB1-4CD3-9FDF-D68E38EC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13B1B-6BA6-4824-AB92-2D152929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DB03D-0CC8-4E34-815A-A5825712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E083C-2E51-4EFB-9487-D204E2E7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95B9-0EAD-467E-9ACA-AD259C5B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9E23F-D345-4F07-A8B7-1267DEC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63587-0777-4C16-A888-94833828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4BCE8-0253-47A9-876E-880C4779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E9274-4F6D-4FE1-890F-0D539E37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59130-E480-4FDB-A418-B870BA2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55B43-E714-4C9A-9A43-053DC85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FA76B-5A73-4C78-881A-2DA9E50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FC1D0-BEC4-4996-ABFB-B408E1A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21917-55BC-480B-B03B-D45673B5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06024-8CB1-4373-AF51-065C4291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1AE52-6154-4226-8F60-53F86ABF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A1167-A128-40E0-88A7-92CD47D7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5FD5E-2BEB-4006-9BE6-A0670289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79B9D6-F1E4-421C-8027-F87E663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1118A-48BE-45EB-9655-570E4DA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AA996-C928-4F55-930C-97AED92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D6E27-67CC-42CB-B323-0E5ADD5A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F8BB0-7509-4E00-84CD-9D150AC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6B55D-2494-43C6-B626-B0BD2C6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79B4F-7605-4905-9D46-E2FFE24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6F5A8-77AE-43EC-AC03-E0F5009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700CA-79F1-4672-B8A2-B66C9C1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5DCA0-6401-43E5-97EF-164D1A6F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E625E-04F2-4842-9AD1-1582E531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96D2A-7DFA-40A4-A75A-45FFBAFC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476-C15D-40E6-9355-9F77536E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2A97-5CAD-4D6F-B76D-A13C0EC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CBEF6-F9C6-4495-A5B9-0BA8CFD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7F3B0-FF0C-4904-BDAD-1F3E45D9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28A15-BE91-43F6-9156-7E6729DB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E3FE-5449-4977-ACE7-5C0E8EA2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7B18-7B40-4B73-91A7-5F89AFA1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EEC1-6291-4625-8DE4-8B965373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07E7-49B5-4270-AE22-38D040F3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6745-D60F-4A7E-A8F9-CF58EC7C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6C50-403B-42C7-A139-E6E4D6E8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721-B7B1-4FFE-B807-86FF284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8410-1310-4404-BC3B-09E991E4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A9D6-3DFA-425D-8040-F155AEA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C1D2-1BA1-4121-A19E-F0A6573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2D43-1F0F-4E0A-8E14-47D3434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EC80-FAF7-41B4-A712-C5D6F6E0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EACA-0AAD-4B2D-AFAE-83FD2072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0A3F-9BB5-4803-AE09-DA9F3C68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C031-DD04-4894-AD3D-C230FE98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DF73-CF9E-4332-A75C-177258F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2583-0FD7-4581-BA17-1D144403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A11-D3A5-4BB9-A810-BFB15D65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59EE-9F4C-40E3-B9B4-E1AD7EF7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7F34-BC2F-4BB3-A6E6-1F397BFE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0537-2511-452F-B1CB-663490F7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15C8-F30B-4007-99CA-D58F5AFA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3E22-D66C-4EB1-A39D-518FA70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4B37-4B53-4357-98F4-3D3905E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53E4-3A39-4CEE-88CC-AB564DD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1824-D6D0-49EE-ACAC-00F2523F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8924-4904-4813-A03C-8F9C8115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2DC5-7505-4AB3-927B-2644282C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F62-BFE4-40BA-8266-21D2C116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8513-1A46-4C3E-9ACD-B32D944E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5F47-F488-4E51-A137-C98286C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2D5F-A0C5-4207-80AB-53E1EF6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714A-4631-4A79-B4F4-85E6E49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577A8-F11E-436E-86E1-C6F9857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5FF43-7F03-4413-BE3C-688CECF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D54A-9E86-400C-A7EC-E262C65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CE6A-6D05-426C-9318-CCF2D1D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A4FD-6224-4308-8FDF-32257968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9A4D4-D701-4CB0-9D9E-A114FB33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67A-CC73-41B1-A70C-7613F268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57420-6A98-4728-BE50-494FC511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9FD8-4316-47E0-9231-5539A7A4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1B9E6-9F28-4BEB-9A86-F43CB4E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956F0-3194-4B70-8191-A3DD6B01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BED8-0883-40CA-BC39-53EB1EC0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9DBA4-B3CE-4B80-B1F1-09C4985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D9FD-A162-481B-8889-D11DEFDA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454F-07BB-4BE6-8281-59A3909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A6E8-6AC9-4840-8F8B-3B9C34B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AB43-54F2-4CED-998E-407DBA6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47C-F8FB-4DE2-98BB-D55EEC1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777D-7470-4C92-8B49-8272C0D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B383-AB50-4BCF-9D95-50D751D4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1747-D3FC-4462-B0E9-9248C800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7336-08BB-42F9-96A7-47B89F73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89E4C-52E2-4365-895C-39C138B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3C05-D66C-4F5C-8F59-1BC83423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53FC-A124-47C0-B3E2-5466975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47C7-65D1-4CF4-84E8-E8E7B7BE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CCA44-4E2C-443E-BA7C-1001755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07B6-6E16-422F-BCA2-71A090D4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D47-7C95-4088-A301-BD92609C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D69B2-A2D5-4E1E-9CEA-5E6C3C8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413B-B14A-41E8-9338-F066F27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E0E3-1130-4264-A75A-C374FB57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A4B8-C151-46A3-B46E-7B8B718D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83FE-CEBB-4634-883B-F95B59EB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6780E-C533-41FD-A578-6F1DE61B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D03A1-D9D2-4823-9B35-5685575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B9569-3672-4EEB-80D4-33F5AFF9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CFD2B-7770-4A9B-8E4E-B81A4FF2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E2DF-D636-4E64-9A6B-D220A72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568-FCED-4FBF-96C6-969781A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3CC0-5706-41E0-9C8C-5FBF6756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08193-89E3-4BD8-BB01-D016EC2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15D47-6A06-46DC-9DA4-EF5AE38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5C86-BA38-4856-AFC1-303CEC1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57D04-BE49-4934-8309-2E389E4D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1A511-BAFF-4525-90B9-D5C9DD56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E302-4194-4B02-9005-F1E8D600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F10CB-1EAA-4C02-8F5F-6EFDE259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887AF-AB62-44CE-8494-0ADBAAE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3DFFF-7ABD-4A3D-BC94-1A19D413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ADD-B5CA-4979-A1C2-85F7993E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313D-8939-4D8E-9B50-907AFDF1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3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3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3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3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60D1-CC46-4E1D-BD7B-15708847C10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0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0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4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7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7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8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9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9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0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1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1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1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E9BC-034B-470F-AFF8-5F6DD74515B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8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0D0-C865-4B48-8734-A04EF6E1EF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3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BFE-FE5E-4318-96B4-38D4AC0368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3332-9401-406A-A952-336ABCF904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5154-09B3-496B-BADE-01BC9E2142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567A-C25B-4386-B569-51257B38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069-5EDA-4CAA-B868-AD408CF7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7100-5574-42FD-B04B-3C921304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480-B2D2-41DC-B652-F1FBFFC19E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FFB0-3B3F-4615-BD6E-0B6FFE6808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B17D-2C3A-475D-820D-A4D9C4A8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F2C7-D6AC-4F79-9DD4-75108D13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91C-F092-4A8A-86B6-1B833A95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осударственное вечернее(сменное)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Республиканский центр образования». Ухтинский филиа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но- твор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Тайны  предсказания по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Брызгалов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ни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8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уководитель  - Плехова Н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.УХ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11-2012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404640" y="504360"/>
            <a:ext cx="8471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ключ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йны предсказания  по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например изменения влажности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й простой, забавный прибор раскрывает  таким образ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ожидается дождь, чешуйки шишки начинают сжима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передвигают стрелку в направлении зон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если ожидается сухая погода, чешуйки раскр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передвигают  стрелку на картинку с солныш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Я убедился, что наблюдения  приводят человека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ворческому порыву, желанию сделать что-то интерес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воими ру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332000" y="184536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 П А С И Б 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401400" y="-592200"/>
            <a:ext cx="87915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вед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Цель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изготовить  самодельный прибор, предсказывающ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ения   пог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убедиться   при помощи самостоятельно выполн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бора в справедливости слов « Погода – са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личественный спектакль на Земле, в котором участв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три актёра: воздух, солнечная радиация и ВЛАГА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выработать навык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ормления проектной рабо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Основное содержание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 ИНТЕРЕС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Раньше в деревнях для предсказания погоды использовал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орошо промытую овечью шер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сухую погоду уравновешивали на палке как на рычажны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есах пучок шер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д дождем, когда воздух становился влажным, шерсть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сыревала и выводила весы из равновес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Мелкие сухие веточки на стволе елки в сухом воздух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пускаются, а во влажном- поднимают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.Чешуйки сосновой шишки при сухой погоде распрямляются-шишка-«опухшая»,  во влажную- «похудевшая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сновное содерж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орудова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новая шишк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нкая веточ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или спичка)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астиковая бутылк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астилин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жниц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ломастер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лей П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0"/>
          <a:stretch/>
        </p:blipFill>
        <p:spPr>
          <a:xfrm>
            <a:off x="3995640" y="1916280"/>
            <a:ext cx="4919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Мои действия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резаем пластиковую бутылку пополам. Для дальнейшей работы нам понадобится только нижняя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4211640" y="1844640"/>
            <a:ext cx="46497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168120" y="373680"/>
            <a:ext cx="835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Из этой части бутылки делаем подставку для прибора высотой 4 с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 для шкалы оставляем часть стенки высотой 10 см и шириной 4 с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237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958680" y="646560"/>
            <a:ext cx="79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 На листочке бумаги рисуем шкалу: в нижней части – солныш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верхней – зонтик. Приклеиваем эту картинку к стен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дставки при помощи прозрачного скот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18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1050480" y="673200"/>
            <a:ext cx="72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 одной из нижних чешуек шишки приклеив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нкую веточку – это будет стрелка приб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977760" y="1661400"/>
            <a:ext cx="79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Укрепляем шишку со “стрелкой” в центре подста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 помощи кусочка пластил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бор готов! Поставим его на балконе или во двор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блюд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9:41:01Z</dcterms:created>
  <dc:creator>Ivan</dc:creator>
  <dc:description/>
  <dc:language>en-US</dc:language>
  <cp:lastModifiedBy>Ivan</cp:lastModifiedBy>
  <dcterms:modified xsi:type="dcterms:W3CDTF">2012-03-12T16:30:43Z</dcterms:modified>
  <cp:revision>5</cp:revision>
  <dc:subject/>
  <dc:title> Государственное вечернее(сменное)общеобразовательное учреждение «Республиканский центр образования». Ухтинский филиал.  Проектно- творческая работа</dc:title>
</cp:coreProperties>
</file>