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gif" ContentType="image/gif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2BDF-17BE-4988-814F-65683AF0D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4DF4-9AD7-4C59-B57A-639E84F40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1AF0-22F5-4C66-AA8B-E94E39951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F23B-A0D2-47D8-A6E6-B752E847B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76C2E-3EAD-419B-AB5A-D1356F691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5C475-5562-4242-BFAC-AB8CADF95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74943-51AC-4CE5-8828-3CA6BF0AF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70F36-38C2-4516-B4D8-2C21F95C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B6B1E-F22F-4B9C-BA39-759BD204E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B037D-C8C5-4F94-95AE-96DD05B73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84FDD-67DF-47F8-9553-D6F3B730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B397-4BBD-4B9E-9843-21DBB776F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320CE-F501-40A5-A2D7-1BB48770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E9364-D89B-4711-9E6C-1CA88425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6F340-1BD1-4013-99D6-9E7D0DE9C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D386B-8E04-4AE5-BC09-CDD03F3C3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FF38A-D078-45D5-B78F-54724BA67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6F50-744F-439A-BF8E-FD85959D1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6C88-0B60-4657-B5AD-3A4AD6BEB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B5D7-D66D-468B-9D8A-F756A17A0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81BC-B648-47CB-8CAF-B557D5055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FB28-4A73-49E2-B99F-8C723EF8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6E97-F4AF-433D-889B-57ECC575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E2D8-89B1-4785-9B8C-32963D28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B01D3-231E-47B7-88DF-4B21951EC98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0D440-6675-4FB4-94A7-DD2DF335ED76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CIMG0771.MOV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341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20000"/>
                </a:solidFill>
                <a:latin typeface="Times New Roman"/>
              </a:rPr>
              <a:t>Труд в системе </a:t>
            </a:r>
            <a:br>
              <a:rPr sz="5400"/>
            </a:br>
            <a:r>
              <a:rPr b="1" lang="ru-RU" sz="5400" spc="-1" strike="noStrike">
                <a:solidFill>
                  <a:srgbClr val="420000"/>
                </a:solidFill>
                <a:latin typeface="Times New Roman"/>
              </a:rPr>
              <a:t>правовых отношений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787640" y="3935160"/>
            <a:ext cx="3670200" cy="16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ок обществознани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9 класс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: Осипова Елена Александровн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6" descr="0427-42b"/>
          <p:cNvPicPr/>
          <p:nvPr/>
        </p:nvPicPr>
        <p:blipFill>
          <a:blip r:embed="rId1"/>
          <a:stretch/>
        </p:blipFill>
        <p:spPr>
          <a:xfrm>
            <a:off x="684360" y="3284640"/>
            <a:ext cx="3456000" cy="32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20000"/>
                </a:solidFill>
                <a:latin typeface="Times New Roman"/>
              </a:rPr>
              <a:t>  </a:t>
            </a:r>
            <a:r>
              <a:rPr b="1" lang="ru-RU" sz="4400" spc="-1" strike="noStrike">
                <a:solidFill>
                  <a:srgbClr val="420000"/>
                </a:solidFill>
                <a:latin typeface="Times New Roman"/>
              </a:rPr>
              <a:t>Трудоустройство 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828800"/>
            <a:ext cx="89647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спор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удовая книж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раховое свидетельство государственного пенсионного страхования, ИН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енный билет (для военнообязанных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дицинская справ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кумент о специальном образован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996633"/>
                </a:solidFill>
                <a:uFillTx/>
                <a:latin typeface="Times New Roman"/>
                <a:hlinkClick r:id="rId1"/>
              </a:rPr>
              <a:t>Трудоустройство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32" name="Picture 8" descr="b1bcede280e402cf61c3f3406fb96eef_600"/>
          <p:cNvPicPr/>
          <p:nvPr/>
        </p:nvPicPr>
        <p:blipFill>
          <a:blip r:embed="rId2"/>
          <a:stretch/>
        </p:blipFill>
        <p:spPr>
          <a:xfrm>
            <a:off x="2916360" y="1773360"/>
            <a:ext cx="4968720" cy="3365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ajbolit"/>
          <p:cNvPicPr/>
          <p:nvPr/>
        </p:nvPicPr>
        <p:blipFill>
          <a:blip r:embed="rId3"/>
          <a:stretch/>
        </p:blipFill>
        <p:spPr>
          <a:xfrm>
            <a:off x="712800" y="3573360"/>
            <a:ext cx="1847880" cy="2519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2" descr="условие расторж"/>
          <p:cNvPicPr/>
          <p:nvPr/>
        </p:nvPicPr>
        <p:blipFill>
          <a:blip r:embed="rId4"/>
          <a:stretch/>
        </p:blipFill>
        <p:spPr>
          <a:xfrm>
            <a:off x="5724360" y="4365720"/>
            <a:ext cx="3300480" cy="23288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468360" y="4076640"/>
            <a:ext cx="4038480" cy="20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37" name="Picture 4" descr="trudovoy-dogovor"/>
          <p:cNvPicPr/>
          <p:nvPr/>
        </p:nvPicPr>
        <p:blipFill>
          <a:blip r:embed="rId1"/>
          <a:stretch/>
        </p:blipFill>
        <p:spPr>
          <a:xfrm>
            <a:off x="250920" y="549360"/>
            <a:ext cx="8642160" cy="61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8893080" cy="71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0000"/>
                </a:solidFill>
                <a:latin typeface="Times New Roman"/>
              </a:rPr>
              <a:t>Трудовые отношения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39" name="Picture 5" descr="труд2"/>
          <p:cNvPicPr/>
          <p:nvPr/>
        </p:nvPicPr>
        <p:blipFill>
          <a:blip r:embed="rId1"/>
          <a:stretch/>
        </p:blipFill>
        <p:spPr>
          <a:xfrm>
            <a:off x="179280" y="1341360"/>
            <a:ext cx="2521080" cy="1908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AG00038_"/>
          <p:cNvPicPr/>
          <p:nvPr/>
        </p:nvPicPr>
        <p:blipFill>
          <a:blip r:embed="rId2"/>
          <a:stretch/>
        </p:blipFill>
        <p:spPr>
          <a:xfrm>
            <a:off x="179280" y="3429000"/>
            <a:ext cx="1590840" cy="914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3768017_56d0d04f"/>
          <p:cNvPicPr/>
          <p:nvPr/>
        </p:nvPicPr>
        <p:blipFill>
          <a:blip r:embed="rId3"/>
          <a:stretch/>
        </p:blipFill>
        <p:spPr>
          <a:xfrm>
            <a:off x="6948360" y="4869000"/>
            <a:ext cx="2089440" cy="1863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swb_96390"/>
          <p:cNvPicPr/>
          <p:nvPr/>
        </p:nvPicPr>
        <p:blipFill>
          <a:blip r:embed="rId4"/>
          <a:stretch/>
        </p:blipFill>
        <p:spPr>
          <a:xfrm>
            <a:off x="7236000" y="1268280"/>
            <a:ext cx="1697040" cy="2435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" descr="MONTAG161"/>
          <p:cNvPicPr/>
          <p:nvPr/>
        </p:nvPicPr>
        <p:blipFill>
          <a:blip r:embed="rId5"/>
          <a:stretch/>
        </p:blipFill>
        <p:spPr>
          <a:xfrm>
            <a:off x="179280" y="4869000"/>
            <a:ext cx="2268720" cy="1701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2" descr="a8cf9ad2264e"/>
          <p:cNvPicPr/>
          <p:nvPr/>
        </p:nvPicPr>
        <p:blipFill>
          <a:blip r:embed="rId6"/>
          <a:stretch/>
        </p:blipFill>
        <p:spPr>
          <a:xfrm>
            <a:off x="3203640" y="1413000"/>
            <a:ext cx="3529080" cy="495612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73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0000"/>
                </a:solidFill>
                <a:latin typeface="Times New Roman"/>
              </a:rPr>
              <a:t>Проверь себя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8964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6-летний Иван был уволен работодателем раньше окончания трудового договора, т.к. приехал приятель начальника из Костромы, которому необходима была рабо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4" descr="408522"/>
          <p:cNvPicPr/>
          <p:nvPr/>
        </p:nvPicPr>
        <p:blipFill>
          <a:blip r:embed="rId1"/>
          <a:stretch/>
        </p:blipFill>
        <p:spPr>
          <a:xfrm>
            <a:off x="7170840" y="4076640"/>
            <a:ext cx="172080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20000"/>
                </a:solidFill>
                <a:latin typeface="Times New Roman"/>
              </a:rPr>
              <a:t>Проверь себя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работу устраивается подросток 14 лет. Работодатель и он договариваются, что это будет высокооплачиваемый труд по подъёму тяжестей продолжительностью с 15 до 24 час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4" descr="408522"/>
          <p:cNvPicPr/>
          <p:nvPr/>
        </p:nvPicPr>
        <p:blipFill>
          <a:blip r:embed="rId1"/>
          <a:stretch/>
        </p:blipFill>
        <p:spPr>
          <a:xfrm>
            <a:off x="7093080" y="4437000"/>
            <a:ext cx="1523880" cy="22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20000"/>
                </a:solidFill>
                <a:latin typeface="Times New Roman"/>
              </a:rPr>
              <a:t>Проверь себя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приёме на работу работодатель требует характеристику с последнего места работы или учёбы, заставляет подписывать контракт об обязательных сверхурочных работа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4" descr="408522"/>
          <p:cNvPicPr/>
          <p:nvPr/>
        </p:nvPicPr>
        <p:blipFill>
          <a:blip r:embed="rId1"/>
          <a:stretch/>
        </p:blipFill>
        <p:spPr>
          <a:xfrm>
            <a:off x="6804000" y="4292640"/>
            <a:ext cx="1620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20000"/>
                </a:solidFill>
                <a:latin typeface="Times New Roman"/>
              </a:rPr>
              <a:t>Проверь себя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приёме на работу 17 – летнему Дмитрию предлагает пройти испытательный срок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17" descr="408522"/>
          <p:cNvPicPr/>
          <p:nvPr/>
        </p:nvPicPr>
        <p:blipFill>
          <a:blip r:embed="rId1"/>
          <a:stretch/>
        </p:blipFill>
        <p:spPr>
          <a:xfrm>
            <a:off x="7380360" y="4365720"/>
            <a:ext cx="1601640" cy="234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0560" y="692280"/>
            <a:ext cx="85662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При подготовке</a:t>
            </a:r>
            <a:r>
              <a:rPr b="1" lang="ru-RU" sz="28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к уроку использованы: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.И. Кравченко Обществознание: Учебник для 9 класса. – М: «Русское слово – РС», 200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.А. Певцова.  Обществознание. Книга для учителя. Методическое пособие к учебнику А.И. Кравченко «Обществознание 8 – 9 кл.» М.: ТИД «Русское слово – РС», 200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ществознание. 9 класс: поурочные планы по учебнику А.И. Кравченко, Е.А. Певцовой/ авт.-сост. Н.С. Кочетов- Волгоград: Учитель, 2009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Ю.А. Кожин. Права и ответственность ребёнка. Элективный курс: Учебное пособие для 10 – 11 классов общеобразовательных учреждений. – 2-е изд. – М.: ООО ТИД «Русское слово – РС», 2009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крытые Интернет- ресурс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идеоролик 3 канала Программы «Главная тема» (журналист Владимир Соловьёв) (видео 478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y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anal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Как заработать подростку летом»)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www.youtube.com 8.06.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6265800" cy="1368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20000"/>
                </a:solidFill>
                <a:latin typeface="Times New Roman"/>
              </a:rPr>
              <a:t>Признаки прав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авило, записанное в закон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нимается государственными органа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 его нарушение наступает юридическая ответственност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егулирует поступки люд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динаково для всех, но не вечн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4" descr="L15_p2_3"/>
          <p:cNvPicPr/>
          <p:nvPr/>
        </p:nvPicPr>
        <p:blipFill>
          <a:blip r:embed="rId1"/>
          <a:stretch/>
        </p:blipFill>
        <p:spPr>
          <a:xfrm>
            <a:off x="7524720" y="4581360"/>
            <a:ext cx="1422360" cy="2133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L13_p2_1"/>
          <p:cNvPicPr/>
          <p:nvPr/>
        </p:nvPicPr>
        <p:blipFill>
          <a:blip r:embed="rId2"/>
          <a:stretch/>
        </p:blipFill>
        <p:spPr>
          <a:xfrm>
            <a:off x="7164360" y="0"/>
            <a:ext cx="189540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44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0000"/>
                </a:solidFill>
                <a:latin typeface="Times New Roman"/>
              </a:rPr>
              <a:t>Вставьте пропущенные термины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8605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) Отношения между органами власти и гражданами регулирует __?_прав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) Порядок взаимоотношений работников и работодателей устанавливает ___?__прав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) Преступность поступков человека и меру наказания за их совершение устанавливает ___?__прав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) Отношения между мужчиной и женщиной при вступлении в брак, разводе и в процессе семейной жизни регулирует __?__прав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) Порядок наследования, владения и распоряжения собственностью, защиты чести и достоинства, заключения сделок и т. д. определяет __?_прав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169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560" y="549000"/>
            <a:ext cx="8785080" cy="60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) Отношения между органами власти и гражданами регулирует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административно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прав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) Порядок взаимоотношений работников и работодателей устанавливает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трудово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прав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) Преступность поступков человека и меру наказания за их совершение устанавливает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уголовно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ав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) Отношения между мужчиной и женщиной при вступлении в брак, разводе и в процессе семейной жизни регулирует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емейно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прав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) Порядок наследования, владения и распоряжения собственностью, защиты чести и достоинства, заключения сделок и т. д. определяет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гражданско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прав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6472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0000"/>
                </a:solidFill>
                <a:latin typeface="Times New Roman"/>
              </a:rPr>
              <a:t>Трудовые отношения в документах</a:t>
            </a:r>
            <a:r>
              <a:rPr b="1" lang="ru-RU" sz="40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84963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ституция Р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удовой кодекс Р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едеральные указы Президента, Правитель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ждународные документы (Всеобщая декларация прав человек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4" descr="2332340"/>
          <p:cNvPicPr/>
          <p:nvPr/>
        </p:nvPicPr>
        <p:blipFill>
          <a:blip r:embed="rId1"/>
          <a:stretch/>
        </p:blipFill>
        <p:spPr>
          <a:xfrm>
            <a:off x="7093080" y="1557360"/>
            <a:ext cx="1782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425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20000"/>
                </a:solidFill>
                <a:latin typeface="Times New Roman"/>
              </a:rPr>
              <a:t>Безработный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179280" y="1916280"/>
            <a:ext cx="3024360" cy="9144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имеет рабо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2556000" y="2997360"/>
            <a:ext cx="3024000" cy="9144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очет найти работ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4140360" y="4149720"/>
            <a:ext cx="3024000" cy="9144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щет работ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5940360" y="5373720"/>
            <a:ext cx="3025800" cy="9144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12" descr="4"/>
          <p:cNvPicPr/>
          <p:nvPr/>
        </p:nvPicPr>
        <p:blipFill>
          <a:blip r:embed="rId1"/>
          <a:stretch/>
        </p:blipFill>
        <p:spPr>
          <a:xfrm>
            <a:off x="179280" y="4581360"/>
            <a:ext cx="2916360" cy="21574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3" descr="труд"/>
          <p:cNvPicPr/>
          <p:nvPr/>
        </p:nvPicPr>
        <p:blipFill>
          <a:blip r:embed="rId2"/>
          <a:stretch/>
        </p:blipFill>
        <p:spPr>
          <a:xfrm>
            <a:off x="6156360" y="765000"/>
            <a:ext cx="2819520" cy="207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425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20000"/>
                </a:solidFill>
                <a:latin typeface="Times New Roman"/>
              </a:rPr>
              <a:t>Безработный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179280" y="1916280"/>
            <a:ext cx="3024360" cy="9144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имеет рабо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2556000" y="2997360"/>
            <a:ext cx="3024000" cy="9144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очет найти работ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4140360" y="4149720"/>
            <a:ext cx="3024000" cy="9144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щет работ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5940360" y="5373720"/>
            <a:ext cx="3025800" cy="9144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регистрирова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бирж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7" descr="4"/>
          <p:cNvPicPr/>
          <p:nvPr/>
        </p:nvPicPr>
        <p:blipFill>
          <a:blip r:embed="rId1"/>
          <a:stretch/>
        </p:blipFill>
        <p:spPr>
          <a:xfrm>
            <a:off x="179280" y="4581360"/>
            <a:ext cx="2916360" cy="21574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труд"/>
          <p:cNvPicPr/>
          <p:nvPr/>
        </p:nvPicPr>
        <p:blipFill>
          <a:blip r:embed="rId2"/>
          <a:stretch/>
        </p:blipFill>
        <p:spPr>
          <a:xfrm>
            <a:off x="6156360" y="765000"/>
            <a:ext cx="2819520" cy="207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25" name="Picture 4" descr="36"/>
          <p:cNvPicPr/>
          <p:nvPr/>
        </p:nvPicPr>
        <p:blipFill>
          <a:blip r:embed="rId1"/>
          <a:stretch/>
        </p:blipFill>
        <p:spPr>
          <a:xfrm>
            <a:off x="3059280" y="2276640"/>
            <a:ext cx="5688000" cy="4357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1263321918_91004110f01e"/>
          <p:cNvPicPr/>
          <p:nvPr/>
        </p:nvPicPr>
        <p:blipFill>
          <a:blip r:embed="rId2"/>
          <a:stretch/>
        </p:blipFill>
        <p:spPr>
          <a:xfrm>
            <a:off x="324000" y="692280"/>
            <a:ext cx="2151000" cy="3384360"/>
          </a:xfrm>
          <a:prstGeom prst="rect">
            <a:avLst/>
          </a:prstGeom>
          <a:ln w="5724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420000"/>
                </a:solidFill>
                <a:latin typeface="Times New Roman"/>
              </a:rPr>
              <a:t>?</a:t>
            </a:r>
            <a:r>
              <a:rPr b="1" lang="ru-RU" sz="4000" spc="-1" strike="noStrike">
                <a:solidFill>
                  <a:srgbClr val="420000"/>
                </a:solidFill>
                <a:latin typeface="Times New Roman"/>
              </a:rPr>
              <a:t>  Трудоустройство  </a:t>
            </a:r>
            <a:r>
              <a:rPr b="1" lang="ru-RU" sz="8000" spc="-1" strike="noStrike">
                <a:solidFill>
                  <a:srgbClr val="420000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9280" y="1828800"/>
            <a:ext cx="89647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спор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равка о доходах семь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удовая книж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раховое свидетельство государственного пенсионного страхования, ИН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равка из мили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енный билет (для военнообязанных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арактеристика с последнего места рабо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дицинская справ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кумент о специальном образован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0T13:03:47Z</dcterms:created>
  <dc:creator>user</dc:creator>
  <dc:description/>
  <dc:language>en-US</dc:language>
  <cp:lastModifiedBy>Андрей</cp:lastModifiedBy>
  <dcterms:modified xsi:type="dcterms:W3CDTF">2011-11-02T19:16:12Z</dcterms:modified>
  <cp:revision>12</cp:revision>
  <dc:subject/>
  <dc:title>Труд в системе  правовых отношений</dc:title>
</cp:coreProperties>
</file>