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A3C-6C8B-4452-81B7-630127B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BD2-B787-4F48-A533-2C4B96D7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61-335F-4D45-AB7F-6E93516F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DF4-0F4D-447D-9767-9BEFAFEC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29E6-1137-43B3-A504-21795B04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5606-8FFD-4CD4-8E57-8F0ED2A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16A-73AD-4D3A-A5A4-A8F1040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9E51-FEDF-4194-95DD-8B80BD8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9991-F6F5-4431-9611-19554E1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2FDC-20A9-4D6E-BBE4-1D0DA7A4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178E-A879-499B-9F9E-B3BFF12E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806-7C90-4244-966E-0A6FC98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F33-57D3-48D7-A5A2-759E84F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E745-12D6-4BED-9A8D-6FD4CFA9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DF00-8BB5-419B-AC88-949E0A04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BB2-728E-4A55-B63E-66379717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4C88-0572-48E2-A034-DDAA2715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5F2-835E-4300-B30C-A9197DB5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ABB-F819-451E-9562-0C5DBF0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7BC-4A36-40C2-8FCA-77D3FE15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632-4F0F-417A-BA2A-F7D8D0F1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888-DF07-455B-8B1E-736259D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0A3-2514-4AA6-9BD3-0AC5F3C5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EB4-A111-4C07-9DC9-85EAC8B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A5B-71BA-46CF-8452-B5836BC0CB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0E1-2E30-44D4-AA9E-E48F1B29C85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IMG0771.MO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Труд в системе </a:t>
            </a:r>
            <a:br>
              <a:rPr sz="5400"/>
            </a:b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правовых отношений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787640" y="3935160"/>
            <a:ext cx="36702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обществозн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 клас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Осипова Елена Александро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0427-42b"/>
          <p:cNvPicPr/>
          <p:nvPr/>
        </p:nvPicPr>
        <p:blipFill>
          <a:blip r:embed="rId1"/>
          <a:stretch/>
        </p:blipFill>
        <p:spPr>
          <a:xfrm>
            <a:off x="684360" y="3284640"/>
            <a:ext cx="345600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Трудоустройство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ая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ховое свидетельство государственного пенсионного страхования, ИН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нный билет (для военнообязанны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ицинская спр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о специальном образ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Трудоустройств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2" name="Picture 8" descr="b1bcede280e402cf61c3f3406fb96eef_600"/>
          <p:cNvPicPr/>
          <p:nvPr/>
        </p:nvPicPr>
        <p:blipFill>
          <a:blip r:embed="rId2"/>
          <a:stretch/>
        </p:blipFill>
        <p:spPr>
          <a:xfrm>
            <a:off x="2916360" y="1773360"/>
            <a:ext cx="4968720" cy="336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ajbolit"/>
          <p:cNvPicPr/>
          <p:nvPr/>
        </p:nvPicPr>
        <p:blipFill>
          <a:blip r:embed="rId3"/>
          <a:stretch/>
        </p:blipFill>
        <p:spPr>
          <a:xfrm>
            <a:off x="712800" y="3573360"/>
            <a:ext cx="1847880" cy="251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условие расторж"/>
          <p:cNvPicPr/>
          <p:nvPr/>
        </p:nvPicPr>
        <p:blipFill>
          <a:blip r:embed="rId4"/>
          <a:stretch/>
        </p:blipFill>
        <p:spPr>
          <a:xfrm>
            <a:off x="5724360" y="4365720"/>
            <a:ext cx="3300480" cy="232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68360" y="4076640"/>
            <a:ext cx="403848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7" name="Picture 4" descr="trudovoy-dogovor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Трудовые отнош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9" name="Picture 5" descr="труд2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AG00038_"/>
          <p:cNvPicPr/>
          <p:nvPr/>
        </p:nvPicPr>
        <p:blipFill>
          <a:blip r:embed="rId2"/>
          <a:stretch/>
        </p:blipFill>
        <p:spPr>
          <a:xfrm>
            <a:off x="179280" y="3429000"/>
            <a:ext cx="15908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3768017_56d0d04f"/>
          <p:cNvPicPr/>
          <p:nvPr/>
        </p:nvPicPr>
        <p:blipFill>
          <a:blip r:embed="rId3"/>
          <a:stretch/>
        </p:blipFill>
        <p:spPr>
          <a:xfrm>
            <a:off x="6948360" y="4869000"/>
            <a:ext cx="2089440" cy="186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swb_96390"/>
          <p:cNvPicPr/>
          <p:nvPr/>
        </p:nvPicPr>
        <p:blipFill>
          <a:blip r:embed="rId4"/>
          <a:stretch/>
        </p:blipFill>
        <p:spPr>
          <a:xfrm>
            <a:off x="7236000" y="1268280"/>
            <a:ext cx="1697040" cy="243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MONTAG161"/>
          <p:cNvPicPr/>
          <p:nvPr/>
        </p:nvPicPr>
        <p:blipFill>
          <a:blip r:embed="rId5"/>
          <a:stretch/>
        </p:blipFill>
        <p:spPr>
          <a:xfrm>
            <a:off x="179280" y="4869000"/>
            <a:ext cx="2268720" cy="170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8cf9ad2264e"/>
          <p:cNvPicPr/>
          <p:nvPr/>
        </p:nvPicPr>
        <p:blipFill>
          <a:blip r:embed="rId6"/>
          <a:stretch/>
        </p:blipFill>
        <p:spPr>
          <a:xfrm>
            <a:off x="3203640" y="1413000"/>
            <a:ext cx="3529080" cy="4956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-летний Иван был уволен работодателем раньше окончания трудового договора, т.к. приехал приятель начальника из Костромы, которому необходима была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408522"/>
          <p:cNvPicPr/>
          <p:nvPr/>
        </p:nvPicPr>
        <p:blipFill>
          <a:blip r:embed="rId1"/>
          <a:stretch/>
        </p:blipFill>
        <p:spPr>
          <a:xfrm>
            <a:off x="7170840" y="4076640"/>
            <a:ext cx="1720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работу устраивается подросток 14 лет. Работодатель и он договариваются, что это будет высокооплачиваемый труд по подъёму тяжестей продолжительностью с 15 до 24 ча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408522"/>
          <p:cNvPicPr/>
          <p:nvPr/>
        </p:nvPicPr>
        <p:blipFill>
          <a:blip r:embed="rId1"/>
          <a:stretch/>
        </p:blipFill>
        <p:spPr>
          <a:xfrm>
            <a:off x="7093080" y="4437000"/>
            <a:ext cx="15238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иёме на работу работодатель требует характеристику с последнего места работы или учёбы, заставляет подписывать контракт об обязательных сверхурочных рабо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408522"/>
          <p:cNvPicPr/>
          <p:nvPr/>
        </p:nvPicPr>
        <p:blipFill>
          <a:blip r:embed="rId1"/>
          <a:stretch/>
        </p:blipFill>
        <p:spPr>
          <a:xfrm>
            <a:off x="6804000" y="4292640"/>
            <a:ext cx="162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иёме на работу 17 – летнему Дмитрию предлагает пройти испытательный ср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7" descr="408522"/>
          <p:cNvPicPr/>
          <p:nvPr/>
        </p:nvPicPr>
        <p:blipFill>
          <a:blip r:embed="rId1"/>
          <a:stretch/>
        </p:blipFill>
        <p:spPr>
          <a:xfrm>
            <a:off x="7380360" y="4365720"/>
            <a:ext cx="160164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566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ри подготовке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к уроку использованы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И. Кравченко Обществознание: Учебник для 9 класса. – М: «Русское слово – РС»,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А. Певцова.  Обществознание. Книга для учителя. Методическое пособие к учебнику А.И. Кравченко «Обществознание 8 – 9 кл.» М.: ТИД «Русское слово – РС»,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ознание. 9 класс: поурочные планы по учебнику А.И. Кравченко, Е.А. Певцовой/ авт.-сост. Н.С. Кочетов- Волгоград: Учитель, 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.А. Кожин. Права и ответственность ребёнка. Элективный курс: Учебное пособие для 10 – 11 классов общеобразовательных учреждений. – 2-е изд. – М.: ООО ТИД «Русское слово – РС», 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ые Интернет- ресурс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ролик 3 канала Программы «Главная тема» (журналист Владимир Соловьёв) (видео 47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nal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ак заработать подростку летом»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youtube.com 8.06.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26580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изнаки пра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о, записанное в зак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имается государственными орган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его нарушение наступает юридическая ответст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улирует поступки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инаково для всех, но не веч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L15_p2_3"/>
          <p:cNvPicPr/>
          <p:nvPr/>
        </p:nvPicPr>
        <p:blipFill>
          <a:blip r:embed="rId1"/>
          <a:stretch/>
        </p:blipFill>
        <p:spPr>
          <a:xfrm>
            <a:off x="7524720" y="458136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L13_p2_1"/>
          <p:cNvPicPr/>
          <p:nvPr/>
        </p:nvPicPr>
        <p:blipFill>
          <a:blip r:embed="rId2"/>
          <a:stretch/>
        </p:blipFill>
        <p:spPr>
          <a:xfrm>
            <a:off x="7164360" y="0"/>
            <a:ext cx="1895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Вставьте пропущенные термины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605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Отношения между органами власти и гражданами регулирует __?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Порядок взаимоотношений работников и работодателей устанавливает ___?_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Преступность поступков человека и меру наказания за их совершение устанавливает ___?_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Отношения между мужчиной и женщиной при вступлении в брак, разводе и в процессе семейной жизни регулирует __?_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Порядок наследования, владения и распоряжения собственностью, защиты чести и достоинства, заключения сделок и т. д. определяет __?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69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8508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Отношения между органами власти и гражданами регулиру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дминистратив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Порядок взаимоотношений работников и работодателей устанавлив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удов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Преступность поступков человека и меру наказания за их совершение устанавлив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голов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Отношения между мужчиной и женщиной при вступлении в брак, разводе и в процессе семейной жизни регулиру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Порядок наследования, владения и распоряжения собственностью, защиты чести и достоинства, заключения сделок и т. д. определя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ск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рудовые отношения в документах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овой кодекс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едеральные указы Президента, Правитель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ые документы (Всеобщая декларация прав челове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2332340"/>
          <p:cNvPicPr/>
          <p:nvPr/>
        </p:nvPicPr>
        <p:blipFill>
          <a:blip r:embed="rId1"/>
          <a:stretch/>
        </p:blipFill>
        <p:spPr>
          <a:xfrm>
            <a:off x="7093080" y="1557360"/>
            <a:ext cx="1782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Безработны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79280" y="1916280"/>
            <a:ext cx="3024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ет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56000" y="299736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т найти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140360" y="414972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щет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940360" y="5373720"/>
            <a:ext cx="30258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2" descr="4"/>
          <p:cNvPicPr/>
          <p:nvPr/>
        </p:nvPicPr>
        <p:blipFill>
          <a:blip r:embed="rId1"/>
          <a:stretch/>
        </p:blipFill>
        <p:spPr>
          <a:xfrm>
            <a:off x="179280" y="4581360"/>
            <a:ext cx="2916360" cy="2157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труд"/>
          <p:cNvPicPr/>
          <p:nvPr/>
        </p:nvPicPr>
        <p:blipFill>
          <a:blip r:embed="rId2"/>
          <a:stretch/>
        </p:blipFill>
        <p:spPr>
          <a:xfrm>
            <a:off x="6156360" y="765000"/>
            <a:ext cx="281952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Безработны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1916280"/>
            <a:ext cx="3024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ет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556000" y="299736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т найти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140360" y="414972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щет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40360" y="5373720"/>
            <a:ext cx="30258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егистриров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би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4"/>
          <p:cNvPicPr/>
          <p:nvPr/>
        </p:nvPicPr>
        <p:blipFill>
          <a:blip r:embed="rId1"/>
          <a:stretch/>
        </p:blipFill>
        <p:spPr>
          <a:xfrm>
            <a:off x="179280" y="4581360"/>
            <a:ext cx="2916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труд"/>
          <p:cNvPicPr/>
          <p:nvPr/>
        </p:nvPicPr>
        <p:blipFill>
          <a:blip r:embed="rId2"/>
          <a:stretch/>
        </p:blipFill>
        <p:spPr>
          <a:xfrm>
            <a:off x="6156360" y="765000"/>
            <a:ext cx="281952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Picture 4" descr="36"/>
          <p:cNvPicPr/>
          <p:nvPr/>
        </p:nvPicPr>
        <p:blipFill>
          <a:blip r:embed="rId1"/>
          <a:stretch/>
        </p:blipFill>
        <p:spPr>
          <a:xfrm>
            <a:off x="3059280" y="2276640"/>
            <a:ext cx="5688000" cy="435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263321918_91004110f01e"/>
          <p:cNvPicPr/>
          <p:nvPr/>
        </p:nvPicPr>
        <p:blipFill>
          <a:blip r:embed="rId2"/>
          <a:stretch/>
        </p:blipFill>
        <p:spPr>
          <a:xfrm>
            <a:off x="324000" y="692280"/>
            <a:ext cx="2151000" cy="33843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20000"/>
                </a:solidFill>
                <a:latin typeface="Times New Roman"/>
              </a:rPr>
              <a:t>?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Трудоустройство  </a:t>
            </a:r>
            <a:r>
              <a:rPr b="1" lang="ru-RU" sz="8000" spc="-1" strike="noStrike">
                <a:solidFill>
                  <a:srgbClr val="42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ка о доходах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ая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ховое свидетельство государственного пенсионного страхования, ИН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ка из мили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нный билет (для военнообязанны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с последнего места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ицинская спр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о специальном образ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03:47Z</dcterms:created>
  <dc:creator>user</dc:creator>
  <dc:description/>
  <dc:language>en-US</dc:language>
  <cp:lastModifiedBy>Андрей</cp:lastModifiedBy>
  <dcterms:modified xsi:type="dcterms:W3CDTF">2011-11-02T19:16:12Z</dcterms:modified>
  <cp:revision>12</cp:revision>
  <dc:subject/>
  <dc:title>Труд в системе  правовых отношений</dc:title>
</cp:coreProperties>
</file>