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0.png" ContentType="image/png"/>
  <Override PartName="/ppt/media/image2.jpeg" ContentType="image/jpeg"/>
  <Override PartName="/ppt/media/image19.png" ContentType="image/png"/>
  <Override PartName="/ppt/media/image18.jpeg" ContentType="image/jpeg"/>
  <Override PartName="/ppt/media/image6.wmf" ContentType="image/x-wmf"/>
  <Override PartName="/ppt/media/image16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E2C5-53B4-4D4D-BBB2-10575DC82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4A1B-0477-41CF-8A9A-AEB781B63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384CF6-48A3-41B7-A627-FB47CB66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D06723-065F-4AD8-91FC-1C31E29A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D5D9E4-588B-4A0C-B6B6-AE0E21489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9FF07B-D8CE-4496-BCDF-38802763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A097EF-7E82-41CF-8D5A-5756596D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BDC520-EB55-411D-99B6-1810028A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CDE5F5-0E5F-4543-87A6-F393B5814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752407-AF77-4531-BC10-5601FF40D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E08D32-0C23-4F51-BD3C-2BE802D2E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079642-4A22-4133-A79A-6B9119911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36F9-F6C8-4478-8D99-AB63C90E5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3F301E-1B5B-4CEC-A6C4-3F8D7D534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D3DB49-C24D-4E78-9AE0-90150CB4F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1B43C7-600A-4551-912E-9A1C55C7E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244DD2-F086-44FF-A72E-4934C5898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3C80BE-5933-4835-ACBB-BF12EDA2A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FF243B-C258-49B7-8D58-002E3B2D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B230D1-3EAA-41D8-846E-E9EBEB63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75C8EB-7E5D-43D2-9BCA-B1B5EC17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BC3158-2148-48B6-9F09-E35A1C4EA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0076C3-1F52-4778-90F2-FFD5EFFAD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F505-C67C-4C22-A410-6C4C5853C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2CDE03-006E-4F0C-BD08-14EB3236D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C3DCD0-908E-4875-B9D3-6EA9FF862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CD60C6-326C-4D03-A90D-B30730DA5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8D8FE7-F66E-4500-BFD6-49AC73F63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5D3162-D396-456A-85E9-57F00A0C7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66EED1-638B-4A73-BADD-869FE981D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15FA9A-224F-4B28-B784-9D71B3BCE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0B78D1-34DD-4C3E-9988-6CF84498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1A84CA-AC56-46A9-B052-A0E585CD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F4CD5A-46DA-4D39-8544-9EA65AA5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924E3-6138-4230-A9C3-62652900D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268A9A-7603-4AD5-B3AF-8AD3BBE82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044441-573A-4BD5-996B-28A3E4DBA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21ECB5-58BA-4471-B6AB-68F818B94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86B403-0019-4EA6-8D81-0D8DD0637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BE6308-BB99-4683-8BF3-B48724CEE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C650EF-F447-44E9-A0BA-4FD8E4BFE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4AED60-BC29-41A4-8B10-28B9CC338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1F9761-5EE6-49D5-8C09-ED6FB618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D674C6-BBD7-43FF-BEFE-A82F62DB0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E290A8-DEE9-48B0-91D7-3BED6355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62955-FFC3-420D-BA95-02075FAE3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C61309-5B76-4346-8281-B11F4FA7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FF4A24-356A-476E-ACB0-955FD5B8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29D3BF-F9AF-48AB-9263-2FF138CDE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F95B26-55C1-45C4-B4A5-4A2666F8C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1106B1-9F22-4258-A48F-38B5E8AA0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CA7C6B-DDF5-448C-BC6B-3C912E511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06610B-4753-4519-A259-30F63454C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EF0163-C218-45AC-A8BD-3D93B458F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3960A2-D788-4603-9FD7-46C3E02D2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7446EB-160D-47DE-9DF7-48D3D879F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AED28-A14C-4015-89F6-7FDA61280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3FD6B5-E7D7-488B-85BA-0A6B32B3E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EB8FFD-27D0-4DDC-8210-CB15D039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D7F09B-A680-4DA5-8AF7-6A54A0C3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3A58FE-F2C5-4CE7-8178-8E3E9B4A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10BE46-3D14-4F90-9ED6-8F7F48D31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A549FF-8D05-4BE6-8118-FF131E771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6FDA24-CD41-4DC1-BDD1-2CAFDC96A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72F458-B6C4-4422-AD05-8D57CCBFC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7D95ED-DD85-4148-B825-FC4431556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9B3355-B2FA-4CCA-81FA-9EECEA7CA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81F95-EAC8-4779-975A-A116C5697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149EC1-1541-4284-82E3-98B66BCCE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5C8E37-A0B0-4DC5-A7C7-8D4E9657F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D23779-78FE-46AE-9D05-77FF09F06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9B4884-E7BB-4388-B849-CAFF14B4D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E88B3B-40B5-4FD5-B524-D0335E62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1E7999-5E8C-48F6-AC53-4C816E93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507B4D-0DBE-4583-AD6A-C34370DF0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23B862-73C2-478E-9B90-101787EF4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4B7651-3A3A-474B-9CCB-FF2AC347E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F757F3-94C0-4FED-B64E-1AE59F272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EE7B5-5BD5-41AD-BF6F-4E60302C0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4111B1-4956-4B58-802D-658A8784F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03FEB6-CCD7-4C75-A567-6189EF056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EDE9C8-3722-45C1-9BFB-770D8B9B9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4672AF-5008-4CF0-AB64-16A635E53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276D22-279A-4D3F-BF4A-D4FD54E8A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F3FE2C-FC86-4BC6-AD25-4B45BF40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02DFF4-4C27-4AFD-9D9E-BD29BC20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4E1E5B-5439-4A9B-ADB7-C7A08F10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B3E303-2104-4D11-82BA-FFB4F9014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C3A5B8-25FF-4188-B59A-A05467EB2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79BC0-CF80-47BD-A6D8-69694C13E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2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3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BCB52E-70A2-4AB4-83B7-6FB784EFB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9101B-B44D-407A-8B5C-BAE78691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07D0-D78E-4F3A-8E3B-D8700BA6D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08BA2-B58F-4F0F-9D77-DC8C569C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699ED-EF12-4CB1-AAFA-FC854F2E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AA915-7C40-4F80-9DEA-088FA9931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41E15-71E2-4D86-800F-CE4B92D98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75887-F582-4FC2-A5E3-C92EF6F85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38DC4-07CB-458E-9BE4-95357EAC8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FA7B0-8C11-4B94-AEB1-6C5AACB05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62CB6-C164-42E5-8AE5-420572C0B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24C61-6428-498C-9062-BA00E10AF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67323-00C2-4942-9D7B-A8ED893B2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92E0-B5D0-473A-9E17-A0D2E79FD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3830C-ACC6-4541-B655-916FC2F42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C56AD-6B47-4365-BF28-C431405D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29C49-9E3F-4D5B-9252-959D0C56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524EA-87E1-4A6C-8CEA-68C22AD2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54778-7C50-42A1-9C32-19CC3531B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4FF12-4387-49EC-8C15-6E6395E8F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D35D6-35FD-4127-BDE1-B180C94AB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DA94F-DC2F-4320-9725-2ACA3CDB4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17C06-EE7C-4B01-8829-6DAF70861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B206C-6CA5-458F-9076-10F353A9E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7DF5-BDC1-494F-BFC0-2BEF1E458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97921-62B3-47A7-AB41-3DE41C5BE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486D8-B5F9-4BAD-BAF1-B5CAC5342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A760F-2D60-4AB8-8AFE-3F125CEC0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B641F-379B-483E-8CC1-BFF80110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36D7B-8C3F-42CE-9E48-F9175B95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77CE4-4569-47F7-93E1-E4BE6939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E73AA-4A12-40DB-9CBE-8C269763C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980E2-403F-4C88-A814-76B32AE90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E658B-4052-434E-82D3-DEE36BCD0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F53D9-E433-4A0E-A18C-D09EEAB29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DD64-CB67-4094-8F7E-0D30D6F1A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37B9C-28DC-4031-A9B2-FA91F4BEF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55360-3607-4D37-A927-62615A205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EC8B7-9761-46C6-8223-E39B4FF9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90B0C-F660-4E42-A387-28D6BCB9F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E78D0-DBEF-4344-B245-43B571F0A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C260B-02E1-4291-BE10-3B609A18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5125E-4658-4A0A-B107-621BCC37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3B83A-A0E6-460C-B99D-0399E4E3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14CC9-E0D6-42FA-87E5-C0635E8E9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0C90C-B77C-467C-9C6C-3AA329405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3493-0392-40F0-9B7A-9372DE3BE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F0073-62E2-4666-A516-B2A5CDADF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7FD703-6A2E-45C9-9525-A99FBC386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0EEA2-371D-49FA-9A8A-C20D26F29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E6C26-8670-45DE-BDF0-53CEC74E8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73E57-5A06-4358-A6F2-832A682F1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78D72-EC54-4A08-9187-EAD6F78DD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7D053-6B98-4D53-8879-6E92A2FB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2E25F-5EB8-4F29-95C3-7B5E8E18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2EC808-9513-41D7-8811-289C1926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F3665-162D-4C36-87BD-FA5C194F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2776-2E0D-4056-B39C-B2768E02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EA8D3-D753-4516-A48E-F6F3861A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4DD48-7C77-4142-B65C-EAB5FF0B3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B6DB48-C520-4F06-90A6-D6DE7A49E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1909B4-57C7-411D-AC95-0121056CB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C45DA2-B6FC-4BDF-9A85-C0F79D84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826354-7C02-4990-9758-1059FEF67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B79D0D-3536-423F-AABA-E36238C9A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8A5DAB-81F7-410E-A8C7-870D474C2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9EF82B-56BA-4649-A6A1-462FD3002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E61443-1830-4191-B176-810A86E4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1C91-9EE1-423C-A130-B1AADF8A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7E0749-7D2E-446D-9E80-C6D8D138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B0C8EE-06D2-42B5-8FFB-68FAACA2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7862FC-C522-42D6-B851-9D58D012B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5E29A2-1A98-4C2F-99D8-AD4385AAA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CC1368-6E71-4B6C-B1EB-935D054C0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A9482E-8629-48C8-BEE6-F8A7B70D2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CB6BE1-17A1-442B-8D01-723A97E7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01B336-7A40-4ADB-9F9C-23B6C0767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68981A-6E24-43A3-A8DD-F677D5A15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1A7E18-3D2D-43D6-8D0E-606701BB7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38ED-94A5-4A99-BF05-FAED8640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F7786D-AF1A-443D-901B-E37323A98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A5AA88-0C3D-46D7-BEA9-D84828EA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C0014-9338-4F01-BB63-701B92C8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89594-46C8-47C6-B8C3-CD586335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063EEC-93F7-4D0E-968C-0E25A775B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00E9C-2D8C-41F8-AA06-714D5B948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80DA8D-0C4B-447E-BE6B-54350B0F9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A1393B-B3FD-465A-AF50-B353622BE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B0861A-6839-4A33-91CF-5792C5578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EB8483-1F71-4E8E-AC38-63E735871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6.wmf"/><Relationship Id="rId12" Type="http://schemas.openxmlformats.org/officeDocument/2006/relationships/image" Target="../media/image6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6.wmf"/><Relationship Id="rId19" Type="http://schemas.openxmlformats.org/officeDocument/2006/relationships/image" Target="../media/image6.wmf"/><Relationship Id="rId20" Type="http://schemas.openxmlformats.org/officeDocument/2006/relationships/image" Target="../media/image6.wmf"/><Relationship Id="rId21" Type="http://schemas.openxmlformats.org/officeDocument/2006/relationships/image" Target="../media/image6.wmf"/><Relationship Id="rId22" Type="http://schemas.openxmlformats.org/officeDocument/2006/relationships/image" Target="../media/image6.wmf"/><Relationship Id="rId23" Type="http://schemas.openxmlformats.org/officeDocument/2006/relationships/image" Target="../media/image6.wmf"/><Relationship Id="rId24" Type="http://schemas.openxmlformats.org/officeDocument/2006/relationships/image" Target="../media/image6.wmf"/><Relationship Id="rId25" Type="http://schemas.openxmlformats.org/officeDocument/2006/relationships/image" Target="../media/image6.wmf"/><Relationship Id="rId26" Type="http://schemas.openxmlformats.org/officeDocument/2006/relationships/image" Target="../media/image6.wmf"/><Relationship Id="rId27" Type="http://schemas.openxmlformats.org/officeDocument/2006/relationships/image" Target="../media/image6.wmf"/><Relationship Id="rId28" Type="http://schemas.openxmlformats.org/officeDocument/2006/relationships/image" Target="../media/image6.wmf"/><Relationship Id="rId29" Type="http://schemas.openxmlformats.org/officeDocument/2006/relationships/image" Target="../media/image7.png"/><Relationship Id="rId30" Type="http://schemas.openxmlformats.org/officeDocument/2006/relationships/image" Target="../media/image7.png"/><Relationship Id="rId31" Type="http://schemas.openxmlformats.org/officeDocument/2006/relationships/image" Target="../media/image8.png"/><Relationship Id="rId32" Type="http://schemas.openxmlformats.org/officeDocument/2006/relationships/image" Target="../media/image9.png"/><Relationship Id="rId33" Type="http://schemas.openxmlformats.org/officeDocument/2006/relationships/image" Target="../media/image10.png"/><Relationship Id="rId34" Type="http://schemas.openxmlformats.org/officeDocument/2006/relationships/slideLayout" Target="../slideLayouts/slideLayout133.xml"/><Relationship Id="rId35" Type="http://schemas.openxmlformats.org/officeDocument/2006/relationships/slideLayout" Target="../slideLayouts/slideLayout134.xml"/><Relationship Id="rId36" Type="http://schemas.openxmlformats.org/officeDocument/2006/relationships/slideLayout" Target="../slideLayouts/slideLayout135.xml"/><Relationship Id="rId37" Type="http://schemas.openxmlformats.org/officeDocument/2006/relationships/slideLayout" Target="../slideLayouts/slideLayout136.xml"/><Relationship Id="rId38" Type="http://schemas.openxmlformats.org/officeDocument/2006/relationships/slideLayout" Target="../slideLayouts/slideLayout137.xml"/><Relationship Id="rId39" Type="http://schemas.openxmlformats.org/officeDocument/2006/relationships/slideLayout" Target="../slideLayouts/slideLayout138.xml"/><Relationship Id="rId40" Type="http://schemas.openxmlformats.org/officeDocument/2006/relationships/slideLayout" Target="../slideLayouts/slideLayout139.xml"/><Relationship Id="rId41" Type="http://schemas.openxmlformats.org/officeDocument/2006/relationships/slideLayout" Target="../slideLayouts/slideLayout140.xml"/><Relationship Id="rId42" Type="http://schemas.openxmlformats.org/officeDocument/2006/relationships/slideLayout" Target="../slideLayouts/slideLayout141.xml"/><Relationship Id="rId43" Type="http://schemas.openxmlformats.org/officeDocument/2006/relationships/slideLayout" Target="../slideLayouts/slideLayout142.xml"/><Relationship Id="rId44" Type="http://schemas.openxmlformats.org/officeDocument/2006/relationships/slideLayout" Target="../slideLayouts/slideLayout143.xml"/><Relationship Id="rId4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6.wmf"/><Relationship Id="rId12" Type="http://schemas.openxmlformats.org/officeDocument/2006/relationships/image" Target="../media/image6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6.wmf"/><Relationship Id="rId19" Type="http://schemas.openxmlformats.org/officeDocument/2006/relationships/image" Target="../media/image6.wmf"/><Relationship Id="rId20" Type="http://schemas.openxmlformats.org/officeDocument/2006/relationships/image" Target="../media/image6.wmf"/><Relationship Id="rId21" Type="http://schemas.openxmlformats.org/officeDocument/2006/relationships/image" Target="../media/image6.wmf"/><Relationship Id="rId22" Type="http://schemas.openxmlformats.org/officeDocument/2006/relationships/image" Target="../media/image6.wmf"/><Relationship Id="rId23" Type="http://schemas.openxmlformats.org/officeDocument/2006/relationships/image" Target="../media/image6.wmf"/><Relationship Id="rId24" Type="http://schemas.openxmlformats.org/officeDocument/2006/relationships/image" Target="../media/image6.wmf"/><Relationship Id="rId25" Type="http://schemas.openxmlformats.org/officeDocument/2006/relationships/image" Target="../media/image6.wmf"/><Relationship Id="rId26" Type="http://schemas.openxmlformats.org/officeDocument/2006/relationships/image" Target="../media/image6.wmf"/><Relationship Id="rId27" Type="http://schemas.openxmlformats.org/officeDocument/2006/relationships/image" Target="../media/image6.wmf"/><Relationship Id="rId28" Type="http://schemas.openxmlformats.org/officeDocument/2006/relationships/image" Target="../media/image6.wmf"/><Relationship Id="rId29" Type="http://schemas.openxmlformats.org/officeDocument/2006/relationships/image" Target="../media/image7.png"/><Relationship Id="rId30" Type="http://schemas.openxmlformats.org/officeDocument/2006/relationships/image" Target="../media/image7.png"/><Relationship Id="rId31" Type="http://schemas.openxmlformats.org/officeDocument/2006/relationships/slideLayout" Target="../slideLayouts/slideLayout145.xml"/><Relationship Id="rId32" Type="http://schemas.openxmlformats.org/officeDocument/2006/relationships/slideLayout" Target="../slideLayouts/slideLayout146.xml"/><Relationship Id="rId33" Type="http://schemas.openxmlformats.org/officeDocument/2006/relationships/slideLayout" Target="../slideLayouts/slideLayout147.xml"/><Relationship Id="rId34" Type="http://schemas.openxmlformats.org/officeDocument/2006/relationships/slideLayout" Target="../slideLayouts/slideLayout148.xml"/><Relationship Id="rId35" Type="http://schemas.openxmlformats.org/officeDocument/2006/relationships/slideLayout" Target="../slideLayouts/slideLayout149.xml"/><Relationship Id="rId36" Type="http://schemas.openxmlformats.org/officeDocument/2006/relationships/slideLayout" Target="../slideLayouts/slideLayout150.xml"/><Relationship Id="rId37" Type="http://schemas.openxmlformats.org/officeDocument/2006/relationships/slideLayout" Target="../slideLayouts/slideLayout151.xml"/><Relationship Id="rId38" Type="http://schemas.openxmlformats.org/officeDocument/2006/relationships/slideLayout" Target="../slideLayouts/slideLayout152.xml"/><Relationship Id="rId39" Type="http://schemas.openxmlformats.org/officeDocument/2006/relationships/slideLayout" Target="../slideLayouts/slideLayout153.xml"/><Relationship Id="rId40" Type="http://schemas.openxmlformats.org/officeDocument/2006/relationships/slideLayout" Target="../slideLayouts/slideLayout154.xml"/><Relationship Id="rId41" Type="http://schemas.openxmlformats.org/officeDocument/2006/relationships/slideLayout" Target="../slideLayouts/slideLayout155.xml"/><Relationship Id="rId42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453D5-EA69-439A-8E15-DBCF154DC0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7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528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0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541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C233D-3538-4537-BBD6-40E63A88532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608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0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621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1395D-1500-4A68-883E-73CC95A18EA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68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69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9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69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69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9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70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71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71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73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dt" idx="3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 type="ftr" idx="3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 type="sldNum" idx="3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0AC32-31C9-4FFA-B080-55CD324E30D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4"/>
    <p:sldLayoutId id="2147483793" r:id="rId35"/>
    <p:sldLayoutId id="2147483794" r:id="rId36"/>
    <p:sldLayoutId id="2147483795" r:id="rId37"/>
    <p:sldLayoutId id="2147483796" r:id="rId38"/>
    <p:sldLayoutId id="2147483797" r:id="rId39"/>
    <p:sldLayoutId id="2147483798" r:id="rId40"/>
    <p:sldLayoutId id="2147483799" r:id="rId41"/>
    <p:sldLayoutId id="2147483800" r:id="rId42"/>
    <p:sldLayoutId id="2147483801" r:id="rId43"/>
    <p:sldLayoutId id="2147483802" r:id="rId44"/>
    <p:sldLayoutId id="2147483803" r:id="rId4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2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783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6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787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788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89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790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1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92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3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5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798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9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0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1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2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3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4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5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06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807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8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9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0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1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2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3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4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5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6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7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8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9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0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1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2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3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4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5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826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dt" idx="3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 type="ftr" idx="3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 type="sldNum" idx="3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2376B-53F5-47DD-8EBB-2398313FADE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1"/>
    <p:sldLayoutId id="2147483806" r:id="rId32"/>
    <p:sldLayoutId id="2147483807" r:id="rId33"/>
    <p:sldLayoutId id="2147483808" r:id="rId34"/>
    <p:sldLayoutId id="2147483809" r:id="rId35"/>
    <p:sldLayoutId id="2147483810" r:id="rId36"/>
    <p:sldLayoutId id="2147483811" r:id="rId37"/>
    <p:sldLayoutId id="2147483812" r:id="rId38"/>
    <p:sldLayoutId id="2147483813" r:id="rId39"/>
    <p:sldLayoutId id="2147483814" r:id="rId40"/>
    <p:sldLayoutId id="2147483815" r:id="rId41"/>
    <p:sldLayoutId id="2147483816" r:id="rId42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7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878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6" name="PlaceHolder 1"/>
          <p:cNvSpPr>
            <a:spLocks noGrp="1"/>
          </p:cNvSpPr>
          <p:nvPr>
            <p:ph type="dt" idx="4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ftr" idx="4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 type="sldNum" idx="4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831EA-DB43-46DB-8E71-365F7408E5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7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28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 type="dt" idx="43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 type="ftr" idx="44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 type="sldNum" idx="4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76E57-C904-4E11-867B-BAA0FEAF93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361AC-0F47-48D0-A292-E66E8F5AE9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84647-9564-45EE-BF19-D1146B9BFD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23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7B2CD-CF5C-4303-AE5D-1D3835B23F4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80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B2823-B3A8-42E8-8C6E-E01D86501BC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F9DDB-699E-4A9A-BDB5-3CAD0CF936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74088-FB9E-4916-B67A-10C0E55768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19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21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33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2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70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7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E8420-27F3-449F-9621-A0B1638EC7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24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5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26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7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438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457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4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475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2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945ED-D551-42E5-A343-B3F7CCA403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0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e5ffff"/>
                </a:solidFill>
                <a:latin typeface="Tahoma"/>
              </a:rPr>
              <a:t>Государственное вечернее(сменное)общеобразовательное </a:t>
            </a:r>
            <a:br>
              <a:rPr sz="1200"/>
            </a:br>
            <a:r>
              <a:rPr b="1" lang="ru-RU" sz="1200" spc="-1" strike="noStrike">
                <a:solidFill>
                  <a:srgbClr val="e5ffff"/>
                </a:solidFill>
                <a:latin typeface="Tahoma"/>
              </a:rPr>
              <a:t>учреждение «Республиканский центр образования». </a:t>
            </a:r>
            <a:br>
              <a:rPr sz="1200"/>
            </a:br>
            <a:r>
              <a:rPr b="1" lang="ru-RU" sz="1200" spc="-1" strike="noStrike">
                <a:solidFill>
                  <a:srgbClr val="e5ffff"/>
                </a:solidFill>
                <a:latin typeface="Tahoma"/>
              </a:rPr>
              <a:t>Ухтинский филиал.</a:t>
            </a:r>
            <a:br>
              <a:rPr sz="1200"/>
            </a:br>
            <a:br>
              <a:rPr sz="1200"/>
            </a:br>
            <a:r>
              <a:rPr b="1" lang="ru-RU" sz="2400" spc="-1" strike="noStrike">
                <a:solidFill>
                  <a:srgbClr val="e5ffff"/>
                </a:solidFill>
                <a:latin typeface="Times New Roman"/>
              </a:rPr>
              <a:t>Проектно-информационная работа </a:t>
            </a:r>
            <a:br>
              <a:rPr sz="2400"/>
            </a:b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Тема: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Учет влажности воздух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полнил: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Рочев С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ченик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8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ласс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уководитель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: Плехова Н.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учитель физи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г.УХ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2011-2012г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8" name="i-main-pic" descr="Картинка 5 из 43840"/>
          <p:cNvPicPr/>
          <p:nvPr/>
        </p:nvPicPr>
        <p:blipFill>
          <a:blip r:embed="rId1"/>
          <a:stretch/>
        </p:blipFill>
        <p:spPr>
          <a:xfrm>
            <a:off x="755640" y="620640"/>
            <a:ext cx="788184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ПИЩЕВАЯ ОТРАСЛЬ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При выпечке хлеба окончательная расстойка теста – важна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технологическая операция, от которой зависит качество изделий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На длительность расстойки теста влияет температура и относительная влажность воздуха в расстоечных камерах: при высокой относительной влажности воздуха этот процесс протекает быстрее. Так, при повышении температуры с 300С до 45 0С и относительной влажности 80-85% время расстойки сокращается на 25-30%. Однако относительную влажность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воздуха нельзя поддерживать выше 85%, так как при этом тесто будет прилипать к расстоечным доскам. Лучшими условиями для окончатель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ной расстойки являются температура воздуха 35-400С и относительная влажность 75-85%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1" name="i-main-pic" descr="Картинка 15 из 40672"/>
          <p:cNvPicPr/>
          <p:nvPr/>
        </p:nvPicPr>
        <p:blipFill>
          <a:blip r:embed="rId1"/>
          <a:stretch/>
        </p:blipFill>
        <p:spPr>
          <a:xfrm>
            <a:off x="684360" y="404640"/>
            <a:ext cx="7575480" cy="56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ЗЕРНОХРАНИЛИЩ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Verdana"/>
              </a:rPr>
              <a:t>Поступление в переработку зерна, недостаточно увлажненного,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eaeaea"/>
                </a:solidFill>
                <a:latin typeface="Verdana"/>
              </a:rPr>
              <a:t>неизбежно приведет к выработке муки с крупностью выше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eaeaea"/>
                </a:solidFill>
                <a:latin typeface="Verdana"/>
              </a:rPr>
              <a:t>стандартной, а при переувлажнении зерна – к высокой влажности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Verdana"/>
              </a:rPr>
              <a:t>отрубей и снижению производительности. Разумеется, это зависит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Verdana"/>
              </a:rPr>
              <a:t>от влажности окружающего воздуха и условий хранения зерна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Verdana"/>
              </a:rPr>
              <a:t>Санитарные нормы в складских помещениях хлебопекарной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eaeaea"/>
                </a:solidFill>
                <a:latin typeface="Verdana"/>
              </a:rPr>
              <a:t>промышленности: хранить муку следует при температуре воздуха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eaeaea"/>
                </a:solidFill>
                <a:latin typeface="Verdana"/>
              </a:rPr>
              <a:t>не выше 10—12°С и относительной влажности 75%.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Verdana"/>
              </a:rPr>
              <a:t>При нарушении температурно-влажностного режима создается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Verdana"/>
              </a:rPr>
              <a:t>опасность размножения мучных вредителей в складе муки.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i-main-pic" descr="Картинка 2 из 69010"/>
          <p:cNvPicPr/>
          <p:nvPr/>
        </p:nvPicPr>
        <p:blipFill>
          <a:blip r:embed="rId1"/>
          <a:stretch/>
        </p:blipFill>
        <p:spPr>
          <a:xfrm>
            <a:off x="684360" y="333360"/>
            <a:ext cx="7924680" cy="59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НОВОРОЖДЕННЫЙ в КЮВЕЗ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 всем мире около 6% детей рождаются раньше положенного времени, обычно в период с 28 по 37 недели. Организм недоношенного ребенка не совсем адаптирован к внешней среде. Малыш не способен самостоятельн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ышать. Поэтому необходимо создать микроклимат, максимально соответствующий тому, в котором ребенок находился до рожд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ля этого в отделении реанимации есть так называемый инкубатор - кювез, обеспечивающий новорожденного необходимой температурой, влажностью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здуха и оптимальной концентрацией кислород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инкубаторах - кювезах контроль всех параметров осуществляется автоматически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7" name="i-main-pic" descr="Картинка 11 из 47"/>
          <p:cNvPicPr/>
          <p:nvPr/>
        </p:nvPicPr>
        <p:blipFill>
          <a:blip r:embed="rId1"/>
          <a:stretch/>
        </p:blipFill>
        <p:spPr>
          <a:xfrm>
            <a:off x="324000" y="404640"/>
            <a:ext cx="8055000" cy="54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Памятка гитаристу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Очень важно: никогда не оставляйте гитару висеть на стене в зимний период! Тепло от обогревателей поднимается вверх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У пола может быть 18 0, в полутора метрах от пола – 22 0, а у потолка - 270.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Влажность воздуха напрямую зависит от его температуры. Поэтому чем ниже находится гитара, тем меньшей угрозе она подвергается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Для безопасности вашей гитары влажность в доме должна быть примерно 45% при 22 0С. Если влажность ниже, то могут начаться проблем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0" name="i-main-pic" descr="Картинка 4 из 19"/>
          <p:cNvPicPr/>
          <p:nvPr/>
        </p:nvPicPr>
        <p:blipFill>
          <a:blip r:embed="rId1"/>
          <a:stretch/>
        </p:blipFill>
        <p:spPr>
          <a:xfrm>
            <a:off x="611280" y="404640"/>
            <a:ext cx="8061120" cy="629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Влияние  влажности      воздуха    на  здоровье  человек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Влажность – важный  показатель  комфортности  атмосферы жилых  помещен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Воздух  с  влажностью: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до  55%  считается  сухим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от  56% - 70% -умеренно  сухим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от  71%  - 85% -умеренно  влажным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выше  85% - сильно  влажны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Опасна  как  повышенная  влажность, так  и пониженная влажност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Как  мы  можем  в  домашних  условиях  влиять  на  влажность  воздуха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Её  можно  понижать 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-проветривание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- повышением  температуры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а также  повышать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-если дополнительно поставить  воду  у  батаре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-или включить  увлажнитель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188280" y="507240"/>
            <a:ext cx="819072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вед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Цель :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собрать дополнительную информа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  учете  влажности     возду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дач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расширить свой кругозор по теме «Влажнос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научиться самостоятельно добывать интересующ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териал из дополнительных источ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выделять из большого объема представленной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формации   глав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выработать навыки оформления своей работы разны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риант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3" name="" descr=""/>
          <p:cNvPicPr/>
          <p:nvPr/>
        </p:nvPicPr>
        <p:blipFill>
          <a:blip r:embed="rId1"/>
          <a:stretch/>
        </p:blipFill>
        <p:spPr>
          <a:xfrm>
            <a:off x="826920" y="836640"/>
            <a:ext cx="4038840" cy="2187720"/>
          </a:xfrm>
          <a:prstGeom prst="rect">
            <a:avLst/>
          </a:prstGeom>
          <a:ln w="0">
            <a:noFill/>
          </a:ln>
        </p:spPr>
      </p:pic>
      <p:pic>
        <p:nvPicPr>
          <p:cNvPr id="1004" name="i-main-pic" descr="Картинка 0 из 8074"/>
          <p:cNvPicPr/>
          <p:nvPr/>
        </p:nvPicPr>
        <p:blipFill>
          <a:blip r:embed="rId2"/>
          <a:stretch/>
        </p:blipFill>
        <p:spPr>
          <a:xfrm>
            <a:off x="3780000" y="3357720"/>
            <a:ext cx="380988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"/>
          <p:cNvSpPr/>
          <p:nvPr/>
        </p:nvSpPr>
        <p:spPr>
          <a:xfrm>
            <a:off x="476280" y="772200"/>
            <a:ext cx="821988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аключ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анная работа показывает, что , влажность- важ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изическая величина. Её необходимо учитывать 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ногих отраслях производства, в быту, медици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обывать самостоятельно  дополнительную информа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процесс интерес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деюсь, что в ближайшем будущем нам буд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едоставлена возможность поль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бразоват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нтернет-ресур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"/>
          <p:cNvSpPr/>
          <p:nvPr/>
        </p:nvSpPr>
        <p:spPr>
          <a:xfrm>
            <a:off x="1187280" y="836640"/>
            <a:ext cx="457200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Литератур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Физика. 8класс (ПерышкинА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нформация, предоставленная учител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з Интернет-ресур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"/>
          <p:cNvSpPr/>
          <p:nvPr/>
        </p:nvSpPr>
        <p:spPr>
          <a:xfrm>
            <a:off x="1909800" y="1843920"/>
            <a:ext cx="5066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С П А С И Б 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Основное содержание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Книгохранилища, музеи, архив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Параметры относительной влажности и температуры в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картинной галерее, печатном цехе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Относительная влажность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Температура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Зима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5-55%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19-23 0С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Лето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50-60%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18-22 0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i-main-pic" descr="Картинка 41 из 108843"/>
          <p:cNvPicPr/>
          <p:nvPr/>
        </p:nvPicPr>
        <p:blipFill>
          <a:blip r:embed="rId1"/>
          <a:stretch/>
        </p:blipFill>
        <p:spPr>
          <a:xfrm>
            <a:off x="971640" y="333360"/>
            <a:ext cx="7240320" cy="54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0" name="i-main-pic" descr="Картинка 37 из 152866"/>
          <p:cNvPicPr/>
          <p:nvPr/>
        </p:nvPicPr>
        <p:blipFill>
          <a:blip r:embed="rId1"/>
          <a:stretch/>
        </p:blipFill>
        <p:spPr>
          <a:xfrm>
            <a:off x="1332000" y="1052640"/>
            <a:ext cx="7524720" cy="50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Текстильная промышленность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Низкая влажность в текстильном производстве, а впоследствии и при хранении материалов, может привести к серьезным негативным последствиям: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. происходит обрыв нитей из-за того, что текстильные волокна в процессе     трения теряют эластичность и прочность, становятся более тонкими и хрупкими;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повышение температуры при трении и электростатического напряжения, ведущее к пожароопасности в цехах;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увеличение содержание пыли, текстильных волокон приводит к ухудшению самочувствия работающего персонала,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возникновению респираторных заболеваний, аллергических реакций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Требуемые параметры влажности, влияющие на технологический процесс: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Наименование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материала</a:t>
            </a: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   Прядильное   </a:t>
            </a: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Перемотка нитей</a:t>
            </a: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           Ткацкое                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Шерсть</a:t>
            </a: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         50-65%  </a:t>
            </a: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     60-65% </a:t>
            </a: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                           50-60%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Хлопок</a:t>
            </a: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         55-60%</a:t>
            </a: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                 50-65%</a:t>
            </a: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                           70-85%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Персонал</a:t>
            </a: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         60-65%  </a:t>
            </a: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     60-70%                                 60-70%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ДЕРЕВООБРАБОТ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лажность воздуха и исходного сырья имеет  больш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начение для  деревообрабатывающих предприятий, занят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зготовлением оконного, конструкционного бруса, мебельн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щита, столярных изделий, шпона, мебели и т.д.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едостаток влаги воздуха приводит к нарушениям технологического процесс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и пересыхании древесины происходит образова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верхностных трещин, ее расслаивание, растрескивание 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еформирование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ересушенная древесина поглощает растворяющие веществ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з лакокрасочных покрытий, в результате чего поверхность становится шероховатой, теряется глянец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леевые швы оказываются недолговечными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ак как пересушенная древесина впитывает растворитель до момента отвердевания кле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ажна также и влажность самого дерева, которая не должна превышать 15%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5" name="i-main-pic" descr="Картинка 43 из 71"/>
          <p:cNvPicPr/>
          <p:nvPr/>
        </p:nvPicPr>
        <p:blipFill>
          <a:blip r:embed="rId1"/>
          <a:stretch/>
        </p:blipFill>
        <p:spPr>
          <a:xfrm>
            <a:off x="409680" y="836640"/>
            <a:ext cx="8157960" cy="51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Производство цемент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Если воздух переувлажнен, цемент будет комковатьс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Кроме того, в осенне-весенний период перед загрузкой осушают помещение, где находится готовый цемент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лажность воздуха не должна быть менее 50%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8T17:44:00Z</dcterms:created>
  <dc:creator>Ivan</dc:creator>
  <dc:description/>
  <dc:language>en-US</dc:language>
  <cp:lastModifiedBy>Ivan</cp:lastModifiedBy>
  <dcterms:modified xsi:type="dcterms:W3CDTF">2012-03-12T16:32:19Z</dcterms:modified>
  <cp:revision>4</cp:revision>
  <dc:subject/>
  <dc:title>  Государственное вечернее(сменное)общеобразовательное  учреждение «Республиканский центр образования».  Ухтинский филиал.  Проектно-информационная работа  </dc:title>
</cp:coreProperties>
</file>