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6.wmf" ContentType="image/x-wmf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BC4-EC19-468E-BE5D-033EAFD1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0EF6-A4B6-4D46-957C-AB66963B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7661E-D444-4C5D-BF67-0019417D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A399F-ACFE-4EDB-B6D6-402F0AC0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51CD8-2297-4A25-BC17-3F4D475A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9900F-041B-4D66-A5BA-5B03B152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9BC88-E4B2-49D8-96C8-3FEFA53D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069CF-383F-4195-99FC-329554C3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4E606-F51D-4F35-8D81-224574F6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56B07-E45B-40BA-B7D3-04E8E575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4840B-37B2-4C06-90BF-BE94FA90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403AB-417C-45FC-986E-510B9D76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762-9A2B-49B3-8AC8-8347F045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B9ED5-F018-4D62-863E-6E2FD82E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8858A-DF93-4E05-9285-6457279C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331B6-C464-4F89-BF03-0F4C0C8E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665E1-BF07-4C09-ADBD-58FE337C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CB4F9-D706-4620-91D3-C1FE7DEA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B8C8C-6DEC-43CA-B3FA-004AC0F2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90E5E-BC54-4ED1-9FF5-B40CC92F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B09BD-8255-450D-B15F-118478B9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DB1B3-D592-49C9-85FE-DB1F11C4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0E297-1692-4466-920B-79B116F5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EFD-8BAD-47A7-9D46-4A3171E1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CB42F-8D64-4506-BBB1-E2CD7BDD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90072-F4DB-486A-908C-B6557EE5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E7C95-5912-4C3F-821E-6DD5A96A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D9CA9-8CD2-4E58-8B4F-ED0437EA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AED60-878E-4AA8-B6CA-5FB9B67D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E7255-FE9F-4B8E-B78E-075FBB4F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C9ED9-DE6B-4CF5-B95C-F1290F21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1C3DB-E668-4FA5-917A-BA26C472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E7F83-6087-4444-8487-01CEED8F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1F5D8-BB33-479C-984A-282C9EA6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CC35-09B0-441F-A103-68E11F06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9167D-553D-4381-992E-FEB9C6F0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5CAAE-BA9B-4F4E-B75B-FDEDB1F3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6A0A5-975E-4AD1-BCA3-1A46146C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3E812-7E92-471D-A2B3-020608D8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A874C-0AFB-48DD-B134-E959C23D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6AA1F-6512-4FA4-977B-7CA00DE5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2A203-6865-4292-9F47-7F6A5DCF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7D623-87EE-471F-B5C2-94211A74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2F9E1-EC9E-4422-B470-71C40FA1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C1879-3219-4478-B7ED-34F318DA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987F-2AFF-4101-AC8C-0D4F4704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F3FF8-7FD9-47A4-80CE-D0C9895E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FE45B-8FF3-4635-9483-4E78AF54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36AA7-A36F-4389-AAE2-EC93642F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88588-5EBF-4B0E-8F9F-98E8B45B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22E11-83A4-4629-992C-D4E17513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AF350-B546-49F4-BC3D-B15B4D9D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C3021-90CB-4543-8BF4-FDFEB687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E7F5B-F5EB-41B4-9DC5-8E378F43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CD7D44-09EE-478A-9E0E-9BBFDB24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AF942-E7E6-473E-B27E-04277AE7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1B9E-4C7E-4750-8ED6-19CFC175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9500F8-DF42-494A-BF3B-82E82EFD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988EA-A9F3-4288-94B8-CB1FBC2B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2060F-32EA-4D68-AA7B-C368C9BF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81B92-28A1-4A2A-B888-1D22C114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0D8E9-CB82-44CE-AD9D-9486A0DE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0090C-8C08-468F-9439-92B1E73F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72A1C-54FB-4C84-B9B1-06DABCEC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AA66D0-436E-484B-AD59-DC0DDBA1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C7EB8-27B3-4A91-AA02-CD2E51A9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886093-4C3D-494F-BA71-0EA09C8B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55C4-7860-4080-BC88-F7434937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BA672D-AF50-44AE-B592-CED2850E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180106-8B6C-4393-B22F-B4849F7F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04CF31-62E2-4207-A146-D3365F6D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49C82D-0F2C-43FB-BB6E-345B6F8D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E5ABB0-6D2F-4B3E-A2CC-FEF393D2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03D727-B5F6-4915-A7D7-C4DDA8A2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89B78D-E9AE-4FCB-85FA-8B89E16A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786A25-3941-44EF-B2FB-0E99F5CE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C55712-035D-45A6-A247-5FEB5A19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A7C714-34B9-4B0D-8C78-D667B73B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96ED-2F06-44B5-9793-9D7E6654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4C5F1-FB66-4324-9CD2-A3F517A1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BD620A-6FA3-47DA-A5B0-42A15F3F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B23B4B-9DF3-45EF-B777-353BC948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1387B4-721D-48FC-AC62-696EF440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D54403-CD0B-4F98-9DBF-9FD78CAF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D16131-3E36-40C5-9D84-A666EF98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571C18-D027-4572-8AEC-3CE2EDB9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DE33CC-212B-44AA-A187-94B9BC00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CF5652-0A1C-4E08-A896-3B701F0A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75BE39-C8E7-4DC3-852B-E6DBA82E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9405-9B6E-4247-B9E4-F410C131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EAF998-DFC3-438E-A1C6-FB8D80B6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4987-8AC6-49FE-B6A7-909BAF61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9FE-0805-4667-8D27-429BDBCB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161F-0BA0-4BCC-A6C1-06871BC7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817C-C27D-4852-9E54-2B8B38D8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8D14-AE53-4719-9589-F3F608F0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6451-6602-4969-BEC0-101D618C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0F56-99D3-47C3-B373-99D9A1B2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F2D79-4DF1-48F1-BC79-036826E4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E3916-7E97-4C74-9125-C1BC6962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2FC41-4631-4E13-B672-A514FF63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1202C-1DB2-4A8F-86FD-67470A12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2CF49-AEE4-435B-8D40-4ECA9739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296-936A-4961-979C-9472276E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56C05-1EFB-4B79-B198-DA136B27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35D07-C520-42A9-B97B-5471E44C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9197D-5CD8-48E0-8775-BF9E03C3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96ABC-B81A-4467-BA37-18758297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CE44F-AF43-43BD-BAFB-EBFD2175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1E7B1-F9B5-492D-B962-D2FEFB47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2EE6F-DFDB-4201-9F25-EC4F2F3A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CBF57-6BD4-4415-91CD-C2DD7CED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14718-C285-4DDF-8D1E-8D4008F7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C937F-36D0-4F51-8FDB-1BF9C573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6A03-DA0E-48D5-AD1F-812E1F6A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340AD-FE4A-44E8-B797-8115B4AD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AC492-3267-42FE-9DF0-9DCB60CA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E86B2-AB5A-4169-BCEE-868FC29C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AF79B-6C0B-4C0C-9AB2-E3C063E2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3B3BB-4F6D-44A5-AABF-6C476674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238CB-81D7-42E2-AA34-538B6E33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702CE-422E-4D76-BA07-483D3D75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073CC-3203-4126-8604-C22CCBA4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09C12-5AE2-4CDA-A90F-90EC8236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0C884-612F-4DE8-B410-54968EC9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AB50-3BF5-422A-A52F-92DE9F4A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D0592-28F1-4A89-A92D-A7DC1C09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CFA01-2FAD-45AB-BA2D-0161572E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EC6A5-E74E-4889-B16E-4679A0C1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3A746-361C-4B61-B02D-15020734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800B8-1797-473F-8CEF-406277DF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33613-E7B5-4988-B100-0CA1D7AA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A0E30-16D1-4DA6-A3EA-47B69448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285F8-B778-4806-8E0E-8E2B2328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D2AC6-B926-480B-836D-34D3B6D9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231E1-6605-4213-B805-93873391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A28-7430-405B-8638-3A57F889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69E91-1A90-47CB-9667-9BDAF36B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AFCC3-57AF-41B6-98C5-902689E3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1E384-502B-4257-B4EC-9B821267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EF694-2FE6-401E-B5D7-B577E4A6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66B08-2E04-4E5C-9C2E-5D8D01CB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826BC-0F68-429B-8958-228B72A0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9952F-7E78-4157-976B-A29A7B02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AEF06-E657-4582-BB60-167F0EDA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7052F-EE56-409C-9843-BE370C57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74B38-8AC3-4E9E-A51C-B4B161B5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050-60FF-4092-9250-84A37212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BD0BF-64FC-49B5-B54F-CD776BCB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1EF03-8CC1-4B20-9DB7-76EDBA0F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437A8-68F0-4796-B3DC-29E67507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C87755-DDC6-4876-AC11-8CFF5620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DE08DC-FCD6-4F68-ABD9-28FC8024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06A03B-1D9E-496C-9E64-A39E1552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82E841-A2F8-4281-B3D4-752017FE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CBCA45-E5A5-4385-B6D0-A173E964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89F152-53BA-4758-8DD4-29EC80A9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531E84-2A30-4DAE-AAF7-87BDA367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D3D-D628-4567-A688-705CCA69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D56258-A88E-46FB-AFCE-A2B5388A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D1C919-7764-4E83-913D-5408B5F7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8354E0-22DC-4133-8BCB-1A394DA7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C6D2E5-E64E-48E6-B552-180A9374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4D37FF-3FEB-4C83-8FB3-23715206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2C252-58C7-45A6-A361-30AE653E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C11F4-CE0D-4A7D-A395-1CAE0457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7C173-1E3B-48E4-80B3-47814B75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9E3D7-9007-46FC-9286-D2596394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2552B-408D-4848-B59C-9041C400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D5E-C0A8-43A4-9C98-335292F0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7F309-46FB-42C0-A368-F23D58DF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28D9C-5F0E-486D-9431-A2CEC524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8B456-B8C7-4BC7-8EC3-00BFE746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D225F-2066-46A1-B138-B9FC1B74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52DAE-75D3-4519-B972-1733769F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ECDC3-7D03-4FE2-A333-93A01F59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5B651-FAFB-46F9-B90D-1C000EB1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E6C2F-83FD-4B49-BDB2-5075A82E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0FA3E-8ED1-478A-B8A3-5AE52753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E205C-A83D-41C4-8955-9990F043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133.xml"/><Relationship Id="rId35" Type="http://schemas.openxmlformats.org/officeDocument/2006/relationships/slideLayout" Target="../slideLayouts/slideLayout134.xml"/><Relationship Id="rId36" Type="http://schemas.openxmlformats.org/officeDocument/2006/relationships/slideLayout" Target="../slideLayouts/slideLayout135.xml"/><Relationship Id="rId37" Type="http://schemas.openxmlformats.org/officeDocument/2006/relationships/slideLayout" Target="../slideLayouts/slideLayout136.xml"/><Relationship Id="rId38" Type="http://schemas.openxmlformats.org/officeDocument/2006/relationships/slideLayout" Target="../slideLayouts/slideLayout137.xml"/><Relationship Id="rId39" Type="http://schemas.openxmlformats.org/officeDocument/2006/relationships/slideLayout" Target="../slideLayouts/slideLayout138.xml"/><Relationship Id="rId40" Type="http://schemas.openxmlformats.org/officeDocument/2006/relationships/slideLayout" Target="../slideLayouts/slideLayout139.xml"/><Relationship Id="rId41" Type="http://schemas.openxmlformats.org/officeDocument/2006/relationships/slideLayout" Target="../slideLayouts/slideLayout140.xml"/><Relationship Id="rId42" Type="http://schemas.openxmlformats.org/officeDocument/2006/relationships/slideLayout" Target="../slideLayouts/slideLayout141.xml"/><Relationship Id="rId43" Type="http://schemas.openxmlformats.org/officeDocument/2006/relationships/slideLayout" Target="../slideLayouts/slideLayout142.xml"/><Relationship Id="rId44" Type="http://schemas.openxmlformats.org/officeDocument/2006/relationships/slideLayout" Target="../slideLayouts/slideLayout143.xml"/><Relationship Id="rId4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6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slideLayout" Target="../slideLayouts/slideLayout145.xml"/><Relationship Id="rId32" Type="http://schemas.openxmlformats.org/officeDocument/2006/relationships/slideLayout" Target="../slideLayouts/slideLayout146.xml"/><Relationship Id="rId33" Type="http://schemas.openxmlformats.org/officeDocument/2006/relationships/slideLayout" Target="../slideLayouts/slideLayout147.xml"/><Relationship Id="rId34" Type="http://schemas.openxmlformats.org/officeDocument/2006/relationships/slideLayout" Target="../slideLayouts/slideLayout148.xml"/><Relationship Id="rId35" Type="http://schemas.openxmlformats.org/officeDocument/2006/relationships/slideLayout" Target="../slideLayouts/slideLayout149.xml"/><Relationship Id="rId36" Type="http://schemas.openxmlformats.org/officeDocument/2006/relationships/slideLayout" Target="../slideLayouts/slideLayout150.xml"/><Relationship Id="rId37" Type="http://schemas.openxmlformats.org/officeDocument/2006/relationships/slideLayout" Target="../slideLayouts/slideLayout151.xml"/><Relationship Id="rId38" Type="http://schemas.openxmlformats.org/officeDocument/2006/relationships/slideLayout" Target="../slideLayouts/slideLayout152.xml"/><Relationship Id="rId39" Type="http://schemas.openxmlformats.org/officeDocument/2006/relationships/slideLayout" Target="../slideLayouts/slideLayout153.xml"/><Relationship Id="rId40" Type="http://schemas.openxmlformats.org/officeDocument/2006/relationships/slideLayout" Target="../slideLayouts/slideLayout154.xml"/><Relationship Id="rId41" Type="http://schemas.openxmlformats.org/officeDocument/2006/relationships/slideLayout" Target="../slideLayouts/slideLayout155.xml"/><Relationship Id="rId4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7B02-4AB9-4F3A-AE21-2625A0D31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28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41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DE88-9E2B-4D6F-A755-C28F06C2C40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08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21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EAEC-EF15-4592-AF0B-F6159DC0CD9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8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9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0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1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1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3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5C20-AA1D-4682-862B-131FD4096C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4"/>
    <p:sldLayoutId id="2147483793" r:id="rId35"/>
    <p:sldLayoutId id="2147483794" r:id="rId36"/>
    <p:sldLayoutId id="2147483795" r:id="rId37"/>
    <p:sldLayoutId id="2147483796" r:id="rId38"/>
    <p:sldLayoutId id="2147483797" r:id="rId39"/>
    <p:sldLayoutId id="2147483798" r:id="rId40"/>
    <p:sldLayoutId id="2147483799" r:id="rId41"/>
    <p:sldLayoutId id="2147483800" r:id="rId42"/>
    <p:sldLayoutId id="2147483801" r:id="rId43"/>
    <p:sldLayoutId id="2147483802" r:id="rId44"/>
    <p:sldLayoutId id="2147483803" r:id="rId4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8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8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8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8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9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9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0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0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2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dt" idx="3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ftr" idx="3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sldNum" idx="3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5023-B980-4257-9969-750D1F2A4A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1"/>
    <p:sldLayoutId id="2147483806" r:id="rId32"/>
    <p:sldLayoutId id="2147483807" r:id="rId33"/>
    <p:sldLayoutId id="2147483808" r:id="rId34"/>
    <p:sldLayoutId id="2147483809" r:id="rId35"/>
    <p:sldLayoutId id="2147483810" r:id="rId36"/>
    <p:sldLayoutId id="2147483811" r:id="rId37"/>
    <p:sldLayoutId id="2147483812" r:id="rId38"/>
    <p:sldLayoutId id="2147483813" r:id="rId39"/>
    <p:sldLayoutId id="2147483814" r:id="rId40"/>
    <p:sldLayoutId id="2147483815" r:id="rId41"/>
    <p:sldLayoutId id="2147483816" r:id="rId4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7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15A1-8A40-42D8-8F14-518EFB003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dt" idx="4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ftr" idx="4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87C8-E5B4-47C4-A0B9-61DF905A00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F23D-B513-48FA-A35C-81804B6B6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9F0C-8240-4424-B955-C379E2846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23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F3E3-9415-4745-83F0-DC04CD7B67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8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0C84-ECC1-41AD-AF26-BAF4DEC4F3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9767-589A-4B94-9212-99859A59F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34B9-976F-4B89-A5C5-A9C71DF76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9828-DF19-414F-B44F-9F19F3B59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78B4-6D0C-48F4-B6FB-64172D687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e5ffff"/>
                </a:solidFill>
                <a:latin typeface="Tahoma"/>
              </a:rPr>
              <a:t>Государственное вечернее(сменное)общеобразовательное </a:t>
            </a:r>
            <a:br>
              <a:rPr sz="1200"/>
            </a:br>
            <a:r>
              <a:rPr b="1" lang="ru-RU" sz="1200" spc="-1" strike="noStrike">
                <a:solidFill>
                  <a:srgbClr val="e5ffff"/>
                </a:solidFill>
                <a:latin typeface="Tahoma"/>
              </a:rPr>
              <a:t>учреждение «Республиканский центр образования». </a:t>
            </a:r>
            <a:br>
              <a:rPr sz="1200"/>
            </a:br>
            <a:r>
              <a:rPr b="1" lang="ru-RU" sz="1200" spc="-1" strike="noStrike">
                <a:solidFill>
                  <a:srgbClr val="e5ffff"/>
                </a:solidFill>
                <a:latin typeface="Tahoma"/>
              </a:rPr>
              <a:t>Ухтинский филиал.</a:t>
            </a:r>
            <a:br>
              <a:rPr sz="1200"/>
            </a:br>
            <a:br>
              <a:rPr sz="1200"/>
            </a:b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Проектно-информационная работа 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ема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Учет влажности возду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полнил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Рочев 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еник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8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лас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уководитель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: Плехова Н.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.УХ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011-2012г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i-main-pic" descr="Картинка 5 из 43840"/>
          <p:cNvPicPr/>
          <p:nvPr/>
        </p:nvPicPr>
        <p:blipFill>
          <a:blip r:embed="rId1"/>
          <a:stretch/>
        </p:blipFill>
        <p:spPr>
          <a:xfrm>
            <a:off x="755640" y="620640"/>
            <a:ext cx="788184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ПИЩЕВАЯ ОТРАСЛЬ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и выпечке хлеба окончательная расстойка теста – важна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технологическая операция, от которой зависит качество изделий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а длительность расстойки теста влияет температура и относительная влажность воздуха в расстоечных камерах: при высокой относительной влажности воздуха этот процесс протекает быстрее. Так, при повышении температуры с 300С до 45 0С и относительной влажности 80-85% время расстойки сокращается на 25-30%. Однако относительную влажно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оздуха нельзя поддерживать выше 85%, так как при этом тесто будет прилипать к расстоечным доскам. Лучшими условиями для окончател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ной расстойки являются температура воздуха 35-400С и относительная влажность 75-85%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i-main-pic" descr="Картинка 15 из 40672"/>
          <p:cNvPicPr/>
          <p:nvPr/>
        </p:nvPicPr>
        <p:blipFill>
          <a:blip r:embed="rId1"/>
          <a:stretch/>
        </p:blipFill>
        <p:spPr>
          <a:xfrm>
            <a:off x="684360" y="404640"/>
            <a:ext cx="757548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ЕРНОХРАНИЛИЩ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Поступление в переработку зерна, недостаточно увлажненного,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неизбежно приведет к выработке муки с крупностью выше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стандартной, а при переувлажнении зерна – к высокой влажности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отрубей и снижению производительности. Разумеется, это зависит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от влажности окружающего воздуха и условий хранения зерна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Санитарные нормы в складских помещениях хлебопекарной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промышленности: хранить муку следует при температуре воздух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не выше 10—12°С и относительной влажности 75%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При нарушении температурно-влажностного режима создается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опасность размножения мучных вредителей в складе муки.</a:t>
            </a:r>
            <a:r>
              <a:rPr b="0" lang="en-U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i-main-pic" descr="Картинка 2 из 69010"/>
          <p:cNvPicPr/>
          <p:nvPr/>
        </p:nvPicPr>
        <p:blipFill>
          <a:blip r:embed="rId1"/>
          <a:stretch/>
        </p:blipFill>
        <p:spPr>
          <a:xfrm>
            <a:off x="684360" y="333360"/>
            <a:ext cx="792468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НОВОРОЖДЕННЫЙ в КЮВЕЗ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 всем мире около 6% детей рождаются раньше положенного времени, обычно в период с 28 по 37 недели. Организм недоношенного ребенка не совсем адаптирован к внешней среде. Малыш не способен самостоятельн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ышать. Поэтому необходимо создать микроклимат, максимально соответствующий тому, в котором ребенок находился до рожд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этого в отделении реанимации есть так называемый инкубатор - кювез, обеспечивающий новорожденного необходимой температурой, влажность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духа и оптимальной концентрацией кислор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нкубаторах - кювезах контроль всех параметров осуществляется автоматически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i-main-pic" descr="Картинка 11 из 47"/>
          <p:cNvPicPr/>
          <p:nvPr/>
        </p:nvPicPr>
        <p:blipFill>
          <a:blip r:embed="rId1"/>
          <a:stretch/>
        </p:blipFill>
        <p:spPr>
          <a:xfrm>
            <a:off x="324000" y="404640"/>
            <a:ext cx="8055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Памятка гитаристу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Очень важно: никогда не оставляйте гитару висеть на стене в зимний период! Тепло от обогревателей поднимается вверх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У пола может быть 18 0, в полутора метрах от пола – 22 0, а у потолка - 270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лажность воздуха напрямую зависит от его температуры. Поэтому чем ниже находится гитара, тем меньшей угрозе она подвергаетс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ля безопасности вашей гитары влажность в доме должна быть примерно 45% при 22 0С. Если влажность ниже, то могут начаться пробле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i-main-pic" descr="Картинка 4 из 19"/>
          <p:cNvPicPr/>
          <p:nvPr/>
        </p:nvPicPr>
        <p:blipFill>
          <a:blip r:embed="rId1"/>
          <a:stretch/>
        </p:blipFill>
        <p:spPr>
          <a:xfrm>
            <a:off x="611280" y="404640"/>
            <a:ext cx="806112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Влияние  влажности      воздуха    на  здоровье  человек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лажность – важный  показатель  комфортности  атмосферы жилых  помещ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оздух  с  влажностью: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о  55%  считается  сухи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т  56% - 70% -умеренно  сухи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т  71%  - 85% -умеренно  влажны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выше  85% - сильно  влажны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пасна  как  повышенная  влажность, так  и пониженная влаж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ак  мы  можем  в  домашних  условиях  влиять  на  влажность  воздух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ё  можно  понижать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проветривани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повышением  температур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а также  повышать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если дополнительно поставить  воду  у  батаре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или включить  увлажнитель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88280" y="507240"/>
            <a:ext cx="8190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ь 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собрать дополнительную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  учете  влажности    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расширить свой кругозор по теме «Влаж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научиться самостоятельно добывать интересу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териал из дополнительных источ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выделять из большого объема представленно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формации   гла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выработать навыки оформления своей работы раз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риан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4038840" cy="2187720"/>
          </a:xfrm>
          <a:prstGeom prst="rect">
            <a:avLst/>
          </a:prstGeom>
          <a:ln w="0">
            <a:noFill/>
          </a:ln>
        </p:spPr>
      </p:pic>
      <p:pic>
        <p:nvPicPr>
          <p:cNvPr id="1004" name="i-main-pic" descr="Картинка 0 из 8074"/>
          <p:cNvPicPr/>
          <p:nvPr/>
        </p:nvPicPr>
        <p:blipFill>
          <a:blip r:embed="rId2"/>
          <a:stretch/>
        </p:blipFill>
        <p:spPr>
          <a:xfrm>
            <a:off x="3780000" y="3357720"/>
            <a:ext cx="3809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476280" y="772200"/>
            <a:ext cx="82198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клю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нная работа показывает, что , влажность- важ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зическая величина. Её необходимо учитывать 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ногих отраслях производства, в быту, медиц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бывать самостоятельно  дополнительную информ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процесс интере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деюсь, что в ближайшем будущем нам буд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оставлена возможность поль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ов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ернет-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187280" y="836640"/>
            <a:ext cx="45720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изика. 8класс (ПерышкинА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нформация, предоставленная учите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з Интернет-ресур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1909800" y="1843920"/>
            <a:ext cx="506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С П А С И Б 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сновное содержание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нигохранилища, музеи, архив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араметры относительной влажности и температуры в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картинной галерее, печатном цехе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тносительная влажност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емпература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им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5-55%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19-23 0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Лет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0-60%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18-22 0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i-main-pic" descr="Картинка 41 из 108843"/>
          <p:cNvPicPr/>
          <p:nvPr/>
        </p:nvPicPr>
        <p:blipFill>
          <a:blip r:embed="rId1"/>
          <a:stretch/>
        </p:blipFill>
        <p:spPr>
          <a:xfrm>
            <a:off x="971640" y="333360"/>
            <a:ext cx="724032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i-main-pic" descr="Картинка 37 из 152866"/>
          <p:cNvPicPr/>
          <p:nvPr/>
        </p:nvPicPr>
        <p:blipFill>
          <a:blip r:embed="rId1"/>
          <a:stretch/>
        </p:blipFill>
        <p:spPr>
          <a:xfrm>
            <a:off x="1332000" y="1052640"/>
            <a:ext cx="7524720" cy="50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Текстильная промышленность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Низкая влажность в текстильном производстве, а впоследствии и при хранении материалов, может привести к серьезным негативным последствиям: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. происходит обрыв нитей из-за того, что текстильные волокна в процессе     трения теряют эластичность и прочность, становятся более тонкими и хрупкими;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овышение температуры при трении и электростатического напряжения, ведущее к пожароопасности в цехах;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увеличение содержание пыли, текстильных волокон приводит к ухудшению самочувствия работающего персонала,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возникновению респираторных заболеваний, аллергических реакций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Требуемые параметры влажности, влияющие на технологический процесс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Наименование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материала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Прядильное   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еремотка нитей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        Ткацкое       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Шерсть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      50-65%  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  60-65% 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                        50-60%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Хлопок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      55-60%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              50-65%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                        70-85%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Персонал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      60-65%  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eaeaea"/>
                </a:solidFill>
                <a:latin typeface="Verdana"/>
              </a:rPr>
              <a:t>     60-70%                                 60-70%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ЕРЕВООБРАБОТ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ажность воздуха и исходного сырья имеет  больш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начение для  деревообрабатывающих предприятий, занят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готовлением оконного, конструкционного бруса, мебе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щита, столярных изделий, шпона, мебели и т.д.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достаток влаги воздуха приводит к нарушениям технологического процесс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 пересыхании древесины происходит образов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верхностных трещин, ее расслаивание, растрескивание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формировани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ересушенная древесина поглощает растворяющие вещ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 лакокрасочных покрытий, в результате чего поверхность становится шероховатой, теряется глянец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леевые швы оказываются недолговечны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ак как пересушенная древесина впитывает растворитель до момента отвердевания кле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ажна также и влажность самого дерева, которая не должна превышать 15%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i-main-pic" descr="Картинка 43 из 71"/>
          <p:cNvPicPr/>
          <p:nvPr/>
        </p:nvPicPr>
        <p:blipFill>
          <a:blip r:embed="rId1"/>
          <a:stretch/>
        </p:blipFill>
        <p:spPr>
          <a:xfrm>
            <a:off x="409680" y="836640"/>
            <a:ext cx="815796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Производство цемен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сли воздух переувлажнен, цемент будет комковат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роме того, в осенне-весенний период перед загрузкой осушают помещение, где находится готовый цемент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лажность воздуха не должна быть менее 50%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7:44:00Z</dcterms:created>
  <dc:creator>Ivan</dc:creator>
  <dc:description/>
  <dc:language>en-US</dc:language>
  <cp:lastModifiedBy>Ivan</cp:lastModifiedBy>
  <dcterms:modified xsi:type="dcterms:W3CDTF">2012-03-12T16:32:19Z</dcterms:modified>
  <cp:revision>4</cp:revision>
  <dc:subject/>
  <dc:title>  Государственное вечернее(сменное)общеобразовательное  учреждение «Республиканский центр образования».  Ухтинский филиал.  Проектно-информационная работа  </dc:title>
</cp:coreProperties>
</file>