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13.png" ContentType="image/png"/>
  <Override PartName="/ppt/media/image10.png" ContentType="image/png"/>
  <Override PartName="/ppt/media/image6.png" ContentType="image/png"/>
  <Override PartName="/ppt/media/image7.gif" ContentType="image/gif"/>
  <Override PartName="/ppt/media/image12.gif" ContentType="image/gif"/>
  <Override PartName="/ppt/media/image5.png" ContentType="image/pn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B9D5-C6CB-4EF9-9CC9-BDEBD76EC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4C6B-AFBC-4DAA-9A73-66794EA4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4687-A1BA-45B8-884D-3FFC57542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089D-FFC6-4D7F-8241-82A711E66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6F43-C300-48FA-87E1-A2ED819E9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0A3E-775B-4110-81EB-FE06C242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48691-B613-4959-94AB-CDE16E99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9BE6-62B4-42D7-AFD2-C0AF1358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02BE-ED38-43F3-9272-8B1CDC51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6059-22E7-4D3D-BE69-54FB4994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4DB4-1AE6-47C9-A62A-FC438EB2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2ED3-9D58-477C-AA5A-182B7416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C693-521D-4AB0-9050-62A01328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BB01-B83E-4279-9626-C2A611CD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7998-EE5E-4F5A-AC18-03B3C1B0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325C5-7831-4459-8B39-6ADF6939F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CAE7-ADA3-4AFD-AE17-75B6C39AE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CBAB-19DA-4079-8815-387E4D53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3C85-87F4-4D49-B9D3-953E0AB0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32A6-A101-4D27-A827-3B66A3AC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EEB4-2B7F-4FF0-87A4-FD0FE1D9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803A-66B3-490E-B8BA-C29B4562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E7F1-FF98-49FA-8F73-251838DC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6203-9F24-4ACD-B6C9-59ACB639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391A-08EF-4888-8FC6-11BB9D790D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7E77-CE36-4012-94D3-876DC85B9C3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 здоровом теле- здоровый дух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2"/>
          <a:stretch/>
        </p:blipFill>
        <p:spPr>
          <a:xfrm>
            <a:off x="3276720" y="1981080"/>
            <a:ext cx="3047760" cy="26416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sun_200"/>
          <p:cNvPicPr/>
          <p:nvPr/>
        </p:nvPicPr>
        <p:blipFill>
          <a:blip r:embed="rId3"/>
          <a:stretch/>
        </p:blipFill>
        <p:spPr>
          <a:xfrm>
            <a:off x="304920" y="11430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9" descr=""/>
          <p:cNvPicPr/>
          <p:nvPr/>
        </p:nvPicPr>
        <p:blipFill>
          <a:blip r:embed="rId4"/>
          <a:stretch/>
        </p:blipFill>
        <p:spPr>
          <a:xfrm>
            <a:off x="6553080" y="5038560"/>
            <a:ext cx="1676520" cy="12909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001000" cy="15080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ccecff"/>
                </a:solidFill>
                <a:latin typeface="DFKai-SB"/>
              </a:rPr>
              <a:t>Правильный режим дня школьника — это целесообразно организованный  распорядок суточной деятельности,  повторяющийся изо дня в день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. 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8" name="Picture 6" descr=""/>
          <p:cNvPicPr/>
          <p:nvPr/>
        </p:nvPicPr>
        <p:blipFill>
          <a:blip r:embed="rId1"/>
          <a:stretch/>
        </p:blipFill>
        <p:spPr>
          <a:xfrm>
            <a:off x="2590920" y="2209680"/>
            <a:ext cx="2590560" cy="26384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623081063"/>
          <p:cNvPicPr/>
          <p:nvPr/>
        </p:nvPicPr>
        <p:blipFill>
          <a:blip r:embed="rId2"/>
          <a:stretch/>
        </p:blipFill>
        <p:spPr>
          <a:xfrm>
            <a:off x="6019920" y="3733920"/>
            <a:ext cx="190476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ПИРАМИДА ПИТ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Picture 4" descr="17357574"/>
          <p:cNvPicPr/>
          <p:nvPr/>
        </p:nvPicPr>
        <p:blipFill>
          <a:blip r:embed="rId1"/>
          <a:stretch/>
        </p:blipFill>
        <p:spPr>
          <a:xfrm>
            <a:off x="2514600" y="2286000"/>
            <a:ext cx="380988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Быстрее, выше, сильнее!»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304920" y="4648320"/>
            <a:ext cx="2098440" cy="19922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"/>
          <p:cNvPicPr/>
          <p:nvPr/>
        </p:nvPicPr>
        <p:blipFill>
          <a:blip r:embed="rId2"/>
          <a:stretch/>
        </p:blipFill>
        <p:spPr>
          <a:xfrm>
            <a:off x="2895480" y="2057400"/>
            <a:ext cx="2590920" cy="2717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9"/>
          <p:cNvPicPr/>
          <p:nvPr/>
        </p:nvPicPr>
        <p:blipFill>
          <a:blip r:embed="rId3"/>
          <a:stretch/>
        </p:blipFill>
        <p:spPr>
          <a:xfrm>
            <a:off x="6324480" y="36576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" descr="13"/>
          <p:cNvPicPr/>
          <p:nvPr/>
        </p:nvPicPr>
        <p:blipFill>
          <a:blip r:embed="rId4"/>
          <a:stretch/>
        </p:blipFill>
        <p:spPr>
          <a:xfrm>
            <a:off x="457200" y="2209680"/>
            <a:ext cx="1828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7" descr=""/>
          <p:cNvPicPr/>
          <p:nvPr/>
        </p:nvPicPr>
        <p:blipFill>
          <a:blip r:embed="rId1"/>
          <a:stretch/>
        </p:blipFill>
        <p:spPr>
          <a:xfrm>
            <a:off x="1495440" y="2770200"/>
            <a:ext cx="3095640" cy="21826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ccecff"/>
                </a:solidFill>
                <a:uFillTx/>
                <a:latin typeface="Arial"/>
              </a:rPr>
              <a:t>Формула здоровья (100%) =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(10%) медицина +(20%) наследственность +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(20%) окружающая среда + (50%) образ жи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4" descr="2"/>
          <p:cNvPicPr/>
          <p:nvPr/>
        </p:nvPicPr>
        <p:blipFill>
          <a:blip r:embed="rId2"/>
          <a:stretch/>
        </p:blipFill>
        <p:spPr>
          <a:xfrm>
            <a:off x="3048120" y="5105520"/>
            <a:ext cx="557208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9:14:24Z</dcterms:created>
  <dc:creator>Леночек</dc:creator>
  <dc:description/>
  <dc:language>en-US</dc:language>
  <cp:lastModifiedBy>Домашний</cp:lastModifiedBy>
  <dcterms:modified xsi:type="dcterms:W3CDTF">2012-05-29T14:21:13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