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3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12.gif" ContentType="image/gif"/>
  <Override PartName="/ppt/media/image5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410-7871-4CC6-A531-042F7802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6A2-5043-412A-AE10-FA6A97D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2B6-134A-492A-86B0-F91AB60A0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FB1-0B09-4DD9-A843-8D8F52D4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460F-7583-4F3C-B6D7-93A93E9B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5F0C-5375-43FF-B877-8CBFF004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CAC6-5135-4763-B8E1-7B69E2EF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FA4E-A5C7-4720-86D7-AA86411F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7C03-6C57-4658-8960-4B522B76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76CC-54FE-445C-9297-996D1519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014-3CE7-42B9-9189-7D466A5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AD6-E0EA-4B2C-BD76-DD7395EA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A6A-2500-43EA-BC0A-DC03109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09B-D256-4D72-90A3-2C9337A4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E41-DE61-47AB-9484-B4E4796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4A15-3845-4BE6-80BA-055A61F2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AAD-1316-48B0-9DB3-2C107E4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547-D013-45F6-A071-CCAFA49A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5AD-2BEA-4326-A849-80780C2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E5F-1D38-4439-8722-71FB8E73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363-EDB2-40F7-8BF4-7FE162AA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FA0-874E-4F8D-AA0A-4951B800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81F-441C-4ED5-9479-6FF42F9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1A7-B5A9-4774-BC13-687DD656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3F5C-C88F-43B2-9C92-510DF4867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A04D-3EB9-4F78-8EDC-9385840E25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здоровом теле- здоровый дух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276720" y="1981080"/>
            <a:ext cx="3047760" cy="2641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un_200"/>
          <p:cNvPicPr/>
          <p:nvPr/>
        </p:nvPicPr>
        <p:blipFill>
          <a:blip r:embed="rId3"/>
          <a:stretch/>
        </p:blipFill>
        <p:spPr>
          <a:xfrm>
            <a:off x="304920" y="114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4"/>
          <a:stretch/>
        </p:blipFill>
        <p:spPr>
          <a:xfrm>
            <a:off x="6553080" y="5038560"/>
            <a:ext cx="1676520" cy="1290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1508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ccecff"/>
                </a:solidFill>
                <a:latin typeface="DFKai-SB"/>
              </a:rPr>
              <a:t>Правильный режим дня школьника — это целесообразно организованный  распорядок суточной деятельности,  повторяющийся изо дня в день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2590560" cy="2638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623081063"/>
          <p:cNvPicPr/>
          <p:nvPr/>
        </p:nvPicPr>
        <p:blipFill>
          <a:blip r:embed="rId2"/>
          <a:stretch/>
        </p:blipFill>
        <p:spPr>
          <a:xfrm>
            <a:off x="6019920" y="3733920"/>
            <a:ext cx="19047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ПИРАМИДА ПИТ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4" descr="17357574"/>
          <p:cNvPicPr/>
          <p:nvPr/>
        </p:nvPicPr>
        <p:blipFill>
          <a:blip r:embed="rId1"/>
          <a:stretch/>
        </p:blipFill>
        <p:spPr>
          <a:xfrm>
            <a:off x="2514600" y="2286000"/>
            <a:ext cx="3809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Быстрее, выше, сильнее!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304920" y="4648320"/>
            <a:ext cx="2098440" cy="1992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2590920" cy="2717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9"/>
          <p:cNvPicPr/>
          <p:nvPr/>
        </p:nvPicPr>
        <p:blipFill>
          <a:blip r:embed="rId3"/>
          <a:stretch/>
        </p:blipFill>
        <p:spPr>
          <a:xfrm>
            <a:off x="6324480" y="3657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13"/>
          <p:cNvPicPr/>
          <p:nvPr/>
        </p:nvPicPr>
        <p:blipFill>
          <a:blip r:embed="rId4"/>
          <a:stretch/>
        </p:blipFill>
        <p:spPr>
          <a:xfrm>
            <a:off x="457200" y="22096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1495440" y="2770200"/>
            <a:ext cx="3095640" cy="21826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Формула здоровья (100%) =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10%) медицина +(20%) наследственность +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20%) окружающая среда + (50%) образ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2"/>
          <p:cNvPicPr/>
          <p:nvPr/>
        </p:nvPicPr>
        <p:blipFill>
          <a:blip r:embed="rId2"/>
          <a:stretch/>
        </p:blipFill>
        <p:spPr>
          <a:xfrm>
            <a:off x="3048120" y="5105520"/>
            <a:ext cx="55720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9:14:24Z</dcterms:created>
  <dc:creator>Леночек</dc:creator>
  <dc:description/>
  <dc:language>en-US</dc:language>
  <cp:lastModifiedBy>Домашний</cp:lastModifiedBy>
  <dcterms:modified xsi:type="dcterms:W3CDTF">2012-05-29T14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