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92D-072C-4165-9F54-544975E4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E1B-EED0-4FDB-8463-BA3052F1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989-7C6D-4D92-AEA7-ACEBF641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1F5-9DA4-427C-9B02-D1868171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2F0-D1B5-434A-93CF-9294E422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EA4-3C20-4426-B2BF-95454ABC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592-F0C7-436A-B7F4-5CD4C3A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969-E5C3-4858-B838-AA67BC30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945-AF77-4E92-ACAD-99758D6E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8D9-701C-4BFF-B3DC-1A03AE4F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2BE-FCE7-4816-96E3-6B49F187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42F-86F0-4757-B980-F0221E31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033D-F441-4FF9-BD6C-6A3450D7D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вук и буква 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грамоте в подготовительной к школе 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043000">
            <a:off x="755280" y="2060640"/>
            <a:ext cx="1346040" cy="162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260000">
            <a:off x="6876720" y="1916280"/>
            <a:ext cx="1614600" cy="16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67280" y="476280"/>
            <a:ext cx="1411200" cy="143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258920" y="5229360"/>
            <a:ext cx="178920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724360" y="5157720"/>
            <a:ext cx="12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404640"/>
            <a:ext cx="8424720" cy="6048720"/>
          </a:xfrm>
          <a:prstGeom prst="rect">
            <a:avLst/>
          </a:prstGeom>
          <a:solidFill>
            <a:srgbClr val="eecb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10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19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04000" cy="622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3141720"/>
            <a:ext cx="1584360" cy="21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09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2205000"/>
            <a:ext cx="129708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60000" cy="612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08360" y="2421000"/>
            <a:ext cx="129528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96360" cy="6151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24360" y="4653000"/>
            <a:ext cx="12952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04640"/>
            <a:ext cx="8280360" cy="6120000"/>
          </a:xfrm>
          <a:prstGeom prst="rect">
            <a:avLst/>
          </a:prstGeom>
          <a:solidFill>
            <a:srgbClr val="eecb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844640"/>
            <a:ext cx="60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азови первый звук в сло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Аня, аист, август, анг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автобус, анан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20:45:57Z</dcterms:created>
  <dc:creator>Марина</dc:creator>
  <dc:description/>
  <dc:language>en-US</dc:language>
  <cp:lastModifiedBy>DNA7 X86</cp:lastModifiedBy>
  <dcterms:modified xsi:type="dcterms:W3CDTF">2012-04-25T07:23:52Z</dcterms:modified>
  <cp:revision>4</cp:revision>
  <dc:subject/>
  <dc:title>Слайд 1</dc:title>
</cp:coreProperties>
</file>