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F4D5-B127-477E-B698-7EA449D1D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99DA-30E7-43FD-9EBB-DD05F893A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0DCC-BE19-45E1-A63D-29EB69133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F0BF-1FC5-4917-85CC-8EAF4AE15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7EC4-EACA-42FB-AE01-0B7B427D5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0A48-9879-4EF4-847E-325A306FE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8B5F-DEEA-4DD1-95ED-FBC52915A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499C-3230-460D-9731-22C9B80FC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ADCC-D6EC-46E6-B4B1-043D6985B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4235-D02B-4A45-BDA9-94A9CF999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5DBE-D974-4C9D-8E30-EE486C556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6FBD-C1EA-4460-92F4-65F053995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A07DC-1E05-4285-B16C-BA3C0157AA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600" y="1523520"/>
            <a:ext cx="6400800" cy="22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вук и буква А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учение грамоте в подготовительной к школе  групп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 rot="20043000">
            <a:off x="755280" y="2060640"/>
            <a:ext cx="1346040" cy="1627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 rot="1260000">
            <a:off x="6876720" y="1916280"/>
            <a:ext cx="1614600" cy="1662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067280" y="476280"/>
            <a:ext cx="1411200" cy="14335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1258920" y="5229360"/>
            <a:ext cx="1789200" cy="1295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5724360" y="5157720"/>
            <a:ext cx="122400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24000" y="404640"/>
            <a:ext cx="8424720" cy="6048720"/>
          </a:xfrm>
          <a:prstGeom prst="rect">
            <a:avLst/>
          </a:prstGeom>
          <a:solidFill>
            <a:srgbClr val="eecbb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0000" y="105264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Спасибо за вним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187280" y="1844640"/>
            <a:ext cx="61930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604000" cy="622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340000" y="3141720"/>
            <a:ext cx="1584360" cy="215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42472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42472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569080" cy="620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24720" cy="6099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908000" y="2205000"/>
            <a:ext cx="1297080" cy="18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8460000" cy="612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708360" y="2421000"/>
            <a:ext cx="1295280" cy="165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496360" cy="61516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924360" y="4653000"/>
            <a:ext cx="1295280" cy="172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24000" y="404640"/>
            <a:ext cx="8280360" cy="6120000"/>
          </a:xfrm>
          <a:prstGeom prst="rect">
            <a:avLst/>
          </a:prstGeom>
          <a:solidFill>
            <a:srgbClr val="eecbb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19280" y="1844640"/>
            <a:ext cx="6048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Назови первый звук в слова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Аня, аист, август, анге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автобус, анана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9T20:45:57Z</dcterms:created>
  <dc:creator>Марина</dc:creator>
  <dc:description/>
  <dc:language>en-US</dc:language>
  <cp:lastModifiedBy>DNA7 X86</cp:lastModifiedBy>
  <dcterms:modified xsi:type="dcterms:W3CDTF">2012-04-25T07:23:52Z</dcterms:modified>
  <cp:revision>4</cp:revision>
  <dc:subject/>
  <dc:title>Слайд 1</dc:title>
</cp:coreProperties>
</file>