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21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4.gif" ContentType="image/gif"/>
  <Override PartName="/ppt/media/image7.png" ContentType="image/png"/>
  <Override PartName="/ppt/media/image1.jpeg" ContentType="image/jpeg"/>
  <Override PartName="/ppt/media/image17.jpeg" ContentType="image/jpeg"/>
  <Override PartName="/ppt/media/image15.jpeg" ContentType="image/jpeg"/>
  <Override PartName="/ppt/media/image12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702-1F67-4091-B8E7-BAA8FC40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9D8-B312-4903-90AA-3F8E41A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66F-BB72-4331-AE11-976ADD82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909-76B1-46C0-9358-8FE91029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93D9-8709-4204-9B0B-C56522FF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CEBC-F03A-408D-84FA-DBBEC5C6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24A6-0725-4707-A1F4-0DABB431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8C99-ECF1-4451-96EF-F2FB532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FFF7-DFD2-4FB1-9011-325B025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BDE-8978-43F6-8158-5A4AA8B2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B06-154E-4635-8FC4-180FBE83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266-8C86-4905-B7DC-894B358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5D08-4A22-4983-8F70-22EC64D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B4A8-8BEA-4EA1-B5AE-27B0DCF4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97B0-611D-42EB-840A-EFA48C30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D62-A1CD-406A-A576-B9D1CEF9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E502-24FF-413D-B84E-6A597E57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B2D-42F8-488F-AF5E-6B48824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7B1-94F6-455E-AD7F-7547A7F7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27E-4CEA-43C2-87F0-F861E4F0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9EB-2100-482F-8A9A-CA2A764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A8D-97A9-4ABB-B6FD-E8906D8B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069-1770-40CC-B805-4AF0F00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60E-6148-40A9-AE67-B87EE978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068-C40A-48EC-A1B3-AC3EDC2845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929-F72D-43E5-9C60-0046BE0F01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305460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896160" y="0"/>
            <a:ext cx="2247840" cy="197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19810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28800" y="2286000"/>
            <a:ext cx="60199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детство?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ад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учебник стр 58-61 ,  ответить на вопр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кой период для вас наиболее      интересен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Что нового и полезного вы узнали на уро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ть параграф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ветить на вопросы 1,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 3 выполнить в тетр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838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Georgia"/>
              </a:rPr>
              <a:t>Что такое детство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Три стадии дет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Закрепление изученног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1914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5400" spc="-1" strike="noStrike">
                <a:solidFill>
                  <a:srgbClr val="ff0000"/>
                </a:solidFill>
                <a:latin typeface="Georgia"/>
              </a:rPr>
              <a:t>Д е т с т в о 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097000" cy="311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1976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5400" spc="-1" strike="noStrike">
                <a:solidFill>
                  <a:srgbClr val="ff0000"/>
                </a:solidFill>
                <a:latin typeface="Georgia"/>
              </a:rPr>
              <a:t>Д е т с т в о 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666880" cy="1882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2819520" cy="212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200400" y="15228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715000" y="4618080"/>
            <a:ext cx="29718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Детство –это период от рождения до 12 лет, в течение которого ребенок не только растет и развивается физический, но и формируется его характ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361960" cy="1778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1921800">
            <a:off x="2057400" y="320004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21800">
            <a:off x="4800240" y="45720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Стадии детст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45916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247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ервое дет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 момента появ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св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Малыш учится говорить, самостоя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питаться, передвигать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о трех 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3489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70324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2703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Второе  дет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701800" cy="3352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 з лет                           до 6 л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развивается личность ребенка,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познавательный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проце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597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третье   детств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 6 лет                до 12 л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Соответствует школьному      возраст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и включению   ребенка  в жизн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обществ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280960" cy="287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3581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9:43:43Z</dcterms:created>
  <dc:creator>KsAnDr</dc:creator>
  <dc:description/>
  <dc:language>en-US</dc:language>
  <cp:lastModifiedBy>Олег</cp:lastModifiedBy>
  <dcterms:modified xsi:type="dcterms:W3CDTF">2012-02-12T12:30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