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gif" ContentType="image/gif"/>
  <Override PartName="/ppt/media/image21.gif" ContentType="image/gif"/>
  <Override PartName="/ppt/media/image20.gif" ContentType="image/gif"/>
  <Override PartName="/ppt/media/image18.jpeg" ContentType="image/jpeg"/>
  <Override PartName="/ppt/media/image3.gif" ContentType="image/gif"/>
  <Override PartName="/ppt/media/image19.jpeg" ContentType="image/jpeg"/>
  <Override PartName="/ppt/media/image4.gif" ContentType="image/gif"/>
  <Override PartName="/ppt/media/image7.png" ContentType="image/png"/>
  <Override PartName="/ppt/media/image1.jpeg" ContentType="image/jpeg"/>
  <Override PartName="/ppt/media/image17.jpeg" ContentType="image/jpeg"/>
  <Override PartName="/ppt/media/image15.jpeg" ContentType="image/jpeg"/>
  <Override PartName="/ppt/media/image12.jpeg" ContentType="image/jpe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693-A284-4C8E-9967-2C185B70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A4A-8C7E-4B2F-8CD7-4A3F0708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DB4-1F65-4C78-B422-2577CE78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3B4-96C6-4D62-A3EE-7D7B9B96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1AFF-915A-4F79-BF13-63E702F7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2B92-5D45-458C-BFA3-495D42A4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121D-EB16-40A0-9529-E87D8F35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A108-ECF8-43BC-8BB4-D7921604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BFBC-1969-43C6-AAB7-A7D1B4CD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4FBC-426D-41AE-8367-70FEE1DA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AD02-7805-41F0-BA9C-3721F715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56B-4ABF-4B44-A29B-F8118398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8190-35D6-43DA-A63C-68543EF4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FB5E-4E97-4546-B5AD-DCE7F379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879C-A0BC-49FA-BB48-3A74AA99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A8F7-33A1-4D48-8216-1F3735AE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A245-2FAC-4946-8A94-50D734E2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83AA-7A31-4AE7-AC17-A2838E5A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CF9-3DAC-417C-B6CF-A1C32DB7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D2B-874B-4B97-844E-0A25B02D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1D94-9535-47E6-BBEF-B30AB6AC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5BF-E20B-4E97-9DA0-D6DFC612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C5F-1D97-41F2-BA49-E7C467EB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E48B-FB79-4578-ACDC-74BC6FB6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2649-3599-44C4-8F64-D649164EF91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6F52-86B8-4ED4-B32C-A39F5BAAD90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124080" y="3733920"/>
            <a:ext cx="3054600" cy="3124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896160" y="0"/>
            <a:ext cx="2247840" cy="1976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0880" y="19810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828800" y="2286000"/>
            <a:ext cx="601992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такое детство?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Задание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читать учебник стр 58-61 ,  ответить на вопро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Какой период для вас наиболее      интересен? Почем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Что нового и полезного вы узнали на уроке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очитать параграф 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тветить на вопросы 1,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дание 3 выполнить в тетрад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791320" y="4038480"/>
            <a:ext cx="28382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Georgia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2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00"/>
                </a:solidFill>
                <a:latin typeface="Georgia"/>
              </a:rPr>
              <a:t>Что такое детство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Georgia"/>
              </a:rPr>
              <a:t>Три стадии детств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eorgia"/>
              </a:rPr>
              <a:t>Закрепление изученного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29400" y="3809880"/>
            <a:ext cx="19144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en-US" sz="5400" spc="-1" strike="noStrike">
                <a:solidFill>
                  <a:srgbClr val="ff0000"/>
                </a:solidFill>
                <a:latin typeface="Georgia"/>
              </a:rPr>
              <a:t>Д е т с т в о  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2097000" cy="3114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19764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1" i="1" lang="en-US" sz="5400" spc="-1" strike="noStrike">
                <a:solidFill>
                  <a:srgbClr val="ff0000"/>
                </a:solidFill>
                <a:latin typeface="Georgia"/>
              </a:rPr>
              <a:t>Д е т с т в о  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666880" cy="1882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0" y="4572000"/>
            <a:ext cx="2819520" cy="2124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200400" y="152280"/>
            <a:ext cx="2362320" cy="1889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5715000" y="4618080"/>
            <a:ext cx="29718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Детство –это период от рождения до 12 лет, в течение которого ребенок не только растет и развивается физический, но и формируется его характе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1828800" cy="1487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361960" cy="1778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095880" y="42670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rot="1921800">
            <a:off x="2057400" y="3200040"/>
            <a:ext cx="1371600" cy="609480"/>
          </a:xfrm>
          <a:prstGeom prst="rightArrow">
            <a:avLst>
              <a:gd name="adj1" fmla="val 50000"/>
              <a:gd name="adj2" fmla="val 5626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921800">
            <a:off x="4800240" y="4572000"/>
            <a:ext cx="1143000" cy="609480"/>
          </a:xfrm>
          <a:prstGeom prst="rightArrow">
            <a:avLst>
              <a:gd name="adj1" fmla="val 50000"/>
              <a:gd name="adj2" fmla="val 4688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1760" y="11430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Comic Sans MS"/>
              </a:rPr>
              <a:t>Стадии детств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581280" y="3886200"/>
            <a:ext cx="2459160" cy="2514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24784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Первое детство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 момента появл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на св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Малыш учится говорить, самостоятель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питаться, передвигатьс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7192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До трех л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504960" cy="3489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876920" y="990720"/>
            <a:ext cx="2703240" cy="3352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876920" y="990720"/>
            <a:ext cx="2703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Второе  дет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2701800" cy="3352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 з лет                           до 6 ле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развивается личность ребенка,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познавательный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 процес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25970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третье   детство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 6 лет                до 12 л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Соответствует школьному      возрасту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и включению   ребенка  в жизн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общества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2280960" cy="2876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419720" y="2057400"/>
            <a:ext cx="35812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09:43:43Z</dcterms:created>
  <dc:creator>KsAnDr</dc:creator>
  <dc:description/>
  <dc:language>en-US</dc:language>
  <cp:lastModifiedBy>Олег</cp:lastModifiedBy>
  <dcterms:modified xsi:type="dcterms:W3CDTF">2012-02-12T12:30:1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