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44BD-EEB1-4037-88C0-BA76D14ED5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78CC-92EA-4C05-A76F-0833D661D0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56C7-EDFD-4FE7-9FAF-8F905F5F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C29C-EE4D-4707-8DA5-4A3825D9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55E-8B2C-48FB-A866-0763BEAC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CCF0-91AC-4C89-9032-AF81AF50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130A-D1F1-4844-8693-90199B78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F463-885D-47EB-819C-D68176CF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9BF9-AF48-4629-96AE-91E29BC1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82CB-2DCF-46F0-AC70-84C3E2B9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42A1-AF5B-488F-B4F1-23D27427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9981-D15E-411C-B38C-F5D0D9FB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14D7-D619-4A1B-8569-F07DB795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A394-B753-4A62-9437-E91DADE8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375B-9705-45DB-94C7-4C27EC6C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9667-A1C7-4121-B655-79D616BF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506D-2E12-439E-9545-F7ABBD70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15F5-6137-4D2E-896C-F4B004E1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E6BD-166D-4DD9-9348-00DEB44E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496AB-F213-46A6-BF10-F9ADF671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281B3-10C4-408C-B19B-43C5A027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B4E82-E54E-4529-B878-246D2581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3EF16-DBE7-4615-A05A-67CC7E2A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1110A-CEEF-4576-A162-C8B587C3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ED1-037B-4843-B8CA-29F411EE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4626D-BE65-4405-83F4-E610DFBD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5A041-386C-4E10-B74E-FEDB8B78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49146-1EF9-4AF3-A70F-41DF7DC9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91923-2537-4271-8A26-8C4473E9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B86A8-6B34-410F-BB49-DE92058F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51D08-09A8-48D9-B284-58020EA4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FD8AC-422B-4CDF-84DD-4A837FAD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347D9-43B9-435F-9381-4664C970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D1313-F02D-42BC-8BAE-474F6794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AF906-4D6F-4C11-95EF-B6950F70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614-1822-4F50-99F0-6BD425E7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7FF19-FB50-4EE3-B0B9-5C5C92A1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31139-D04C-4C57-8BE6-1F57ECD6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1D0CD-345A-4BB3-9219-CDB071E2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AAE83-A9A2-422F-A06F-3E7B07F8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F4A0B-2BDD-4B46-B964-DB9BAE9A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569F0-E7AE-49F9-8F57-E0E4EF5A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C5C9A-3CF7-4BEB-B7F9-6D9C6C7F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12BFF-A554-4348-908A-136C33D3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8CDBA-827F-4403-AFC4-1BE1490A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B04-7F73-47A5-AE90-06A181CE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5EB-80CF-4462-9BF6-431472E1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6AB-8491-42B1-B478-8E7C3D5A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4ED-3C4E-4ED0-9FF7-519B8DA4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8E2C-3195-4102-8E4F-8D0351D6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AE03-9A95-40F6-B98A-12FE518BEEA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0185-6F50-4BCB-B402-7124CC2FA66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3FF6-8464-4F2D-9404-BD7BF406514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863A-6EAE-40DA-A52B-2599F7535D2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нет у нас иного достоянья!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йте же беречь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оть в меру сил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ш дар бессмертный — реч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уша слова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53440" cy="557208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4"/>
          <p:cNvSpPr/>
          <p:nvPr/>
        </p:nvSpPr>
        <p:spPr>
          <a:xfrm>
            <a:off x="2286000" y="2413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сставьте знаки препин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усты зашевелились и на поляну вышел огромный лос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ень выдался жаркий и звери потянулись к рек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огда мы проснулись солнце уже поднялось высоко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етя не пойдёт в поход потому что заболе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11" descr="nature_230"/>
          <p:cNvPicPr/>
          <p:nvPr/>
        </p:nvPicPr>
        <p:blipFill>
          <a:blip r:embed="rId1"/>
          <a:stretch/>
        </p:blipFill>
        <p:spPr>
          <a:xfrm>
            <a:off x="5219640" y="549360"/>
            <a:ext cx="3456000" cy="4676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199056"/>
          <p:cNvPicPr/>
          <p:nvPr/>
        </p:nvPicPr>
        <p:blipFill>
          <a:blip r:embed="rId2"/>
          <a:stretch/>
        </p:blipFill>
        <p:spPr>
          <a:xfrm>
            <a:off x="395280" y="333360"/>
            <a:ext cx="4502160" cy="2565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479019"/>
          <p:cNvPicPr/>
          <p:nvPr/>
        </p:nvPicPr>
        <p:blipFill>
          <a:blip r:embed="rId3"/>
          <a:stretch/>
        </p:blipFill>
        <p:spPr>
          <a:xfrm>
            <a:off x="755640" y="3068640"/>
            <a:ext cx="4032360" cy="205416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0"/>
          <p:cNvSpPr/>
          <p:nvPr/>
        </p:nvSpPr>
        <p:spPr>
          <a:xfrm>
            <a:off x="250920" y="551664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ень, берёза, клён, багрянец, листопад, летят, редко, свинцовые, золото, солнышко, лес, тучи, прекрасный, дарит, ли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3"/>
          <p:cNvSpPr/>
          <p:nvPr/>
        </p:nvSpPr>
        <p:spPr>
          <a:xfrm>
            <a:off x="826920" y="765000"/>
            <a:ext cx="7921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дился 23 октября 1930 г. в Сталинграде, в семье врача. В 1942 г. ему довелось пережить страшные дни бомбардировок Сталинграда, откуда семья едва выбралась. Первое время жили в Горьком, в 1944 г., после освобождения Украины, поселились в Днепропетровске. Здесь мальчик окончил школу и в 1947 г. поступил в университет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н рано обратил на себя внимание преподавателей и сокурсников способностями к языкам и редким среди студентов интересом к славянской этимологии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 окончанию университета молодой человек представил две дипломных работы: основную – «Общеславянская лексика в основном словарном фонде русского языка» и дополнительную – о болгарском возрождении (Христо Ботев, Иван Вазов). Выпускником университета он знал уже более десятка языков……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лег Николаевич Трубачёв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Содержимое 5" descr="20021.jpg"/>
          <p:cNvPicPr/>
          <p:nvPr/>
        </p:nvPicPr>
        <p:blipFill>
          <a:blip r:embed="rId1"/>
          <a:stretch/>
        </p:blipFill>
        <p:spPr>
          <a:xfrm>
            <a:off x="3143160" y="1947960"/>
            <a:ext cx="2857680" cy="4362480"/>
          </a:xfrm>
          <a:prstGeom prst="rect">
            <a:avLst/>
          </a:prstGeom>
          <a:ln cap="sq" w="38160">
            <a:solidFill>
              <a:srgbClr val="7e9632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одержимое 2" descr=""/>
          <p:cNvPicPr/>
          <p:nvPr/>
        </p:nvPicPr>
        <p:blipFill>
          <a:blip r:embed="rId1"/>
          <a:stretch/>
        </p:blipFill>
        <p:spPr>
          <a:xfrm>
            <a:off x="341280" y="1139760"/>
            <a:ext cx="83520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-808920"/>
            <a:ext cx="7859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39640" y="1052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Гардероб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18 в) из фран.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gard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хранение» 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rob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одежд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Велосипед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19 в) из лат  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velox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«быстрый» и 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ре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«но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 Narrow"/>
              </a:rPr>
              <a:t>Компьютер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20 в) из лат</a:t>
            </a:r>
            <a:r>
              <a:rPr b="1" i="1" lang="ru-RU" sz="2600" spc="-1" strike="noStrike">
                <a:solidFill>
                  <a:srgbClr val="000000"/>
                </a:solidFill>
                <a:latin typeface="Arial Narrow"/>
              </a:rPr>
              <a:t>.   </a:t>
            </a:r>
            <a:r>
              <a:rPr b="1" i="1" lang="en-US" sz="2600" spc="-1" strike="noStrike">
                <a:solidFill>
                  <a:srgbClr val="000000"/>
                </a:solidFill>
                <a:latin typeface="Arial Narrow"/>
              </a:rPr>
              <a:t>computere</a:t>
            </a:r>
            <a:r>
              <a:rPr b="1" i="1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«считать, вычислять»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Гитар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18 в) из греч.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kithara</a:t>
            </a:r>
            <a:r>
              <a:rPr b="1" i="1" lang="en-US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кифар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Диван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18 в) из перс. «служебный кабинет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Кабин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18 в)  из итал. 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cabinetto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Канал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20 в) из лат.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canalis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«труб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1267560"/>
            <a:ext cx="74995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ая птица  прилетела из Канарских островов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ая собака прибежала из болоньи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чём ошибочное название слова громоотвод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знайте названия цвет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ухлянка, летучка, молочник, молочай – это диалектные варианты знакомого вам цвет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C:\Users\Учитель\Desktop\Словари.jpg"/>
          <p:cNvPicPr/>
          <p:nvPr/>
        </p:nvPicPr>
        <p:blipFill>
          <a:blip r:embed="rId1"/>
          <a:stretch/>
        </p:blipFill>
        <p:spPr>
          <a:xfrm>
            <a:off x="250920" y="571680"/>
            <a:ext cx="8569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Рисунок 3" descr="к слайду.jpg"/>
          <p:cNvPicPr/>
          <p:nvPr/>
        </p:nvPicPr>
        <p:blipFill>
          <a:blip r:embed="rId1"/>
          <a:stretch/>
        </p:blipFill>
        <p:spPr>
          <a:xfrm>
            <a:off x="826920" y="404640"/>
            <a:ext cx="77058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11:10:47Z</dcterms:created>
  <dc:creator>Учитель</dc:creator>
  <dc:description/>
  <dc:language>en-US</dc:language>
  <cp:lastModifiedBy>Учитель</cp:lastModifiedBy>
  <dcterms:modified xsi:type="dcterms:W3CDTF">2011-10-21T03:32:52Z</dcterms:modified>
  <cp:revision>56</cp:revision>
  <dc:subject/>
  <dc:title>Душа слова…</dc:title>
</cp:coreProperties>
</file>