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C325-BEC8-455C-AE02-363FB4EAA3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6099-40DE-46B9-A7D9-9DC2E632D8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2EC-F11C-4E92-8C98-188D0276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3B0-D761-4B07-93B0-A52D44C0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83A-44B7-4550-8521-C7E96178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99CB-6F06-4D32-8AA1-2CD1383D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3828-95E0-4939-A6E8-C0C38BA9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C842-F7AF-4546-B5F6-E09776F2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8104-9E78-452A-982E-FF3C3913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6797-80B3-4C5D-9BED-0F8CCD6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E675-8F9F-4161-8C30-1EB0C4F5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358C-B5CC-405D-A6F5-F3C3B778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6D04-FC87-4AC8-98B9-7653B3BA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038-4761-4AEC-A332-7A72656F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DE7D-6F35-45A2-BA91-1E69BF1F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8964-5377-475F-9AD1-8F891D75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E243-232E-436B-BCD9-C11FEC39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0C74-2063-4F07-AED6-13DD5B7A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D137-0A1C-478B-A105-AAB8DA00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A244B-31BE-49DC-B02F-8BF97FB3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5EC3D-4D74-4F5F-B23E-07D0DDC0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CAE7-008E-4113-A5C8-1AEFE2D0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F104-71A0-4285-A376-41E71DDB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E8AC-CDCD-4A39-93D7-5F04CF79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833-768B-47A2-9492-15F8331F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5445-D908-4C49-B476-FD9F3892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E742-FA48-469D-92C2-EEC8D3E2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04E9-7845-4343-AE1E-BF099108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01772-7A73-42DF-BC64-48006521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5C06F-077B-4F00-BB94-F08CED89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B6F7-FC20-4F53-A3F2-59426346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24E1-D7FB-41C8-8877-F2BCF7F2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F327-29D1-4154-9037-F809BEA9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56C6-F44E-49C6-B70C-57CAAD6A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AC56D-923D-4A1F-94EE-1CBFA291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D18-6772-4886-819C-235B6C7D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33DDA-A605-4D11-BAF9-600E0F66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0B5D-84A0-4821-BC21-674D16D6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250AB-724E-4C66-BECE-BB46E66B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A130-ED66-4CC0-BC09-8D9DE25D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2AC4A-0DD8-46A1-A120-D69E5ACC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AFE9-2746-48F9-8246-37D46802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45534-4313-49B2-876B-21F5AA92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BAB9B-61B4-4F01-89BE-989BE0DE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47220-446B-483E-8EE4-66FB10EA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394-6E1F-439E-A5D5-A2264611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2C0-A689-48EF-A888-431A42B6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23C-A9FB-440A-8407-3038564A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7F3-7640-4C92-816B-64434513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61E-5FE6-4F3C-AFBD-509E3DD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1A4A-8D6F-4313-8C9D-E95F5843AC3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71E7-0096-44FC-8B80-175DA0B139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6A8D-7EA8-4124-84ED-542E6966B71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DF4A-2DBA-48CD-AE1B-F00F86370DF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нет у нас иного достоянья!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мейте же беречь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хоть в меру сил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ш дар бессмертный — реч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уша слова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53440" cy="55720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4"/>
          <p:cNvSpPr/>
          <p:nvPr/>
        </p:nvSpPr>
        <p:spPr>
          <a:xfrm>
            <a:off x="2286000" y="2413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ставьте знаки препин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усты зашевелились и на поляну вышел огромный лос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День выдался жаркий и звери потянулись к рек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огда мы проснулись солнце уже поднялось высок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тя не пойдёт в поход потому что заболел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11" descr="nature_230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4676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199056"/>
          <p:cNvPicPr/>
          <p:nvPr/>
        </p:nvPicPr>
        <p:blipFill>
          <a:blip r:embed="rId2"/>
          <a:stretch/>
        </p:blipFill>
        <p:spPr>
          <a:xfrm>
            <a:off x="395280" y="333360"/>
            <a:ext cx="4502160" cy="2565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479019"/>
          <p:cNvPicPr/>
          <p:nvPr/>
        </p:nvPicPr>
        <p:blipFill>
          <a:blip r:embed="rId3"/>
          <a:stretch/>
        </p:blipFill>
        <p:spPr>
          <a:xfrm>
            <a:off x="755640" y="3068640"/>
            <a:ext cx="4032360" cy="20541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0"/>
          <p:cNvSpPr/>
          <p:nvPr/>
        </p:nvSpPr>
        <p:spPr>
          <a:xfrm>
            <a:off x="250920" y="551664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ень, берёза, клён, багрянец, листопад, летят, редко, свинцовые, золото, солнышко, лес, тучи, прекрасный, дарит, ли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826920" y="765000"/>
            <a:ext cx="7921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лся 23 октября 1930 г. в Сталинграде, в семье врача. В 1942 г. ему довелось пережить страшные дни бомбардировок Сталинграда, откуда семья едва выбралась. Первое время жили в Горьком, в 1944 г., после освобождения Украины, поселились в Днепропетровске. Здесь мальчик окончил школу и в 1947 г. поступил в университет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н рано обратил на себя внимание преподавателей и сокурсников способностями к языкам и редким среди студентов интересом к славянской этимолог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окончанию университета молодой человек представил две дипломных работы: основную – «Общеславянская лексика в основном словарном фонде русского языка» и дополнительную – о болгарском возрождении (Христо Ботев, Иван Вазов). Выпускником университета он знал уже более десятка языков…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лег Николаевич Трубачёв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5" descr="20021.jpg"/>
          <p:cNvPicPr/>
          <p:nvPr/>
        </p:nvPicPr>
        <p:blipFill>
          <a:blip r:embed="rId1"/>
          <a:stretch/>
        </p:blipFill>
        <p:spPr>
          <a:xfrm>
            <a:off x="3143160" y="1947960"/>
            <a:ext cx="2857680" cy="4362480"/>
          </a:xfrm>
          <a:prstGeom prst="rect">
            <a:avLst/>
          </a:prstGeom>
          <a:ln cap="sq" w="38160">
            <a:solidFill>
              <a:srgbClr val="7e9632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одержимое 2" descr=""/>
          <p:cNvPicPr/>
          <p:nvPr/>
        </p:nvPicPr>
        <p:blipFill>
          <a:blip r:embed="rId1"/>
          <a:stretch/>
        </p:blipFill>
        <p:spPr>
          <a:xfrm>
            <a:off x="341280" y="1139760"/>
            <a:ext cx="8352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-808920"/>
            <a:ext cx="785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964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ардероб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8 в) из фран.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gard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хранение»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rob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одежд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Велосипед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9 в) из лат 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velox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«быстрый» и </a:t>
            </a: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е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«но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Компьютер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20 в) из лат</a:t>
            </a: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.   </a:t>
            </a:r>
            <a:r>
              <a:rPr b="1" i="1" lang="en-US" sz="2600" spc="-1" strike="noStrike">
                <a:solidFill>
                  <a:srgbClr val="000000"/>
                </a:solidFill>
                <a:latin typeface="Arial Narrow"/>
              </a:rPr>
              <a:t>computere</a:t>
            </a:r>
            <a:r>
              <a:rPr b="1" i="1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«считать, вычислять» </a:t>
            </a: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Гитар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8 в) из греч.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kithara</a:t>
            </a:r>
            <a:r>
              <a:rPr b="1" i="1" lang="en-US" sz="2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кифар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Диван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18 в) из перс. «служебный кабинет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бине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18 в)  из итал.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cabinett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Канал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20 в) из лат.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canalis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«труб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267560"/>
            <a:ext cx="7499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ая птица  прилетела из Канарских остров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акая собака прибежала из болоньи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чём ошибочное название слова громоотвод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знайте названия цве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ухлянка, летучка, молочник, молочай – это диалектные варианты знакомого вам цвет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2" descr="C:\Users\Учитель\Desktop\Словари.jpg"/>
          <p:cNvPicPr/>
          <p:nvPr/>
        </p:nvPicPr>
        <p:blipFill>
          <a:blip r:embed="rId1"/>
          <a:stretch/>
        </p:blipFill>
        <p:spPr>
          <a:xfrm>
            <a:off x="250920" y="571680"/>
            <a:ext cx="8569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Рисунок 3" descr="к слайду.jpg"/>
          <p:cNvPicPr/>
          <p:nvPr/>
        </p:nvPicPr>
        <p:blipFill>
          <a:blip r:embed="rId1"/>
          <a:stretch/>
        </p:blipFill>
        <p:spPr>
          <a:xfrm>
            <a:off x="826920" y="404640"/>
            <a:ext cx="7705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1:10:47Z</dcterms:created>
  <dc:creator>Учитель</dc:creator>
  <dc:description/>
  <dc:language>en-US</dc:language>
  <cp:lastModifiedBy>Учитель</cp:lastModifiedBy>
  <dcterms:modified xsi:type="dcterms:W3CDTF">2011-10-21T03:32:52Z</dcterms:modified>
  <cp:revision>56</cp:revision>
  <dc:subject/>
  <dc:title>Душа слова…</dc:title>
</cp:coreProperties>
</file>