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1EF-664D-49C0-BC64-823C09C6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4A0-312D-4814-BEC8-8853CA02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BFE-1A38-4EA8-9B1F-ACE533E1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927-FEC9-40B3-9577-3177E55D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C647-6585-4F01-AA75-6DB9C361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0121-7811-4A4F-8554-64C42A94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1021-5705-49AA-A53F-F917B9E4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92B9-C0DB-4371-A8BE-7D1FAA8F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EE15-9D91-4905-8C5E-0032724B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3D25-2260-4956-8B68-D15F5B50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E203-B302-4A11-A59C-1D1B8C91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9F0-CCCE-4F1B-961A-AAB9D868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A014-8A97-4668-BBC6-BFCE4C05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0AF4-C56C-4AAC-8F3B-2BE49207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3C59-01CC-401A-89C6-615B646D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CA78-5D36-4590-BB69-383B4216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DEB3-036B-48AF-9F9E-58D192CC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C21-7798-44A3-89FF-C2538F6B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A435-0524-4206-9C91-A1A07ABB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DC5-E6EA-4A17-A3FB-F21DF064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51F-C18C-4647-B77D-1F3D2C93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C4D-1FB8-4997-9A45-038300FD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0D2-B696-4224-8CF5-CF9FF69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179-6E6D-483E-88C1-38C75F5B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F9D5-ADE6-4C05-8BAB-D7FEE662532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4EF8-DB44-4ED3-B221-0C86F65E5CA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Какое право нарушено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лассный ча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а проведения:блиц-турни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4678200" cy="3500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Сказка о мертвой царевне и семи богатырях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ернавка: «Скушай яблочко,мой свет,благодарствуй за обед.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Царевна откусывает яблочко и падает мертвым сн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мментарий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699000" cy="1941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3797280" cy="26272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урочка Ряб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урочка Ряба снесла яичк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ышка бежала,хвостиком махнула,яичко упало и разбилос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мментарий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2.Не имеешь права вторгаться в наше жилище, оно неприкосновенно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3.Не имеешь права посягать на мою жизн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4.Не имеешь права посягать на мою свобод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5.Не имеешь права посягать на мое право на свободный брак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6.Не имеешь права лишать его жизн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7.Не имеешь права лишать меня имуществ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8.Чернавка посягнула на здоровье и жизнь царевн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9.Мышка посягнула на неприкосновенность чужого имуществ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 мероприят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образовательная: познакомиться с понятием право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звивающая – развитие навыков критического мышления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оспитательная – воспитания уважения к праву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тупительное слово классного руководител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зентация.Конкур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граждение победителей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4052880" cy="45417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лк и семеро козля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лк: «Козлятушки-ребятушки,отоприте-ка,отворите-ка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злята: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822920" cy="36176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КОЛОБОК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лк: «Колобок,колобок,я тебя съем!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лобок: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641840" cy="4275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ша и медвед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едведь: «Машенька,будешь у меня жить,печку топить,кашу варить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Маша: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987800" cy="3160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юймовоч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Жаба: «Дюймовочка,завтра ты выйдешь замуж за моего сына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юймовочка: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707000" cy="4032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3303720" cy="27259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10552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Шерхан:         «Человеческий  детеныш мой,отдайте мне его.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лчица: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633920" cy="31291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уратин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Лиса Алиса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«Буратино,отдай мне эти денежки!»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уратино: «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4:38:52Z</dcterms:created>
  <dc:creator>Ivan</dc:creator>
  <dc:description/>
  <dc:language>en-US</dc:language>
  <cp:lastModifiedBy>Ivan</cp:lastModifiedBy>
  <dcterms:modified xsi:type="dcterms:W3CDTF">2006-10-25T05:40:10Z</dcterms:modified>
  <cp:revision>6</cp:revision>
  <dc:subject/>
  <dc:title>Какое право нарушено</dc:title>
</cp:coreProperties>
</file>