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96B-3DF9-4281-A81B-78B9CDA0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966-3895-4C39-8099-7A9E492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AE3-DFAF-44E9-BF82-48443424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769-8B87-4D52-ABA9-0D6337A4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BE3F-354D-45B4-ACE5-BEA9B303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8139-8595-484B-B3CA-B7EF7E9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FAC1-8CE6-4CB7-87A8-DA28636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0FF4-CC82-4191-A458-F4A68F1C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A6A3-6399-462E-91BC-1766521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C9E6-F136-4F1E-952C-9861428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64F5-07CE-42D2-95DE-6B8D703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F95-28AE-42B6-BFD7-159E5D5F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9889-C0BD-4822-8FA8-B8626273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8E49-6DE9-42AF-B1E0-5CA0EC5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D0F8-3932-413C-B682-DCFA60C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325-46CF-4006-BD9E-09DFD226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CE5-DC76-423F-B5E1-DCDC524B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958-E9AD-4ECE-9CB4-BE0B486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78F-764C-47A3-9A7F-895772AF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08F-F9F2-4C6A-9A14-CE27838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A42-0B84-4DA9-805D-5832DF46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2C1-3FF8-486D-8BD4-5699D84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C1B-B47B-4705-A550-9C04A911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404-98A1-4F95-B842-2ADDD58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684-86B7-4742-8FA6-C3FA142C1F6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A79A-DFEE-4C5F-BDB9-26B5C6BD9DF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Какое право нарушено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ный ча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а проведения:блиц-турн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78200" cy="3500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казка о мертвой царевне и семи богатыря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ернавка: «Скушай яблочко,мой свет,благодарствуй за обед.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евна откусывает яблочко и падает мертвым сн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мментарий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699000" cy="1941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797280" cy="2627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рочка Ря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урочка Ряба снесла яичк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ышка бежала,хвостиком махнула,яичко упало и разбилос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мментарий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.Не имеешь права вторгаться в наше жилище, оно неприкосновенн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.Не имеешь права посягать на мою жизн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.Не имеешь права посягать на мою свобод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5.Не имеешь права посягать на мое право на свободный бра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6.Не имеешь права лишать его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7.Не имеешь права лишать меня имуще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8.Чернавка посягнула на здоровье и жизнь царевн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9.Мышка посягнула на неприкосновенность чужого имуще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мероприят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разовательная: познакомиться с понятием прав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звивающая – развитие навыков критического мышления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тельная – воспитания уважения к прав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тупительное слово классного руководит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я.Конкур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граждение победителе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052880" cy="45417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лк и семеро козля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к: «Козлятушки-ребятушки,отоприте-ка,отворите-к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злят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822920" cy="361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ЛОБО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к: «Колобок,колобок,я тебя съем!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лобок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641840" cy="427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ша и медвед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едведь: «Машенька,будешь у меня жить,печку топить,кашу варить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ш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87800" cy="3160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юймовоч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Жаба: «Дюймовочка,завтра ты выйдешь замуж за моего сын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юймовочк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70700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303720" cy="2725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Шерхан:         «Человеческий  детеныш мой,отдайте мне его.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чиц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633920" cy="3129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урати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иса Алиса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Буратино,отдай мне эти денежки!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ратино: «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4:38:52Z</dcterms:created>
  <dc:creator>Ivan</dc:creator>
  <dc:description/>
  <dc:language>en-US</dc:language>
  <cp:lastModifiedBy>Ivan</cp:lastModifiedBy>
  <dcterms:modified xsi:type="dcterms:W3CDTF">2006-10-25T05:40:10Z</dcterms:modified>
  <cp:revision>6</cp:revision>
  <dc:subject/>
  <dc:title>Какое право нарушено</dc:title>
</cp:coreProperties>
</file>