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AC21-C3B0-4C10-9B75-7904BA860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6AAD-660A-4735-95AA-1C88FEAC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2A31-771E-4039-922C-A13B77AE3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0B98-F405-416E-A026-652EA4CB8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8AE3B-54A9-4C45-9251-4F40C7309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42E9F-4289-409F-890F-6D42CE884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CD223-4336-499D-B27D-67481E792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7FA02-AC87-4366-B4BF-0A01E81CC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D8DCF-3AB7-4033-A9C3-E34000F86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8CD56-7017-479D-8F39-8BBF9FE44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0D29A-72EE-4A31-A0F7-581D88BC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2121-D386-477C-943B-237989CCE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7EF6D-4CEC-412C-A045-2FE9CCA0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34597-E12F-4027-9E43-72CE886B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40308-AE7B-428E-922F-05141D124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6864D-7A5D-4D0D-A4B2-957EE450E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6816A-E886-4121-B8DD-79EC4B686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A635-7A04-48F1-9FBF-3533E627A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D20D-B994-44BB-B9BB-E1FDAB4DC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31C7-457E-466E-A46F-6622CD17D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1A7F-C05C-4485-813D-8E8896F32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428E-8D85-4938-92BE-DA4EA9FD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0B36-DB62-47BF-8C0F-C5F5EFF9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D958-FA8B-41AA-A15A-704FA2F6D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48F04-2634-41B5-B808-D36F762696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94620-6933-4F59-A8A1-2212655EA7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640" y="1628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Arial Black"/>
              </a:rPr>
              <a:t>Лев Николаевич Толстой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58920" y="4292280"/>
            <a:ext cx="6781680" cy="167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аботу выполнил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ученица 8 класса «а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Баца Ян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539280" y="333360"/>
            <a:ext cx="800748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олстой долго жил на опасном 4-м бастионе, командовал батареей в сражении при Чёрной, был при бомбардировке во время штурма Малахова Кургана. Несмотря на все ужасы осады, Толстой написал в это время рассказ «Рубка леса», в котором отразились кавказские впечатления, и первый из трёх «Севастопольских рассказов» — «Севастополь в декабре 1854 г.». Этот рассказ он отправил в «Современник». Тотчас же напечатанный, рассказ был с интересом прочитан всей Россией и произвёл потрясающее впечатление картиной ужасов, выпавших на долю защитников Севастополя. Рассказ был замечен  императором Александром 2; он велел беречь даровитого офицер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 оборону Севастополя Толстой был награждён орденом Св.Анны с надписью «За честь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оследние годы жизни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ночь на 28 октября (10 ноября) 1910 года Л.Н. Толстой, выполняя своё решение прожить последние годы соответственно своим взглядам, тайно покинул Ясную Поляну в сопровождении своего врача Д.П. Маковицкого. Своё последнее путешествие он начал на станции Щёкино. Определенной цели у путешествия не было. По дороге Толстой заболел воспалением легких и вынужден был в тот же день выйти из поезда на первой большой станции рядом с населённым пунктом. Этой станцией оказалось  Астапово ,где 7(20) ноября Л. Н. Толстой и умер в доме начальника станции И. И. Озолина. 10 (23) ноября 1910 года был похоронен в Ясной Поляне, на краю оврага в лесу, где в детстве он вместе с братом искал «зеленую палочку», хранившую «секрет», как сделать всех людей счастливыми. В январе 1913 было опубликовано письмо графини Софьи Толстой ,в котором она подтверждает известия в печати о том, что на могиле её супруга было совершено его отпевание неким священником в её присутствии. Но перед смертью он не выразил желание быть отпетым, а завещал, чтобы его похоронили  попроще и подешевл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Могила Льва Николаевича Толстог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9" name="Picture 5" descr="tol34"/>
          <p:cNvPicPr/>
          <p:nvPr/>
        </p:nvPicPr>
        <p:blipFill>
          <a:blip r:embed="rId1"/>
          <a:stretch/>
        </p:blipFill>
        <p:spPr>
          <a:xfrm>
            <a:off x="1258920" y="1700280"/>
            <a:ext cx="691200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СПАСИБО ЗА ВНИМАНИЕ!!!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Лев Николаевич Толстой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(1829-1910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раф, русский писатель, член-корреспондент (1873), почетный академик (1900) Петербургской Академии Наук. 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Детство Толстог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одился 28 августа 1828 года в Крапивинском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езде Тульской губернии, в наследственном имении матери — Ясной Поляне. Был четвёртым ребёнком. Его мать умерла с рождением последней дочери, когда ему не было ещё 2-х лет. Воспитанием осиротевших детей занялась дальняя родственница Т. А. Ергольска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Образование Толстог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го образование шло сначала под руководством гувернёра-француза  Сен-Тома́ (M-r Жером «Отрочества»), заменившего собою добродушного немца Ресельмана, которого он изобразил в «Детстве» под именем Карла Иванович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1841 году П. И. Юшкова, взяв на себя роль опекунши своих несовершеннолетних племянни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-за конфликта его домашних с преподавателем российской и всеобщей истории и истории философии, профессором Ивановым , по результатам года имел неуспеваемость по соответствующим предметам и должен был заново пройти программу первого курса. Во избежание полного повторения курса он перешёл на юридический факультет, где его проблемы с оценками по российской истории и немецкому продолжались. На юридическом факультете Лев Толстой пробыл менее двух лет: «Всегда ему было трудно всякое навязанное другими образование, и всему, чему он в жизни выучился, — он выучился сам, вдруг, быстро, усиленным трудом», — пишет Толстая в своих «Материалах к биографии Л. Н. Толстого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7" name="Picture 9" descr="L"/>
          <p:cNvPicPr/>
          <p:nvPr/>
        </p:nvPicPr>
        <p:blipFill>
          <a:blip r:embed="rId1"/>
          <a:stretch/>
        </p:blipFill>
        <p:spPr>
          <a:xfrm>
            <a:off x="2268360" y="333360"/>
            <a:ext cx="4537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Начало литературной деятельност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росив университет, Толстой с весны 1847 года поселился в Ясной Поляне. В своём дневнике Толстой ставит себе огромное количество целей и правил; удавалось следовать лишь небольшому числу их. Среди удавшихся — серьёзные занятия английским языком, музыкой, юриспруденцией. Зимой 1850-1851 гг. начал писать «Детство». В марте 1851 года написал «Историю вчерашнего дня». В глухой станице Толстой стал писать и в 1852 году отослал в редакцию «Современника» первую часть будущей трилогии: «Детство»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portret_L_N_Tolstoi_340"/>
          <p:cNvPicPr/>
          <p:nvPr/>
        </p:nvPicPr>
        <p:blipFill>
          <a:blip r:embed="rId1"/>
          <a:stretch/>
        </p:blipFill>
        <p:spPr>
          <a:xfrm>
            <a:off x="2411280" y="620640"/>
            <a:ext cx="440712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асцвет творчества Толстог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течение первых 12 лет после женитьбы он создаёт «Войну и мир» и «Анну Каренину». На рубеже этой второй эпохи литературной жизни Толстого стоят задуманные ещё в1852 г. и законченные в 1861—1862 гг. «Казаки», первое из произведений, в которых наиболее реализовался талант Толстого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Военная карьера Толстог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Кавказе Толстой оставался два года, участвуя во многих стычках с горцами и подвергаясь опасностям военной кавказской жизни. Он имел права и притязания на Георгиевский крест, но не получил его. Когда в конце 1853 г. вспыхнула Крымская война, Толстой перевёлся в Дунайскую армию, участвовал в сражении при Ольтенице  и в осаде Силистрии, а с ноября 1854 г. по конец августа 1855 г был в Севастопол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4T15:25:08Z</dcterms:created>
  <dc:creator>Вова</dc:creator>
  <dc:description/>
  <dc:language>en-US</dc:language>
  <cp:lastModifiedBy>Вова</cp:lastModifiedBy>
  <dcterms:modified xsi:type="dcterms:W3CDTF">2012-05-27T22:40:50Z</dcterms:modified>
  <cp:revision>5</cp:revision>
  <dc:subject/>
  <dc:title>Лев Николаевич Толстой</dc:title>
</cp:coreProperties>
</file>