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82A-260D-4A49-8491-AD032B9C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965-1355-467A-9A5A-0FF6AE30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EF5-FFA2-42C4-AE07-70197FE9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A6C-B242-46FD-A0B5-9D9879DE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38DA-9BDC-43A4-866F-3210E62F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8627-83EC-40C6-A341-559C7A2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46C3-BA72-40CC-8B31-775EA865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67CF-4175-4D43-A124-FB455469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9672-04FA-4AE6-B01A-D4B9FBA2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2D09-A139-411F-A144-CB91A536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632F-86AE-4982-9D2D-4E25BD42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8F4-3E93-4C30-A3BD-E1020252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FAE8-5991-47F7-9D6F-46B6CC5F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FA3B-6301-4900-930D-3307E53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9F91-93AB-46F9-ABFC-C1630084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D422-7A5B-428C-886D-C07CFBD3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2470-D298-432F-8980-5D1C7A02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BC7-5E63-41AA-9BBB-E6EFEEB6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454-B71B-4FA2-BB7C-AF6B7499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932-5306-43FB-8F35-1090BF20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CB8-CE3E-4861-9B4E-36EEF7C2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72C-BF1A-47DD-B346-AB3E5A4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2B9-E728-447F-A1D0-8131E16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6AF-A80A-45B1-9556-590B58A3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9F4-CBA9-4F81-A443-6F74E4D3E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4B52-DA2F-4558-92E1-F59F99264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Лев Николаевич Толстой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4292280"/>
            <a:ext cx="6781680" cy="16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ченица 8 класса «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аца Ян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0074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лстой долго жил на опасном 4-м бастионе, командовал батареей в сражении при Чёрной, был при бомбардировке во время штурма Малахова Кургана. Несмотря на все ужасы осады, Толстой написал в это время рассказ «Рубка леса», в котором отразились кавказские впечатления, и первый из трёх «Севастопольских рассказов» — «Севастополь в декабре 1854 г.». Этот рассказ он отправил в «Современник». Тотчас же напечатанный, рассказ был с интересом прочитан всей Россией и произвёл потрясающее впечатление картиной ужасов, выпавших на долю защитников Севастополя. Рассказ был замечен  императором Александром 2; он велел беречь даровитого офице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 оборону Севастополя Толстой был награждён орденом Св.Анны с надписью «За честь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следние годы жизн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очь на 28 октября (10 ноября) 1910 года Л.Н. Толстой, выполняя своё решение прожить последние годы соответственно своим взглядам, тайно покинул Ясную Поляну в сопровождении своего врача Д.П. Маковицкого. Своё последнее путешествие он начал на станции Щёкино. Определенной цели у путешествия не было. По дороге Толстой заболел воспалением легких и вынужден был в тот же день выйти из поезда на первой большой станции рядом с населённым пунктом. Этой станцией оказалось  Астапово ,где 7(20) ноября Л. Н. Толстой и умер в доме начальника станции И. И. Озолина. 10 (23) ноября 1910 года был похоронен в Ясной Поляне, на краю оврага в лесу, где в детстве он вместе с братом искал «зеленую палочку», хранившую «секрет», как сделать всех людей счастливыми. В январе 1913 было опубликовано письмо графини Софьи Толстой ,в котором она подтверждает известия в печати о том, что на могиле её супруга было совершено его отпевание неким священником в её присутствии. Но перед смертью он не выразил желание быть отпетым, а завещал, чтобы его похоронили  попроще и подешев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огила Льва Николаевича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Picture 5" descr="tol34"/>
          <p:cNvPicPr/>
          <p:nvPr/>
        </p:nvPicPr>
        <p:blipFill>
          <a:blip r:embed="rId1"/>
          <a:stretch/>
        </p:blipFill>
        <p:spPr>
          <a:xfrm>
            <a:off x="1258920" y="1700280"/>
            <a:ext cx="6912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ПАСИБО ЗА ВНИМАНИЕ!!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ев Николаевич Толстой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(1829-1910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аф, русский писатель, член-корреспондент (1873), почетный академик (1900) Петербургской Академии Наук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тство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ился 28 августа 1828 года в Крапивинском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езде Тульской губернии, в наследственном имении матери — Ясной Поляне. Был четвёртым ребёнком. Его мать умерла с рождением последней дочери, когда ему не было ещё 2-х лет. Воспитанием осиротевших детей занялась дальняя родственница Т. А. Ергольск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Образование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образование шло сначала под руководством гувернёра-француза  Сен-Тома́ (M-r Жером «Отрочества»), заменившего собою добродушного немца Ресельмана, которого он изобразил в «Детстве» под именем Карла Иванови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41 году П. И. Юшкова, взяв на себя роль опекунши своих несовершеннолетних племян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-за конфликта его домашних с преподавателем российской и всеобщей истории и истории философии, профессором Ивановым , по результатам года имел неуспеваемость по соответствующим предметам и должен был заново пройти программу первого курса. Во избежание полного повторения курса он перешёл на юридический факультет, где его проблемы с оценками по российской истории и немецкому продолжались. На юридическом факультете Лев Толстой пробыл менее двух лет: «Всегда ему было трудно всякое навязанное другими образование, и всему, чему он в жизни выучился, — он выучился сам, вдруг, быстро, усиленным трудом», — пишет Толстая в своих «Материалах к биографии Л. Н. Толстого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9" descr="L"/>
          <p:cNvPicPr/>
          <p:nvPr/>
        </p:nvPicPr>
        <p:blipFill>
          <a:blip r:embed="rId1"/>
          <a:stretch/>
        </p:blipFill>
        <p:spPr>
          <a:xfrm>
            <a:off x="2268360" y="333360"/>
            <a:ext cx="453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чало литературной деятель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осив университет, Толстой с весны 1847 года поселился в Ясной Поляне. В своём дневнике Толстой ставит себе огромное количество целей и правил; удавалось следовать лишь небольшому числу их. Среди удавшихся — серьёзные занятия английским языком, музыкой, юриспруденцией. Зимой 1850-1851 гг. начал писать «Детство». В марте 1851 года написал «Историю вчерашнего дня». В глухой станице Толстой стал писать и в 1852 году отослал в редакцию «Современника» первую часть будущей трилогии: «Детство»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ortret_L_N_Tolstoi_340"/>
          <p:cNvPicPr/>
          <p:nvPr/>
        </p:nvPicPr>
        <p:blipFill>
          <a:blip r:embed="rId1"/>
          <a:stretch/>
        </p:blipFill>
        <p:spPr>
          <a:xfrm>
            <a:off x="2411280" y="620640"/>
            <a:ext cx="44071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сцвет творчества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течение первых 12 лет после женитьбы он создаёт «Войну и мир» и «Анну Каренину». На рубеже этой второй эпохи литературной жизни Толстого стоят задуманные ещё в1852 г. и законченные в 1861—1862 гг. «Казаки», первое из произведений, в которых наиболее реализовался талант Толст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Военная карьера Толстог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авказе Толстой оставался два года, участвуя во многих стычках с горцами и подвергаясь опасностям военной кавказской жизни. Он имел права и притязания на Георгиевский крест, но не получил его. Когда в конце 1853 г. вспыхнула Крымская война, Толстой перевёлся в Дунайскую армию, участвовал в сражении при Ольтенице  и в осаде Силистрии, а с ноября 1854 г. по конец августа 1855 г был в Севастоп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15:25:08Z</dcterms:created>
  <dc:creator>Вова</dc:creator>
  <dc:description/>
  <dc:language>en-US</dc:language>
  <cp:lastModifiedBy>Вова</cp:lastModifiedBy>
  <dcterms:modified xsi:type="dcterms:W3CDTF">2012-05-27T22:40:50Z</dcterms:modified>
  <cp:revision>5</cp:revision>
  <dc:subject/>
  <dc:title>Лев Николаевич Толстой</dc:title>
</cp:coreProperties>
</file>