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F9E-0520-4910-A7FB-737C9A39DA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A5FE-40D3-48C7-8689-ABFF032884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9CA-E409-4E59-80B6-3F618160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1D5-15B3-4DF1-BB1D-8FCC0494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B730-15A2-4174-A73C-13815DB0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5FF-59DB-433F-B0E1-C1DBA769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CED-A0BB-4B98-9BC6-A69C9325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4EE-6F00-458F-8B27-54661A5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CB6B-BE75-4D02-853D-67986BCA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DE6-5674-4AB6-9030-7FBF5DF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A69-D60D-4251-B7E2-640B0388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36A-13DD-4B7E-9404-6E95E0AA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6E0-9CD5-4AB8-A477-EC9F1549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B51-309A-4E0D-B75C-BCF3380D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99cc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D2B-310A-4267-8BB6-6D3217F3D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57880" y="4429080"/>
            <a:ext cx="2325600" cy="192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40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БЛЕМА МОТИВАЦИИ ПРИ ИЗУ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НОСТРАННОГО ЯЗЫ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4571640"/>
            <a:ext cx="830088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ьютерные технологии и урок англий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я использованию презента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только активизируется внимание всего класса, легче воспринимается и запоминается новый учебный материал, но и поддерживается познавательный интерес обучающихся и усиливается мотивация 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ываются с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создан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пециально разработанной системы упражнений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яя которые учащиеся ощущали бы результат своей деятельност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вовлечением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эмоциональной сферы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процесс обучения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характером педагогических воздействий учителя, в частности налич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тимулов и подкреплени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 использованием на уроках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удиовизуальных средств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 использование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личностной индивидуализаци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6) разработкой системы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неклассных занятий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силивающих мотивационную сторону изучения язык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2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97% учащихся приступают к изучению иностранного языка с интересом и желанием, но через некоторое время интерес значительно ослабевает, а к восьмому классу он пропадает у 86% учащихс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Е.И. Пассов, В.П. Кузовлев и В.Б. Царьков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3786120"/>
            <a:ext cx="81867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охранить интерес учащихся к иностранному языку на всем протяжении его изуч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мотрим</a:t>
            </a:r>
            <a:br>
              <a:rPr sz="3600"/>
            </a:b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ое обеспечение урока, способствующее стимулированию общения на иностранном языке,</a:t>
            </a:r>
            <a:br>
              <a:rPr sz="3600"/>
            </a:b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иды мотиваци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۩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ы повышения мотивации к изучению английского языка в школ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929120" y="4214880"/>
            <a:ext cx="25718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тивация – это результат внутренних потребностей человека, его интересов и эмоций, целей и задач, наличие мотивов, направленных на активизацию его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тодической литературе выделя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юю и внутреннюю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щепринятые мотивы, составляющие внешнюю (или широкую социальную) мотивацию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2285640"/>
            <a:ext cx="8400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Каждый культурный человек должен знать хотя бы один иностранный язык (варианты: изучаю для общего развития; английский язык – самый распространенный в мире, и его надо зна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Хочу изучать английский язык, потому что его  знают мои род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Учу из уважения к уч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Хочу знать не хуже своих товарищей (брата, сестры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1071720" y="785880"/>
            <a:ext cx="75009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нешняя мотивация выполняет в известном смысл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стратегическую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, то внутренняя мотивация играе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тактическую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, так как она поддерживается самим процессом овладения иностранным языком. Внутреннюю мотивацию методисты подразделяют еще на несколько вид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7200" y="40392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400" y="571320"/>
            <a:ext cx="825804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Мотивация, связанная с перспективным развитием личности (Изучаю английский язык, потому что это может пригодиться в дальнейшей жизни: в институте, в будущей работе и так дале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Коммуникативная мотивация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нтересно общаться с ребятами на уроке, высказывать свое мнение, обсуждать какую-нибудь тему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глийский язык служит мне средством внеурочных интерес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Мотивация, порождаемая самой учебной деятельностью (операционно-инструментальная мотивация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6800" y="148320"/>
            <a:ext cx="7829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8400" y="928440"/>
            <a:ext cx="8258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Интересен английский язык как таковой: нравится отгадывать значения новых слов, выводить грамматические правила, выполнять упражнения, ощущать успех в уче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равится, когда мы играе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Нравится учить стихи и петь песни на английском язы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Люблю переводить короткие интересные текс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* Английские слова легко запомин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3 принци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85880" y="2857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языкового окруж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оянный мониторин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ситуации успе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5T17:52:56Z</dcterms:modified>
  <cp:revision>18</cp:revision>
  <dc:subject/>
  <dc:title>PowerPoint Presentation</dc:title>
</cp:coreProperties>
</file>