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F2FC-AD4E-415C-96DC-7F8F6E8645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FEA7-D432-40D0-BA9B-6FA48D94CE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41D-E588-40DB-AF2D-EA561C2B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FDA-FCE9-43D9-ADBD-909F9DF7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A60-B381-47AA-A80B-DF3CA2F7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4FA-EA8D-448D-A659-23009144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E4A-7970-459D-B57F-2068DEB2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DF3-C6A0-4346-B889-8CEE48AF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ED1-8E45-41C5-AAE3-C09E366A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730-5724-4679-9EF4-28BEC20C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65C-F4EC-4963-BEE7-14B7A779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DDD-E797-473A-A938-64A9A308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B77-76A3-4431-9362-067382A4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CC6-C54C-4C88-A97D-FD2A682A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476E-7725-45E9-A9CF-C239E9A2CF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57880" y="4429080"/>
            <a:ext cx="2325600" cy="192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А МОТИВАЦИИ ПРИ ИЗУЧЕН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НОСТРАННОГО ЯЗЫ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4571640"/>
            <a:ext cx="830088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пьютерные технологии и урок англий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я использованию презента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только активизируется внимание всего класса, легче воспринимается и запоминается новый учебный материал, но и поддерживается познавательный интерес обучающихся и усиливается мотивация 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ываются с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) созданием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пециально разработанной системы упражнений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олняя которые учащиеся ощущали бы результат своей деятельности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) вовлечением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эмоциональной сферы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процесс обуч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) характером педагогических воздействий учителя, в частности наличием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тимулов и подкреплений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)  использованием на уроках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удиовизуальных средств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5)  использованием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личностной индивидуализаци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6) разработкой системы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неклассных занятий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силивающих мотивационную сторону изучения язы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97% учащихся приступают к изучению иностранного языка с интересом и желанием, но через некоторое время интерес значительно ослабевает, а к восьмому классу он пропадает у 86% учащихс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Е.И. Пассов, В.П. Кузовлев и В.Б. Царько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3786120"/>
            <a:ext cx="81867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охранить интерес учащихся к иностранному языку на всем протяжении его изуч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отрим</a:t>
            </a:r>
            <a:br>
              <a:rPr sz="3600"/>
            </a:b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۩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тивационное обеспечение урока, способствующее стимулированию общения на иностранном языке,</a:t>
            </a:r>
            <a:br>
              <a:rPr sz="3600"/>
            </a:b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۩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мотиваци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۩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собы повышения мотивации к изучению английского языка в шк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929120" y="4214880"/>
            <a:ext cx="25718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тивация – это результат внутренних потребностей человека, его интересов и эмоций, целей и задач, наличие мотивов, направленных на активизацию его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тодической литературе выделя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юю и внутренню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а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щепринятые мотивы, составляющие внешнюю (или широкую социальную) мотивацию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840" y="2285640"/>
            <a:ext cx="8400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аждый культурный человек должен знать хотя бы один иностранный язык (варианты: изучаю для общего развития; английский язык – самый распространенный в мире, и его надо зна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Хочу изучать английский язык, потому что его  знают мои род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Учу из уважения к 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Хочу знать не хуже своих товарищей (брата, сестры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071720" y="785880"/>
            <a:ext cx="7500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нешняя мотивация выполняет в известном смысл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стратегическую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, то внутренняя мотивация играе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тактическую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, так как она поддерживается самим процессом овладения иностранным языком. Внутреннюю мотивацию методисты подразделяют еще на несколько вид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57200" y="40392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 Мотивация, связанная с перспективным развитием личности (Изучаю английский язык, потому что это может пригодиться в дальнейшей жизни: в институте, в будущей работе и так далее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Коммуникативная мотиваци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нтересно общаться с ребятами на уроке, высказывать свое мнение, обсуждать какую-нибудь тему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глийский язык служит мне средством внеурочных интерес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 Мотивация, порождаемая самой учебной деятельностью (операционно-инструментальная мотивац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6800" y="148320"/>
            <a:ext cx="7829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400" y="928440"/>
            <a:ext cx="8258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Интересен английский язык как таковой: нравится отгадывать значения новых слов, выводить грамматические правила, выполнять упражнения, ощущать успех в учен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равится, когда мы игра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равится учить стихи и петь песни на английском язы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Люблю переводить короткие интересные текс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Английские слова легко запомин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3 принци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85880" y="2857320"/>
            <a:ext cx="7858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языкового окруже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оянный мониторинг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ситуации успе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25T17:52:56Z</dcterms:modified>
  <cp:revision>18</cp:revision>
  <dc:subject/>
  <dc:title>PowerPoint Presentation</dc:title>
</cp:coreProperties>
</file>