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FBB-8BBB-487A-BF17-6EBC3B7B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568-7806-4B7A-9F5B-EB6D221A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164-A0E9-4354-B792-5BCDFF8C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FBF-B4B1-4D87-88F5-85DC4BA6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8DE7-4785-4C7C-826E-11F1642F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D4B2-C005-4D3D-A4C4-72ADF4E4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6804-0D7B-4388-89ED-ECB50EE3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2BFF-B7A8-4D3E-9D6F-1C6686DB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8691-8F18-4E14-BA2F-4C7B9451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2C6F-12F1-44A5-85AC-BE0CEF67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8BD4-E0AA-4877-B7AF-326544BD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027-B434-45C9-A186-21070B84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D9B9-CEC8-4E15-9A87-3B2A654A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2558-E722-485C-816B-DB522BC5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11FE-2944-40A9-80E3-2E093DA5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D620-684E-4C9D-AF5F-14898C89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6A4D-7CE3-47EB-9D00-25801CBB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0EB-C191-4DCE-82EA-1FC4E310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90F-B937-4460-AE59-1BDCB509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576-88F6-4C88-9FF9-F72859F7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64E-8AC7-4DF8-800C-A909BC63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8F8-B103-4AC5-9E94-1F2B7F03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037-CB66-4DBE-BF14-821F884C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7EA-C8BA-4269-93F9-CE76B2A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BF84-AD51-48AF-A3BA-B9925DDB21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5795-2561-4960-BFA7-BA4B729E5C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9880" y="380880"/>
            <a:ext cx="5029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Зака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962520" y="609480"/>
            <a:ext cx="472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«Необходимый новый уровень экологического знания людей. </a:t>
            </a:r>
            <a:br>
              <a:rPr sz="1800"/>
            </a:b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На всем пути воспитания и обучения человека от детского сада до вузов – экологические знания должны иметь высший приоритет»</a:t>
            </a:r>
            <a:br>
              <a:rPr sz="1800"/>
            </a:b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/А.Яблоков, академик РАН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057400" y="4267080"/>
            <a:ext cx="10888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914400" y="3124080"/>
            <a:ext cx="8001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ная деятельность как средство формир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 экологической культуры у старших дошкольников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тели:  Авсеевич И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трыкина И.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ДОУ ЦРР - д/с №9 ,,Улыбка,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Светл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ланируемые образовательные результа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ширение знаний детей и родителей о родном крае, его обычаях, культуре, формирование на этой основе духовного, экологического, нравственного и личностного отношения к действи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ширение связей ДОУ с социум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ение работы по взаимодействию с родителями, активизация позиции родителей как участников педагогического процесса детского са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Этапы и сроки проведения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904760"/>
            <a:ext cx="476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густ 2010г. - июнь 2011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IMG_0811"/>
          <p:cNvPicPr/>
          <p:nvPr/>
        </p:nvPicPr>
        <p:blipFill>
          <a:blip r:embed="rId1"/>
          <a:stretch/>
        </p:blipFill>
        <p:spPr>
          <a:xfrm>
            <a:off x="4916520" y="2597040"/>
            <a:ext cx="3929040" cy="28051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0" y="241020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-й этап — выбор темы проект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й этап — планирование проект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-й этап — проживание темы проект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-й этап — рефлексия по теме проект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ЛАН РАБОТЫ ПО ПРОЕКТУ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« ЖИВИ ЗЕМЛЯ»</a:t>
            </a:r>
            <a:br>
              <a:rPr sz="40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I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этап подготовительны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1676520"/>
          <a:ext cx="8007480" cy="5181480"/>
        </p:xfrm>
        <a:graphic>
          <a:graphicData uri="http://schemas.openxmlformats.org/drawingml/2006/table">
            <a:tbl>
              <a:tblPr/>
              <a:tblGrid>
                <a:gridCol w="5029200"/>
                <a:gridCol w="1524240"/>
                <a:gridCol w="1454040"/>
              </a:tblGrid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обрать методическую, научно-популярную, публицистическую, педагогическую литературу, иллюстрированный материал по данной те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.Зам. по ОВ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гу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сти Диагностику на начало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неделя сентябр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формить родительский уголок группы размещение статей, проведения консультаций, рекомендаций по теме проекта «Живи Земля». Создать центры развития, внешние природные зоны на территори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лектив ДО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неделя сентябр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овать с детьми, родителями поисковую деятельность по теме проекта. Обработка материала по теме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4 неделя сентябр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3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азвивающие центры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9" descr="IMG_0899"/>
          <p:cNvPicPr/>
          <p:nvPr/>
        </p:nvPicPr>
        <p:blipFill>
          <a:blip r:embed="rId1"/>
          <a:stretch/>
        </p:blipFill>
        <p:spPr>
          <a:xfrm>
            <a:off x="228600" y="9144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IMG_0894"/>
          <p:cNvPicPr/>
          <p:nvPr/>
        </p:nvPicPr>
        <p:blipFill>
          <a:blip r:embed="rId2"/>
          <a:stretch/>
        </p:blipFill>
        <p:spPr>
          <a:xfrm>
            <a:off x="6248520" y="9144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G_0895"/>
          <p:cNvPicPr/>
          <p:nvPr/>
        </p:nvPicPr>
        <p:blipFill>
          <a:blip r:embed="rId3"/>
          <a:stretch/>
        </p:blipFill>
        <p:spPr>
          <a:xfrm>
            <a:off x="0" y="2971800"/>
            <a:ext cx="243828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IMG_0885"/>
          <p:cNvPicPr/>
          <p:nvPr/>
        </p:nvPicPr>
        <p:blipFill>
          <a:blip r:embed="rId4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IMG_0887"/>
          <p:cNvPicPr/>
          <p:nvPr/>
        </p:nvPicPr>
        <p:blipFill>
          <a:blip r:embed="rId5"/>
          <a:stretch/>
        </p:blipFill>
        <p:spPr>
          <a:xfrm>
            <a:off x="2971800" y="1371600"/>
            <a:ext cx="3298680" cy="2475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PB180128"/>
          <p:cNvPicPr/>
          <p:nvPr/>
        </p:nvPicPr>
        <p:blipFill>
          <a:blip r:embed="rId6"/>
          <a:stretch/>
        </p:blipFill>
        <p:spPr>
          <a:xfrm>
            <a:off x="2133720" y="3581280"/>
            <a:ext cx="2133360" cy="3048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IMG_0897"/>
          <p:cNvPicPr/>
          <p:nvPr/>
        </p:nvPicPr>
        <p:blipFill>
          <a:blip r:embed="rId7"/>
          <a:stretch/>
        </p:blipFill>
        <p:spPr>
          <a:xfrm>
            <a:off x="4343400" y="380988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АКТУАЛЬ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экологического образования относится к числу коренных проблем воспитания. Оно должно сопровождать человека на протяжении все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обходимо формировать чувство эмоциональной близости с миром живой природы - в раннем детстве, способствовать пониманию целостной картины мира –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Фото003"/>
          <p:cNvPicPr/>
          <p:nvPr/>
        </p:nvPicPr>
        <p:blipFill>
          <a:blip r:embed="rId1"/>
          <a:stretch/>
        </p:blipFill>
        <p:spPr>
          <a:xfrm>
            <a:off x="1152360" y="1905120"/>
            <a:ext cx="3302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Формирование основ экологической культуры необходимо начинать с дошкольного возраст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иболее благоприятным периодом для решения задач экологического воспитания является дошкольный возраст. Маленький ребенок познает мир с открытой душой и сердцем. И то, как он будет относиться к этому миру, научится ли быть рачительным хозяином, любящим и понимающим природу, воспринимающим себя как часть единой экологической системы, во многом зависит от взрослых, участвующих в его воспита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рослым необходимо способствовать усвоению определенного объема экологических понятий и знаний о природе, а также формировать навыки и умения использования их в практической деятельности дошкольни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ТИВОРЕЧ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одной стороны одну из основных задач воспитания и образования  это формирование экологической культуры и природоохранного сознания необходимо воспитывать с ранних лет. Дошкольное детство - это начальный этап формирования личности челове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другой стороны происходит интенсивное изменение окружающей жизни, активное проникновение научно-технического прогресса во все сферы, которые диктуют педагогу необходимость выбирать более эффективные средства обучения и воспитания на основе современных методов и новых интегрированных технологий и отсутствием достаточных знаний в содержании учебных пр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РОБЛЕ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вязи с противоречиями возникает проблема введения в обучающий процесс основ экологического образования методов и приемов направленных, на формирование основ экологической культуры у детей старшего до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ШЕНИЕ 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им из перспективных методов, способствующих решению этой проблемы, является метод проектной деятельности. Основываясь на личностно-ориентированном подходе к обучению и воспитанию, он  развивает познавательный интерес, любознательность к различным областям знаний, формирует навыки сотрудничества, практические умения в данном случае в области экологического образ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ЦЕЛЬ ПРОЕКТ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       «ЖИВИ ЗЕМЛЯ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, для формирования основ экологической культуры, раскрывающих творческий  и интеллектуальный потенциал дошкольников, ориентированных на диалогическое взаимодействие детей, родителей и педагогов и способствующих самопониманию и саморазвитию всех участников педагогического процес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ЗАДАЧИ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вать познавательный интерес старших дошкольников к изучению прир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ствовать развитию мышления, речи, эрудиции, эмоциональной сферы и нравственному воспитанию - то есть становлению личности в цел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ь  в доступной форме представление о роли родной природы; познакомить с различными социальными объектами,  взаимосвязями в природе и их значен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ть условия для участия родителей в образовательном процесс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ывать навыки экологической грамотности и безопасного поведения в повседневной жизни. Формировать позитивное, уважительное отношение к родному краю, к труду, его жител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вать творческие способности детей и родителей в продуктивной и музыкаль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частники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 старшей группы 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гоги: Авсеевич И.М., Кострыкина И.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зыкальный руководитель: Гекало Л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ктор физкультуры: Пишенина Н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опед: Мушенок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7 семей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министрация МАДОУ ЦРР-д/с №9 «Улыб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IMG_0801"/>
          <p:cNvPicPr/>
          <p:nvPr/>
        </p:nvPicPr>
        <p:blipFill>
          <a:blip r:embed="rId1"/>
          <a:stretch/>
        </p:blipFill>
        <p:spPr>
          <a:xfrm>
            <a:off x="4916520" y="2597040"/>
            <a:ext cx="3929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</cp:lastModifiedBy>
  <dcterms:modified xsi:type="dcterms:W3CDTF">2012-05-30T07:20:0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