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EFE-F97C-42F2-B223-DAA787C7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6A1-D685-4F70-BE08-2474A7F7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FE2-57FE-4F0E-B1ED-016578E3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39C-1EE0-4379-A6C0-361A2B3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39B6-8A8F-401C-89A5-421A94AF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CBF2-FA92-49FC-B329-C5E91C01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BC1-9E5E-434B-B8EA-4182287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28E5-AE2C-4D0A-A4A0-7E88C3D3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A3A-54AF-47F7-8A57-CCCC530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7DB1-F513-46FF-8151-E66B377C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5712-04A5-4DA4-A6A1-182204F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9DDD-825C-4F49-9FBD-24ACBC7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B584-3DF6-4235-9EEA-A4A50DFC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6E93-0A6F-400E-A6A8-0DACCD2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F96F-BBFF-46ED-A4A2-5550E599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46C-C7AE-473A-A03F-26B202AD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C57D-F09E-4709-8DF3-C6C47555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101-1BCE-4F50-BA58-0174BBA5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434-5E87-4BA1-8894-A22A2655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FE24-D9FC-4F29-B796-82A9163F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D55-CC7A-466A-8170-D54D2FA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FA9F-CA99-4DAF-A19B-85F7FA46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DD8-663E-439A-8711-CB381257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F01-0C3E-49E8-9B48-D394EAB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44C-1718-4E21-BF85-48BCFDB730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0130-55A7-4C1D-9287-E88954A6718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9880" y="380880"/>
            <a:ext cx="50292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Зака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962520" y="60948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«Необходимый новый уровень экологического знания людей. </a:t>
            </a:r>
            <a:br>
              <a:rPr sz="1800"/>
            </a:b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На всем пути воспитания и обучения человека от детского сада до вузов – экологические знания должны иметь высший приоритет»</a:t>
            </a:r>
            <a:br>
              <a:rPr sz="1800"/>
            </a:br>
            <a:r>
              <a:rPr b="0" lang="ru-RU" sz="1800" spc="-1" strike="noStrike">
                <a:solidFill>
                  <a:srgbClr val="ffffb7"/>
                </a:solidFill>
                <a:latin typeface="Arial"/>
              </a:rPr>
              <a:t>/А.Яблоков, академик РАН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057400" y="4267080"/>
            <a:ext cx="10888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14400" y="3124080"/>
            <a:ext cx="8001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ная деятельность как средство фор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 экологической культуры у старших дошкольников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и:  Авсеевич И.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трыкина И.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ДОУ ЦРР - д/с №9 ,,Улыбка,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Светл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ируемые образовательные результа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ение знаний детей и родителей о родном крае, его обычаях, культуре, формирование на этой основе духовного, экологического, нравственного и личностного отношения к действи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ширение связей ДОУ с социум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ение работы по взаимодействию с родителями, активизация позиции родителей как участников педагогического процесса детского с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Этапы и сроки проведения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904760"/>
            <a:ext cx="476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густ 2010г. - июнь 201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IMG_0811"/>
          <p:cNvPicPr/>
          <p:nvPr/>
        </p:nvPicPr>
        <p:blipFill>
          <a:blip r:embed="rId1"/>
          <a:stretch/>
        </p:blipFill>
        <p:spPr>
          <a:xfrm>
            <a:off x="4916520" y="2597040"/>
            <a:ext cx="3929040" cy="28051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0" y="2410200"/>
            <a:ext cx="472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й этап — выбор темы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й этап — планирование проект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й этап — проживание темы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-й этап — рефлексия по теме проект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ЛАН РАБОТЫ ПО ПРОЕКТУ 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« ЖИВИ ЗЕМЛЯ»</a:t>
            </a:r>
            <a:br>
              <a:rPr sz="40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I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этап подготовительны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676520"/>
          <a:ext cx="8007480" cy="5181480"/>
        </p:xfrm>
        <a:graphic>
          <a:graphicData uri="http://schemas.openxmlformats.org/drawingml/2006/table">
            <a:tbl>
              <a:tblPr/>
              <a:tblGrid>
                <a:gridCol w="5029200"/>
                <a:gridCol w="1524240"/>
                <a:gridCol w="1454040"/>
              </a:tblGrid>
              <a:tr h="14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обрать методическую, научно-популярную, публицистическую, педагогическую литературу, иллюстрированный материал по данной те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.Зам. по ОВ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гу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сти Диагностику на начало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формить родительский уголок группы размещение статей, проведения консультаций, рекомендаций по теме проекта «Живи Земля». Создать центры развития, внешние природные зоны на территори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 Д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овать с детьми, родителями поисковую деятельность по теме проекта. Обработка материала по теме про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4 неделя сентябр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3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Развивающие центры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9" descr="IMG_0899"/>
          <p:cNvPicPr/>
          <p:nvPr/>
        </p:nvPicPr>
        <p:blipFill>
          <a:blip r:embed="rId1"/>
          <a:stretch/>
        </p:blipFill>
        <p:spPr>
          <a:xfrm>
            <a:off x="228600" y="9144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IMG_0894"/>
          <p:cNvPicPr/>
          <p:nvPr/>
        </p:nvPicPr>
        <p:blipFill>
          <a:blip r:embed="rId2"/>
          <a:stretch/>
        </p:blipFill>
        <p:spPr>
          <a:xfrm>
            <a:off x="6248520" y="9144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G_0895"/>
          <p:cNvPicPr/>
          <p:nvPr/>
        </p:nvPicPr>
        <p:blipFill>
          <a:blip r:embed="rId3"/>
          <a:stretch/>
        </p:blipFill>
        <p:spPr>
          <a:xfrm>
            <a:off x="0" y="2971800"/>
            <a:ext cx="243828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IMG_0885"/>
          <p:cNvPicPr/>
          <p:nvPr/>
        </p:nvPicPr>
        <p:blipFill>
          <a:blip r:embed="rId4"/>
          <a:stretch/>
        </p:blipFill>
        <p:spPr>
          <a:xfrm>
            <a:off x="622764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IMG_0887"/>
          <p:cNvPicPr/>
          <p:nvPr/>
        </p:nvPicPr>
        <p:blipFill>
          <a:blip r:embed="rId5"/>
          <a:stretch/>
        </p:blipFill>
        <p:spPr>
          <a:xfrm>
            <a:off x="2971800" y="1371600"/>
            <a:ext cx="3298680" cy="247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PB180128"/>
          <p:cNvPicPr/>
          <p:nvPr/>
        </p:nvPicPr>
        <p:blipFill>
          <a:blip r:embed="rId6"/>
          <a:stretch/>
        </p:blipFill>
        <p:spPr>
          <a:xfrm>
            <a:off x="2133720" y="3581280"/>
            <a:ext cx="213336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IMG_0897"/>
          <p:cNvPicPr/>
          <p:nvPr/>
        </p:nvPicPr>
        <p:blipFill>
          <a:blip r:embed="rId7"/>
          <a:stretch/>
        </p:blipFill>
        <p:spPr>
          <a:xfrm>
            <a:off x="4343400" y="38098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АКТУАЛЬ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экологического образования относится к числу коренных проблем воспитания. Оно должно сопровождать человека на протяжении все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ходимо формировать чувство эмоциональной близости с миром живой природы - в раннем детстве, способствовать пониманию целостной картины мира – в шк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Фото003"/>
          <p:cNvPicPr/>
          <p:nvPr/>
        </p:nvPicPr>
        <p:blipFill>
          <a:blip r:embed="rId1"/>
          <a:stretch/>
        </p:blipFill>
        <p:spPr>
          <a:xfrm>
            <a:off x="1152360" y="1905120"/>
            <a:ext cx="330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Формирование основ экологической культуры необходимо начинать с дошкольного возраст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иболее благоприятным периодом для решения задач экологического воспитания является дошкольный возраст. Маленький ребенок познает мир с открытой душой и сердцем. И то, как он будет относиться к этому миру, научится ли быть рачительным хозяином, любящим и понимающим природу, воспринимающим себя как часть единой экологической системы, во многом зависит от взрослых, участвующих в его воспитан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рослым необходимо способствовать усвоению определенного объема экологических понятий и знаний о природе, а также формировать навыки и умения использования их в практической деятельности дошкольн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ТИВОРЕЧ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одной стороны одну из основных задач воспитания и образования  это формирование экологической культуры и природоохранного сознания необходимо воспитывать с ранних лет. Дошкольное детство - это начальный этап формирования личности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другой стороны происходит интенсивное изменение окружающей жизни, активное проникновение научно-технического прогресса во все сферы, которые диктуют педагогу необходимость выбирать более эффективные средства обучения и воспитания на основе современных методов и новых интегрированных технологий и отсутствием достаточных знаний в содержании учебных програм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РОБЛЕ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язи с противоречиями возникает проблема введения в обучающий процесс основ экологического образования методов и приемов направленных, на формирование основ экологической культуры у детей старшего до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ЕШЕНИЕ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им из перспективных методов, способствующих решению этой проблемы, является метод проектной деятельности. Основываясь на личностно-ориентированном подходе к обучению и воспитанию, он  развивает познавательный интерес, любознательность к различным областям знаний, формирует навыки сотрудничества, практические умения в данном случае в области экологическо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ЦЕЛЬ ПРОЕКТ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               «ЖИВИ ЗЕМЛЯ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, для формирования основ экологической культуры, раскрывающих творческий  и интеллектуальный потенциал дошкольников, ориентированных на диалогическое взаимодействие детей, родителей и педагогов и способствующих самопониманию и саморазвитию всех участников педагогического процес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Arial Black"/>
              </a:rPr>
              <a:t>ЗАДАЧ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познавательный интерес старших дошкольников к изучению прир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особствовать развитию мышления, речи, эрудиции, эмоциональной сферы и нравственному воспитанию - то есть становлению личности в цел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 в доступной форме представление о роли родной природы; познакомить с различными социальными объектами,  взаимосвязями в природе и их значен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ть условия для участия родителей в образовательном процесс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ть навыки экологической грамотности и безопасного поведения в повседневной жизни. Формировать позитивное, уважительное отношение к родному краю, к труду, его жител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вать творческие способности детей и родителей в продуктивной и музык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Участники проек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старшей группы 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и: Авсеевич И.М., Кострыкина И.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зыкальный руководитель: Гекало Л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руктор физкультуры: Пишенина Н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опед: Мушенок Е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7 семей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ация МАДОУ ЦРР-д/с №9 «Улыб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IMG_0801"/>
          <p:cNvPicPr/>
          <p:nvPr/>
        </p:nvPicPr>
        <p:blipFill>
          <a:blip r:embed="rId1"/>
          <a:stretch/>
        </p:blipFill>
        <p:spPr>
          <a:xfrm>
            <a:off x="4916520" y="2597040"/>
            <a:ext cx="3929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</cp:lastModifiedBy>
  <dcterms:modified xsi:type="dcterms:W3CDTF">2012-05-30T07:20:0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