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4.wmf" ContentType="image/x-wmf"/>
  <Override PartName="/ppt/media/image6.jpeg" ContentType="image/jpeg"/>
  <Override PartName="/ppt/media/image5.jpeg" ContentType="image/jpeg"/>
  <Override PartName="/ppt/media/image7.gif" ContentType="image/gif"/>
  <Override PartName="/ppt/media/image12.gif" ContentType="image/gif"/>
  <Override PartName="/ppt/media/image3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FBF1428C-CB42-457F-B6BF-9891CC50A9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7EFD39E9-A399-4EC7-9741-595F790770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F77508FC-C3F1-4B1B-A2D7-0A0154EFB9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AA3FF1C3-3172-4386-BBF3-CB40A97E56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17DE2EC8-6570-43D1-A9E9-D9EE89123B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A36E3EDE-2646-4B62-89A4-9A9A1BFC12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FF3918B1-A741-4A8D-AB8E-AA3AF8ACD7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4AF83519-B997-4300-A1A1-EBDDD9E69F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20360" y="5089320"/>
            <a:ext cx="604836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27E379CE-4B42-4A56-A9E7-C26B432E53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EEE537E9-DB10-4476-B059-07C7A538A6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C3BD7C6C-32C9-4E2A-AE56-E1AEF67F5B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9B2AAFE3-D354-4527-9629-60519194D7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46955C4F-1CCE-4C35-9763-41D3A5915B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4CBA7782-331C-48BE-BBEC-DF0DBBC7CC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5640" y="399672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564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6728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42680" y="17636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99720" y="17636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5640" y="399672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42680" y="399672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99720" y="399672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C142-5FD8-4385-BE59-6377D24B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85640" y="176364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EE5E-F604-4313-909F-B33DE97F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B376-5178-4592-8FB7-603042DE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74C7-B9D6-4E3A-8AAA-2E86686C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8DDF-DE7F-4581-9BFD-DE01B9A5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213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E388-A6A1-4BAB-AC7E-2536D571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564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66F6-6872-4B66-9CA9-4A462398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5640" y="176364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6728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C226-03E5-43B4-88BA-95F38F00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5640" y="399672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E143-ACE3-4456-AB45-D5B170B5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640" y="399672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522C-A6F0-4EF3-A383-C46D2841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564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6728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E33-CC9C-420D-8C06-C7F554C3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42680" y="17636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99720" y="17636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5640" y="399672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42680" y="399672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99720" y="399672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F3DD-1901-4AB9-995D-7F683E87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213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564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6728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5640" y="399672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100080"/>
            <a:ext cx="8299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4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3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9040" y="1906200"/>
            <a:ext cx="817236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7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7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7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7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7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7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7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7653240" y="5357880"/>
            <a:ext cx="189864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5640" y="176364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85640" y="599616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323880" y="5996160"/>
            <a:ext cx="307980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969240" y="599616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A639DA39-FD5B-4EBB-8F9C-B6D74B1FFA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640" y="0"/>
            <a:ext cx="874728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500" spc="-1" strike="noStrike">
                <a:solidFill>
                  <a:srgbClr val="ffff00"/>
                </a:solidFill>
                <a:latin typeface="Times New Roman"/>
              </a:rPr>
              <a:t>ПРОФИЛАКТИКА</a:t>
            </a:r>
            <a:br>
              <a:rPr sz="3500"/>
            </a:br>
            <a:r>
              <a:rPr b="1" i="1" lang="en-US" sz="3500" spc="-1" strike="noStrike">
                <a:solidFill>
                  <a:srgbClr val="ffff00"/>
                </a:solidFill>
                <a:latin typeface="Times New Roman"/>
              </a:rPr>
              <a:t>СУИЦИДАЛЬНОГО ПОВЕДЕНИЯ СРЕДИ ПОДРОСТКОВ</a:t>
            </a: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16000" y="1668240"/>
            <a:ext cx="9007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ры составители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лмыкова С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вцова О.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лнцева И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офимова О.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216000" y="1668600"/>
            <a:ext cx="5645160" cy="41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800" spc="-1" strike="noStrike">
                <a:solidFill>
                  <a:srgbClr val="47ffd1"/>
                </a:solidFill>
                <a:latin typeface="Times New Roman"/>
              </a:rPr>
              <a:t>ТЕХНОЛОГИИ ОРГАНИЗАЦИИ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5640" y="1882800"/>
            <a:ext cx="901692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431640" indent="0" algn="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216000" y="1758960"/>
            <a:ext cx="3857400" cy="4052880"/>
          </a:xfrm>
          <a:prstGeom prst="rect">
            <a:avLst/>
          </a:prstGeom>
          <a:ln w="0">
            <a:noFill/>
          </a:ln>
        </p:spPr>
      </p:pic>
      <p:pic>
        <p:nvPicPr>
          <p:cNvPr id="122" name="Схема 5" descr=""/>
          <p:cNvPicPr/>
          <p:nvPr/>
        </p:nvPicPr>
        <p:blipFill>
          <a:blip r:embed="rId2"/>
          <a:stretch/>
        </p:blipFill>
        <p:spPr>
          <a:xfrm>
            <a:off x="4200480" y="1731960"/>
            <a:ext cx="5108760" cy="41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3080" y="3106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600" spc="-1" strike="noStrike">
                <a:solidFill>
                  <a:srgbClr val="47ffd1"/>
                </a:solidFill>
                <a:latin typeface="Times New Roman"/>
              </a:rPr>
              <a:t>ПЛАНИРУЕМЫЙ РЕЗУЛЬТАТ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AutoShape 2"/>
          <p:cNvSpPr/>
          <p:nvPr/>
        </p:nvSpPr>
        <p:spPr>
          <a:xfrm>
            <a:off x="1359000" y="1739880"/>
            <a:ext cx="7246800" cy="394020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619280" y="2597040"/>
            <a:ext cx="70200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800" spc="-1" strike="noStrike">
                <a:solidFill>
                  <a:srgbClr val="191966"/>
                </a:solidFill>
                <a:latin typeface="Times New Roman"/>
                <a:ea typeface="Arial Unicode MS"/>
              </a:rPr>
              <a:t>РАЗРАБОТКА МЕТОДИЧЕСКИХ ОСНОВ ПРОФИЛАКТИКИ СУИЦИДАЛЬНОГО ПОВЕДЕНИЯ СРЕДИ ПОДРОСТОКОВ ДЛЯ ОБРАЗОВАТЕЛЬНОГО УЧРЕЖ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9" descr="Рисунок1"/>
          <p:cNvPicPr/>
          <p:nvPr/>
        </p:nvPicPr>
        <p:blipFill>
          <a:blip r:embed="rId1"/>
          <a:stretch/>
        </p:blipFill>
        <p:spPr>
          <a:xfrm>
            <a:off x="0" y="4025880"/>
            <a:ext cx="1500120" cy="169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800" spc="-1" strike="noStrike">
                <a:solidFill>
                  <a:srgbClr val="47ffd1"/>
                </a:solidFill>
                <a:latin typeface="Times New Roman"/>
              </a:rPr>
              <a:t>ДИАГНОСТИКА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1668240"/>
            <a:ext cx="950436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16000" y="1668600"/>
            <a:ext cx="5073480" cy="407196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7"/>
          <p:cNvSpPr/>
          <p:nvPr/>
        </p:nvSpPr>
        <p:spPr>
          <a:xfrm>
            <a:off x="5504040" y="1739880"/>
            <a:ext cx="3714480" cy="714240"/>
          </a:xfrm>
          <a:prstGeom prst="rect">
            <a:avLst/>
          </a:prstGeom>
          <a:solidFill>
            <a:srgbClr val="47ff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125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ЕРВИЧНЫЙ СКРИНИНГОВЫЙ ОПРОСНИК, МОД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ФИЦИРОВАННЫЙ И СОЗДАННЫЙ НА ОСНОВЕ ОПРОСНИ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1640" indent="125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.Н КРАСНОВА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1999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1640" indent="12564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1640" indent="12564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8"/>
          <p:cNvSpPr/>
          <p:nvPr/>
        </p:nvSpPr>
        <p:spPr>
          <a:xfrm>
            <a:off x="5504040" y="2525760"/>
            <a:ext cx="3714480" cy="5713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К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РЕГВОГИ И ДЕПРЕССИИ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9"/>
          <p:cNvSpPr/>
          <p:nvPr/>
        </p:nvSpPr>
        <p:spPr>
          <a:xfrm>
            <a:off x="5504040" y="3168720"/>
            <a:ext cx="370188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ХАРАКТЕРОЛОГИЧЕСКИЙ ОПРОСНИК К.ЛЕОНГАР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10"/>
          <p:cNvSpPr/>
          <p:nvPr/>
        </p:nvSpPr>
        <p:spPr>
          <a:xfrm>
            <a:off x="5504040" y="5097600"/>
            <a:ext cx="3714480" cy="57132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ПРОСНИК ДЕПРЕССИИ А.БЕ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11"/>
          <p:cNvSpPr/>
          <p:nvPr/>
        </p:nvSpPr>
        <p:spPr>
          <a:xfrm>
            <a:off x="5504040" y="3811680"/>
            <a:ext cx="3714480" cy="571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ЕСТ ШКОЛЬНОЙ ТРЕВОЖНОСТИ ФИЛЛИПСА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12"/>
          <p:cNvSpPr/>
          <p:nvPr/>
        </p:nvSpPr>
        <p:spPr>
          <a:xfrm>
            <a:off x="5504040" y="4525920"/>
            <a:ext cx="3714480" cy="50004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К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АЛА ТРЕВОЖНОСТИ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30200" y="23940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800" spc="-1" strike="noStrike">
                <a:solidFill>
                  <a:srgbClr val="ffff00"/>
                </a:solidFill>
                <a:latin typeface="Times New Roman"/>
              </a:rPr>
              <a:t>СПАСИБО ЗА ВНИМАНИЕ!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87360" y="1525320"/>
            <a:ext cx="71452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1287360" y="1596960"/>
            <a:ext cx="743112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000" spc="-1" strike="noStrike">
                <a:solidFill>
                  <a:srgbClr val="47ffd1"/>
                </a:solidFill>
                <a:latin typeface="Calibri"/>
                <a:ea typeface="Times New Roman"/>
              </a:rPr>
              <a:t>«suicaede» -убийство себя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87472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343080" indent="0" algn="just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Из всех созданий, живущих на земле, только человек может изменить себя. Только человек является архитектором своей судьбы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. Джейм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85640" y="1763640"/>
            <a:ext cx="874728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2760" y="382320"/>
            <a:ext cx="87469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800" spc="-1" strike="noStrike">
                <a:solidFill>
                  <a:srgbClr val="47ffd1"/>
                </a:solidFill>
                <a:latin typeface="Times New Roman"/>
              </a:rPr>
              <a:t>АКТУАЛЬНОСТЬ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179280" y="1800360"/>
            <a:ext cx="91807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720" bIns="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58920" y="1619280"/>
            <a:ext cx="907416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72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В настоящее время решение проблемы суицидального поведения подростков и молодежи в целом является наиболее актуальной среди других проблем современного общества. Мир высоких технологий, порождающий большое количество неудовлетворенных потребностей, а также ряд неустойчивых психических состояний, вносит деструктивное начало в жизнь индивида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В России частота суицидальных действий среди молодежи, в течение последних двух десятилетий удвоилась. У 30% лиц в возрасте 14 – 24 лет бывают суицидальные мысли, 6% юношей и 10% девушек совершают суицидальные действия. Некоторые специалисты пишут о том, что в 10% суицидальное поведение имеет цель покончить собой, и в 90% суицидальное поведение подростка – это привлечение к себе внимания.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Суицидальное поведение встречается чаще у подростков, чем в других возрастных группах. Это связано с рядом особенностей подросткового возраста. В этом возрасте реальная значимость проблемы и реакция на неё подростка могут быть несоизмеримы до катастрофической величины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Суицидальные действия у подростков часто бывают импульсивными, ситуативными и не планируются заранее. Попытки суицида являются следствием непродуктивной (защитной) адаптации к жизни – фиксированное, негибкое построение человеком или семьей отношений с собой, своими близкими и внешним миром на основе действия механизма отчуждения: попыткам разрешить трудную жизненную ситуацию непригодными, неадекватными способами. Своевременная психологическая помощь, участие, оказанное подросткам в трудной жизненной ситуации, помогли бы избежать трагеди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800" spc="-1" strike="noStrike">
                <a:solidFill>
                  <a:srgbClr val="47ffd1"/>
                </a:solidFill>
                <a:latin typeface="Times New Roman"/>
              </a:rPr>
              <a:t>ПРОТИВОРЕЧИЯ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87320" y="1596960"/>
            <a:ext cx="8074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 algn="just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Стрелка вниз 6"/>
          <p:cNvSpPr/>
          <p:nvPr/>
        </p:nvSpPr>
        <p:spPr>
          <a:xfrm>
            <a:off x="2502000" y="1668600"/>
            <a:ext cx="1144440" cy="785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585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262699"/>
                </a:solidFill>
                <a:latin typeface="Times New Roman"/>
                <a:ea typeface="Arial Unicode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Стрелка вниз 6"/>
          <p:cNvSpPr/>
          <p:nvPr/>
        </p:nvSpPr>
        <p:spPr>
          <a:xfrm>
            <a:off x="6289560" y="1668600"/>
            <a:ext cx="1144800" cy="785520"/>
          </a:xfrm>
          <a:prstGeom prst="downArrow">
            <a:avLst>
              <a:gd name="adj1" fmla="val 51972"/>
              <a:gd name="adj2" fmla="val 50000"/>
            </a:avLst>
          </a:prstGeom>
          <a:solidFill>
            <a:srgbClr val="8585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262699"/>
                </a:solidFill>
                <a:latin typeface="Times New Roman"/>
                <a:ea typeface="Arial Unicode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Скругленный прямоугольник 7"/>
          <p:cNvSpPr/>
          <p:nvPr/>
        </p:nvSpPr>
        <p:spPr>
          <a:xfrm>
            <a:off x="1430280" y="2454120"/>
            <a:ext cx="3357720" cy="2214720"/>
          </a:xfrm>
          <a:prstGeom prst="roundRect">
            <a:avLst>
              <a:gd name="adj" fmla="val 15185"/>
            </a:avLst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жду необходимостью повышения эффективности организации работы с проблемой суицида в подростковом возрасте и несовершенством системы профилактических мер в образовательной систе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Скругленный прямоугольник 8"/>
          <p:cNvSpPr/>
          <p:nvPr/>
        </p:nvSpPr>
        <p:spPr>
          <a:xfrm>
            <a:off x="5218200" y="2454120"/>
            <a:ext cx="3571920" cy="2214720"/>
          </a:xfrm>
          <a:prstGeom prst="roundRect">
            <a:avLst>
              <a:gd name="adj" fmla="val 16667"/>
            </a:avLst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жду внедрением и распространением информации о суициде и провоцированием действий к суицидальным попыткам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4145040" y="4883040"/>
            <a:ext cx="214452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800" spc="-1" strike="noStrike">
                <a:solidFill>
                  <a:srgbClr val="47ffd1"/>
                </a:solidFill>
                <a:latin typeface="Times New Roman"/>
              </a:rPr>
              <a:t>ЦЕЛЬ ПРОЕКТА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4360" y="1525320"/>
            <a:ext cx="92887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222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800" spc="-1" strike="noStrike">
                <a:solidFill>
                  <a:srgbClr val="993366"/>
                </a:solidFill>
                <a:latin typeface="Times New Roman"/>
              </a:rPr>
              <a:t>        </a:t>
            </a:r>
            <a:r>
              <a:rPr b="1" i="1" lang="ru-RU" sz="28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993366"/>
                </a:solidFill>
                <a:latin typeface="Times New Roman"/>
              </a:rPr>
              <a:t>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993366"/>
                </a:solidFill>
                <a:latin typeface="Times New Roman"/>
              </a:rPr>
              <a:t>                            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ЗУЧЕНИ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 ДИАГНОСТИК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ЭМОЦИОНАЛЬНОГО   СОСТОЯНИЯ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ОДРОСТКОВ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С ЦЕЛЬЮ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ЕДОТВРАЩЕНИЯ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СУИЦИДАЛЬНЫХ  ПОПЫТО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АЗРАБОТ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РОФИЛАКТИЧЕСКИХ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РЕКОМЕНДАЦИЙ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993366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5" descr="F:\ФОТО ДЛЯ ПРОЕКТА\14293713.jpg"/>
          <p:cNvPicPr/>
          <p:nvPr/>
        </p:nvPicPr>
        <p:blipFill>
          <a:blip r:embed="rId1"/>
          <a:stretch/>
        </p:blipFill>
        <p:spPr>
          <a:xfrm>
            <a:off x="144360" y="1668600"/>
            <a:ext cx="4357800" cy="4143240"/>
          </a:xfrm>
          <a:prstGeom prst="rect">
            <a:avLst/>
          </a:prstGeom>
          <a:ln w="0">
            <a:noFill/>
          </a:ln>
        </p:spPr>
      </p:pic>
      <p:sp>
        <p:nvSpPr>
          <p:cNvPr id="106" name="Штриховая стрелка вправо 6"/>
          <p:cNvSpPr/>
          <p:nvPr/>
        </p:nvSpPr>
        <p:spPr>
          <a:xfrm flipV="1">
            <a:off x="4645080" y="1954080"/>
            <a:ext cx="430200" cy="2145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400" spc="-1" strike="noStrike">
                <a:solidFill>
                  <a:srgbClr val="262699"/>
                </a:solidFill>
                <a:latin typeface="Arial"/>
                <a:ea typeface="Arial Unicode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Штриховая стрелка вправо 7"/>
          <p:cNvSpPr/>
          <p:nvPr/>
        </p:nvSpPr>
        <p:spPr>
          <a:xfrm flipV="1">
            <a:off x="4645080" y="3740040"/>
            <a:ext cx="430200" cy="2145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720" y="358560"/>
            <a:ext cx="87469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800" spc="-1" strike="noStrike">
                <a:solidFill>
                  <a:srgbClr val="47ffd1"/>
                </a:solidFill>
                <a:latin typeface="Times New Roman"/>
              </a:rPr>
              <a:t>ЗАДАЧИ ПРОЕКТА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5640" y="1668240"/>
            <a:ext cx="92170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 fontScale="91000"/>
          </a:bodyPr>
          <a:p>
            <a:pPr marL="3927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9276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ИЗУЧИТЬ ЛИТЕРАТУРУ ПО ПРОБЛЕМЕ ПОДРОСТКОВОГО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СУИЦИДА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95300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95300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ИЗУЧИТЬ ЭМОЦИОНАЛЬНОЕ СОСТОЯНИЕ ПОДРОСТКОВ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, А ТАКЖЕ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ИХ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ВЗАИМООТНОШЕНИЯ С ДРУЗЬЯМИ, СВЕРСТНИКАМИ И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РОДИТЕЛЯМИ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95300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95300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3. ПОДОБРАТЬ БАНК ДИАГНОСТИЧЕСКИХ МЕТОДИК ДЛЯ ВЫЯВЛЕНИЯ НЕБЛАГОПРИЯТНОГО ПСИХОЭМОЦИОНАЛЬНОГО СОСТОЯНИЯ У ПОДРОСТКОВ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95300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9276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4. РАЗРАБОТАТЬ МЕТОДИЧЕСКИЕ РЕКОМЕНДАЦИИ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СПОСОБСТВУЮЩИХ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РОФИЛАКТИК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СУИЦИДАЛЬНОГО ПОВЕДЕНИЯ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ПОДРОСТКОВ;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927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НА ОСНОВЕ ПРОВЕДЕННОГО АНАЛИЗА  ПОПЫТАТ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Ь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СЯ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НАЙТИ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УТИ  РЕШЕНИЯ ПРОБЛЕМЫ СУИЦИДА В НАШЕ ВРЕМ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927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927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9276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9276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9276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92760" indent="0" algn="just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927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48" descr="ag00020_"/>
          <p:cNvPicPr/>
          <p:nvPr/>
        </p:nvPicPr>
        <p:blipFill>
          <a:blip r:embed="rId1"/>
          <a:stretch/>
        </p:blipFill>
        <p:spPr>
          <a:xfrm>
            <a:off x="216000" y="1596960"/>
            <a:ext cx="2071440" cy="19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800" spc="-1" strike="noStrike">
                <a:solidFill>
                  <a:srgbClr val="47ffd1"/>
                </a:solidFill>
                <a:latin typeface="Times New Roman"/>
              </a:rPr>
              <a:t>НОВИЗНА ПРОЕКТА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6920" y="1668240"/>
            <a:ext cx="9145800" cy="42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 algn="just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альная статистика - в 2011 году специалисты Всемирной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З) и Детского фонда ООН - ЮНИСЕФ сообщали, что Россия вышла на первое место в мире по числу самоубийств среди подростков и лидирует по количеству убийств детей и молодежи в Европ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необходимо организовать слаженную систему суицидальной помощи. Такая систем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овала в советские времена, но практически развалилась в наше время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 формально она сущест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 во всех регионах, но на деле полный разбо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сказал Б. Полож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 новизна проекта заключаетс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зработки теоретических основ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ицидального поведения подростко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2000"/>
              </a:lnSpc>
              <a:spcAft>
                <a:spcPts val="119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6" descr="F:\ФОТО ДЛЯ ПРОЕКТА\20080507210248_17-podrostok2.jpg"/>
          <p:cNvPicPr/>
          <p:nvPr/>
        </p:nvPicPr>
        <p:blipFill>
          <a:blip r:embed="rId1"/>
          <a:stretch/>
        </p:blipFill>
        <p:spPr>
          <a:xfrm>
            <a:off x="5789520" y="3454560"/>
            <a:ext cx="350064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800" spc="-1" strike="noStrike">
                <a:solidFill>
                  <a:srgbClr val="47ffd1"/>
                </a:solidFill>
                <a:latin typeface="Times New Roman"/>
              </a:rPr>
              <a:t>ГИПОТЕЗА 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000" y="1596600"/>
            <a:ext cx="91090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222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ОМПЛЕКС ПРОФИЛАКТИЧЕСКИХ МЕРОПР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ЯТИЙ ПО ВЫЯВЛЕНИЮ СУИЦИДАЛЬНОГО ПОВЕДЕНИЯ СРЕДИ ПОДРОСТКОВ СПОСОБСТВУЕТ СНИЖЕНИЮ РИСКА СУИЦИДАЛЬНЫХ ПОПЫТ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5" descr="F:\ФОТО ДЛЯ ПРОЕКТА\R0067031-w.jpg"/>
          <p:cNvPicPr/>
          <p:nvPr/>
        </p:nvPicPr>
        <p:blipFill>
          <a:blip r:embed="rId1"/>
          <a:stretch/>
        </p:blipFill>
        <p:spPr>
          <a:xfrm>
            <a:off x="2644920" y="2954160"/>
            <a:ext cx="414468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87320" y="3106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3800" spc="-1" strike="noStrike">
                <a:solidFill>
                  <a:srgbClr val="47ffd1"/>
                </a:solidFill>
                <a:latin typeface="Times New Roman"/>
              </a:rPr>
              <a:t>ЭТАПЫ РЕАЛИЗАЦИИ ПРОЕКТА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73120" y="1660680"/>
          <a:ext cx="8288280" cy="4213080"/>
        </p:xfrm>
        <a:graphic>
          <a:graphicData uri="http://schemas.openxmlformats.org/drawingml/2006/table">
            <a:tbl>
              <a:tblPr/>
              <a:tblGrid>
                <a:gridCol w="2851200"/>
                <a:gridCol w="5437080"/>
              </a:tblGrid>
              <a:tr h="455400"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348840"/>
                          <a:tab algn="l" pos="10067760"/>
                          <a:tab algn="l" pos="1078704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П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348840"/>
                          <a:tab algn="l" pos="10067760"/>
                          <a:tab algn="l" pos="1078704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РАБО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1492200">
                <a:tc>
                  <a:txBody>
                    <a:bodyPr lIns="90000" rIns="90000" tIns="56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348840"/>
                          <a:tab algn="l" pos="10067760"/>
                          <a:tab algn="l" pos="107870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КОНСТАТИРУЮЩИ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348840"/>
                          <a:tab algn="l" pos="10067760"/>
                          <a:tab algn="l" pos="1078704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учить теорию и практику реального положен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блемы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Обеспечить научно-методическое сопровождение проекта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Учет имеющихся информационных, кадровых, материальных ресурс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162396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348840"/>
                          <a:tab algn="l" pos="10067760"/>
                          <a:tab algn="l" pos="107870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ФОРМИРУЮЩ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561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348840"/>
                          <a:tab algn="l" pos="10067760"/>
                          <a:tab algn="l" pos="1078704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Повышение уровня психолого-педагогической компетентности родителей, учащихся, педагогов по изучаемой проблеме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348840"/>
                          <a:tab algn="l" pos="10067760"/>
                          <a:tab algn="l" pos="1078704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Выявление социально-дезадаптированных подростков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348840"/>
                          <a:tab algn="l" pos="10067760"/>
                          <a:tab algn="l" pos="1078704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Организация и реализация коррекционно-развивающей деятельности по изменению личностных установок в отношении суицида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641520">
                <a:tc>
                  <a:txBody>
                    <a:bodyPr lIns="90000" rIns="90000" tIns="56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348840"/>
                          <a:tab algn="l" pos="10067760"/>
                          <a:tab algn="l" pos="107870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НЫ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348840"/>
                          <a:tab algn="l" pos="10067760"/>
                          <a:tab algn="l" pos="107870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. Обобщение полученных результатов.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. Анализ эффективности деятельнос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05:34:51Z</dcterms:created>
  <dc:creator/>
  <dc:description>Предложение пути развития и альтернатив, рекомендации по использованию той или другой стратегии</dc:description>
  <dc:language>en-US</dc:language>
  <cp:lastModifiedBy>Admin</cp:lastModifiedBy>
  <dcterms:modified xsi:type="dcterms:W3CDTF">2012-03-15T17:53:11Z</dcterms:modified>
  <cp:revision>44</cp:revision>
  <dc:subject/>
  <dc:title>Предложение стратегии</dc:title>
</cp:coreProperties>
</file>