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4.wmf" ContentType="image/x-wmf"/>
  <Override PartName="/ppt/media/image6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3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AFE4F10D-6E05-4FB7-9497-B3570E426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6BAB0573-1066-4275-9DB1-0059405FA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960BBDC6-0B50-4207-802B-0B62DF390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5143F600-6F1E-476B-A686-2C82CC1D7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45A5FF6E-5A3A-423D-AFFC-0CF9278C9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65DDAD80-E979-4019-945C-667E6F821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F8672A82-004B-4B83-BD9F-B7E846F49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1D1F2ED7-5F42-4CE3-908D-269C593D6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20360" y="5089320"/>
            <a:ext cx="604836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B6CB8516-CA39-4854-96FC-C9B29A3673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CC1D9539-4541-4607-8866-BAF9394AB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9F4BBEEF-CFDA-475C-BAAB-2ADAE60B86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2DEECB22-72C4-45C7-8C28-9E6E0A7ED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4A70B36C-FA37-46D4-9104-EC0887780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608809D3-DEE9-4B3E-92D5-8B10DA349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73280" y="812880"/>
            <a:ext cx="601164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268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9972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64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268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9972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D34-654F-471B-AF90-2108D47E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5C1-E17F-4086-A760-B77E89A9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A78-A53C-4146-ADD5-62565CA7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B7E-903C-4E00-B52F-0998CF0C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07C-2CD0-41DB-9EC6-F0C4790F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464-D7A3-41D6-B6C7-B1F74D00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8C7-E525-4676-8EC6-22989ABA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343-3C46-4BBD-B790-AE76713E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2D0-4668-4785-8217-3C88E9D9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1A6-3C04-48B0-9702-AE12360C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E11-DC3E-47FB-A255-B678C3E3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268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99720" y="176364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564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268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99720" y="3996720"/>
            <a:ext cx="281592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170-1F81-432B-872F-DFB8CE2C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58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67280" y="399672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7280" y="1763640"/>
            <a:ext cx="426780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5640" y="3996720"/>
            <a:ext cx="8745840" cy="20390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100080"/>
            <a:ext cx="8299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9040" y="1906200"/>
            <a:ext cx="817236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7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653240" y="5357880"/>
            <a:ext cx="189864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58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5640" y="1763640"/>
            <a:ext cx="8745840" cy="42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85640" y="599616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323880" y="5996160"/>
            <a:ext cx="307980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969240" y="5996160"/>
            <a:ext cx="2262240" cy="4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fld id="{C3BF5724-7B8D-4EB7-BDB7-387759A37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74728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19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500" spc="-1" strike="noStrike">
                <a:solidFill>
                  <a:srgbClr val="ffff00"/>
                </a:solidFill>
                <a:latin typeface="Times New Roman"/>
              </a:rPr>
              <a:t>ПРОФИЛАКТИКА</a:t>
            </a:r>
            <a:br>
              <a:rPr sz="3500"/>
            </a:br>
            <a:r>
              <a:rPr b="1" i="1" lang="en-US" sz="3500" spc="-1" strike="noStrike">
                <a:solidFill>
                  <a:srgbClr val="ffff00"/>
                </a:solidFill>
                <a:latin typeface="Times New Roman"/>
              </a:rPr>
              <a:t>СУИЦИДАЛЬНОГО ПОВЕДЕНИЯ СРЕДИ ПОДРОСТКОВ</a:t>
            </a:r>
            <a:endParaRPr b="1" i="1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6000" y="1668240"/>
            <a:ext cx="9007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ы составител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лмыкова С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вцова О.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лнцева И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офимова О.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16000" y="1668600"/>
            <a:ext cx="564516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ТЕХНОЛОГИИ ОРГАНИЗАЦИИ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5640" y="1882800"/>
            <a:ext cx="901692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16000" y="1758960"/>
            <a:ext cx="3857400" cy="4052880"/>
          </a:xfrm>
          <a:prstGeom prst="rect">
            <a:avLst/>
          </a:prstGeom>
          <a:ln w="0">
            <a:noFill/>
          </a:ln>
        </p:spPr>
      </p:pic>
      <p:pic>
        <p:nvPicPr>
          <p:cNvPr id="122" name="Схема 5" descr=""/>
          <p:cNvPicPr/>
          <p:nvPr/>
        </p:nvPicPr>
        <p:blipFill>
          <a:blip r:embed="rId2"/>
          <a:stretch/>
        </p:blipFill>
        <p:spPr>
          <a:xfrm>
            <a:off x="4200480" y="1731960"/>
            <a:ext cx="5108760" cy="41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3080" y="3106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47ffd1"/>
                </a:solidFill>
                <a:latin typeface="Times New Roman"/>
              </a:rPr>
              <a:t>ПЛАНИРУЕМЫЙ РЕЗУЛЬТАТ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1359000" y="1739880"/>
            <a:ext cx="7246800" cy="3940200"/>
          </a:xfrm>
          <a:prstGeom prst="horizontalScroll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619280" y="2597040"/>
            <a:ext cx="7020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800" spc="-1" strike="noStrike">
                <a:solidFill>
                  <a:srgbClr val="191966"/>
                </a:solidFill>
                <a:latin typeface="Times New Roman"/>
                <a:ea typeface="Arial Unicode MS"/>
              </a:rPr>
              <a:t>РАЗРАБОТКА МЕТОДИЧЕСКИХ ОСНОВ ПРОФИЛАКТИКИ СУИЦИДАЛЬНОГО ПОВЕДЕНИЯ СРЕДИ ПОДРОСТОКОВ ДЛЯ ОБРАЗОВАТЕЛЬНОГО УЧРЕ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9" descr="Рисунок1"/>
          <p:cNvPicPr/>
          <p:nvPr/>
        </p:nvPicPr>
        <p:blipFill>
          <a:blip r:embed="rId1"/>
          <a:stretch/>
        </p:blipFill>
        <p:spPr>
          <a:xfrm>
            <a:off x="0" y="4025880"/>
            <a:ext cx="1500120" cy="16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ДИАГНОСТИКА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668240"/>
            <a:ext cx="95043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 algn="ct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6000" y="1668600"/>
            <a:ext cx="5073480" cy="40719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5504040" y="1739880"/>
            <a:ext cx="3714480" cy="714240"/>
          </a:xfrm>
          <a:prstGeom prst="rect">
            <a:avLst/>
          </a:prstGeom>
          <a:solidFill>
            <a:srgbClr val="47ff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12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РВИЧНЫЙ СКРИНИНГОВЫЙ ОПРОСНИК, МОД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ФИЦИРОВАННЫЙ И СОЗДАННЫЙ НА ОСНОВЕ ОПРОСНИ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1640" indent="12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.Н КРАСНОВ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1999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1640" indent="125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1640" indent="125640"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5504040" y="2525760"/>
            <a:ext cx="3714480" cy="5713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К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РЕГВОГИ И ДЕПРЕССИИ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5504040" y="3168720"/>
            <a:ext cx="3701880" cy="5713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ХАРАКТЕРОЛОГИЧЕСКИЙ ОПРОСНИК К.ЛЕОНГАР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5504040" y="5097600"/>
            <a:ext cx="3714480" cy="57132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ПРОСНИК ДЕПРЕССИИ А.БЕ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5504040" y="3811680"/>
            <a:ext cx="3714480" cy="571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 ШКОЛЬНОЙ ТРЕВОЖНОСТИ ФИЛЛИПСА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12"/>
          <p:cNvSpPr/>
          <p:nvPr/>
        </p:nvSpPr>
        <p:spPr>
          <a:xfrm>
            <a:off x="5504040" y="4525920"/>
            <a:ext cx="3714480" cy="5000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К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А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ШКАЛА ТРЕВОЖНОСТИ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0200" y="23940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imes New Roman"/>
              </a:rPr>
              <a:t>СПАСИБО ЗА ВНИМАНИЕ!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87360" y="1525320"/>
            <a:ext cx="71452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ru-RU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287360" y="1596960"/>
            <a:ext cx="743112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000" spc="-1" strike="noStrike">
                <a:solidFill>
                  <a:srgbClr val="47ffd1"/>
                </a:solidFill>
                <a:latin typeface="Calibri"/>
                <a:ea typeface="Times New Roman"/>
              </a:rPr>
              <a:t>«suicaede» -убийство себя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5640" y="1763640"/>
            <a:ext cx="87472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Из всех созданий, живущих на земле, только человек может изменить себя. Только человек является архитектором своей судьбы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. Джейм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85640" y="1763640"/>
            <a:ext cx="87472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2760" y="382320"/>
            <a:ext cx="874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АКТУАЛЬНОСТЬ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79280" y="1800360"/>
            <a:ext cx="91807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58920" y="1619280"/>
            <a:ext cx="907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72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В настоящее время решение проблемы суицидального поведения подростков и молодежи в целом является наиболее актуальной среди других проблем современного общества. Мир высоких технологий, порождающий большое количество неудовлетворенных потребностей, а также ряд неустойчивых психических состояний, вносит деструктивное начало в жизнь индивид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В России частота суицидальных действий среди молодежи, в течение последних двух десятилетий удвоилась. У 30% лиц в возрасте 14 – 24 лет бывают суицидальные мысли, 6% юношей и 10% девушек совершают суицидальные действия. Некоторые специалисты пишут о том, что в 10% суицидальное поведение имеет цель покончить собой, и в 90% суицидальное поведение подростка – это привлечение к себе внимания.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Суицидальное поведение встречается чаще у подростков, чем в других возрастных группах. Это связано с рядом особенностей подросткового возраста. В этом возрасте реальная значимость проблемы и реакция на неё подростка могут быть несоизмеримы до катастрофической величины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Суицидальные действия у подростков часто бывают импульсивными, ситуативными и не планируются заранее. Попытки суицида являются следствием непродуктивной (защитной) адаптации к жизни – фиксированное, негибкое построение человеком или семьей отношений с собой, своими близкими и внешним миром на основе действия механизма отчуждения: попыткам разрешить трудную жизненную ситуацию непригодными, неадекватными способами. Своевременная психологическая помощь, участие, оказанное подросткам в трудной жизненной ситуации, помогли бы избежать трагеди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ПРОТИВОРЕЧИЯ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87320" y="1596960"/>
            <a:ext cx="8074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Aft>
                <a:spcPts val="1213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Стрелка вниз 6"/>
          <p:cNvSpPr/>
          <p:nvPr/>
        </p:nvSpPr>
        <p:spPr>
          <a:xfrm>
            <a:off x="2502000" y="1668600"/>
            <a:ext cx="1144440" cy="78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585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imes New Roman"/>
                <a:ea typeface="Arial Unicode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трелка вниз 6"/>
          <p:cNvSpPr/>
          <p:nvPr/>
        </p:nvSpPr>
        <p:spPr>
          <a:xfrm>
            <a:off x="6289560" y="1668600"/>
            <a:ext cx="1144800" cy="785520"/>
          </a:xfrm>
          <a:prstGeom prst="downArrow">
            <a:avLst>
              <a:gd name="adj1" fmla="val 51972"/>
              <a:gd name="adj2" fmla="val 50000"/>
            </a:avLst>
          </a:prstGeom>
          <a:solidFill>
            <a:srgbClr val="8585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imes New Roman"/>
                <a:ea typeface="Arial Unicode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7"/>
          <p:cNvSpPr/>
          <p:nvPr/>
        </p:nvSpPr>
        <p:spPr>
          <a:xfrm>
            <a:off x="1430280" y="2454120"/>
            <a:ext cx="3357720" cy="2214720"/>
          </a:xfrm>
          <a:prstGeom prst="roundRect">
            <a:avLst>
              <a:gd name="adj" fmla="val 15185"/>
            </a:avLst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жду необходимостью повышения эффективности организации работы с проблемой суицида в подростковом возрасте и несовершенством системы профилактических мер в образовательной сист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кругленный прямоугольник 8"/>
          <p:cNvSpPr/>
          <p:nvPr/>
        </p:nvSpPr>
        <p:spPr>
          <a:xfrm>
            <a:off x="5218200" y="2454120"/>
            <a:ext cx="3571920" cy="2214720"/>
          </a:xfrm>
          <a:prstGeom prst="roundRect">
            <a:avLst>
              <a:gd name="adj" fmla="val 16667"/>
            </a:avLst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жду внедрением и распространением информации о суициде и провоцированием действий к суицидальным попыткам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4145040" y="4883040"/>
            <a:ext cx="21445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ЦЕЛЬ ПРОЕКТА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360" y="1525320"/>
            <a:ext cx="92887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Times New Roman"/>
              </a:rPr>
              <a:t>        </a:t>
            </a:r>
            <a:r>
              <a:rPr b="1" i="1" lang="ru-RU" sz="28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993366"/>
                </a:solidFill>
                <a:latin typeface="Times New Roman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Times New Roman"/>
              </a:rPr>
              <a:t>                    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ЗУЧЕ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ДИАГНОСТИК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ЭМОЦИОНАЛЬНОГО   СОСТОЯНИЯ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ДРОСТКО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С ЦЕЛЬЮ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ДОТВРАЩЕНИЯ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СУИЦИДАЛЬНЫХ  ПОПЫТО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АЗРАБОТ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ОФИЛАКТИЧЕСКИХ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ЕКОМЕНДАЦИ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5" descr="F:\ФОТО ДЛЯ ПРОЕКТА\14293713.jpg"/>
          <p:cNvPicPr/>
          <p:nvPr/>
        </p:nvPicPr>
        <p:blipFill>
          <a:blip r:embed="rId1"/>
          <a:stretch/>
        </p:blipFill>
        <p:spPr>
          <a:xfrm>
            <a:off x="144360" y="1668600"/>
            <a:ext cx="4357800" cy="4143240"/>
          </a:xfrm>
          <a:prstGeom prst="rect">
            <a:avLst/>
          </a:prstGeom>
          <a:ln w="0">
            <a:noFill/>
          </a:ln>
        </p:spPr>
      </p:pic>
      <p:sp>
        <p:nvSpPr>
          <p:cNvPr id="106" name="Штриховая стрелка вправо 6"/>
          <p:cNvSpPr/>
          <p:nvPr/>
        </p:nvSpPr>
        <p:spPr>
          <a:xfrm flipV="1">
            <a:off x="4645080" y="1954080"/>
            <a:ext cx="430200" cy="2145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262699"/>
                </a:solidFill>
                <a:latin typeface="Arial"/>
                <a:ea typeface="Arial Unicode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Штриховая стрелка вправо 7"/>
          <p:cNvSpPr/>
          <p:nvPr/>
        </p:nvSpPr>
        <p:spPr>
          <a:xfrm flipV="1">
            <a:off x="4645080" y="3740040"/>
            <a:ext cx="430200" cy="2145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720" y="358560"/>
            <a:ext cx="8746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ЗАДАЧИ ПРОЕКТА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5640" y="1668240"/>
            <a:ext cx="921708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13320" bIns="0" anchor="t">
            <a:normAutofit fontScale="91000"/>
          </a:bodyPr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ЗУЧИТЬ ЛИТЕРАТУРУ ПО ПРОБЛЕМЕ ПОДРОСТКОВОГО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УИЦИДА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3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3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ЗУЧИТЬ ЭМОЦИОНАЛЬНОЕ СОСТОЯНИЕ ПОДРОСТКО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А ТАКЖЕ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ИХ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ВЗАИМООТНОШЕНИЯ С ДРУЗЬЯМИ, СВЕРСТНИКАМИ И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ОДИТЕЛЯМИ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3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3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3. ПОДОБРАТЬ БАНК ДИАГНОСТИЧЕСКИХ МЕТОДИК ДЛЯ ВЫЯВЛЕНИЯ НЕБЛАГОПРИЯТНОГО ПСИХОЭМОЦИОНАЛЬНОГО СОСТОЯНИЯ У ПОДРОСТКОВ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300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4. РАЗРАБОТАТЬ МЕТОДИЧЕСКИЕ РЕКОМЕНДАЦИИ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ПОСОБСТВУЮЩИХ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РОФИЛАКТИК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СУИЦИДАЛЬНОГО ПОВЕДЕНИ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ПОДРОСТКОВ;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А ОСНОВЕ ПРОВЕДЕННОГО АНАЛИЗА  ПОПЫТА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Я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НАЙТИ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УТИ  РЕШЕНИЯ ПРОБЛЕМЫ СУИЦИДА В НАШЕ ВРЕМ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 algn="just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9276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48" descr="ag00020_"/>
          <p:cNvPicPr/>
          <p:nvPr/>
        </p:nvPicPr>
        <p:blipFill>
          <a:blip r:embed="rId1"/>
          <a:stretch/>
        </p:blipFill>
        <p:spPr>
          <a:xfrm>
            <a:off x="216000" y="1596960"/>
            <a:ext cx="207144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НОВИЗНА ПРОЕКТА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6920" y="1668240"/>
            <a:ext cx="9145800" cy="42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 algn="just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ая статистика - в 2011 году специалисты Всемирной организ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) и Детского фонда ООН - ЮНИСЕФ сообщали, что Россия вышла на первое место в мире по числу самоубийств среди подростков и лидирует по количеству убийств детей и молодежи в Европ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еобходимо организовать слаженную систему суицидальной помощи. Такая систем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овала в советские времена, но практически развалилась в наше врем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 формально она сущест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 во всех регионах, но на деле полный разбо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казал Б. Полож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 новизна проекта заключаетс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зработки теоретических основ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ицидального поведения подрост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2000"/>
              </a:lnSpc>
              <a:spcAft>
                <a:spcPts val="11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6" descr="F:\ФОТО ДЛЯ ПРОЕКТА\20080507210248_17-podrostok2.jpg"/>
          <p:cNvPicPr/>
          <p:nvPr/>
        </p:nvPicPr>
        <p:blipFill>
          <a:blip r:embed="rId1"/>
          <a:stretch/>
        </p:blipFill>
        <p:spPr>
          <a:xfrm>
            <a:off x="5789520" y="3454560"/>
            <a:ext cx="3500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640" y="2584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800" spc="-1" strike="noStrike">
                <a:solidFill>
                  <a:srgbClr val="47ffd1"/>
                </a:solidFill>
                <a:latin typeface="Times New Roman"/>
              </a:rPr>
              <a:t>ГИПОТЕЗА 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000" y="1596600"/>
            <a:ext cx="91090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222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МПЛЕКС ПРОФИЛАКТИЧЕСКИХ МЕРОПР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ЯТИЙ ПО ВЫЯВЛЕНИЮ СУИЦИДАЛЬНОГО ПОВЕДЕНИЯ СРЕДИ ПОДРОСТКОВ СПОСОБСТВУЕТ СНИЖЕНИЮ РИСКА СУИЦИДАЛЬНЫХ ПОПЫТ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5" descr="F:\ФОТО ДЛЯ ПРОЕКТА\R0067031-w.jpg"/>
          <p:cNvPicPr/>
          <p:nvPr/>
        </p:nvPicPr>
        <p:blipFill>
          <a:blip r:embed="rId1"/>
          <a:stretch/>
        </p:blipFill>
        <p:spPr>
          <a:xfrm>
            <a:off x="2644920" y="2954160"/>
            <a:ext cx="414468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7320" y="310680"/>
            <a:ext cx="8747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ru-RU" sz="3800" spc="-1" strike="noStrike">
                <a:solidFill>
                  <a:srgbClr val="47ffd1"/>
                </a:solidFill>
                <a:latin typeface="Times New Roman"/>
              </a:rPr>
              <a:t>ЭТАПЫ РЕАЛИЗАЦИИ ПРОЕКТА</a:t>
            </a:r>
            <a:endParaRPr b="1" i="1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73120" y="1660680"/>
          <a:ext cx="8288280" cy="4213080"/>
        </p:xfrm>
        <a:graphic>
          <a:graphicData uri="http://schemas.openxmlformats.org/drawingml/2006/table">
            <a:tbl>
              <a:tblPr/>
              <a:tblGrid>
                <a:gridCol w="2851200"/>
                <a:gridCol w="5437080"/>
              </a:tblGrid>
              <a:tr h="455400"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РАБ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492200">
                <a:tc>
                  <a:txBody>
                    <a:bodyPr lIns="90000" rIns="90000" tIns="56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ОНСТАТИРУЮЩ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68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учить теорию и практику реального полож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лемы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Обеспечить научно-методическое сопровождение проекта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Учет имеющихся информационных, кадровых, материальных ресур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162396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ФОРМИРУЮ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61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овышение уровня психолого-педагогической компетентности родителей, учащихся, педагогов по изучаемой проблеме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ыявление социально-дезадаптированных подростков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рганизация и реализация коррекционно-развивающей деятельности по изменению личностных установок в отношении суицида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641520">
                <a:tc>
                  <a:txBody>
                    <a:bodyPr lIns="90000" rIns="90000" tIns="56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Ы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348840"/>
                          <a:tab algn="l" pos="10067760"/>
                          <a:tab algn="l" pos="107870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. Обобщение полученных результатов.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. Анализ эффективности деятельн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05:34:51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Admin</cp:lastModifiedBy>
  <dcterms:modified xsi:type="dcterms:W3CDTF">2012-03-15T17:53:11Z</dcterms:modified>
  <cp:revision>44</cp:revision>
  <dc:subject/>
  <dc:title>Предложение стратегии</dc:title>
</cp:coreProperties>
</file>