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png" ContentType="image/png"/>
  <Override PartName="/ppt/media/image15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09F-54EA-4D24-9F8F-D651B4D7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374-4258-4005-A981-EF0F9C82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025-32BC-4695-86E9-7F75AB70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6DC-9924-4573-971F-5DF654F3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8B7F-1ABA-415F-9ED9-A9AF7DBA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ADF2-E9B6-4362-81D6-DD934CB6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0627-FA8E-4EFF-B9FC-594B3B2C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7B61-C7CA-4436-9CFA-B7BB6E8F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23EC-6EF2-4D41-BC86-C54380A2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87A0-D14A-4C0E-8579-3408DFA6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F955-821D-4B45-A8D9-CD69B4A5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53B-7E05-4A23-8598-0144D425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9F5D-2C56-4AE3-A901-CAEC100F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F9B6-3961-4BCA-AB81-BAD15499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5947-7048-4A10-8090-B9975578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0212-B4AC-4B52-A671-E23ACDBA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D001-344A-4DFE-82B2-FAEFECE7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4897-93CB-4B8F-8E24-FBF6F9CF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C82EA-A877-49E7-AFFC-B617F420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BCE89-8F41-4EC2-96D1-96B078AB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5FBD-2830-4558-811F-4B8FE60B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DC18-2286-4522-AD37-5D797A20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B6C-06D9-4802-9792-2D9A5585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EE24-FA16-4092-A06C-B56F417B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73E06-25AA-4BDF-BAC0-2C8F7CCB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C610-8478-4D08-ABCC-1A562382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C2AD-6651-4F3B-9703-C318B5C2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5690-31AF-4550-9090-2EA89A71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BFDA-165B-45AE-813C-2AF12B98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3425-BF58-42C0-8037-8A4B9FAA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CE4DB-6DB2-458D-A90A-2D719A98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0A9CE-FA01-4F2A-99FC-10C87C12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532C7-D655-4722-BD99-4B0B07CC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1AF-E30F-4AC2-9A81-D4A8459B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35616-465F-4E2A-8C08-F07F0395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4A95C-0DD3-4768-B03D-2EA2FB09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BBEB6-9502-4BE0-80E5-6FA28D7D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A323D-FB7F-41B5-AFF2-B1B91BDC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6BACB-C3E2-4E72-BF71-B840E4C2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88CE9-CBC4-4BBD-97D9-6954AF6D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CF123-D76F-4CA1-B50E-D33948BC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4A429-3786-4808-8EA6-485EA905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EF51-70D8-46C2-A668-34EDC4B0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3C056-1BB6-4528-921E-2BA22F5A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EA2-1000-45C4-955E-4E2D07D4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7EB7C-ED60-4A07-9D26-81D0D7C8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7589C-1FD7-4095-93F1-DB082D1F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8731B-0AC8-45EE-B51D-BEC91CD1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7E7F2-E889-44A8-8AE0-CA62C476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5CAAD-2B1E-4B9C-9E7E-857C897D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98E76-A8EB-400C-A82F-BF8A0E70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DA1A0-C256-4739-9449-93FEB8E9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7E86-603C-4DC5-9EDB-55C29BC4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4B135-E534-47C2-BCF4-FF744A67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EB39F-996B-40A2-8713-40C49FB1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2A6-C450-46B7-B9E4-803A1469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B54C5-DB87-4727-8C81-50AD5854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0C0EE-47E8-498E-B669-1821D269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697CD-79BD-477F-A5A6-239204E4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526C5-8869-4E10-BEDE-7D455489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367D7-B67C-4E95-AAB3-FF7DEB4E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638E3-DED5-4938-9BD4-3882F709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FFBE8-DD6F-428F-9D78-6D5627DA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CECE5-474A-469B-9CCD-A54771F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5BB6E-BA02-4218-BCF4-F126B242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E8FDD-9097-49D2-94A9-7C652463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2C0-E264-4C43-AEB7-85B70EDA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32C1E-3BB6-4B6F-8D16-9C489F53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7C3CC-4E7F-4586-B1C4-C85BFC42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718F2-B631-4767-87B2-24570182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A6611-7F73-4526-84D1-A399495A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F0E8B-FE59-4DC2-937E-680A23FE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C0418-8A4F-417C-AAE6-689CDAB9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CCCD8-D1C5-4D9F-84AE-B75F7E38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E6649-8628-49BC-B69D-6CE6ABAC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DB44F-67AB-42A5-84D0-6A1858F3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F7E79-CE69-4273-B90E-3BFDF12C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2C0-8791-401E-AC92-B69F274C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58BF2-8585-4FA0-95B6-89FFF7EA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0903F-47E2-4DC3-9989-2E11FF15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1E9A8-BB73-4B86-9380-9AE150CF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61669-4D11-42FE-994E-49E7EBBA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06F9B-A4B5-4995-820E-FB5FF705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B87-7E5F-4D9A-9340-708EC3F7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40AB-339E-405B-AE5F-58734659EBB9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23A7-21D3-45F1-A681-CF2A2C0FE258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BFBA-1CFA-41B7-B4E9-E3B04466750A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E57B-BE36-41D4-92A2-0316A5CC30BE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0280-05BF-4646-9178-FB81F9DFFE1A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AA77-2D58-46FF-8F03-61E1CDDD81C2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0C39-46BB-4E87-A353-BCBD2A96AD39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16430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rbel"/>
              </a:rPr>
              <a:t>Сказка о Веселом Язычке  </a:t>
            </a:r>
            <a:br>
              <a:rPr sz="3900"/>
            </a:br>
            <a:endParaRPr b="0" lang="en-US" sz="72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19" name="Picture 2" descr="C:\Documents and Settings\Домашний компьютер\Рабочий стол\mariy\thing9.files\губы\TONGUE1.gif"/>
          <p:cNvPicPr/>
          <p:nvPr/>
        </p:nvPicPr>
        <p:blipFill>
          <a:blip r:embed="rId1"/>
          <a:stretch/>
        </p:blipFill>
        <p:spPr>
          <a:xfrm>
            <a:off x="357120" y="1285920"/>
            <a:ext cx="633600" cy="780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Documents and Settings\Логопед\Рабочий стол\31.gif"/>
          <p:cNvPicPr/>
          <p:nvPr/>
        </p:nvPicPr>
        <p:blipFill>
          <a:blip r:embed="rId2"/>
          <a:stretch/>
        </p:blipFill>
        <p:spPr>
          <a:xfrm>
            <a:off x="4000680" y="2857680"/>
            <a:ext cx="15746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214280" y="57132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orbel"/>
              </a:rPr>
              <a:t>Жил-был в домике Веселый Язычок своем Догадайся, что это за доми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2" descr="C:\Documents and Settings\Логопед\Рабочий стол\31.gif"/>
          <p:cNvPicPr/>
          <p:nvPr/>
        </p:nvPicPr>
        <p:blipFill>
          <a:blip r:embed="rId1"/>
          <a:stretch/>
        </p:blipFill>
        <p:spPr>
          <a:xfrm>
            <a:off x="6858000" y="2214720"/>
            <a:ext cx="1816200" cy="214308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11"/>
          <p:cNvSpPr/>
          <p:nvPr/>
        </p:nvSpPr>
        <p:spPr>
          <a:xfrm>
            <a:off x="1214280" y="2500200"/>
            <a:ext cx="62154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домике этом красные две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ядом с дверями белые 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юбят зверюшки конфеты и плю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2"/>
          <p:cNvSpPr/>
          <p:nvPr/>
        </p:nvSpPr>
        <p:spPr>
          <a:xfrm>
            <a:off x="1714680" y="5143680"/>
            <a:ext cx="53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Догадались? Это домик-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Documents and Settings\Домашний компьютер\Рабочий стол\mariy\thing9.files\губы\41R4.gif"/>
          <p:cNvPicPr/>
          <p:nvPr/>
        </p:nvPicPr>
        <p:blipFill>
          <a:blip r:embed="rId2"/>
          <a:stretch/>
        </p:blipFill>
        <p:spPr>
          <a:xfrm>
            <a:off x="6500880" y="5000760"/>
            <a:ext cx="17510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77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Проснулся Язычок рано утром. Открыл окошко. Посмотрел налево, направо.</a:t>
            </a:r>
            <a:br>
              <a:rPr sz="28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При открытом рте движения языка направо – налево)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27" name="Picture 4" descr="C:\Documents and Settings\Логопед\Рабочий стол\32.gif"/>
          <p:cNvPicPr/>
          <p:nvPr/>
        </p:nvPicPr>
        <p:blipFill>
          <a:blip r:embed="rId1"/>
          <a:stretch/>
        </p:blipFill>
        <p:spPr>
          <a:xfrm>
            <a:off x="3357720" y="3000240"/>
            <a:ext cx="3154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57200" y="2428920"/>
            <a:ext cx="77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Вниз посмотрел : нет ли луж? </a:t>
            </a:r>
            <a:br>
              <a:rPr sz="28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движение  языка вниз)</a:t>
            </a: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 Вверх посмотрел: светит ли солнышко? </a:t>
            </a: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движение языка вверх).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29" name="Picture 5" descr="C:\Documents and Settings\Логопед\Рабочий стол\lu.gif"/>
          <p:cNvPicPr/>
          <p:nvPr/>
        </p:nvPicPr>
        <p:blipFill>
          <a:blip r:embed="rId1"/>
          <a:stretch/>
        </p:blipFill>
        <p:spPr>
          <a:xfrm>
            <a:off x="3000240" y="4857840"/>
            <a:ext cx="3786480" cy="16779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C:\Documents and Settings\Логопед\Рабочий стол\33.gif"/>
          <p:cNvPicPr/>
          <p:nvPr/>
        </p:nvPicPr>
        <p:blipFill>
          <a:blip r:embed="rId2"/>
          <a:stretch/>
        </p:blipFill>
        <p:spPr>
          <a:xfrm>
            <a:off x="3571920" y="142920"/>
            <a:ext cx="28288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28480" y="999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Вышел Язычок на крыльцо дома. Вокруг дома длинный забор. Во такой. </a:t>
            </a:r>
            <a:br>
              <a:rPr sz="28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улыбнуться, с напряжением обнажив сомкнутые губы).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2" name="Picture 7" descr="C:\Documents and Settings\Логопед\Рабочий стол\sa.gif"/>
          <p:cNvPicPr/>
          <p:nvPr/>
        </p:nvPicPr>
        <p:blipFill>
          <a:blip r:embed="rId1"/>
          <a:stretch/>
        </p:blipFill>
        <p:spPr>
          <a:xfrm>
            <a:off x="3071880" y="2786040"/>
            <a:ext cx="4228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56840" y="1356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Посмотрел он вокруг. Увидел Язычок, как </a:t>
            </a: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кошка(губы в улыбке, рот открыт, кончик языка упирается в нижние зубы, язык горкой, упираясь кончиком языка в нижние зубы) </a:t>
            </a: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ловит мышку за хвостик </a:t>
            </a: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губы в улыбке, приоткрыть рот, произнести «а-а» и прикусить широкий кончик языка).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4" name="Picture 9" descr="C:\Documents and Settings\Логопед\Рабочий стол\ma.gif"/>
          <p:cNvPicPr/>
          <p:nvPr/>
        </p:nvPicPr>
        <p:blipFill>
          <a:blip r:embed="rId1"/>
          <a:stretch/>
        </p:blipFill>
        <p:spPr>
          <a:xfrm>
            <a:off x="6286680" y="5143680"/>
            <a:ext cx="1125360" cy="571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1" descr="C:\Documents and Settings\Логопед\Рабочий стол\cat2.gif"/>
          <p:cNvPicPr/>
          <p:nvPr/>
        </p:nvPicPr>
        <p:blipFill>
          <a:blip r:embed="rId2"/>
          <a:stretch/>
        </p:blipFill>
        <p:spPr>
          <a:xfrm>
            <a:off x="1428840" y="4429080"/>
            <a:ext cx="27860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5560" y="1213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Вернулся Язычок домой, посмотрел на часы, они тикали: «тик-так»  </a:t>
            </a:r>
            <a:r>
              <a:rPr b="0" lang="ru-RU" sz="2800" spc="-1" strike="noStrike">
                <a:solidFill>
                  <a:srgbClr val="002060"/>
                </a:solidFill>
                <a:latin typeface="Corbel"/>
              </a:rPr>
              <a:t>( рот открыт, губы в улыбке, кончиком языка дотрагиваемся до уголков рта).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7" name="Picture 2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3214800" y="2500200"/>
            <a:ext cx="32144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2848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Котенок свернулся клубочком. 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«Пора и мне спать» ,-подумал Язычок.</a:t>
            </a:r>
            <a:br>
              <a:rPr sz="2800"/>
            </a:b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10" descr="C:\Documents and Settings\Логопед\Рабочий стол\cat1.gif"/>
          <p:cNvPicPr/>
          <p:nvPr/>
        </p:nvPicPr>
        <p:blipFill>
          <a:blip r:embed="rId1"/>
          <a:stretch/>
        </p:blipFill>
        <p:spPr>
          <a:xfrm>
            <a:off x="3500280" y="3714840"/>
            <a:ext cx="2494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0:30:06Z</dcterms:created>
  <dc:creator>Мария</dc:creator>
  <dc:description/>
  <dc:language>en-US</dc:language>
  <cp:lastModifiedBy>VIKTORRA</cp:lastModifiedBy>
  <dcterms:modified xsi:type="dcterms:W3CDTF">2010-06-29T06:17:45Z</dcterms:modified>
  <cp:revision>7</cp:revision>
  <dc:subject/>
  <dc:title>Сказка о Веселом Язычке   </dc:title>
</cp:coreProperties>
</file>