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2.png" ContentType="image/png"/>
  <Override PartName="/ppt/media/image15.gif" ContentType="image/gif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gif" ContentType="image/gif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6CD5-A6F7-4A8E-85FC-DEDC3B35E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B674-5C47-41B0-B02C-2518404CB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091A-DA80-4991-8A6E-4FEA90135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BEBC-9371-431F-9D26-3D169E7FF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E3FBF-D46E-4392-93A0-E5ED67703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CFBB4-1931-4EDF-B824-DBE029B3E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124A8-5AC6-478A-BDE5-2B68365F0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85E53-0683-4718-B36C-0F98C1753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665A3-B461-472F-A0BE-5BF33B74C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DD788-3BBE-4FBD-951D-A6D2F26F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A6614-949B-4C64-BEC7-230DAA6B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8DAE-9A02-4C82-BF88-24765A848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20B22-2900-4B87-923C-F95FA616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712AD-F006-46A1-86F3-8937C5AF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BA6C2-CFFE-4C76-8853-818848FD2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C2BA2-EDD6-4E93-9E13-5E6065D67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58BAB-8D50-4E35-95C1-5A6B216F0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177B9-6F41-432B-B293-8ED8C88EF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C9098-2B8D-4723-9C88-4F00AC8D8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8956F-6DD6-486B-9166-63E8FF7CD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60E89-D82D-4933-AB26-5452A126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0E29E-B3C2-4336-9D70-9F57C304E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13C9-2779-4372-84FA-64B953C45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5C18E-2E77-48C8-BBEC-73A2AC675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9DB8C-288F-4C41-AB81-E4D95F9C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7A807-9820-4113-BFA0-524F18F0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AD930-4A13-4819-8A4C-5BC89135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56A04-0927-4876-AC8D-2CA5C5E82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16A88-D06C-4A72-AC50-8AB69A094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4D87F-06CF-4901-84A8-585B3BBDD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156D1-C748-428C-BEDC-E0D393358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F8EF0-2447-415C-8763-20D7712F3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8436F-F953-46A5-BB92-2F7D90C4D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A7BD-ED1F-4265-A5F3-AF0045C97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9B119-A146-40D1-91F3-99F1BBC4A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987AD-B10B-4CBE-8E20-EBCAB6D21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6B58D-DF33-4451-982B-3E12248BF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CB8B3-4239-4C95-A72B-04515EE9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08AE8-FE55-4D3F-9541-B85EEAA7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24518-90CB-4CB8-8BF6-1B557C04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E0770-AA8F-425B-86FC-395D9CA23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A24AC-A309-4AA6-9B9E-F291E4A20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B64AE-8140-4DA9-84DF-AE275E7E9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25680-C44E-4217-AB02-EE7277044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4B82-F376-49DD-8AE3-094CF9548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E8978-8738-4EF2-99E3-BE65AF57E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B08A6-C1A5-46C4-A1B3-A973687A1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11214-C93F-4F96-B1E3-C1B558298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5A051-3FBE-4CD3-8B98-CC4F1522A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63309-D356-43A3-8AE5-50DBD7FCC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EBB6B-6CDA-485E-98FE-22DF4518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28F6A-83D7-416C-B947-161D7326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0E40E9-D8C7-414D-9117-A3061968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052A0-809D-4503-AEAC-5B0AC2B8D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688FA-7E2B-4004-B116-89E755EE4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6298-2055-4EE3-86AB-A1A6BCC76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41278-6C55-4D2C-9B6D-FF535C054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21BBF-5636-4F9E-A4B8-7BD3D51F9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8B135-36B9-427F-A6B6-9906CA687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59C07-7D73-497A-AA2D-03F856DE4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575BA-66AD-4E84-B6A6-824D88053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F810ED-2AC9-4506-92D7-39559814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55E9A-879A-493C-9A88-7AED71BBA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7A5E5-F5EF-44BB-B2A4-1449872C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E6943-3D1B-43E9-A6E4-3A602705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4CA07-9C3F-4859-8AC6-601F0F02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9A67-69B9-41E0-8D65-01B35321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7D472-EAFC-4478-83E0-62BF9E962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E3454-E023-495F-A3FA-4C35174E3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8CD13-6BAE-4A09-84E2-289B98CE9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57EBBC-1D85-45A2-AE00-EA7C93458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C25FE-7F57-4C4E-B13E-FE9705CA8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C130D-C413-4FBF-B559-878B24D36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08D24B-91DE-429B-A6A5-4DB2F7E73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72919-17A3-4EA0-BCB4-1CD90CFDA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90E831-C810-4F4A-AA67-3503572B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2C49C8-35D0-4285-91BE-8D41BD98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28E6-2935-4969-8A33-6295DAE7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108FA-A9F1-406C-B2F2-A140E27D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189D60-E577-48FD-9B5D-6DA8AD90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8C3802-917C-43E3-81FF-49DB636D1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9D84E-AE2E-4A43-B6B0-6C56F5050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8377D-DCB8-4198-9436-68C87DAB6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21C8-E4F7-454C-BB83-AC61C796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ffff1">
              <a:alpha val="33000"/>
            </a:srgbClr>
          </a:solidFill>
          <a:ln cap="rnd" w="3240">
            <a:solidFill>
              <a:srgbClr val="f0e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fd0"/>
            </a:solidFill>
            <a:miter/>
          </a:ln>
          <a:effectLst>
            <a:outerShdw dist="12600" dir="5400000" blurRad="0" rotWithShape="0">
              <a:srgbClr val="c5c089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d092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fc97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557B1-4278-413E-B7A0-2630D3D62E70}" type="slidenum">
              <a:rPr b="0" lang="ru-RU" sz="1200" spc="-1" strike="noStrike">
                <a:solidFill>
                  <a:srgbClr val="cfc97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c7a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ffff1">
              <a:alpha val="33000"/>
            </a:srgbClr>
          </a:solidFill>
          <a:ln cap="rnd" w="3240">
            <a:solidFill>
              <a:srgbClr val="f0e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fd0"/>
            </a:solidFill>
            <a:miter/>
          </a:ln>
          <a:effectLst>
            <a:outerShdw dist="12600" dir="5400000" blurRad="0" rotWithShape="0">
              <a:srgbClr val="c5c089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c7a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919f8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d092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fc97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B7058-FE02-4D61-BE65-B76C8494086A}" type="slidenum">
              <a:rPr b="0" lang="ru-RU" sz="1200" spc="-1" strike="noStrike">
                <a:solidFill>
                  <a:srgbClr val="cfc97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c7a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919f8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d092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fc97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79EBA-28AD-4625-A700-99045DD15907}" type="slidenum">
              <a:rPr b="0" lang="ru-RU" sz="1200" spc="-1" strike="noStrike">
                <a:solidFill>
                  <a:srgbClr val="cfc97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d092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fc97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2E159-AE98-4B54-B5C7-93B1F82CE3B1}" type="slidenum">
              <a:rPr b="0" lang="ru-RU" sz="1200" spc="-1" strike="noStrike">
                <a:solidFill>
                  <a:srgbClr val="cfc97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c7a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d092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fc97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248EC-9136-4C3B-90F0-9D4B78BBB26E}" type="slidenum">
              <a:rPr b="0" lang="ru-RU" sz="1200" spc="-1" strike="noStrike">
                <a:solidFill>
                  <a:srgbClr val="cfc97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d092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fc97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7916D-C78D-455C-8A48-0867B3EBE385}" type="slidenum">
              <a:rPr b="0" lang="ru-RU" sz="1200" spc="-1" strike="noStrike">
                <a:solidFill>
                  <a:srgbClr val="cfc97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fffa6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efa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7532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3a4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e7bc2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d092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fc97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fc97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12587-6AC6-4AF6-8F43-6564B74839A7}" type="slidenum">
              <a:rPr b="0" lang="ru-RU" sz="1200" spc="-1" strike="noStrike">
                <a:solidFill>
                  <a:srgbClr val="cfc97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28840" y="164304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00000"/>
                </a:solidFill>
                <a:latin typeface="Corbel"/>
              </a:rPr>
              <a:t>Сказка о Веселом Язычке  </a:t>
            </a:r>
            <a:br>
              <a:rPr sz="3900"/>
            </a:br>
            <a:endParaRPr b="0" lang="en-US" sz="7200" spc="-1" strike="noStrike">
              <a:solidFill>
                <a:srgbClr val="475320"/>
              </a:solidFill>
              <a:latin typeface="Corbel"/>
            </a:endParaRPr>
          </a:p>
        </p:txBody>
      </p:sp>
      <p:pic>
        <p:nvPicPr>
          <p:cNvPr id="319" name="Picture 2" descr="C:\Documents and Settings\Домашний компьютер\Рабочий стол\mariy\thing9.files\губы\TONGUE1.gif"/>
          <p:cNvPicPr/>
          <p:nvPr/>
        </p:nvPicPr>
        <p:blipFill>
          <a:blip r:embed="rId1"/>
          <a:stretch/>
        </p:blipFill>
        <p:spPr>
          <a:xfrm>
            <a:off x="357120" y="1285920"/>
            <a:ext cx="633600" cy="7808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" descr="C:\Documents and Settings\Логопед\Рабочий стол\31.gif"/>
          <p:cNvPicPr/>
          <p:nvPr/>
        </p:nvPicPr>
        <p:blipFill>
          <a:blip r:embed="rId2"/>
          <a:stretch/>
        </p:blipFill>
        <p:spPr>
          <a:xfrm>
            <a:off x="4000680" y="2857680"/>
            <a:ext cx="15746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1214280" y="571320"/>
            <a:ext cx="7498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70c0"/>
                </a:solidFill>
                <a:latin typeface="Corbel"/>
              </a:rPr>
              <a:t>Жил-был в домике Веселый Язычок своем Догадайся, что это за домик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2" name="Picture 2" descr="C:\Documents and Settings\Логопед\Рабочий стол\31.gif"/>
          <p:cNvPicPr/>
          <p:nvPr/>
        </p:nvPicPr>
        <p:blipFill>
          <a:blip r:embed="rId1"/>
          <a:stretch/>
        </p:blipFill>
        <p:spPr>
          <a:xfrm>
            <a:off x="6858000" y="2214720"/>
            <a:ext cx="1816200" cy="2143080"/>
          </a:xfrm>
          <a:prstGeom prst="rect">
            <a:avLst/>
          </a:prstGeom>
          <a:ln w="0">
            <a:noFill/>
          </a:ln>
        </p:spPr>
      </p:pic>
      <p:sp>
        <p:nvSpPr>
          <p:cNvPr id="323" name="Прямоугольник 11"/>
          <p:cNvSpPr/>
          <p:nvPr/>
        </p:nvSpPr>
        <p:spPr>
          <a:xfrm>
            <a:off x="1214280" y="2500200"/>
            <a:ext cx="62154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 домике этом красные двер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Рядом с дверями белые зве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Любят зверюшки конфеты и плюш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12"/>
          <p:cNvSpPr/>
          <p:nvPr/>
        </p:nvSpPr>
        <p:spPr>
          <a:xfrm>
            <a:off x="1714680" y="5143680"/>
            <a:ext cx="53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70c0"/>
                </a:solidFill>
                <a:latin typeface="Corbel"/>
              </a:rPr>
              <a:t>Догадались? Это домик-р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2" descr="C:\Documents and Settings\Домашний компьютер\Рабочий стол\mariy\thing9.files\губы\41R4.gif"/>
          <p:cNvPicPr/>
          <p:nvPr/>
        </p:nvPicPr>
        <p:blipFill>
          <a:blip r:embed="rId2"/>
          <a:stretch/>
        </p:blipFill>
        <p:spPr>
          <a:xfrm>
            <a:off x="6500880" y="5000760"/>
            <a:ext cx="17510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357200" y="642960"/>
            <a:ext cx="7786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70c0"/>
                </a:solidFill>
                <a:latin typeface="Corbel"/>
              </a:rPr>
              <a:t>Проснулся Язычок рано утром. Открыл окошко. Посмотрел налево, направо.</a:t>
            </a:r>
            <a:br>
              <a:rPr sz="2800"/>
            </a:br>
            <a:r>
              <a:rPr b="0" lang="ru-RU" sz="2800" spc="-1" strike="noStrike">
                <a:solidFill>
                  <a:srgbClr val="344e6d"/>
                </a:solidFill>
                <a:latin typeface="Corbel"/>
              </a:rPr>
              <a:t>(При открытом рте движения языка направо – налево)</a:t>
            </a:r>
            <a:endParaRPr b="0" lang="en-US" sz="2800" spc="-1" strike="noStrike">
              <a:solidFill>
                <a:srgbClr val="475320"/>
              </a:solidFill>
              <a:latin typeface="Corbel"/>
            </a:endParaRPr>
          </a:p>
        </p:txBody>
      </p:sp>
      <p:pic>
        <p:nvPicPr>
          <p:cNvPr id="327" name="Picture 4" descr="C:\Documents and Settings\Логопед\Рабочий стол\32.gif"/>
          <p:cNvPicPr/>
          <p:nvPr/>
        </p:nvPicPr>
        <p:blipFill>
          <a:blip r:embed="rId1"/>
          <a:stretch/>
        </p:blipFill>
        <p:spPr>
          <a:xfrm>
            <a:off x="3357720" y="3000240"/>
            <a:ext cx="31543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57200" y="2428920"/>
            <a:ext cx="7786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70c0"/>
                </a:solidFill>
                <a:latin typeface="Corbel"/>
              </a:rPr>
              <a:t>Вниз посмотрел : нет ли луж? </a:t>
            </a:r>
            <a:br>
              <a:rPr sz="2800"/>
            </a:br>
            <a:r>
              <a:rPr b="0" lang="ru-RU" sz="2800" spc="-1" strike="noStrike">
                <a:solidFill>
                  <a:srgbClr val="344e6d"/>
                </a:solidFill>
                <a:latin typeface="Corbel"/>
              </a:rPr>
              <a:t>(движение  языка вниз)</a:t>
            </a:r>
            <a:r>
              <a:rPr b="0" i="1" lang="ru-RU" sz="2800" spc="-1" strike="noStrike">
                <a:solidFill>
                  <a:srgbClr val="0070c0"/>
                </a:solidFill>
                <a:latin typeface="Corbel"/>
              </a:rPr>
              <a:t>.</a:t>
            </a:r>
            <a:br>
              <a:rPr sz="2800"/>
            </a:br>
            <a:r>
              <a:rPr b="0" i="1" lang="ru-RU" sz="2800" spc="-1" strike="noStrike">
                <a:solidFill>
                  <a:srgbClr val="0070c0"/>
                </a:solidFill>
                <a:latin typeface="Corbel"/>
              </a:rPr>
              <a:t> Вверх посмотрел: светит ли солнышко? </a:t>
            </a:r>
            <a:r>
              <a:rPr b="0" lang="ru-RU" sz="2800" spc="-1" strike="noStrike">
                <a:solidFill>
                  <a:srgbClr val="344e6d"/>
                </a:solidFill>
                <a:latin typeface="Corbel"/>
              </a:rPr>
              <a:t>(движение языка вверх). </a:t>
            </a:r>
            <a:endParaRPr b="0" lang="en-US" sz="2800" spc="-1" strike="noStrike">
              <a:solidFill>
                <a:srgbClr val="475320"/>
              </a:solidFill>
              <a:latin typeface="Corbel"/>
            </a:endParaRPr>
          </a:p>
        </p:txBody>
      </p:sp>
      <p:pic>
        <p:nvPicPr>
          <p:cNvPr id="329" name="Picture 5" descr="C:\Documents and Settings\Логопед\Рабочий стол\lu.gif"/>
          <p:cNvPicPr/>
          <p:nvPr/>
        </p:nvPicPr>
        <p:blipFill>
          <a:blip r:embed="rId1"/>
          <a:stretch/>
        </p:blipFill>
        <p:spPr>
          <a:xfrm>
            <a:off x="3000240" y="4857840"/>
            <a:ext cx="3786480" cy="16779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6" descr="C:\Documents and Settings\Логопед\Рабочий стол\33.gif"/>
          <p:cNvPicPr/>
          <p:nvPr/>
        </p:nvPicPr>
        <p:blipFill>
          <a:blip r:embed="rId2"/>
          <a:stretch/>
        </p:blipFill>
        <p:spPr>
          <a:xfrm>
            <a:off x="3571920" y="142920"/>
            <a:ext cx="2828880" cy="25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28480" y="9997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70c0"/>
                </a:solidFill>
                <a:latin typeface="Corbel"/>
              </a:rPr>
              <a:t>Вышел Язычок на крыльцо дома. Вокруг дома длинный забор. Во такой. </a:t>
            </a:r>
            <a:br>
              <a:rPr sz="2800"/>
            </a:br>
            <a:r>
              <a:rPr b="0" lang="ru-RU" sz="2800" spc="-1" strike="noStrike">
                <a:solidFill>
                  <a:srgbClr val="344e6d"/>
                </a:solidFill>
                <a:latin typeface="Corbel"/>
              </a:rPr>
              <a:t>(улыбнуться, с напряжением обнажив сомкнутые губы).</a:t>
            </a:r>
            <a:endParaRPr b="0" lang="en-US" sz="2800" spc="-1" strike="noStrike">
              <a:solidFill>
                <a:srgbClr val="475320"/>
              </a:solidFill>
              <a:latin typeface="Corbel"/>
            </a:endParaRPr>
          </a:p>
        </p:txBody>
      </p:sp>
      <p:pic>
        <p:nvPicPr>
          <p:cNvPr id="332" name="Picture 7" descr="C:\Documents and Settings\Логопед\Рабочий стол\sa.gif"/>
          <p:cNvPicPr/>
          <p:nvPr/>
        </p:nvPicPr>
        <p:blipFill>
          <a:blip r:embed="rId1"/>
          <a:stretch/>
        </p:blipFill>
        <p:spPr>
          <a:xfrm>
            <a:off x="3071880" y="2786040"/>
            <a:ext cx="42289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56840" y="13568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70c0"/>
                </a:solidFill>
                <a:latin typeface="Corbel"/>
              </a:rPr>
              <a:t>Посмотрел он вокруг. Увидел Язычок, как </a:t>
            </a:r>
            <a:r>
              <a:rPr b="0" lang="ru-RU" sz="2800" spc="-1" strike="noStrike">
                <a:solidFill>
                  <a:srgbClr val="344e6d"/>
                </a:solidFill>
                <a:latin typeface="Corbel"/>
              </a:rPr>
              <a:t>кошка(губы в улыбке, рот открыт, кончик языка упирается в нижние зубы, язык горкой, упираясь кончиком языка в нижние зубы) </a:t>
            </a:r>
            <a:r>
              <a:rPr b="0" i="1" lang="ru-RU" sz="2800" spc="-1" strike="noStrike">
                <a:solidFill>
                  <a:srgbClr val="0070c0"/>
                </a:solidFill>
                <a:latin typeface="Corbel"/>
              </a:rPr>
              <a:t>ловит мышку за хвостик </a:t>
            </a:r>
            <a:r>
              <a:rPr b="0" lang="ru-RU" sz="2800" spc="-1" strike="noStrike">
                <a:solidFill>
                  <a:srgbClr val="344e6d"/>
                </a:solidFill>
                <a:latin typeface="Corbel"/>
              </a:rPr>
              <a:t>(губы в улыбке, приоткрыть рот, произнести «а-а» и прикусить широкий кончик языка).</a:t>
            </a:r>
            <a:endParaRPr b="0" lang="en-US" sz="2800" spc="-1" strike="noStrike">
              <a:solidFill>
                <a:srgbClr val="475320"/>
              </a:solidFill>
              <a:latin typeface="Corbel"/>
            </a:endParaRPr>
          </a:p>
        </p:txBody>
      </p:sp>
      <p:pic>
        <p:nvPicPr>
          <p:cNvPr id="334" name="Picture 9" descr="C:\Documents and Settings\Логопед\Рабочий стол\ma.gif"/>
          <p:cNvPicPr/>
          <p:nvPr/>
        </p:nvPicPr>
        <p:blipFill>
          <a:blip r:embed="rId1"/>
          <a:stretch/>
        </p:blipFill>
        <p:spPr>
          <a:xfrm>
            <a:off x="6286680" y="5143680"/>
            <a:ext cx="1125360" cy="5713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1" descr="C:\Documents and Settings\Логопед\Рабочий стол\cat2.gif"/>
          <p:cNvPicPr/>
          <p:nvPr/>
        </p:nvPicPr>
        <p:blipFill>
          <a:blip r:embed="rId2"/>
          <a:stretch/>
        </p:blipFill>
        <p:spPr>
          <a:xfrm>
            <a:off x="1428840" y="4429080"/>
            <a:ext cx="278604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85560" y="12139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70c0"/>
                </a:solidFill>
                <a:latin typeface="Corbel"/>
              </a:rPr>
              <a:t>Вернулся Язычок домой, посмотрел на часы, они тикали: «тик-так»  </a:t>
            </a:r>
            <a:r>
              <a:rPr b="0" lang="ru-RU" sz="2800" spc="-1" strike="noStrike">
                <a:solidFill>
                  <a:srgbClr val="002060"/>
                </a:solidFill>
                <a:latin typeface="Corbel"/>
              </a:rPr>
              <a:t>( рот открыт, губы в улыбке, кончиком языка дотрагиваемся до уголков рта). </a:t>
            </a:r>
            <a:endParaRPr b="0" lang="en-US" sz="2800" spc="-1" strike="noStrike">
              <a:solidFill>
                <a:srgbClr val="475320"/>
              </a:solidFill>
              <a:latin typeface="Corbel"/>
            </a:endParaRPr>
          </a:p>
        </p:txBody>
      </p:sp>
      <p:pic>
        <p:nvPicPr>
          <p:cNvPr id="337" name="Picture 2" descr="C:\Program Files\Microsoft Office\MEDIA\CAGCAT10\j0234131.wmf"/>
          <p:cNvPicPr/>
          <p:nvPr/>
        </p:nvPicPr>
        <p:blipFill>
          <a:blip r:embed="rId1"/>
          <a:stretch/>
        </p:blipFill>
        <p:spPr>
          <a:xfrm>
            <a:off x="3214800" y="2500200"/>
            <a:ext cx="321444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28480" y="11426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70c0"/>
                </a:solidFill>
                <a:latin typeface="Corbel"/>
              </a:rPr>
              <a:t>Котенок свернулся клубочком. </a:t>
            </a:r>
            <a:br>
              <a:rPr sz="2800"/>
            </a:br>
            <a:r>
              <a:rPr b="0" i="1" lang="ru-RU" sz="2800" spc="-1" strike="noStrike">
                <a:solidFill>
                  <a:srgbClr val="0070c0"/>
                </a:solidFill>
                <a:latin typeface="Corbel"/>
              </a:rPr>
              <a:t>«Пора и мне спать» ,-подумал Язычок.</a:t>
            </a:r>
            <a:br>
              <a:rPr sz="2800"/>
            </a:br>
            <a:endParaRPr b="0" lang="en-US" sz="2800" spc="-1" strike="noStrike">
              <a:solidFill>
                <a:srgbClr val="475320"/>
              </a:solidFill>
              <a:latin typeface="Corbe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0" name="Picture 10" descr="C:\Documents and Settings\Логопед\Рабочий стол\cat1.gif"/>
          <p:cNvPicPr/>
          <p:nvPr/>
        </p:nvPicPr>
        <p:blipFill>
          <a:blip r:embed="rId1"/>
          <a:stretch/>
        </p:blipFill>
        <p:spPr>
          <a:xfrm>
            <a:off x="3500280" y="3714840"/>
            <a:ext cx="249408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00:30:06Z</dcterms:created>
  <dc:creator>Мария</dc:creator>
  <dc:description/>
  <dc:language>en-US</dc:language>
  <cp:lastModifiedBy>VIKTORRA</cp:lastModifiedBy>
  <dcterms:modified xsi:type="dcterms:W3CDTF">2010-06-29T06:17:45Z</dcterms:modified>
  <cp:revision>7</cp:revision>
  <dc:subject/>
  <dc:title>Сказка о Веселом Язычке   </dc:title>
</cp:coreProperties>
</file>