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0.jpeg" ContentType="image/jpeg"/>
  <Override PartName="/ppt/media/image8.gif" ContentType="image/gif"/>
  <Override PartName="/ppt/media/image19.wmf" ContentType="image/x-wmf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2.png" ContentType="image/png"/>
  <Override PartName="/ppt/media/image5.gif" ContentType="image/gif"/>
  <Override PartName="/ppt/media/image14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DC8-4BE6-47F0-9CAC-FD1EAD17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096-2F1C-4723-943C-405268FF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437-DDE1-4B70-8866-CF170F4C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E5E-E2B8-43B7-A8CC-09C03DA6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4F5-7847-4240-B155-C809E15A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FBB-75E6-44EA-9173-394AE428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25F-902B-4771-B5B4-BD578E3D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1E9-0C22-4EB0-BCCE-D1D74429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231-EDC6-4CE2-A3DA-CCF516C9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E2F-891B-4ADC-BED3-BB2D6AED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43C-A788-47F4-B58B-5D979B03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036-048A-4FA4-A8E7-1207D713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3028-AD56-4DE3-A391-721322061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990720"/>
            <a:ext cx="7162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S Moster"/>
              </a:rPr>
              <a:t>Обитель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S Moster"/>
              <a:ea typeface="DS Moster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S Moster"/>
              </a:rPr>
              <a:t>	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S Moster"/>
              </a:rPr>
              <a:t>благодати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S Moster"/>
              </a:rPr>
              <a:t>...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S Moster"/>
              <a:ea typeface="DS Moster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797400">
            <a:off x="5634000" y="2862360"/>
            <a:ext cx="3343320" cy="28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4667400" cy="363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20312400">
            <a:off x="7772400" y="4495680"/>
            <a:ext cx="609480" cy="34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248520" y="1504800"/>
            <a:ext cx="2422440" cy="112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715000" y="1905120"/>
            <a:ext cx="3276720" cy="1563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238880" cy="5121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04920" y="54864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tylo"/>
              </a:rPr>
              <a:t>На коре ладанного дерева впали в оцепенение в ожидании дождя улитк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81280" y="685800"/>
            <a:ext cx="5265720" cy="5486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920160" y="5334120"/>
            <a:ext cx="24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Stylo"/>
              </a:rPr>
              <a:t>Молоч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68580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Долгая изоляция Сокотры привела к тому, что ее флора на треть состоит из уникальных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224160" cy="6172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809880" y="533520"/>
            <a:ext cx="5105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Stylo"/>
              </a:rPr>
              <a:t>«Огуречное дерево» – единственный представитель семейства тыквенных имеющий ярко выраженный древесный обл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686800" cy="2362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85800" y="22860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Только на Сокотре 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произрастает дикий сородич гранатового дерева, дающий мелкие, но вполне съедобные плод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064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533520"/>
            <a:ext cx="84582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20573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Все перечисленные растения строго </a:t>
            </a:r>
            <a:r>
              <a:rPr b="0" i="1" lang="ru-RU" sz="4400" spc="-1" strike="noStrike" u="sng">
                <a:solidFill>
                  <a:srgbClr val="333399"/>
                </a:solidFill>
                <a:uFillTx/>
                <a:latin typeface="Stylo"/>
              </a:rPr>
              <a:t>эндемичны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, т.е. 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распространение стр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ограниче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островом…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572000"/>
            <a:ext cx="701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Из 850 видов растений, около 270 произрастают только на Сокотре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67080" y="2516760"/>
            <a:ext cx="4996440" cy="4015800"/>
            <a:chOff x="4267080" y="2516760"/>
            <a:chExt cx="4996440" cy="401580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 rot="797400">
              <a:off x="5634000" y="2862360"/>
              <a:ext cx="334332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4267080" y="2895480"/>
              <a:ext cx="4667400" cy="36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7391520" y="3657600"/>
              <a:ext cx="8474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 rot="19546800">
              <a:off x="4724280" y="3276720"/>
              <a:ext cx="609840" cy="342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75438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tylo"/>
              </a:rPr>
              <a:t>В начале 1880 г. первая исследовательская британская экспедиция, под руководством профессора Исаака Балфоуро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tylo"/>
              </a:rPr>
              <a:t>прибыла на СОКОТРУ…</a:t>
            </a:r>
            <a:r>
              <a:rPr b="0" lang="ru-RU" sz="4000" spc="-1" strike="noStrike">
                <a:solidFill>
                  <a:srgbClr val="000000"/>
                </a:solidFill>
                <a:latin typeface="Styl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1905120"/>
            <a:ext cx="7635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Stylo"/>
              </a:rPr>
              <a:t>48 дней – более 200 видов неизвестных науке растений, часть из которых относилась к новым рода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676520" cy="1397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572000" cy="6324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28600" y="511200"/>
            <a:ext cx="38862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Stylo"/>
              </a:rPr>
              <a:t>Выжженные солнцем горные долины со сказочным ботаническим ландшафт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Stylo"/>
              </a:rPr>
              <a:t>Его облик определяют 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драконовы деревья</a:t>
            </a:r>
            <a:r>
              <a:rPr b="0" lang="ru-RU" sz="2400" spc="-1" strike="noStrike">
                <a:solidFill>
                  <a:srgbClr val="333399"/>
                </a:solidFill>
                <a:latin typeface="Stylo"/>
              </a:rPr>
              <a:t>, исчезнувшие с материка, и пустынные розы – 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адениум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4275000" cy="5943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57200" y="1219320"/>
            <a:ext cx="3749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tylo"/>
              </a:rPr>
              <a:t>Адениум тучный</a:t>
            </a:r>
            <a:r>
              <a:rPr b="0" lang="ru-RU" sz="3200" spc="-1" strike="noStrike">
                <a:solidFill>
                  <a:srgbClr val="000000"/>
                </a:solidFill>
                <a:latin typeface="Stylo"/>
              </a:rPr>
              <a:t> – 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бочкообразный ствол хранит огромные запасы влаги, позволяя переждать засух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61080" cy="6324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181480" y="692280"/>
            <a:ext cx="3962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Как и много веков назад сокотранцы добывают кроваво-красную смолу драконовых деревьев – древних реликтовых растени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84920" cy="6324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228600" y="457200"/>
            <a:ext cx="36576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tylo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Stylo"/>
              </a:rPr>
              <a:t>Кстати, местные законы запрещают повреждать кору деревьев, не достигших возраста 20-30 ле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tylo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Stylo"/>
              </a:rPr>
              <a:t>Смола используется в качестве красителя, для лечения ряда заболеваний и даже как губная пом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171360"/>
            <a:ext cx="48769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Не меньшую известность острову принесли деревья </a:t>
            </a:r>
            <a:r>
              <a:rPr b="0" i="1" lang="ru-RU" sz="3600" spc="-1" strike="noStrike" u="sng">
                <a:solidFill>
                  <a:srgbClr val="333399"/>
                </a:solidFill>
                <a:uFillTx/>
                <a:latin typeface="Stylo"/>
              </a:rPr>
              <a:t>босвеллии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 и </a:t>
            </a:r>
            <a:r>
              <a:rPr b="0" i="1" lang="ru-RU" sz="3600" spc="-1" strike="noStrike" u="sng">
                <a:solidFill>
                  <a:srgbClr val="333399"/>
                </a:solidFill>
                <a:uFillTx/>
                <a:latin typeface="Stylo"/>
              </a:rPr>
              <a:t>коммифоры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Из смолы босвеллий изготовляли </a:t>
            </a:r>
            <a:r>
              <a:rPr b="0" i="1" lang="ru-RU" sz="3600" spc="-1" strike="noStrike">
                <a:solidFill>
                  <a:srgbClr val="333399"/>
                </a:solidFill>
                <a:latin typeface="Stylo"/>
              </a:rPr>
              <a:t>ладан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, а из коммифоры – </a:t>
            </a:r>
            <a:r>
              <a:rPr b="0" i="1" lang="ru-RU" sz="3600" spc="-1" strike="noStrike">
                <a:solidFill>
                  <a:srgbClr val="333399"/>
                </a:solidFill>
                <a:latin typeface="Stylo"/>
              </a:rPr>
              <a:t>мирру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 – наиболее востребованные благовония Древнего Египта и Вавил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4003560" cy="60958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v</cp:lastModifiedBy>
  <dcterms:modified xsi:type="dcterms:W3CDTF">2008-02-29T00:1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20000000000010250300207f7000400038000</vt:lpwstr>
  </property>
  <property fmtid="{D5CDD505-2E9C-101B-9397-08002B2CF9AE}" pid="3" name="Version">
    <vt:r8>1</vt:r8>
  </property>
</Properties>
</file>