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0.jpeg" ContentType="image/jpeg"/>
  <Override PartName="/ppt/media/image8.gif" ContentType="image/gif"/>
  <Override PartName="/ppt/media/image19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gif" ContentType="image/gif"/>
  <Override PartName="/ppt/media/image2.png" ContentType="image/png"/>
  <Override PartName="/ppt/media/image5.gif" ContentType="image/gif"/>
  <Override PartName="/ppt/media/image14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AE3-DA40-4949-AF5C-7E9980BC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D3B-D288-473B-9426-F1082D4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9A5-29F1-41AA-BDE8-D32950BA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B2-85E6-45E2-8D4B-4D4E4F09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F6F-3DE1-48E8-9F88-886BD58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6FE-5AEE-4164-98BF-0B70CA59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76C-D0FE-49AE-8A54-5364D2A3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C7F-65B9-4B57-8462-1B4AA1DD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376-3D3E-45B2-9FF7-E773F53A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44E-8600-45E2-AEEA-2695D07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9AA-50C6-454C-8145-1994C951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900-8162-4349-AF5D-3EC50F97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2955-152F-465E-8E58-E552525B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0" y="990720"/>
            <a:ext cx="716292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Обитель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S Moster"/>
              <a:ea typeface="DS Moster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	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благодати</a:t>
            </a: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DS Moster"/>
              </a:rPr>
              <a:t>...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DS Moster"/>
              <a:ea typeface="DS Moster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797400">
            <a:off x="5634000" y="2862360"/>
            <a:ext cx="3343320" cy="287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667400" cy="363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20312400">
            <a:off x="7772400" y="4495680"/>
            <a:ext cx="609480" cy="34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6248520" y="1504800"/>
            <a:ext cx="2422440" cy="11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5715000" y="1905120"/>
            <a:ext cx="3276720" cy="156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238880" cy="5121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04920" y="54864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tylo"/>
              </a:rPr>
              <a:t>На коре ладанного дерева впали в оцепенение в ожидании дождя улитк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5265720" cy="54864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920160" y="5334120"/>
            <a:ext cx="24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Моло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68580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Долгая изоляция Сокотры привела к тому, что ее флора на треть состоит из уникальных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24160" cy="61722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809880" y="533520"/>
            <a:ext cx="51055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«Огуречное дерево» – единственный представитель семейства тыквенных имеющий ярко выраженный древесный обл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686800" cy="23623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85800" y="22860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Только на Сокотре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произрастает дикий сородич гранатового дерева, дающий мелкие, но вполне съедобные плоды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064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533520"/>
            <a:ext cx="84582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2057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Все перечисленные растения строго </a:t>
            </a:r>
            <a:r>
              <a:rPr b="0" i="1" lang="ru-RU" sz="4400" spc="-1" strike="noStrike" u="sng">
                <a:solidFill>
                  <a:srgbClr val="333399"/>
                </a:solidFill>
                <a:uFillTx/>
                <a:latin typeface="Stylo"/>
              </a:rPr>
              <a:t>эндемичны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, т.е. 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распространение стр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ограниче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островом…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57200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	</a:t>
            </a:r>
            <a:r>
              <a:rPr b="0" lang="ru-RU" sz="4000" spc="-1" strike="noStrike">
                <a:solidFill>
                  <a:srgbClr val="333399"/>
                </a:solidFill>
                <a:latin typeface="Stylo"/>
              </a:rPr>
              <a:t>Из 850 видов растений, около 270 произрастают только на Сокотре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67080" y="2516760"/>
            <a:ext cx="4996440" cy="4015800"/>
            <a:chOff x="4267080" y="2516760"/>
            <a:chExt cx="4996440" cy="401580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 rot="797400">
              <a:off x="5634000" y="2862360"/>
              <a:ext cx="334332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4267080" y="2895480"/>
              <a:ext cx="4667400" cy="36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7391520" y="3657600"/>
              <a:ext cx="84744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 rot="19546800">
              <a:off x="4724280" y="3276720"/>
              <a:ext cx="609840" cy="34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75438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tylo"/>
              </a:rPr>
              <a:t>В начале 1880 г. первая исследовательская британская экспедиция, под руководством профессора Исаака Балфоуро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tylo"/>
              </a:rPr>
              <a:t>прибыла на СОКОТРУ…</a:t>
            </a:r>
            <a:r>
              <a:rPr b="0" lang="ru-RU" sz="4000" spc="-1" strike="noStrike">
                <a:solidFill>
                  <a:srgbClr val="000000"/>
                </a:solidFill>
                <a:latin typeface="Stylo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1905120"/>
            <a:ext cx="7635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Stylo"/>
              </a:rPr>
              <a:t>48 дней – более 200 видов неизвестных науке растений, часть из которых относилась к новым рода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676520" cy="1397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57200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28600" y="511200"/>
            <a:ext cx="38862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Выжженные солнцем горные долины со сказочным ботаническим ландшаф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Его облик определяют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драконовы деревья</a:t>
            </a:r>
            <a:r>
              <a:rPr b="0" lang="ru-RU" sz="2400" spc="-1" strike="noStrike">
                <a:solidFill>
                  <a:srgbClr val="333399"/>
                </a:solidFill>
                <a:latin typeface="Stylo"/>
              </a:rPr>
              <a:t>, исчезнувшие с материка, и пустынные розы –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адениум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4275000" cy="5943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57200" y="1219320"/>
            <a:ext cx="374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Stylo"/>
              </a:rPr>
              <a:t>Адениум тучный</a:t>
            </a:r>
            <a:r>
              <a:rPr b="0" lang="ru-RU" sz="3200" spc="-1" strike="noStrike">
                <a:solidFill>
                  <a:srgbClr val="000000"/>
                </a:solidFill>
                <a:latin typeface="Stylo"/>
              </a:rPr>
              <a:t> – 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бочкообразный ствол хранит огромные запасы влаги, позволяя переждать засух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6108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5181480" y="692280"/>
            <a:ext cx="396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Как и много веков назад сокотранцы добывают кроваво-красную смолу драконовых деревьев – древних реликтовых растени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984920" cy="6324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28600" y="457200"/>
            <a:ext cx="36576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Кстати, местные законы запрещают повреждать кору деревьев, не достигших возраста 20-30 ле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Stylo"/>
              </a:rPr>
              <a:t>Смола используется в качестве красителя, для лечения ряда заболеваний и даже как губная пом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171360"/>
            <a:ext cx="4876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Не меньшую известность острову принесли деревья 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Stylo"/>
              </a:rPr>
              <a:t>босвеллии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 и </a:t>
            </a:r>
            <a:r>
              <a:rPr b="0" i="1" lang="ru-RU" sz="3600" spc="-1" strike="noStrike" u="sng">
                <a:solidFill>
                  <a:srgbClr val="333399"/>
                </a:solidFill>
                <a:uFillTx/>
                <a:latin typeface="Stylo"/>
              </a:rPr>
              <a:t>коммифоры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Из смолы босвеллий изготовляли </a:t>
            </a:r>
            <a:r>
              <a:rPr b="0" i="1" lang="ru-RU" sz="3600" spc="-1" strike="noStrike">
                <a:solidFill>
                  <a:srgbClr val="333399"/>
                </a:solidFill>
                <a:latin typeface="Stylo"/>
              </a:rPr>
              <a:t>ладан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, а из коммифоры – </a:t>
            </a:r>
            <a:r>
              <a:rPr b="0" i="1" lang="ru-RU" sz="3600" spc="-1" strike="noStrike">
                <a:solidFill>
                  <a:srgbClr val="333399"/>
                </a:solidFill>
                <a:latin typeface="Stylo"/>
              </a:rPr>
              <a:t>мирру</a:t>
            </a:r>
            <a:r>
              <a:rPr b="0" lang="ru-RU" sz="3200" spc="-1" strike="noStrike">
                <a:solidFill>
                  <a:srgbClr val="333399"/>
                </a:solidFill>
                <a:latin typeface="Stylo"/>
              </a:rPr>
              <a:t> – наиболее востребованные благовония Древнего Египта и Вавил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4003560" cy="60958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v</cp:lastModifiedBy>
  <dcterms:modified xsi:type="dcterms:W3CDTF">2008-02-29T00:1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120000000000010250300207f7000400038000</vt:lpwstr>
  </property>
  <property fmtid="{D5CDD505-2E9C-101B-9397-08002B2CF9AE}" pid="3" name="Version">
    <vt:r8>1</vt:r8>
  </property>
</Properties>
</file>