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643-9B7C-4DC6-8DC8-03A8A407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592-FFB3-4856-BC11-35893EC9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1C6-027D-477F-87F6-B3333892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4EE-1874-4701-8B6A-A916C174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E97C-62BD-4C0B-B929-8C7BB421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589A-2257-461C-B4B1-C3473BE5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C569-03DF-4A0E-A80B-4ED79177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39D7-3697-4582-B0B7-ECBD546E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3CD4-F9EA-4350-B721-107C84EF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FBD4-495B-427A-BA09-4B32D1BA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A94A-4A51-4757-9823-62CE22C6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2D1-02D7-4688-8D66-6233A0B4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6DA4-EAA9-4834-ABBC-1E2D1875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A52E-8580-48CF-9EF0-19126954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6EC4-6776-495A-BB92-F5258E39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7668-6FD1-4CFB-A989-0BC96A88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6840" y="530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92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988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6840" y="271764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97CA-F1DF-4450-BEF6-C2510B11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E1F-ED79-4E7E-A265-54CE525E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8BB-51E9-4064-8448-A83B9AEB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E65-548B-4BA7-9161-A3E330F8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4983480"/>
            <a:ext cx="8183520" cy="487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C9D-F2E0-4747-86D4-1FAAEB41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54F-3A08-48AB-A2CA-361EE0B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41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560" y="271764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FDB-7D18-4092-89D2-4E21DB7C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560" y="530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2920" y="271764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76C-00EE-4249-8B60-91BC2750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A45318-87E9-40AD-90B6-10F8E2AE1419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Скругленный прямоугольник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FDF023-5069-4F9A-8333-81FC8BC1B4A6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Урок Лихачев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Письмо 12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итая «Письма о добром»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должен быть интеллигентен!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Интеллектуал – интеллигент?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ллигентность –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пособность человека к духовной эволюции, самотворению: сам себя творишь и сам себя отворяешь, выявляя дотоле неведомые силы и способности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Вопросы к тексту: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0000"/>
          </a:bodyPr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чем смысл понятия «Нравственное здоровье?»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е, какими чертами на Ваш взгляд должен обладать интеллигентный человек.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понимаете слова Библии «Чти отца своего и матерь свою, и долголетен будешь на земле»?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ует ли связь между степенью интеллигентности и жизненной активностью человека?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ременный интеллигентный человек. Что Вы вкладываете в это понятие?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marL="257760" indent="-257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думаете,  трудно ли быть интеллигентом в современной России? </a:t>
            </a: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Как вы думаете: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но ли притвориться интеллигентным человеком?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Д.С.Лихачев: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Скупой может притвориться щедрым… Злой человек может притвориться добрым. Льстец может преподнести свою лесть под флагом правдивости и откровенности, «честно». Но притвориться интеллигентным человеком нельзя. Невозможно. Вот, между прочим, почему интеллигентность вызывает такую злобу в неинтеллигентных людях»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9257"/>
                </a:solidFill>
                <a:latin typeface="Verdana"/>
              </a:rPr>
              <a:t>Письмо о добром</a:t>
            </a:r>
            <a:endParaRPr b="0" lang="ru-RU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я написания Письма: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те идеи, мысли Д.С.Лихачева, которые разделяют все члены вашей группы;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едините эти идеи в едином тексте – обращении к первоклассникам нашей школы, сохранив форму и стилистику писем Д.С.Лихачева.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81</TotalTime>
  <Application>LibreOffice/7.4.7.2$Linux_X86_64 LibreOffice_project/40$Build-2</Application>
  <AppVersion>15.0000</AppVersion>
  <Words>222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8:19:07Z</dcterms:created>
  <dc:creator>Портнова</dc:creator>
  <dc:description/>
  <dc:language>en-US</dc:language>
  <cp:lastModifiedBy>Портнова</cp:lastModifiedBy>
  <dcterms:modified xsi:type="dcterms:W3CDTF">2011-11-25T19:52:57Z</dcterms:modified>
  <cp:revision>8</cp:revision>
  <dc:subject/>
  <dc:title>Урок Лихаче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