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D27-59E2-4F2A-BD86-5FDD3D1A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2EC-B074-4311-A416-53069AE0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938A-5834-42A5-8D51-F30D7866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6D36-81F1-44A5-9B8B-43090D94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18C1-CE1F-4339-A902-4A10826F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6339-5811-4DEB-9FDC-AB8B27A9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9180-735C-4612-86D8-544ADCF7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548A-3E20-4050-AF4E-0C58ABCA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B2F0-AC37-47E4-9054-BE322DF4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A3F7-5F7D-41D2-92DD-1EE6D808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ADAE-EF07-4111-966B-0C277C78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CF7A-D7CD-43E7-9FAD-329D5BB8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B20A-7CC4-4288-960E-C91E4BAA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5974-9364-4419-A3D5-4BF7D48E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305F-EDF0-4C85-BEFC-7D265440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9562-AB1E-4A54-908F-118A7A14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62D0-445E-482B-A4D6-78F4A67C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596-F214-4DA4-9059-4FE5F402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78D3-62D2-43AC-B1A4-356F36F0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97D5-0AEF-4318-AB41-15D28025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6E2-E6B3-4696-ACD6-82A1BAA4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9D5-C531-4963-98B6-D21EF986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5B91-21F4-4A28-A401-A3E389C9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BA71-DFA0-4296-9D98-1A16635A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14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Скругленный прямоугольник 9"/>
          <p:cNvSpPr/>
          <p:nvPr/>
        </p:nvSpPr>
        <p:spPr>
          <a:xfrm>
            <a:off x="418680" y="434160"/>
            <a:ext cx="8306280" cy="3108600"/>
          </a:xfrm>
          <a:prstGeom prst="roundRect">
            <a:avLst>
              <a:gd name="adj" fmla="val 4578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8A8512-BF02-4BA9-BC46-7826AFC0FD7D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Скругленный прямоугольник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5B4673-607D-4B62-99F9-1CC9E76E9E51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Урок Лихачева</a:t>
            </a:r>
            <a:endParaRPr b="0" lang="ru-RU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22520" y="368496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7c79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Письмо 12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итая «Письма о добром»: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ловек должен быть интеллигентен!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Интеллектуал – интеллигент?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ллигентность –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пособность человека к духовной эволюции, самотворению: сам себя творишь и сам себя отворяешь, выявляя дотоле неведомые силы и способности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Вопросы к тексту: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0000"/>
          </a:bodyPr>
          <a:p>
            <a:pPr marL="257760" indent="-257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чем смысл понятия «Нравственное здоровье?»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marL="257760" indent="-257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е, какими чертами на Ваш взгляд должен обладать интеллигентный человек.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marL="257760" indent="-257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понимаете слова Библии «Чти отца своего и матерь свою, и долголетен будешь на земле»?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marL="257760" indent="-257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уществует ли связь между степенью интеллигентности и жизненной активностью человека?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marL="257760" indent="-257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ременный интеллигентный человек. Что Вы вкладываете в это понятие?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marL="257760" indent="-257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думаете,  трудно ли быть интеллигентом в современной России? 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Как вы думаете: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но ли притвориться интеллигентным человеком?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Д.С.Лихачев: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Скупой может притвориться щедрым… Злой человек может притвориться добрым. Льстец может преподнести свою лесть под флагом правдивости и откровенности, «честно». Но притвориться интеллигентным человеком нельзя. Невозможно. Вот, между прочим, почему интеллигентность вызывает такую злобу в неинтеллигентных людях»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Письмо о добром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ология написания Письма: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те идеи, мысли Д.С.Лихачева, которые разделяют все члены вашей группы;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едините эти идеи в едином тексте – обращении к первоклассникам нашей школы, сохранив форму и стилистику писем Д.С.Лихачева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81</TotalTime>
  <Application>LibreOffice/7.4.7.2$Linux_X86_64 LibreOffice_project/40$Build-2</Application>
  <AppVersion>15.0000</AppVersion>
  <Words>222</Words>
  <Paragraphs>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8:19:07Z</dcterms:created>
  <dc:creator>Портнова</dc:creator>
  <dc:description/>
  <dc:language>en-US</dc:language>
  <cp:lastModifiedBy>Портнова</cp:lastModifiedBy>
  <dcterms:modified xsi:type="dcterms:W3CDTF">2011-11-25T19:52:57Z</dcterms:modified>
  <cp:revision>8</cp:revision>
  <dc:subject/>
  <dc:title>Урок Лихаче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</vt:r8>
  </property>
</Properties>
</file>