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D41-6A1F-47EC-8C49-F60E7777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21BD-79C1-44F1-81AB-163A613D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B0E-17D6-44CE-907D-2937F657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864-A15D-4AF6-844F-36F0F944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C050-DABC-4D02-92AC-6510C7FB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225-47BC-493F-A941-9A33644D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829C-867D-441D-B075-EAD0CF7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CECB-9245-407D-BA9D-B992058B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C88A-2073-4209-8199-E483E0D9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51D9-1604-4AE5-8385-196E761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66E-9F08-40EC-94F5-CE308A8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3AC-1257-4A09-BCF6-32B78123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677D-6DFE-4308-8CC2-FA5BBDA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0743-F322-4D23-B858-8328BC6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8500-C54E-4F95-90EC-C4F91DF4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813E-FE7C-4B7B-9464-DBB54B1A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DBAC-F15B-43A2-9A2D-F5479E9A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EF4-0D8E-4921-9C71-E8CD5B7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519-56A2-41D4-83CD-2D9E247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189-C75E-4808-BA4D-A69A57E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325A-B6F6-4C92-A77A-880062DD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AFC7-3468-4800-95DF-3D541161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07C-6247-44F0-8281-84AB005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F7C-69D7-4A17-996B-5959C9F5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BE7B-9C08-4C54-9DFC-70A215CC565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B6E0-9B26-4836-B2C0-AC7883DC08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лок-схемы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ила ученица 9а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одина Анаста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MMj03369150000[1]"/>
          <p:cNvPicPr/>
          <p:nvPr/>
        </p:nvPicPr>
        <p:blipFill>
          <a:blip r:embed="rId1"/>
          <a:stretch/>
        </p:blipFill>
        <p:spPr>
          <a:xfrm>
            <a:off x="7162920" y="1371600"/>
            <a:ext cx="16462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нятие блок-схемы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Блок-схе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о форма записи алгоритма при помощи специальных графических эле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Mj03369170000[1]"/>
          <p:cNvPicPr/>
          <p:nvPr/>
        </p:nvPicPr>
        <p:blipFill>
          <a:blip r:embed="rId1"/>
          <a:stretch/>
        </p:blipFill>
        <p:spPr>
          <a:xfrm>
            <a:off x="7242120" y="4419720"/>
            <a:ext cx="19018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0"/>
            <a:ext cx="6400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мотрим основные 4 элемента с помощи которых записывается блок-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819520" y="1905120"/>
            <a:ext cx="57909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2819520" y="22096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6324480" y="19051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819520" y="1905120"/>
            <a:ext cx="35049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лементы блок-схемы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400800" y="19051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значение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819520" y="2362320"/>
            <a:ext cx="3200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3048120" y="28195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648320" y="2819520"/>
            <a:ext cx="1523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2819520" y="34290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6324480" y="2209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бозначения начала и конца алгори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895480" y="3505320"/>
            <a:ext cx="1752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124080" y="3962520"/>
            <a:ext cx="17528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6324480" y="3429000"/>
            <a:ext cx="22860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выпол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2819520" y="5257800"/>
            <a:ext cx="57909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6324480" y="5181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819520" y="525780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3048120" y="5715000"/>
            <a:ext cx="1981080" cy="380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вести цвет гл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6324480" y="52578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ввода и вывод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что полученные знания закрепим на прим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876920" y="990720"/>
            <a:ext cx="6094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5181480" y="1295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495680" y="1523880"/>
            <a:ext cx="144792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од чи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51814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4572000" y="2057400"/>
            <a:ext cx="1219320" cy="380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57150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624852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5943600" y="24382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6248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5791320" y="2895480"/>
            <a:ext cx="914400" cy="381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6934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6705720" y="327672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5562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5334120" y="327672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411480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411480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3809880" y="2438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>
            <a:off x="41148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5"/>
          <p:cNvSpPr/>
          <p:nvPr/>
        </p:nvSpPr>
        <p:spPr>
          <a:xfrm>
            <a:off x="3657600" y="2895480"/>
            <a:ext cx="914400" cy="381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6"/>
          <p:cNvSpPr/>
          <p:nvPr/>
        </p:nvSpPr>
        <p:spPr>
          <a:xfrm>
            <a:off x="55627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7"/>
          <p:cNvSpPr/>
          <p:nvPr/>
        </p:nvSpPr>
        <p:spPr>
          <a:xfrm>
            <a:off x="66294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8"/>
          <p:cNvSpPr/>
          <p:nvPr/>
        </p:nvSpPr>
        <p:spPr>
          <a:xfrm>
            <a:off x="449568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9"/>
          <p:cNvSpPr/>
          <p:nvPr/>
        </p:nvSpPr>
        <p:spPr>
          <a:xfrm>
            <a:off x="4800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0"/>
          <p:cNvSpPr/>
          <p:nvPr/>
        </p:nvSpPr>
        <p:spPr>
          <a:xfrm>
            <a:off x="4572000" y="3276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1"/>
          <p:cNvSpPr/>
          <p:nvPr/>
        </p:nvSpPr>
        <p:spPr>
          <a:xfrm>
            <a:off x="34290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4290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3200400" y="3276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4"/>
          <p:cNvSpPr/>
          <p:nvPr/>
        </p:nvSpPr>
        <p:spPr>
          <a:xfrm>
            <a:off x="34290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48006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6"/>
          <p:cNvSpPr/>
          <p:nvPr/>
        </p:nvSpPr>
        <p:spPr>
          <a:xfrm>
            <a:off x="55627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7"/>
          <p:cNvSpPr/>
          <p:nvPr/>
        </p:nvSpPr>
        <p:spPr>
          <a:xfrm>
            <a:off x="69343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3048120" y="3657600"/>
            <a:ext cx="4343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9"/>
          <p:cNvSpPr/>
          <p:nvPr/>
        </p:nvSpPr>
        <p:spPr>
          <a:xfrm>
            <a:off x="34290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0"/>
          <p:cNvSpPr/>
          <p:nvPr/>
        </p:nvSpPr>
        <p:spPr>
          <a:xfrm>
            <a:off x="6934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3" descr="MMj01892190000[1]"/>
          <p:cNvPicPr/>
          <p:nvPr/>
        </p:nvPicPr>
        <p:blipFill>
          <a:blip r:embed="rId1"/>
          <a:stretch/>
        </p:blipFill>
        <p:spPr>
          <a:xfrm>
            <a:off x="7010280" y="4572000"/>
            <a:ext cx="2038320" cy="17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«Сортировка ш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рзине имеются белые и черные шары. Нужно белые шары положить в белую коробку, а черные – в черн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ие объекты участвуют в нашей задач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им, как происходит сортировка шар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носят корзины с ш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рут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мотрят на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шар белый, то его кладут в белую коробку, иначе – в черну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рут следующий ша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верка знаний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9" name="Picture 4" descr="MMj02889280000[1]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ая блок схема выглядит так, но недостаток этой блок-схемы заключается в том, что в ней нет конца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105520" y="198108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4343400" y="2438280"/>
            <a:ext cx="1905120" cy="22860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Вести корзину с шара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52578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46483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ьми ш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648320" y="32004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о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4495680" y="3657600"/>
            <a:ext cx="1447920" cy="533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Шар бел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886200" y="41148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Б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791320" y="411480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Ч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5257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5257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61722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52578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4267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2667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"/>
          <p:cNvSpPr/>
          <p:nvPr/>
        </p:nvSpPr>
        <p:spPr>
          <a:xfrm flipH="1">
            <a:off x="586692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61722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2"/>
          <p:cNvSpPr/>
          <p:nvPr/>
        </p:nvSpPr>
        <p:spPr>
          <a:xfrm>
            <a:off x="426708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518148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5181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6"/>
          <p:cNvSpPr/>
          <p:nvPr/>
        </p:nvSpPr>
        <p:spPr>
          <a:xfrm flipV="1">
            <a:off x="678168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7"/>
          <p:cNvSpPr/>
          <p:nvPr/>
        </p:nvSpPr>
        <p:spPr>
          <a:xfrm flipH="1">
            <a:off x="525744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8" descr="MMj03158160000[1]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здание блок-схемы в текстовой редактор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ord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90920" y="16765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ишем алгоритм создания блок-схемы в текстовом редакт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нель рис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фиг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ок-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рать нужный эле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2743200" y="35053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505320" y="3429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4419720" y="3429000"/>
            <a:ext cx="838080" cy="30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562720" y="3429000"/>
            <a:ext cx="990360" cy="304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6858000" y="3429000"/>
            <a:ext cx="990720" cy="304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2743200" y="4191120"/>
            <a:ext cx="426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исовать эле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жать кнопку «Надпис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жать на нарисованный эле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исать тек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2743200" y="5486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2819520" y="5410080"/>
            <a:ext cx="4267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брать кнопку «стрелка» или «ли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рисовать от предыдущего элемента линию или стрелку нужного размера и на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4" descr="MMj03367670000[1]"/>
          <p:cNvPicPr/>
          <p:nvPr/>
        </p:nvPicPr>
        <p:blipFill>
          <a:blip r:embed="rId1"/>
          <a:stretch/>
        </p:blipFill>
        <p:spPr>
          <a:xfrm>
            <a:off x="8153280" y="3048120"/>
            <a:ext cx="75276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438280" y="22860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ок-схемы к сказке «Колоб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начала вспомним сказку «Колобок». Расскажем ее по очере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ой зверь самый важный в сказ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акие объекты участвуют в сказ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берем на доске, затем вы создадите эту блок-схему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братим внимание на то, что в нашей блок-схеме сделан перенос, которой позволяет размещать ее более компактно на стра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ле того как мы разобрали эту блок-схему на доске, перенесите ее на свои компьютеры. Постарайтесь, чтобы она смотрелась красиво и акку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-схема выглядит следующим образом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val 4"/>
          <p:cNvSpPr/>
          <p:nvPr/>
        </p:nvSpPr>
        <p:spPr>
          <a:xfrm>
            <a:off x="3733920" y="990720"/>
            <a:ext cx="5331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9625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352680" y="1676520"/>
            <a:ext cx="1295640" cy="380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вод героев сказк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352680" y="2286000"/>
            <a:ext cx="106704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лепить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3352680" y="2819520"/>
            <a:ext cx="106704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садить в печ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3352680" y="3352680"/>
            <a:ext cx="106704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ыпекать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200400" y="3886200"/>
            <a:ext cx="1295280" cy="685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б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276720" y="47242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укатилс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3886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38862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38862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3886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38862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44956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 flipV="1">
            <a:off x="4800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 flipH="1">
            <a:off x="3886200" y="3200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420440" y="403848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87640" y="449568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4"/>
          <p:cNvSpPr/>
          <p:nvPr/>
        </p:nvSpPr>
        <p:spPr>
          <a:xfrm>
            <a:off x="3505320" y="5257800"/>
            <a:ext cx="6094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58128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3886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9"/>
          <p:cNvSpPr/>
          <p:nvPr/>
        </p:nvSpPr>
        <p:spPr>
          <a:xfrm>
            <a:off x="38862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0"/>
          <p:cNvSpPr/>
          <p:nvPr/>
        </p:nvSpPr>
        <p:spPr>
          <a:xfrm>
            <a:off x="6324480" y="9907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670572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640080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3"/>
          <p:cNvSpPr/>
          <p:nvPr/>
        </p:nvSpPr>
        <p:spPr>
          <a:xfrm>
            <a:off x="6172200" y="17524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катитс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4"/>
          <p:cNvSpPr/>
          <p:nvPr/>
        </p:nvSpPr>
        <p:spPr>
          <a:xfrm>
            <a:off x="6172200" y="228600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Встречает звер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5"/>
          <p:cNvSpPr/>
          <p:nvPr/>
        </p:nvSpPr>
        <p:spPr>
          <a:xfrm>
            <a:off x="6172200" y="2819520"/>
            <a:ext cx="106668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пое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6"/>
          <p:cNvSpPr/>
          <p:nvPr/>
        </p:nvSpPr>
        <p:spPr>
          <a:xfrm>
            <a:off x="5943600" y="3429000"/>
            <a:ext cx="1523880" cy="7621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Ли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8"/>
          <p:cNvSpPr/>
          <p:nvPr/>
        </p:nvSpPr>
        <p:spPr>
          <a:xfrm>
            <a:off x="6248520" y="4495680"/>
            <a:ext cx="106668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Колобок пое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9"/>
          <p:cNvSpPr/>
          <p:nvPr/>
        </p:nvSpPr>
        <p:spPr>
          <a:xfrm>
            <a:off x="6248520" y="5105520"/>
            <a:ext cx="1066680" cy="304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Съела Колобк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0"/>
          <p:cNvSpPr/>
          <p:nvPr/>
        </p:nvSpPr>
        <p:spPr>
          <a:xfrm>
            <a:off x="67057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1"/>
          <p:cNvSpPr/>
          <p:nvPr/>
        </p:nvSpPr>
        <p:spPr>
          <a:xfrm>
            <a:off x="670572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2"/>
          <p:cNvSpPr/>
          <p:nvPr/>
        </p:nvSpPr>
        <p:spPr>
          <a:xfrm>
            <a:off x="67057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3"/>
          <p:cNvSpPr/>
          <p:nvPr/>
        </p:nvSpPr>
        <p:spPr>
          <a:xfrm>
            <a:off x="670572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4"/>
          <p:cNvSpPr/>
          <p:nvPr/>
        </p:nvSpPr>
        <p:spPr>
          <a:xfrm>
            <a:off x="67057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5"/>
          <p:cNvSpPr/>
          <p:nvPr/>
        </p:nvSpPr>
        <p:spPr>
          <a:xfrm>
            <a:off x="67057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46"/>
          <p:cNvSpPr/>
          <p:nvPr/>
        </p:nvSpPr>
        <p:spPr>
          <a:xfrm>
            <a:off x="6477120" y="56386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7"/>
          <p:cNvSpPr/>
          <p:nvPr/>
        </p:nvSpPr>
        <p:spPr>
          <a:xfrm>
            <a:off x="67057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8"/>
          <p:cNvSpPr/>
          <p:nvPr/>
        </p:nvSpPr>
        <p:spPr>
          <a:xfrm>
            <a:off x="5486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9"/>
          <p:cNvSpPr/>
          <p:nvPr/>
        </p:nvSpPr>
        <p:spPr>
          <a:xfrm>
            <a:off x="548640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1"/>
          <p:cNvSpPr/>
          <p:nvPr/>
        </p:nvSpPr>
        <p:spPr>
          <a:xfrm flipH="1">
            <a:off x="388584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5487480" y="3657600"/>
            <a:ext cx="3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6707160" y="4343400"/>
            <a:ext cx="2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4" descr="MMAG00203_0000[1]"/>
          <p:cNvPicPr/>
          <p:nvPr/>
        </p:nvPicPr>
        <p:blipFill>
          <a:blip r:embed="rId1"/>
          <a:stretch/>
        </p:blipFill>
        <p:spPr>
          <a:xfrm>
            <a:off x="2133720" y="5915160"/>
            <a:ext cx="136188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2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31T16:17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