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951-D8B9-4F8D-A215-1F2292D6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1EC-69A0-4B91-9A0E-8315D4A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F9E-E3AF-4A9B-A559-371551DD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A63-4685-4F33-9AB4-6FC9B14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9AC-61C4-4F1B-9AE5-57150E1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3645-6355-4B17-A8FB-19E01F5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2D05-CCB9-418C-B16D-EF2F99D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614-D972-4E19-9B9E-2C5244D2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4F75-3C05-4743-86DD-4F68B38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EDDA-23BA-4D59-9FA7-6D8328E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165-8A83-4CA3-B61A-F693DF2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D3D-AD05-4DCB-8755-1D71004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3D4A-D64B-4E57-B22D-D5747ED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C63-6CF5-447B-87E1-BFE96A4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AE1-F89C-4733-9552-BDE8525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43A-D424-401F-BB00-53D1D11D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57D-A227-45B9-833C-EA6119E9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87CB-E1D0-4A28-8477-929841F1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2E8D-0D3C-4CF4-954A-0B7DB430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FACB-DC43-4343-95B2-070C003F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14DA-35FC-4180-A072-1FCD333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F60B-ECC2-46B4-8175-2F3ED8D0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B65-DAF6-4544-8EEB-BF59F3F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1D2E-2D82-4504-9E0A-2A592E8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971F-5167-49AF-AB47-1D75E71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D8EC-00ED-4F2F-BDAD-E707F49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E9CB-2060-47A8-B376-9680126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409F-B36F-4728-9A4B-2FFE690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71E7-A426-475B-AE5E-6974D91F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978A-7D90-4073-B718-FE54EA36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EF52-9AE5-445B-8710-B47DC2AC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B7FD-465B-4309-9A33-92D86957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30CE-6BFD-4D2D-8CBC-C5478F1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CDA-91DF-43D7-9542-6E85D8E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848D-BEF6-4F1B-B2B3-379706C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21AA7-43E5-47E6-B6E1-07338B2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9AEB-6BB5-4CB0-8EBB-3D97493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5424-AC47-4112-B817-60EF4BA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B6E8-28FF-4F48-A3F1-D525FAE9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C34A-47BC-4D12-A1C9-78A57F4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E8BF-5E2E-48EC-840A-E9C42EA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A280-5A65-42F4-A80B-8157AD14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B72D-EAE2-443B-9031-A23E1CD0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CBFC-FEE8-4E2A-A06B-FE94AA2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4A9-922F-4C42-AE66-A52A24C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5263-9432-4A1D-A3B6-DEC13273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6AD7-E509-4318-98E1-EB3A5A1A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0B8F-C8B1-471B-AD59-DECCD05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537A-4ED2-4C50-9245-DD0A938F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3AC8-CC3C-42CD-B6D0-8036A6C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4982-2AE2-4A1C-9997-DD4E82C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5DEF-11FC-456B-8CFD-0FE3C043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27A2-07C1-480C-A6A2-9E74206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D51A-3384-468F-ABB4-08F68C4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8B39-E545-4CD4-86EC-A9054654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42A-ACE1-455B-B827-257B79D6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9C71-F2BB-4D1B-BF19-390D2517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E334-0BDC-43D1-AC78-E465917C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9065-A70A-4C1B-AFC4-80BD023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9B23-3ECF-4930-AD9B-C04BE8E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37D78-4679-4396-8A07-F5A7408C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29E2-B71C-46B4-9F93-2EC6D354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860B-E9DE-4390-9DFA-6196B895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8B20-6361-454A-BC3A-D19A41A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7E8B-BA8E-4D9E-A11A-6448B44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D2B2-58AA-46D4-B605-2757226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D43-3D26-4A92-A8DD-74B79DF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B4C0-700D-46FD-8539-F74F9DC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BB6E-3FCB-4363-8CBF-26C82541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4725-8B28-4059-B6EB-6CDDC54C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0CFC-3836-47BC-ADD9-2F7FD86F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8ADD-C4AE-451D-96A2-3F546C0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CD13-5CED-485F-B9C9-3A9E9BF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D0D9-696A-46C9-BAF7-8645155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91A0-9056-464C-9E00-C4514D39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90FFE-C913-4E48-9B3D-612F267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A1AB-D0C6-49DE-BFBB-355729B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A8D-C3AF-4660-9C5F-5D031C6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E1E2-035E-4046-B45A-BDD1B40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C343-BBD0-4191-ADA6-44BCDEB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47CED-BB5C-4234-AF65-E2F307F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9ACA-F0B9-42CF-84BE-32C277A6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436A-29E7-4357-86CC-A614BBA4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507F-3AB1-4A61-B9D8-512D7D3C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7B639-21F9-4D52-8A6B-06589E92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4BBC-0886-4831-BBEB-1919203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DA768-BCCB-43C3-BE40-1BB221D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505F5-9744-4E58-ACD1-BEACC32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548-C73D-4F34-B396-C5BB818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3F6D-318E-4F03-851E-8C92F852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5A97D-4531-4E03-B7AF-0C83566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1DD2-32FF-40BD-A713-436CBC3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9FE4-813C-493B-923A-C4D0464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03C1-6BAD-41DF-B323-053624D1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68AC1-12D7-4AA3-9A25-09192DB3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697A8-CFC0-4B20-AE0B-6DF0EABC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C87-ADB7-4294-A848-1C7D960B83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E3B-56D8-4B4F-BE8F-BE3855BE09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BE7-0ED6-4206-B099-33817FC1E2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824-A1AA-4431-A22D-53E954FF65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A877-7CFA-406B-BFEF-4F5CA16285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DA33-DB7D-49B0-B4A6-DC8038F826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933-E917-4ACF-B161-16BF1DA1D5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F592-8C86-431D-8D5A-9513B7DB22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готовка к ЕГЭ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1 класс часть А 18- А 2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борочные зад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МБОУ «СОШ №10» Л.В. Ваган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и деды и прадеды (ЗА)ТО  воевали, ЧТО(БЫ) мы жили в мире и согла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ой писатель кажется великаном (ПО)ТОМУ, что стоит (В)РОВЕНЬ с читател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родителям относись ТАК(ЖЕ), как ты желал бы, ЧТО(БЫ) твои собственные дети относились к теб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ПО)ТОМУ , как он замолчал, а ТАК(ЖЕ) по его  виноватому взгляду, Серпилин почувствовал, что перед ним стоит человек, не умеющий защитить себ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я метода голландских художников определяющее значение имеет опыт непосредственного созерцания ( ) и реализации его в художественном образ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не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н стоял (ЗА)ТЕМ большим деревом, ЧТО(БЫ) его заметил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(ЧТО)БЫ хорошо учиться, тебе надо заниматься (ТАК)ЖЕ много, как занимаются другие учени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ы вспомнили школьные годы. Удалось (ТАК)ЖЕ договориться (НА)СЧЁТ моей будущей работ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ы успели отойти (ОТ)ТОГО опасного места, (ПО)ЭТОМУ сосулька упала мимо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ла грустная августовская ночь- грустная, (ПО)ТОМУ что уже пахло осенью и лето спешило (НА)ВСТРЕЧУ первым сентябрьским  холод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ВО)КРУГ беседки посадили сирень , и (В)ТЕЧЕНИЕ целого месяца мы ощущали её нежный  арома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едует иметь (В)ВИДУ, что многие  физические явления  связаны с нагреванием, охлаждением и зависят ТАК(ЖЕ) от перехода из одного агрегатного состояния в друго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ЗА)ТЕМ поворотом стоит наша часть, (ПО)ЭТОМУ комендантские патрули  попадались нам всё чащ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едставители экспрессионизма считали любое бессознательное действие отражением психического состояния художника ( ) и в этом видели смысл изображаемо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имним утром прилетают на берёзу тетерева ( ) и клюют её бурые серёж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еловеческое мышление формируется с помощью языка  ( ) и  оказывается с ним прочно связанны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Труд писателя- мука, но он же (1)конечно(2) и счастье. Писатель никогда не свободен, не знает полного отдыха; он и счастлив и несчастлив своим трудом в минуту, когда (3)кажется (4) и не думает о нё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) 1,2     2) 1,3     3)3,4        4) 1,2,3,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 каком варианте ответа правильно указаны все цифры, на месте которых в предложении  должны стоять запятые</a:t>
            </a: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 обозначают диалектные слова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Безусловно (1) многие диалектные слова  относятся к сельским реалиям: словом «голбец» (2) например (3)  в северных областях называют постройку около русской печи. Однако (4) гораздо больше таких слов (5) которые служат местными  названиями для повсеместно распространённых предме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) 1,2,3,4     2) 1,2,3      3)3,4 ,5      4) 1,3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 каком варианте ответа правильно указаны все цифры, на месте которых в предложении  должны стоять запятые</a:t>
            </a: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амять о том, как принял его первую книгу В.Г. Белинский, осталась с Ф.М. Достоевским (1) видимо(2) навсегда. Писатель (3) исключительно(4)  с благодарностью вспоминал о восторженном  признании его таланта известным крити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) 1,2       2) 1,3             3) 3,4              4) 1,2,3,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ема : решение заданий части 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ь : повторить и обобщить знания учащихся о правописании наречий, предлогов, союз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ановка знаков препинания в осложненном и сложном предложения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тог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каким орфографическим материалом  мы работали на урок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казалось более трудным для вас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виды написания союзов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ворческая работа ( 15 минут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чинение- описание ( пейзажная зарисовка) «Посмотри за окно…», включив в него прилагательные ( 25-30 сл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6"/>
          <p:cNvSpPr/>
          <p:nvPr/>
        </p:nvSpPr>
        <p:spPr>
          <a:xfrm flipH="1">
            <a:off x="1908000" y="900000"/>
            <a:ext cx="75888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424480" y="874800"/>
            <a:ext cx="782640" cy="6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595600" y="595440"/>
            <a:ext cx="2568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ущ., прил., нареч. на о,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736560" y="1014480"/>
            <a:ext cx="1076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6194520" y="798480"/>
            <a:ext cx="15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44360" y="1357200"/>
            <a:ext cx="236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потр.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иноним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гат 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548080" y="1370160"/>
            <a:ext cx="2368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ст. с 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ш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рокая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з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ш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рокая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глубо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705200" y="1382760"/>
            <a:ext cx="119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алеко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все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нюд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5891040" y="1409760"/>
            <a:ext cx="1656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чуть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скольк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др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ром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ершен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556400" y="1409760"/>
            <a:ext cx="15512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потр. в полн.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дол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г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604800" y="3797280"/>
            <a:ext cx="209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3359160" y="224784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298600" y="3009960"/>
            <a:ext cx="1943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ст. с 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4299120" y="3021120"/>
            <a:ext cx="306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любое завис. слово, кро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ершен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ай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203720" y="3859200"/>
            <a:ext cx="306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не г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уженная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мнями б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7329600" y="3046320"/>
            <a:ext cx="169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ткие при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уга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ш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2"/>
          <p:cNvSpPr/>
          <p:nvPr/>
        </p:nvSpPr>
        <p:spPr>
          <a:xfrm flipH="1">
            <a:off x="4571640" y="1128600"/>
            <a:ext cx="18111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 flipH="1">
            <a:off x="5792760" y="1116000"/>
            <a:ext cx="6746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4"/>
          <p:cNvSpPr/>
          <p:nvPr/>
        </p:nvSpPr>
        <p:spPr>
          <a:xfrm>
            <a:off x="6550200" y="1116000"/>
            <a:ext cx="344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6751800" y="1128600"/>
            <a:ext cx="1574640" cy="3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6"/>
          <p:cNvSpPr/>
          <p:nvPr/>
        </p:nvSpPr>
        <p:spPr>
          <a:xfrm flipH="1">
            <a:off x="1469880" y="2550960"/>
            <a:ext cx="2154240" cy="1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7"/>
          <p:cNvSpPr/>
          <p:nvPr/>
        </p:nvSpPr>
        <p:spPr>
          <a:xfrm>
            <a:off x="4314960" y="2476440"/>
            <a:ext cx="312480" cy="1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487440" y="2766960"/>
            <a:ext cx="1077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9"/>
          <p:cNvSpPr/>
          <p:nvPr/>
        </p:nvSpPr>
        <p:spPr>
          <a:xfrm>
            <a:off x="287280" y="3071880"/>
            <a:ext cx="141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тальных случа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4359240" y="2603520"/>
            <a:ext cx="144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1"/>
          <p:cNvSpPr/>
          <p:nvPr/>
        </p:nvSpPr>
        <p:spPr>
          <a:xfrm flipH="1">
            <a:off x="3612960" y="2932200"/>
            <a:ext cx="13539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2"/>
          <p:cNvSpPr/>
          <p:nvPr/>
        </p:nvSpPr>
        <p:spPr>
          <a:xfrm>
            <a:off x="4992840" y="2932200"/>
            <a:ext cx="64584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4991040" y="2908440"/>
            <a:ext cx="2246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3365640" y="4290840"/>
            <a:ext cx="1527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ова на -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H="1">
            <a:off x="1554120" y="4572000"/>
            <a:ext cx="2154240" cy="1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333360" y="4762440"/>
            <a:ext cx="16336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. (слитн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види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H="1">
            <a:off x="3341160" y="4595760"/>
            <a:ext cx="4971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2876400" y="486900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"/>
          <p:cNvSpPr/>
          <p:nvPr/>
        </p:nvSpPr>
        <p:spPr>
          <a:xfrm flipV="1">
            <a:off x="3638520" y="4915080"/>
            <a:ext cx="696960" cy="1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0"/>
          <p:cNvSpPr/>
          <p:nvPr/>
        </p:nvSpPr>
        <p:spPr>
          <a:xfrm>
            <a:off x="3638520" y="5130720"/>
            <a:ext cx="7444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1"/>
          <p:cNvSpPr/>
          <p:nvPr/>
        </p:nvSpPr>
        <p:spPr>
          <a:xfrm>
            <a:off x="4383000" y="466092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. сл. в твор. пад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димый м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2"/>
          <p:cNvSpPr/>
          <p:nvPr/>
        </p:nvSpPr>
        <p:spPr>
          <a:xfrm>
            <a:off x="4394160" y="5040360"/>
            <a:ext cx="4537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. сл. отрицат. мес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ке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ди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ке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бедимый (не употр. без 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3"/>
          <p:cNvSpPr/>
          <p:nvPr/>
        </p:nvSpPr>
        <p:spPr>
          <a:xfrm>
            <a:off x="3233880" y="5626080"/>
            <a:ext cx="2104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еприч., гла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272880" y="6070680"/>
            <a:ext cx="4158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ИТНО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не употребляется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5899320" y="6132600"/>
            <a:ext cx="157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6"/>
          <p:cNvSpPr/>
          <p:nvPr/>
        </p:nvSpPr>
        <p:spPr>
          <a:xfrm flipH="1">
            <a:off x="1801800" y="5969160"/>
            <a:ext cx="2154240" cy="13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7"/>
          <p:cNvSpPr/>
          <p:nvPr/>
        </p:nvSpPr>
        <p:spPr>
          <a:xfrm>
            <a:off x="4903920" y="5916600"/>
            <a:ext cx="1600200" cy="1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8"/>
          <p:cNvSpPr/>
          <p:nvPr/>
        </p:nvSpPr>
        <p:spPr>
          <a:xfrm>
            <a:off x="2353680" y="943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 всеми частям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НЕ со словами пишется слитно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ы прилива шумели (не) умолк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тер колеблет  стебелёк с ещё (не)высохшей трав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рава над лесистыми холмами сияла (не)мигающая звез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 на запрос до сих пор (не)полу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 каком варианте ответа  правильно  указаны все цифры, на месте которых пишется буква Е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ак н(1) требовал врач завершить курс процедур, Илья к вечеру уехал из санатория, почти н(2) с кем  н(3) простившись, чтобы н(4) разжигать понапрасну оби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1,2,4     2) 2,3      3) 1,4       4) 3,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2412000" y="1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8216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редлогов, сою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95280" y="620640"/>
          <a:ext cx="8229600" cy="5821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же, тоже = 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ец учился в институте, дочь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ж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удет учиться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= для того чтобы (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ыбку съесть, надо в воду лезть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о = 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ом, причё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к (следовательно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(нареч.)   же(част.),    то(мест.)  ж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чера я учил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же, что сегодн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(мест.)  бы  (это значило?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олстое) дере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м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зговоре) присутствовал врач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н поступал всег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едств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последств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заключен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продолжени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иде, иметь в виду, в виду города, ввиду(из-за) отъезд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чёт(= о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о, вроде, наподоб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язи со сказанным, в(этой) связ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невская приезжает из Парижа, ЧТО(БЫ) покаяться в грехах, а ТАК(ЖЕ) найти покой в родном им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вые несколько лет, прожитых в Вене, стали для Бетховена (ПО)ИСТИНЕ счастливейшим временем его жизни, ПОТОМУ(ЧТО) именно здесь он приобрёл настоящую извест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асть к чтению у Башкирцевой была ненасытна,(ПРИ)ТОМ пищей для её ума были (КАК)БУДТО все предме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ПО)ВИДИМОМУ, Боттичелли был учеником известного живописца Липпи, а ТАК(ЖЕ) скульптора Андреа Веррокки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раздель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(БЫ) ни стряслось у администрации картины, ВСЁ(РАВНО) раздается команда: «Мотор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еприятности ТО(ЖЕ) составляют некоторую часть нашей жизни, их надо переживать  ТАК(ЖЕ), как рад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обрание затянулось, последний оратор ТО(ЖЕ) хотел домой, (ПО)ЭТОМУ был крат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мейте (В)ВИДУ: всякий раз, когда мы идём (НА)ВСТРЕЧУ неприятностям, воля укреп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3:26Z</dcterms:created>
  <dc:creator>Ваганова Л.В.</dc:creator>
  <dc:description/>
  <dc:language>en-US</dc:language>
  <cp:lastModifiedBy>Наталья</cp:lastModifiedBy>
  <dcterms:modified xsi:type="dcterms:W3CDTF">2012-05-31T07:30:35Z</dcterms:modified>
  <cp:revision>14</cp:revision>
  <dc:subject/>
  <dc:title>Подготовка к ЕГЭ </dc:title>
</cp:coreProperties>
</file>