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6B0-512E-4442-ABF1-5E7E5ED4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7A3-DAE2-4687-BF16-0B1FC8B2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E65A-E4C6-4EA2-A353-BC2AFA78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5F3-1E6F-45F5-B7C2-8D2413EA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84A-D233-4F41-BDB4-4C20B57F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F2D9-C502-43AD-83D4-FFEEB559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750B-257B-4A7E-BC0C-D428626A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F458-ACE1-4873-9A38-039EDA0A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FD94-E6AF-42FC-9171-B6652C2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EE98-5E1B-4770-A394-FC11DB01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C9D-FB82-484D-A610-97CB8CA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C40-3D54-4C31-9B0A-5E4862F3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726E-055A-451B-BFF4-B0E5D12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2B08-AA7D-4658-9BBF-EE30FF4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5819-B932-4A1C-8BE7-2096D63E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668B-5C7F-4D70-B7E5-FA2866B5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060C-E3FD-49EC-8E5F-E20B8C20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18E0-5A0A-47E2-91AE-13DC560F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330D-7611-4A02-81DF-AC4FCA7E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1808-500D-463A-9C9D-24C77FE9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7D67-E918-4C66-A598-74FCD35D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1933-FA2F-47C7-B1C6-C5EB5739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E35-BFF5-488E-9952-72AA17C3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72F7-3FEC-46D8-8EEE-F50B0060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B73D-AB4F-457F-9860-1242FE9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5DAB-56C1-4182-8589-2891DE8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EEDBD-70D0-4A50-9160-DC7FA1A0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120D-221D-4924-A58C-2815CB08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1A9B-7968-4680-92BB-813F8AB5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487C-04CD-47E5-A7C2-EDE31158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A7238-0BD6-44EB-AAF6-681DFEF4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3ACA0-9C6A-47FD-AC24-F6BF9D3C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5E90-63E5-4C33-80B5-B03A4A29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D9C-1BA8-4B87-BC4D-9B396CB9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4E062-6B3E-4605-B1C8-FADFB8B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217A-9063-4C40-9F5B-A68491F1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11C4-47B1-4400-8F8F-B961E0BF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AB201-FA6F-4B49-AFD2-312F295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296C7-7EA5-4D50-83D9-51F44DAD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6030C-7F4D-45C8-8BD7-B895E02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BF09-E2D6-4FEE-A99C-EC31F3A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03DB7-6435-4E34-B4CF-E686AF43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E7FD-7D5E-4717-A7E6-84E91CB6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ED5CC-9EC2-4F99-BD08-05AC3B02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4E1-12E0-4379-97B5-0CDD2F8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102B4-AD59-48C3-AA20-4B977391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1D07C-AA57-41A9-B6AF-58CC6C9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0B29-BBBE-408F-9DB3-1E88A1D9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EEC59-C21D-4B97-9F15-A88EC14E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6464B-F865-42EB-AE36-427798E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569B7-3646-4B8A-BED8-F9CCE607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3932-8FFE-49B1-BBCD-77A94FC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34E00-1739-420F-94DB-C8ED24D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5610-6C3D-40E8-AF29-11816756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7B3A-8719-483C-8669-07C07B25C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724-BA3C-4E1F-8790-38D7FF55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9B91-FDDD-46BD-AA6C-45433E58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B16BC-C2AA-4141-840F-7467A516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9E4E7-7888-4470-9FD2-A703B70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5D014-DC2C-4375-8CDA-81A922BF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D9DF-4B02-40A4-8CA4-E47E1614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696E4-E652-4BD9-96BE-70334745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5CEB9-566E-45E4-ACFE-F1BE2310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5E99D-8EE9-4527-BCDE-B3B8B272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18DA-6712-4AA4-A819-76BAD5D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FDBD0-8228-46A2-8641-7B456D8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B5B-1FBE-4861-8C71-EF92511B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E4187-E862-4AA4-B34B-413BB0B0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E9D47-EA25-463E-B8CD-2BF23940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3BB2-AA6B-4C7B-9BA5-E647490D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3CBB0-92DE-4D0A-AF15-B1F5A25A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4520-8F43-4645-86F2-2EE9135B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177CC-C7EF-45A9-A448-D377F5B1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70A50-A82D-4432-8F19-4D668F2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EB1D4-45DA-4C5D-8D9B-1448039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7A96D-5EA7-4EC9-89B9-155A3D7E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B23E3-E9ED-4D38-950C-98C81988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634-EF2E-449E-B2BC-B022BCB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94B5D-12F2-4C72-90F2-3F6B6A25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7993-CBE7-4F3C-AB38-502A370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A8CCC-B64A-4300-94A6-A93EEF5D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B0FA-9371-4F5F-B84B-0EBA2B1A9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9841-02D2-4396-922B-8E7018EB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9F51-4A4F-48A5-99F6-AD85D3F4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1174-C1F8-45A6-8C5A-2095FFCF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47498-664F-41C4-BAD4-8A421B23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5A81F-6197-499B-9641-5375041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E4D6E-8099-4D7B-B7E2-45338AC0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EC2-5C57-41F3-98E7-35211DD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9574E-B38D-420A-93B4-0B616FA2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E4100-F540-49EA-AF8F-D08663B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C713-FFF7-458E-B39F-7E141E7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D4EBF-F4C3-49EC-8D67-B5FFC3D5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4186F-2550-4430-8DAF-5A75FD26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6ACB-BA99-4795-81BF-4D1DD718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76D05-881B-4236-8B3A-1E265030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6A02-4EC8-4096-9488-1A30C33F829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E420-9241-43B5-9E2C-6440F32761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B6F8-65B9-434F-97A0-D3D690937CF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3312-267A-4C6C-B8BC-7AE75B5C22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181E-F259-4079-8DF6-A296441B4A1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833A-BA6D-4E83-85E1-3E32C805C80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207-0260-45F9-9882-1B1BF7E2E6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053-FAE8-41F2-8415-EC32A9C62E8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дготовка к ЕГЭ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1 класс часть А 18- А 2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борочные задани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МБОУ «СОШ №10» Л.В. Ваганов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ши деды и прадеды (ЗА)ТО  воевали, ЧТО(БЫ) мы жили в мире и согла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ной писатель кажется великаном (ПО)ТОМУ, что стоит (В)РОВЕНЬ с читател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 родителям относись ТАК(ЖЕ), как ты желал бы, ЧТО(БЫ) твои собственные дети относились к теб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ПО)ТОМУ , как он замолчал, а ТАК(ЖЕ) по его  виноватому взгляду, Серпилин почувствовал, что перед ним стоит человек, не умеющий защитить себ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я метода голландских художников определяющее значение имеет опыт непосредственного созерцания ( ) и реализации его в художественном образ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не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н стоял (ЗА)ТЕМ большим деревом, ЧТО(БЫ) его заметил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(ЧТО)БЫ хорошо учиться, тебе надо заниматься (ТАК)ЖЕ много, как занимаются другие ученики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ы вспомнили школьные годы. Удалось (ТАК)ЖЕ договориться (НА)СЧЁТ моей будущей работ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Мы успели отойти (ОТ)ТОГО опасного места, (ПО)ЭТОМУ сосулька упала мимо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ла грустная августовская ночь- грустная, (ПО)ТОМУ что уже пахло осенью и лето спешило (НА)ВСТРЕЧУ первым сентябрьским  холод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ВО)КРУГ беседки посадили сирень , и (В)ТЕЧЕНИЕ целого месяца мы ощущали её нежный  арома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ледует иметь (В)ВИДУ, что многие  физические явления  связаны с нагреванием, охлаждением и зависят ТАК(ЖЕ) от перехода из одного агрегатного состояния в друго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ЗА)ТЕМ поворотом стоит наша часть, (ПО)ЭТОМУ комендантские патрули  попадались нам всё чащ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редставители экспрессионизма считали любое бессознательное действие отражением психического состояния художника ( ) и в этом видели смысл изображаемо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 не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е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имним утром прилетают на берёзу тетерева ( ) и клюют её бурые серёж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 не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е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Человеческое мышление формируется с помощью языка  ( ) и  оказывается с ним прочно связанны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 не нужна запята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не нужна запята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стое предложение с однородными членами, перед союзом И запятая 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ложносочиненное предложение, перед союзом И запятая нуж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Укажите правильное объяснение постановки запятой или её отсутствия в предложени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Труд писателя- мука, но он же (1)конечно(2) и счастье. Писатель никогда не свободен, не знает полного отдыха; он и счастлив и несчастлив своим трудом в минуту, когда (3)кажется (4) и не думает о нё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) 1,2     2) 1,3     3)3,4        4) 1,2,3,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 каком варианте ответа правильно указаны все цифры, на месте которых в предложении  должны стоять запятые</a:t>
            </a:r>
            <a:r>
              <a:rPr b="0" lang="en-US" sz="25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Что обозначают диалектные слова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 Безусловно (1) многие диалектные слова  относятся к сельским реалиям: словом «голбец» (2) например (3)  в северных областях называют постройку около русской печи. Однако (4) гораздо больше таких слов (5) которые служат местными  названиями для повсеместно распространённых предмет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) 1,2,3,4     2) 1,2,3      3)3,4 ,5      4) 1,3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В каком варианте ответа правильно указаны все цифры, на месте которых в предложении  должны стоять запятые</a:t>
            </a:r>
            <a:r>
              <a:rPr b="0" lang="en-US" sz="25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амять о том, как принял его первую книгу В.Г. Белинский, осталась с Ф.М. Достоевским (1) видимо(2) навсегда. Писатель (3) исключительно(4)  с благодарностью вспоминал о восторженном  признании его таланта известным крити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) 1,2       2) 1,3             3) 3,4              4) 1,2,3,4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Тема : решение заданий части 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Цель : повторить и обобщить знания учащихся о правописании наречий, предлогов, союз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ановка знаков препинания в осложненном и сложном предложения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тог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каким орфографическим материалом  мы работали на урок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казалось более трудным для вас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виды написания союзов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ворческая работа ( 15 минут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чинение- описание ( пейзажная зарисовка) «Посмотри за окно…», включив в него прилагательные ( 25-30 слов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6"/>
          <p:cNvSpPr/>
          <p:nvPr/>
        </p:nvSpPr>
        <p:spPr>
          <a:xfrm flipH="1">
            <a:off x="1908000" y="900000"/>
            <a:ext cx="75888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5424480" y="874800"/>
            <a:ext cx="782640" cy="6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595600" y="595440"/>
            <a:ext cx="25686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ущ., прил., нареч. на о,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736560" y="1014480"/>
            <a:ext cx="10764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6194520" y="798480"/>
            <a:ext cx="15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144360" y="1357200"/>
            <a:ext cx="236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потр. без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иноним без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б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гат и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б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д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548080" y="1370160"/>
            <a:ext cx="23684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пост. с 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ш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рокая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уз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ш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рокая,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глубо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705200" y="1382760"/>
            <a:ext cx="119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алеко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все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нюдь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5891040" y="1409760"/>
            <a:ext cx="1656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чуть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сколько н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 др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ром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бсолют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ершен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резвычай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556400" y="1409760"/>
            <a:ext cx="15512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употр. в полн. фор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долж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го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604800" y="3797280"/>
            <a:ext cx="2097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3359160" y="2247840"/>
            <a:ext cx="137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2298600" y="3009960"/>
            <a:ext cx="1943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ивопост. с 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4299120" y="3021120"/>
            <a:ext cx="306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любое завис. слово, кро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ч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бсолют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ершен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рай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резвычай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203720" y="3859200"/>
            <a:ext cx="3067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не г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руженная</a:t>
            </a:r>
            <a:r>
              <a:rPr b="0" i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амнями б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7329600" y="3046320"/>
            <a:ext cx="169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ткие прич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луга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с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ш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2"/>
          <p:cNvSpPr/>
          <p:nvPr/>
        </p:nvSpPr>
        <p:spPr>
          <a:xfrm flipH="1">
            <a:off x="4571640" y="1128600"/>
            <a:ext cx="18111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3"/>
          <p:cNvSpPr/>
          <p:nvPr/>
        </p:nvSpPr>
        <p:spPr>
          <a:xfrm flipH="1">
            <a:off x="5792760" y="1116000"/>
            <a:ext cx="674640" cy="254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4"/>
          <p:cNvSpPr/>
          <p:nvPr/>
        </p:nvSpPr>
        <p:spPr>
          <a:xfrm>
            <a:off x="6550200" y="1116000"/>
            <a:ext cx="34416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6751800" y="1128600"/>
            <a:ext cx="1574640" cy="37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6"/>
          <p:cNvSpPr/>
          <p:nvPr/>
        </p:nvSpPr>
        <p:spPr>
          <a:xfrm flipH="1">
            <a:off x="1469880" y="2550960"/>
            <a:ext cx="2154240" cy="1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7"/>
          <p:cNvSpPr/>
          <p:nvPr/>
        </p:nvSpPr>
        <p:spPr>
          <a:xfrm>
            <a:off x="4314960" y="2476440"/>
            <a:ext cx="312480" cy="10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487440" y="2766960"/>
            <a:ext cx="1077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9"/>
          <p:cNvSpPr/>
          <p:nvPr/>
        </p:nvSpPr>
        <p:spPr>
          <a:xfrm>
            <a:off x="287280" y="3071880"/>
            <a:ext cx="1419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тальных случа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0"/>
          <p:cNvSpPr/>
          <p:nvPr/>
        </p:nvSpPr>
        <p:spPr>
          <a:xfrm>
            <a:off x="4359240" y="2603520"/>
            <a:ext cx="144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1"/>
          <p:cNvSpPr/>
          <p:nvPr/>
        </p:nvSpPr>
        <p:spPr>
          <a:xfrm flipH="1">
            <a:off x="3612960" y="2932200"/>
            <a:ext cx="135396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2"/>
          <p:cNvSpPr/>
          <p:nvPr/>
        </p:nvSpPr>
        <p:spPr>
          <a:xfrm>
            <a:off x="4992840" y="2932200"/>
            <a:ext cx="64584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3"/>
          <p:cNvSpPr/>
          <p:nvPr/>
        </p:nvSpPr>
        <p:spPr>
          <a:xfrm>
            <a:off x="4991040" y="2908440"/>
            <a:ext cx="2246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3365640" y="4290840"/>
            <a:ext cx="1527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лова на -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 flipH="1">
            <a:off x="1554120" y="4572000"/>
            <a:ext cx="2154240" cy="138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333360" y="4762440"/>
            <a:ext cx="16336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л. (слитно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види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H="1">
            <a:off x="3341160" y="4595760"/>
            <a:ext cx="4971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2876400" y="4869000"/>
            <a:ext cx="8398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39"/>
          <p:cNvSpPr/>
          <p:nvPr/>
        </p:nvSpPr>
        <p:spPr>
          <a:xfrm flipV="1">
            <a:off x="3638520" y="4915080"/>
            <a:ext cx="696960" cy="12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0"/>
          <p:cNvSpPr/>
          <p:nvPr/>
        </p:nvSpPr>
        <p:spPr>
          <a:xfrm>
            <a:off x="3638520" y="5130720"/>
            <a:ext cx="7444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1"/>
          <p:cNvSpPr/>
          <p:nvPr/>
        </p:nvSpPr>
        <p:spPr>
          <a:xfrm>
            <a:off x="4383000" y="466092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. сл. в твор. пад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димый м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2"/>
          <p:cNvSpPr/>
          <p:nvPr/>
        </p:nvSpPr>
        <p:spPr>
          <a:xfrm>
            <a:off x="4394160" y="5040360"/>
            <a:ext cx="45370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. сл. отрицат. мес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кем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в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дим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кем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бедимый (не употр. без 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3"/>
          <p:cNvSpPr/>
          <p:nvPr/>
        </p:nvSpPr>
        <p:spPr>
          <a:xfrm>
            <a:off x="3233880" y="5626080"/>
            <a:ext cx="2104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ееприч., глаг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272880" y="6070680"/>
            <a:ext cx="4158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ИТНО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не употребляется без 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5899320" y="6132600"/>
            <a:ext cx="157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6"/>
          <p:cNvSpPr/>
          <p:nvPr/>
        </p:nvSpPr>
        <p:spPr>
          <a:xfrm flipH="1">
            <a:off x="1801800" y="5969160"/>
            <a:ext cx="2154240" cy="139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47"/>
          <p:cNvSpPr/>
          <p:nvPr/>
        </p:nvSpPr>
        <p:spPr>
          <a:xfrm>
            <a:off x="4903920" y="5916600"/>
            <a:ext cx="1600200" cy="1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8"/>
          <p:cNvSpPr/>
          <p:nvPr/>
        </p:nvSpPr>
        <p:spPr>
          <a:xfrm>
            <a:off x="2353680" y="9432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 всеми частями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В каком предложении НЕ со словами пишется слитно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ды прилива шумели (не) умолка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тер колеблет  стебелёк с ещё (не)высохшей трав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права над лесистыми холмами сияла (не)мигающая звез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 на запрос до сих пор (не)полу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Corbel"/>
              </a:rPr>
              <a:t>В каком варианте ответа  правильно  указаны все цифры, на месте которых пишется буква Е</a:t>
            </a:r>
            <a:r>
              <a:rPr b="0" lang="en-US" sz="24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Как н(1) требовал врач завершить курс процедур, Илья к вечеру уехал из санатория, почти н(2) с кем  н(3) простившись, чтобы н(4) разжигать понапрасну обид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1,2,4     2) 2,3      3) 1,4       4) 3,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2412000" y="1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8216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писание предлогов, сою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95280" y="620640"/>
          <a:ext cx="8229600" cy="5821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же, тоже = 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тец учился в институте, дочь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ж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удет учиться.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бы = для того чтобы (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Чтобы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ыбку съесть, надо в воду лезть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о = н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ом, причё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ак (следовательно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(нареч.)   же(част.),    то(мест.)  ж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чера я учил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же, что сегодня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(мест.)  бы  (это значило?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олстое) дерев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ом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азговоре) присутствовал врач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ак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н поступал всег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11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ледств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последств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заключени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продолжени</a:t>
                      </a:r>
                      <a:r>
                        <a:rPr b="0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иде, иметь в виду, в виду города, ввиду(из-за) отъезд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чёт(= о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о, вроде, наподоб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вязи со сказанным, в(этой) связ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слитно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аневская приезжает из Парижа, ЧТО(БЫ) покаяться в грехах, а ТАК(ЖЕ) найти покой в родном име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вые несколько лет, прожитых в Вене, стали для Бетховена (ПО)ИСТИНЕ счастливейшим временем его жизни, ПОТОМУ(ЧТО) именно здесь он приобрёл настоящую известн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расть к чтению у Башкирцевой была ненасытна,(ПРИ)ТОМ пищей для её ума были (КАК)БУДТО все предме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ПО)ВИДИМОМУ, Боттичелли был учеником известного живописца Липпи, а ТАК(ЖЕ) скульптора Андреа Веррокки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7440" indent="-498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В каком предложении оба выделенных слова пишутся раздельно</a:t>
            </a: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ЧТО(БЫ) ни стряслось у администрации картины, ВСЁ(РАВНО) раздается команда: «Мотор!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Неприятности ТО(ЖЕ) составляют некоторую часть нашей жизни, их надо переживать  ТАК(ЖЕ), как рад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Собрание затянулось, последний оратор ТО(ЖЕ) хотел домой, (ПО)ЭТОМУ был крато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Имейте (В)ВИДУ: всякий раз, когда мы идём (НА)ВСТРЕЧУ неприятностям, воля укрепля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2:13:26Z</dcterms:created>
  <dc:creator>Ваганова Л.В.</dc:creator>
  <dc:description/>
  <dc:language>en-US</dc:language>
  <cp:lastModifiedBy>Наталья</cp:lastModifiedBy>
  <dcterms:modified xsi:type="dcterms:W3CDTF">2012-05-31T07:30:35Z</dcterms:modified>
  <cp:revision>14</cp:revision>
  <dc:subject/>
  <dc:title>Подготовка к ЕГЭ </dc:title>
</cp:coreProperties>
</file>