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5.png" ContentType="image/png"/>
  <Override PartName="/ppt/media/image2.gif" ContentType="image/gif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3.png" ContentType="image/png"/>
  <Override PartName="/ppt/media/image9.png" ContentType="image/png"/>
  <Override PartName="/ppt/media/image40.jpeg" ContentType="image/jpeg"/>
  <Override PartName="/ppt/media/image37.jpeg" ContentType="image/jpeg"/>
  <Override PartName="/ppt/media/image30.png" ContentType="image/png"/>
  <Override PartName="/ppt/media/image39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10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7.png" ContentType="image/png"/>
  <Override PartName="/ppt/media/image34.jpeg" ContentType="image/jpeg"/>
  <Override PartName="/ppt/media/image6.jpeg" ContentType="image/jpeg"/>
  <Override PartName="/ppt/media/image18.png" ContentType="image/png"/>
  <Override PartName="/ppt/media/image11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20.png" ContentType="image/png"/>
  <Override PartName="/ppt/media/image3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F5D-09FB-4057-BCFA-57A33B60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AB7F-511E-44F3-A9AC-8453CD77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BA9-1D3A-42D6-9093-A94E19CA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697-11AE-4DE7-A298-6B8B4E4F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BDA1-8723-4D4D-A2B0-17D7B12C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6ADD-ADDD-4C45-B1B7-B99A3E67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A358-7AD7-47E6-B215-3CF7B97B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7030-25E7-4B63-8C86-C3374987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E91E-36D8-4ED9-B009-D0D538BE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D5A-5360-4224-8B32-5D194566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0B6B-D32D-4DBF-858D-1B6EF9EE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6AF5-2D01-453C-B66B-32F29371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AAE1-D1CE-4DD8-93DE-BD1D65499E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" Target="slide3.xml"/><Relationship Id="rId7" Type="http://schemas.openxmlformats.org/officeDocument/2006/relationships/slide" Target="slide14.xml"/><Relationship Id="rId8" Type="http://schemas.openxmlformats.org/officeDocument/2006/relationships/slide" Target="slide19.xml"/><Relationship Id="rId9" Type="http://schemas.openxmlformats.org/officeDocument/2006/relationships/slide" Target="slide14.xml"/><Relationship Id="rId10" Type="http://schemas.openxmlformats.org/officeDocument/2006/relationships/slide" Target="slide3.xml"/><Relationship Id="rId11" Type="http://schemas.openxmlformats.org/officeDocument/2006/relationships/slide" Target="slide19.xm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70480" y="2421000"/>
            <a:ext cx="553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Baskerville Old Face"/>
              </a:rPr>
              <a:t>СИМВОЛ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Baskerville Old Face"/>
              </a:rPr>
              <a:t>ГОСУДАРСТВ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Baskerville Old Face"/>
              </a:rPr>
              <a:t>РОССИЙСКОГ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флаг России"/>
          <p:cNvPicPr/>
          <p:nvPr/>
        </p:nvPicPr>
        <p:blipFill>
          <a:blip r:embed="rId1"/>
          <a:stretch/>
        </p:blipFill>
        <p:spPr>
          <a:xfrm>
            <a:off x="3492360" y="404640"/>
            <a:ext cx="2374920" cy="1622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line4.gif (11519 bytes)"/>
          <p:cNvPicPr/>
          <p:nvPr/>
        </p:nvPicPr>
        <p:blipFill>
          <a:blip r:embed="rId2"/>
          <a:stretch/>
        </p:blipFill>
        <p:spPr>
          <a:xfrm>
            <a:off x="0" y="6524640"/>
            <a:ext cx="8820000" cy="14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line4.gif (11519 bytes)"/>
          <p:cNvPicPr/>
          <p:nvPr/>
        </p:nvPicPr>
        <p:blipFill>
          <a:blip r:embed="rId3"/>
          <a:stretch/>
        </p:blipFill>
        <p:spPr>
          <a:xfrm rot="5400000">
            <a:off x="5483880" y="3264480"/>
            <a:ext cx="6669000" cy="13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754920" y="3357720"/>
            <a:ext cx="806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 январе 1705 г. Пётр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 издал специальный ук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 даровании бело-сине-красного фла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коммерческим торговым суд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Этот флаг в течение полутора ве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ерой и правдой служил торговле Росс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но никогда не утверждался как государствен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rusflag"/>
          <p:cNvPicPr/>
          <p:nvPr/>
        </p:nvPicPr>
        <p:blipFill>
          <a:blip r:embed="rId1"/>
          <a:stretch/>
        </p:blipFill>
        <p:spPr>
          <a:xfrm>
            <a:off x="4500720" y="476280"/>
            <a:ext cx="3816360" cy="253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280px-Peter_der-Grosse_1838"/>
          <p:cNvPicPr/>
          <p:nvPr/>
        </p:nvPicPr>
        <p:blipFill>
          <a:blip r:embed="rId2"/>
          <a:stretch/>
        </p:blipFill>
        <p:spPr>
          <a:xfrm>
            <a:off x="1042920" y="404640"/>
            <a:ext cx="2065320" cy="26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rus_ussr"/>
          <p:cNvPicPr/>
          <p:nvPr/>
        </p:nvPicPr>
        <p:blipFill>
          <a:blip r:embed="rId1"/>
          <a:stretch/>
        </p:blipFill>
        <p:spPr>
          <a:xfrm>
            <a:off x="395280" y="2133720"/>
            <a:ext cx="4176720" cy="2274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47560" y="189000"/>
            <a:ext cx="821376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Со времени установления Совет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власти в 1917г. государственным флаг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стал флаг красного цвета с изображе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серпа и мол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080680" y="2565360"/>
            <a:ext cx="36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Этот флаг бы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государствен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до 2000г.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180px-Flag_of_Russian_SFSR_svg"/>
          <p:cNvPicPr/>
          <p:nvPr/>
        </p:nvPicPr>
        <p:blipFill>
          <a:blip r:embed="rId2"/>
          <a:stretch/>
        </p:blipFill>
        <p:spPr>
          <a:xfrm>
            <a:off x="900000" y="4797360"/>
            <a:ext cx="3240360" cy="1621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4987440" y="5197320"/>
            <a:ext cx="244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лаг РСФС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64960" y="476280"/>
            <a:ext cx="8832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 решению Государственной думы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езидента Россия вступила в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XI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в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 в третье тысячелетие с бело-сине-крас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осударственным фла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флаг России"/>
          <p:cNvPicPr/>
          <p:nvPr/>
        </p:nvPicPr>
        <p:blipFill>
          <a:blip r:embed="rId1"/>
          <a:stretch/>
        </p:blipFill>
        <p:spPr>
          <a:xfrm>
            <a:off x="2340000" y="2492280"/>
            <a:ext cx="4248000" cy="2901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458640" y="5635800"/>
            <a:ext cx="740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каждом цвете – свой смысл: белый означает свобод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иний – Богородицу, покровительствующую Росс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асный – держа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89000" y="5373720"/>
            <a:ext cx="895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22 августа отмечается Д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ff"/>
                </a:solidFill>
                <a:latin typeface="Arial"/>
              </a:rPr>
              <a:t>Государственного флага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529"/>
          <p:cNvPicPr/>
          <p:nvPr/>
        </p:nvPicPr>
        <p:blipFill>
          <a:blip r:embed="rId1"/>
          <a:stretch/>
        </p:blipFill>
        <p:spPr>
          <a:xfrm>
            <a:off x="2771640" y="2492280"/>
            <a:ext cx="3961080" cy="2638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255320" y="209520"/>
            <a:ext cx="6968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22 августа 1991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ерховный Совет РСФСР постанов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читать «полотнище из... белой, лазорев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лой полос» официальным националь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лагом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rusgerb3"/>
          <p:cNvPicPr/>
          <p:nvPr/>
        </p:nvPicPr>
        <p:blipFill>
          <a:blip r:embed="rId1"/>
          <a:stretch/>
        </p:blipFill>
        <p:spPr>
          <a:xfrm>
            <a:off x="3059280" y="0"/>
            <a:ext cx="3093840" cy="3716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0" y="3860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ерб России – двуглавый Орё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своих мощных крыльях взмывающий над стран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более четырёх столетий олицетворял нашу держа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много найдётся в мире таких долговечных гербов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 протяжении многих веков со сменой власти меня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ер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Герб России в XV веке"/>
          <p:cNvPicPr/>
          <p:nvPr/>
        </p:nvPicPr>
        <p:blipFill>
          <a:blip r:embed="rId1"/>
          <a:stretch/>
        </p:blipFill>
        <p:spPr>
          <a:xfrm>
            <a:off x="250920" y="0"/>
            <a:ext cx="2485800" cy="27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Герб России в cередине XVI века"/>
          <p:cNvPicPr/>
          <p:nvPr/>
        </p:nvPicPr>
        <p:blipFill>
          <a:blip r:embed="rId2"/>
          <a:stretch/>
        </p:blipFill>
        <p:spPr>
          <a:xfrm>
            <a:off x="3492360" y="0"/>
            <a:ext cx="2197080" cy="2852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Герб России в XVII веке"/>
          <p:cNvPicPr/>
          <p:nvPr/>
        </p:nvPicPr>
        <p:blipFill>
          <a:blip r:embed="rId3"/>
          <a:stretch/>
        </p:blipFill>
        <p:spPr>
          <a:xfrm>
            <a:off x="6156360" y="0"/>
            <a:ext cx="2622600" cy="3141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Герб России в первую четверть XVIII века"/>
          <p:cNvPicPr/>
          <p:nvPr/>
        </p:nvPicPr>
        <p:blipFill>
          <a:blip r:embed="rId4"/>
          <a:stretch/>
        </p:blipFill>
        <p:spPr>
          <a:xfrm>
            <a:off x="324000" y="3429000"/>
            <a:ext cx="2674800" cy="3097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Герб России на рубеже XVIII-XIX веков с мальтийским крестом"/>
          <p:cNvPicPr/>
          <p:nvPr/>
        </p:nvPicPr>
        <p:blipFill>
          <a:blip r:embed="rId5"/>
          <a:stretch/>
        </p:blipFill>
        <p:spPr>
          <a:xfrm>
            <a:off x="3132000" y="3429000"/>
            <a:ext cx="2660760" cy="3141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Герб России в 1-й половине XIX века"/>
          <p:cNvPicPr/>
          <p:nvPr/>
        </p:nvPicPr>
        <p:blipFill>
          <a:blip r:embed="rId6"/>
          <a:stretch/>
        </p:blipFill>
        <p:spPr>
          <a:xfrm>
            <a:off x="6156360" y="3573360"/>
            <a:ext cx="252396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Большой Государственный герб России, 1882 г."/>
          <p:cNvPicPr/>
          <p:nvPr/>
        </p:nvPicPr>
        <p:blipFill>
          <a:blip r:embed="rId1"/>
          <a:stretch/>
        </p:blipFill>
        <p:spPr>
          <a:xfrm>
            <a:off x="0" y="0"/>
            <a:ext cx="2827440" cy="3068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Малый Государственный герб России, 1883-1917 гг."/>
          <p:cNvPicPr/>
          <p:nvPr/>
        </p:nvPicPr>
        <p:blipFill>
          <a:blip r:embed="rId2"/>
          <a:stretch/>
        </p:blipFill>
        <p:spPr>
          <a:xfrm>
            <a:off x="3132000" y="0"/>
            <a:ext cx="2808360" cy="314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Герб России в 1917 году"/>
          <p:cNvPicPr/>
          <p:nvPr/>
        </p:nvPicPr>
        <p:blipFill>
          <a:blip r:embed="rId3"/>
          <a:stretch/>
        </p:blipFill>
        <p:spPr>
          <a:xfrm>
            <a:off x="6084720" y="0"/>
            <a:ext cx="3059280" cy="2906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0" y="3500280"/>
            <a:ext cx="2782800" cy="3095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132000" y="3429000"/>
            <a:ext cx="2808360" cy="309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Государственный герб Российской Федерации 1993 года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6045120" y="3257640"/>
            <a:ext cx="3098880" cy="334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256760" y="259560"/>
            <a:ext cx="65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осударственный гер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оссийской Федерации, 2000 г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Государственный герб Российской Федерации утвержденный в 2000 году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771640" y="1413000"/>
            <a:ext cx="2706840" cy="3241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324000" y="486900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нят Государственной Думой 8 декабря 2000 года 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добрен Советом Федерации 20 декабря 200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295520" y="260280"/>
            <a:ext cx="484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вуглавый Оре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имвол вечности Росс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уважения своих истор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рней и национальной ис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897120" y="2133720"/>
            <a:ext cx="75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Две головы Орла – символ необходимости защи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т врагов с Запада и Вос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900000" y="3068640"/>
            <a:ext cx="733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Три короны – кровное братство и единая исто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усского, украинского и белорусского нар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Ранее символ Святой Тро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898920" y="4437000"/>
            <a:ext cx="65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кипетр и Держава – символ незыбл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государственных устоев От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823680" y="5445000"/>
            <a:ext cx="81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Щит с Георгием Победоносцем – символ держав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еемственности России от Руси Московс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осква – собирательница и защитница земель русс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Государственный герб Российской Федерации 1993 года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042920" y="0"/>
            <a:ext cx="1805040" cy="1944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663480" y="287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BD10263_"/>
          <p:cNvPicPr/>
          <p:nvPr/>
        </p:nvPicPr>
        <p:blipFill>
          <a:blip r:embed="rId2"/>
          <a:stretch/>
        </p:blipFill>
        <p:spPr>
          <a:xfrm>
            <a:off x="395280" y="234936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BD10263_"/>
          <p:cNvPicPr/>
          <p:nvPr/>
        </p:nvPicPr>
        <p:blipFill>
          <a:blip r:embed="rId3"/>
          <a:stretch/>
        </p:blipFill>
        <p:spPr>
          <a:xfrm>
            <a:off x="395280" y="3213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BD10263_"/>
          <p:cNvPicPr/>
          <p:nvPr/>
        </p:nvPicPr>
        <p:blipFill>
          <a:blip r:embed="rId4"/>
          <a:stretch/>
        </p:blipFill>
        <p:spPr>
          <a:xfrm>
            <a:off x="395280" y="458136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BD10263_"/>
          <p:cNvPicPr/>
          <p:nvPr/>
        </p:nvPicPr>
        <p:blipFill>
          <a:blip r:embed="rId5"/>
          <a:stretch/>
        </p:blipFill>
        <p:spPr>
          <a:xfrm>
            <a:off x="395280" y="5516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BD10263_"/>
          <p:cNvPicPr/>
          <p:nvPr/>
        </p:nvPicPr>
        <p:blipFill>
          <a:blip r:embed="rId6"/>
          <a:stretch/>
        </p:blipFill>
        <p:spPr>
          <a:xfrm>
            <a:off x="3924360" y="333360"/>
            <a:ext cx="287280" cy="2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62440" y="2060640"/>
            <a:ext cx="82684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Торжественная песня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собое музыкальное произвед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тличающее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разностью литературного текс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широкой, легко запоминающейся мелоди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азмеренным, чаще маршевым ритм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еличавостью музы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435120" y="549360"/>
            <a:ext cx="206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askerville Old Face"/>
              </a:rPr>
              <a:t>ГИМ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736200" y="5464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 Black"/>
              </a:rPr>
              <a:t>СОДЕРЖАНИЕ 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ение слов (флаг, герб, гим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лаг России (из истори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рб России ( из истори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мн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356000" y="333360"/>
            <a:ext cx="4249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оже, царя хра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ильный, держав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Царствуй на слав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 славу на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Царствуй на страх враг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Царь православ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оже, царя хра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11280" y="522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герб российской империи конца 19 века"/>
          <p:cNvPicPr/>
          <p:nvPr/>
        </p:nvPicPr>
        <p:blipFill>
          <a:blip r:embed="rId1">
            <a:lum contrast="42000"/>
          </a:blip>
          <a:srcRect l="0" t="0" r="-281" b="-192"/>
          <a:stretch/>
        </p:blipFill>
        <p:spPr>
          <a:xfrm>
            <a:off x="250920" y="260280"/>
            <a:ext cx="3600360" cy="4896000"/>
          </a:xfrm>
          <a:prstGeom prst="rect">
            <a:avLst/>
          </a:prstGeom>
          <a:ln w="0">
            <a:noFill/>
          </a:ln>
        </p:spPr>
      </p:pic>
      <p:pic>
        <p:nvPicPr>
          <p:cNvPr id="137" name="17-Boje, Czarya hrani.mp3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1042200" y="5877000"/>
            <a:ext cx="77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 этим гимном Российская империя жила впло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 революции 1917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09109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avrora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400680" y="189000"/>
            <a:ext cx="707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советское время (с 1917 по 1943 г.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осударственным гимном бы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Интернационал» - международ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олетарский гим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pobeda_flag"/>
          <p:cNvPicPr/>
          <p:nvPr/>
        </p:nvPicPr>
        <p:blipFill>
          <a:blip r:embed="rId1"/>
          <a:stretch/>
        </p:blipFill>
        <p:spPr>
          <a:xfrm>
            <a:off x="179280" y="179280"/>
            <a:ext cx="8785440" cy="6499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13400" y="189000"/>
            <a:ext cx="661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узыку второго гимна СССР напис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.В. Александров. Авторами текста бы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.В. Михалков и Г.Г. Эль-Регис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417760" y="5734080"/>
            <a:ext cx="649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первые гимн прозвучал по ради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1 января 194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10644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663480" y="49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12680" y="220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79280" y="189000"/>
            <a:ext cx="775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сять лет (с 1991 и до 2001 г.г.) в качестве гим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 России исполнялась музыка из опе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.И. Глинки «Жизнь за цар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9" descr="article_1219746514_21421"/>
          <p:cNvPicPr/>
          <p:nvPr/>
        </p:nvPicPr>
        <p:blipFill>
          <a:blip r:embed="rId1"/>
          <a:stretch/>
        </p:blipFill>
        <p:spPr>
          <a:xfrm>
            <a:off x="4859280" y="2276640"/>
            <a:ext cx="3711600" cy="3860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467640" y="260280"/>
            <a:ext cx="798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января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2001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года Государственным гим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нова стало произведение с модифицированн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временным текстом С.В. Михалк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 музыку А.В. Александр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1" descr="2690627"/>
          <p:cNvPicPr/>
          <p:nvPr/>
        </p:nvPicPr>
        <p:blipFill>
          <a:blip r:embed="rId2"/>
          <a:stretch/>
        </p:blipFill>
        <p:spPr>
          <a:xfrm>
            <a:off x="324000" y="2205000"/>
            <a:ext cx="3600360" cy="40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имн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0560" y="1484280"/>
            <a:ext cx="432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ссия - священная наша держа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ссия - любимая наша страна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гучая воля, великая слава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вое достоянье на все време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авься, Отечество наше свободное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ратских народов союз веков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дками данная мудрость народ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авься, страна! Мы гордимся тобой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 южных морей до полярного кр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кинулись наши леса и по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дна ты на свете! Одна ты такая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ранимая Богом родная зем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3280" y="148428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авься, Отечество наше свободное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ратских народов союз веков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дками данная мудрость народ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авься, страна! Мы гордимся тобой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Широкий простор для мечты и для жизн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ядущие нам открывают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м силу дает наша верность Отчиз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 было, так есть и так будет всегда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авься, Отечество наше свободное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ратских народов союз веков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дками данная мудрость народ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авься, страна! Мы гордимся тобо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russia"/>
          <p:cNvPicPr/>
          <p:nvPr/>
        </p:nvPicPr>
        <p:blipFill>
          <a:blip r:embed="rId1"/>
          <a:stretch/>
        </p:blipFill>
        <p:spPr>
          <a:xfrm>
            <a:off x="900000" y="189000"/>
            <a:ext cx="1368360" cy="1260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лаг России"/>
          <p:cNvPicPr/>
          <p:nvPr/>
        </p:nvPicPr>
        <p:blipFill>
          <a:blip r:embed="rId2"/>
          <a:stretch/>
        </p:blipFill>
        <p:spPr>
          <a:xfrm>
            <a:off x="7093080" y="260280"/>
            <a:ext cx="1655640" cy="113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ые символы Родины – это часть отечественной истории, воплощение её героических и трагических страниц,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ажение многовековой жизни народов нашей страны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гордимся прошлым, настоящим и будущим своей страны. Эти государственные символы нашей Родины достались нам от предков. Какими они станут в будущем, зависит только от н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1403280" y="0"/>
            <a:ext cx="691380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ff"/>
                </a:solidFill>
                <a:latin typeface="Arial"/>
              </a:rPr>
              <a:t>Литерат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сь мир: Стран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Флаги. Гербы: справочное издание. - Минск : Харвест, 2007. - 698 с. : рис. - (Энциклопедический справочник). – (Б-3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ударственные символы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и. Герб. Флаг. Гимн : (В помощь учителям начальных классов): материалы для проведения уроков, посвящённых государственной символике России/ сост. Т. В. Шепелева. - Волгоград : Учитель, 2007. - 69 с. : рис. – (Б-2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лованова М. 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Герб, флаг, гимн России. – М. : Росмэн, 2005. – 47 с. : ил. – (ЦДБ, Б-23, 3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ударственные симв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оссии : справ. для детей / М. Голованов, В. Шергин. – М. : Росмэн, 2005. – 159 с. : ил. – (Б-6, 3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, флаг и гим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оссии. Изучение государственных символов Российской Федерации в школе : метод. реком. / сот. М. К. Антошин. – М. : Айрис-Пресс, 2004. – 73 с. – (Методика). – (ЦГБ, Б-10, 2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9. – 398 с. –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i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– (Б-1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нет ресурс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russi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-sign.h1.r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ww.constitution.ru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ymbol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index.htm www.1zoom.ru/Разное/Символы_СССР_России/t2/1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на бывает разная, но у всех она одна, а наша Родина – Россия .Страна, в которой мы родились, живём, и учим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страна мира имеет свои символы, которые отражают историю народа. 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а начало складываться триединство символов- это герб, флаг и гимн. Их ещё н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ывают символами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же представляет государственная    символика России в наше время и какой она  была раньш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line4.gif (11519 bytes)"/>
          <p:cNvPicPr/>
          <p:nvPr/>
        </p:nvPicPr>
        <p:blipFill>
          <a:blip r:embed="rId1"/>
          <a:stretch/>
        </p:blipFill>
        <p:spPr>
          <a:xfrm>
            <a:off x="0" y="6524640"/>
            <a:ext cx="8888400" cy="146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line4.gif (11519 bytes)"/>
          <p:cNvPicPr/>
          <p:nvPr/>
        </p:nvPicPr>
        <p:blipFill>
          <a:blip r:embed="rId2"/>
          <a:stretch/>
        </p:blipFill>
        <p:spPr>
          <a:xfrm rot="5400000">
            <a:off x="5488560" y="3264480"/>
            <a:ext cx="6669000" cy="13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ARROW39"/>
          <p:cNvPicPr/>
          <p:nvPr/>
        </p:nvPicPr>
        <p:blipFill>
          <a:blip r:embed="rId3"/>
          <a:stretch/>
        </p:blipFill>
        <p:spPr>
          <a:xfrm rot="3511800">
            <a:off x="5389920" y="1962720"/>
            <a:ext cx="807840" cy="428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ARROW39"/>
          <p:cNvPicPr/>
          <p:nvPr/>
        </p:nvPicPr>
        <p:blipFill>
          <a:blip r:embed="rId4"/>
          <a:stretch/>
        </p:blipFill>
        <p:spPr>
          <a:xfrm rot="7791000">
            <a:off x="2726640" y="1963080"/>
            <a:ext cx="807840" cy="428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ARROW39"/>
          <p:cNvPicPr/>
          <p:nvPr/>
        </p:nvPicPr>
        <p:blipFill>
          <a:blip r:embed="rId5"/>
          <a:stretch/>
        </p:blipFill>
        <p:spPr>
          <a:xfrm rot="5400000">
            <a:off x="4024800" y="3618720"/>
            <a:ext cx="808200" cy="4284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3"/>
          <p:cNvSpPr/>
          <p:nvPr/>
        </p:nvSpPr>
        <p:spPr>
          <a:xfrm>
            <a:off x="468360" y="620640"/>
            <a:ext cx="8064360" cy="1042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611280" y="76500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askerville Old Face"/>
              </a:rPr>
              <a:t>СИМВОЛЫ    ГОСУДАРСТВА</a:t>
            </a:r>
            <a:r>
              <a:rPr b="1" lang="ru-RU" sz="3600" spc="-1" strike="noStrike">
                <a:solidFill>
                  <a:srgbClr val="ffff00"/>
                </a:solidFill>
                <a:latin typeface="Baskerville Old Fac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>
            <a:hlinkClick r:id="rId6" action="ppaction://hlinksldjump"/>
          </p:cNvPr>
          <p:cNvSpPr/>
          <p:nvPr/>
        </p:nvSpPr>
        <p:spPr>
          <a:xfrm>
            <a:off x="755640" y="2492280"/>
            <a:ext cx="1833480" cy="863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66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6">
            <a:hlinkClick r:id="rId7" action="ppaction://hlinksldjump"/>
          </p:cNvPr>
          <p:cNvSpPr/>
          <p:nvPr/>
        </p:nvSpPr>
        <p:spPr>
          <a:xfrm>
            <a:off x="3500280" y="4357800"/>
            <a:ext cx="2016360" cy="863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66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7">
            <a:hlinkClick r:id="rId8" action="ppaction://hlinksldjump"/>
          </p:cNvPr>
          <p:cNvSpPr/>
          <p:nvPr/>
        </p:nvSpPr>
        <p:spPr>
          <a:xfrm>
            <a:off x="6227640" y="2421000"/>
            <a:ext cx="201636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6ccff"/>
              </a:gs>
              <a:gs pos="50000">
                <a:srgbClr val="66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3787560" y="4429080"/>
            <a:ext cx="1346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Baskerville Old Face"/>
                <a:hlinkClick r:id="rId9" action="ppaction://hlinksldjump"/>
              </a:rPr>
              <a:t>ГЕР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826920" y="2565360"/>
            <a:ext cx="2016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Baskerville Old Face"/>
                <a:hlinkClick r:id="rId10" action="ppaction://hlinksldjump"/>
              </a:rPr>
              <a:t>ФЛ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6424920" y="2565360"/>
            <a:ext cx="16725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Baskerville Old Face"/>
                <a:hlinkClick r:id="rId11" action="ppaction://hlinksldjump"/>
              </a:rPr>
              <a:t>ГИМ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547640" y="0"/>
            <a:ext cx="2365560" cy="3213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лаг - это одноцветное или нескольких цветов полотнище определенного размера, одной стороной прикрепленное к древку или шнуру(обычно с эмблемой страны или государства).Употр.как символ государства, нации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4716360" y="0"/>
            <a:ext cx="221148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рб –   эмблема, отличительный знак государства, города, сословия, рода и т.п., изображаемый на знаменах, монетах, бланках, печатях и т.п. Гимн-торжественная песня или мелодия как символ  какого-либо государства, какой-либо парти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лаг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ременный флаг, несмотря на древнее происхождение был воссоздан не давно, около 10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 назад. До этого наша страна называла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СФСР. Она была одной из республик огромного государства-ССС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529"/>
          <p:cNvPicPr/>
          <p:nvPr/>
        </p:nvPicPr>
        <p:blipFill>
          <a:blip r:embed="rId1"/>
          <a:stretch/>
        </p:blipFill>
        <p:spPr>
          <a:xfrm>
            <a:off x="2411280" y="3645000"/>
            <a:ext cx="468000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Alex"/>
          <p:cNvPicPr/>
          <p:nvPr/>
        </p:nvPicPr>
        <p:blipFill>
          <a:blip r:embed="rId1"/>
          <a:stretch/>
        </p:blipFill>
        <p:spPr>
          <a:xfrm>
            <a:off x="5508720" y="2708280"/>
            <a:ext cx="2781360" cy="1295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favor"/>
          <p:cNvPicPr/>
          <p:nvPr/>
        </p:nvPicPr>
        <p:blipFill>
          <a:blip r:embed="rId2"/>
          <a:stretch/>
        </p:blipFill>
        <p:spPr>
          <a:xfrm>
            <a:off x="324000" y="1989000"/>
            <a:ext cx="2388960" cy="2395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Groz1"/>
          <p:cNvPicPr/>
          <p:nvPr/>
        </p:nvPicPr>
        <p:blipFill>
          <a:blip r:embed="rId3"/>
          <a:stretch/>
        </p:blipFill>
        <p:spPr>
          <a:xfrm>
            <a:off x="611280" y="4797360"/>
            <a:ext cx="2743200" cy="1428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spas_2"/>
          <p:cNvPicPr/>
          <p:nvPr/>
        </p:nvPicPr>
        <p:blipFill>
          <a:blip r:embed="rId4"/>
          <a:stretch/>
        </p:blipFill>
        <p:spPr>
          <a:xfrm>
            <a:off x="6804000" y="981000"/>
            <a:ext cx="1374840" cy="15908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187920" y="6308640"/>
            <a:ext cx="481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тяг «Всемилостивейшего Спаса» (15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4505400" y="5589720"/>
            <a:ext cx="42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ликий стяг Ивана Грозного (15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2"/>
          <p:cNvPicPr/>
          <p:nvPr/>
        </p:nvPicPr>
        <p:blipFill>
          <a:blip r:embed="rId5"/>
          <a:srcRect l="0" t="0" r="4363" b="2634"/>
          <a:stretch/>
        </p:blipFill>
        <p:spPr>
          <a:xfrm>
            <a:off x="5003640" y="4149720"/>
            <a:ext cx="3167280" cy="1351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mold04"/>
          <p:cNvPicPr/>
          <p:nvPr/>
        </p:nvPicPr>
        <p:blipFill>
          <a:blip r:embed="rId6"/>
          <a:stretch/>
        </p:blipFill>
        <p:spPr>
          <a:xfrm>
            <a:off x="3276720" y="2276640"/>
            <a:ext cx="1593720" cy="2481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2"/>
          <p:cNvSpPr/>
          <p:nvPr/>
        </p:nvSpPr>
        <p:spPr>
          <a:xfrm>
            <a:off x="448200" y="135000"/>
            <a:ext cx="826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диного национального флага в допетровской Ру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 существовало. С древних времён на знамё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еликих князей изображались свят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ики Христа и Богород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249552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ндреевский флаг является главным корабель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рмовым флагом Российского Флота.  Он представл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бой белое полотнище, пересеченное по диагон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вумя синими полосами, которые образуют накло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ест, который называется Андреевским. Этот крест и дал имя флаг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130px-Naval_Ensign_of_Russia"/>
          <p:cNvPicPr/>
          <p:nvPr/>
        </p:nvPicPr>
        <p:blipFill>
          <a:blip r:embed="rId1"/>
          <a:stretch/>
        </p:blipFill>
        <p:spPr>
          <a:xfrm>
            <a:off x="539640" y="404640"/>
            <a:ext cx="3024360" cy="2024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3851280" y="333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вел Петр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180px-Presencio-SanAndres"/>
          <p:cNvPicPr/>
          <p:nvPr/>
        </p:nvPicPr>
        <p:blipFill>
          <a:blip r:embed="rId2"/>
          <a:stretch/>
        </p:blipFill>
        <p:spPr>
          <a:xfrm>
            <a:off x="6659640" y="189000"/>
            <a:ext cx="2286000" cy="2235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03:12:26Z</dcterms:created>
  <dc:creator/>
  <dc:description/>
  <dc:language>en-US</dc:language>
  <cp:lastModifiedBy>MOУ СОШ №8</cp:lastModifiedBy>
  <dcterms:modified xsi:type="dcterms:W3CDTF">2012-03-20T09:12:32Z</dcterms:modified>
  <cp:revision>37</cp:revision>
  <dc:subject/>
  <dc:title>Слайд 1</dc:title>
</cp:coreProperties>
</file>