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4A33-5D68-42EE-ADA7-5D5A1B2E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77F4-66CA-4C54-A845-352D63E3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35C4-528F-42C7-9FF7-B61CB56D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C1AA-652C-4A83-AAE8-78D3B2F1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C0B0-DCF2-4847-A5D1-DBEB705D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AEC-0A36-4191-8453-49F31C6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AB78-5523-433C-A486-47912EC7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288D-628F-4C9E-B8D8-D36571C0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427A-828D-4174-B6D7-2AA01BF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B26F-E7EE-475D-889E-DD5F4170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0EAA-37D8-4D54-8B09-77C82064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A6894-493B-4B00-BDDF-E1555A7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1312-9A3F-4A10-A1C9-D00AD8E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5BA5-1350-42D1-BA3B-5DE7F4B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104D-67B3-4B1E-B7E2-AC85A8E2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7CE6-8FF8-47E0-B2E0-B41AD266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A7C8-C4F6-484A-8163-31DDC889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14F9-2D0C-4776-A959-332B2845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9512-444F-4A6A-9F22-F7E5948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5FED3-697C-4F9D-ADA3-A9ADB115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DA22-5CEB-4A94-B88E-D14254E7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7664-411C-48CF-BB50-B047A0DA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FDBE-C1ED-43A9-973C-F96AC6C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555B1-1B27-45BC-B5AA-C0C7AAEE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7FE8-F441-4DA6-B579-2DAAA81CC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7F2C-C985-4FD2-BD8A-8A36B1C68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920" y="1828440"/>
            <a:ext cx="694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Космос: вчера и сегодн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боту подготовила кл.руководитель 7В кла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опатина Светлана Николае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смический му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Согласно документу, на орбите находится 12 тысяч 851 крупный объект искусственного происхождения, из которых 3 тысяч 190 работающих и вышедших из строя спутников и 9 тысяч 661 ступень ракет и другой космический мусор"/>
          <p:cNvPicPr/>
          <p:nvPr/>
        </p:nvPicPr>
        <p:blipFill>
          <a:blip r:embed="rId1"/>
          <a:stretch/>
        </p:blipFill>
        <p:spPr>
          <a:xfrm>
            <a:off x="539640" y="1844640"/>
            <a:ext cx="3816360" cy="316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оличество частиц космического мусора размером от 1 до 10 см - свыше 200 тысяч"/>
          <p:cNvPicPr/>
          <p:nvPr/>
        </p:nvPicPr>
        <p:blipFill>
          <a:blip r:embed="rId2"/>
          <a:stretch/>
        </p:blipFill>
        <p:spPr>
          <a:xfrm>
            <a:off x="4859280" y="1916280"/>
            <a:ext cx="374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к рак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Картинка 118 из 5829"/>
          <p:cNvPicPr/>
          <p:nvPr/>
        </p:nvPicPr>
        <p:blipFill>
          <a:blip r:embed="rId1"/>
          <a:stretch/>
        </p:blipFill>
        <p:spPr>
          <a:xfrm>
            <a:off x="4716360" y="1557360"/>
            <a:ext cx="3959280" cy="468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195 из 5829"/>
          <p:cNvPicPr/>
          <p:nvPr/>
        </p:nvPicPr>
        <p:blipFill>
          <a:blip r:embed="rId2"/>
          <a:stretch/>
        </p:blipFill>
        <p:spPr>
          <a:xfrm>
            <a:off x="0" y="1557360"/>
            <a:ext cx="41241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космического кораб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Картинка 267 из 5829"/>
          <p:cNvPicPr/>
          <p:nvPr/>
        </p:nvPicPr>
        <p:blipFill>
          <a:blip r:embed="rId1"/>
          <a:stretch/>
        </p:blipFill>
        <p:spPr>
          <a:xfrm>
            <a:off x="0" y="1341360"/>
            <a:ext cx="5052960" cy="3886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59280" y="4000680"/>
            <a:ext cx="40957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Картинка 291 из 5829"/>
          <p:cNvPicPr/>
          <p:nvPr/>
        </p:nvPicPr>
        <p:blipFill>
          <a:blip r:embed="rId1"/>
          <a:stretch/>
        </p:blipFill>
        <p:spPr>
          <a:xfrm>
            <a:off x="900000" y="98100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Картинка 457 из 5829"/>
          <p:cNvPicPr/>
          <p:nvPr/>
        </p:nvPicPr>
        <p:blipFill>
          <a:blip r:embed="rId1"/>
          <a:stretch/>
        </p:blipFill>
        <p:spPr>
          <a:xfrm>
            <a:off x="826920" y="1268280"/>
            <a:ext cx="7705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 праздник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Картинка 189 из 5829"/>
          <p:cNvPicPr/>
          <p:nvPr/>
        </p:nvPicPr>
        <p:blipFill>
          <a:blip r:embed="rId1"/>
          <a:stretch/>
        </p:blipFill>
        <p:spPr>
          <a:xfrm>
            <a:off x="1619280" y="1700280"/>
            <a:ext cx="63212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вое живое существо, побывавшее в космос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Первое живое существо, побывавшее в космосе"/>
          <p:cNvPicPr/>
          <p:nvPr/>
        </p:nvPicPr>
        <p:blipFill>
          <a:blip r:embed="rId1"/>
          <a:stretch/>
        </p:blipFill>
        <p:spPr>
          <a:xfrm>
            <a:off x="2152800" y="2019240"/>
            <a:ext cx="4838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ый человек в космо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90 из 5829"/>
          <p:cNvPicPr/>
          <p:nvPr/>
        </p:nvPicPr>
        <p:blipFill>
          <a:blip r:embed="rId1"/>
          <a:stretch/>
        </p:blipFill>
        <p:spPr>
          <a:xfrm>
            <a:off x="971640" y="1981080"/>
            <a:ext cx="525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й Алексеевич Гага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251 из 5829"/>
          <p:cNvPicPr/>
          <p:nvPr/>
        </p:nvPicPr>
        <p:blipFill>
          <a:blip r:embed="rId1"/>
          <a:stretch/>
        </p:blipFill>
        <p:spPr>
          <a:xfrm>
            <a:off x="1908000" y="1557360"/>
            <a:ext cx="504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Картинка 339 из 5829"/>
          <p:cNvPicPr/>
          <p:nvPr/>
        </p:nvPicPr>
        <p:blipFill>
          <a:blip r:embed="rId1"/>
          <a:stretch/>
        </p:blipFill>
        <p:spPr>
          <a:xfrm>
            <a:off x="1187280" y="1557360"/>
            <a:ext cx="6480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ЧЕМ ПИТАЮТСЯ В КОСМОСЕ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file2129.jpg"/>
          <p:cNvPicPr/>
          <p:nvPr/>
        </p:nvPicPr>
        <p:blipFill>
          <a:blip r:embed="rId1"/>
          <a:stretch/>
        </p:blipFill>
        <p:spPr>
          <a:xfrm>
            <a:off x="6227640" y="4005360"/>
            <a:ext cx="3454560" cy="2293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2541960"/>
            <a:ext cx="62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результатам дегустаций составляется меню рассчитанное на 8-дневный цикл — спустя 8 дней меню повторяется.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осмонавтов четырехразовое питание. Меню строго расписано, лишнего есть нельзя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ычно в состав меню входят: бородинский хлеб, медовые коврижки, ветчина, азу, свинина в кисло-сладком соусе, говядина под майонезом, цыпленок жареный в желе, перепела, судак, сыр, осетрина, зелёные щи и борщ, творог, котлеты с картофельным пюре, клубника, печенье, шоколад, чай и коф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десерт космонавты любят заказывать творог с орехами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1037794.jpg"/>
          <p:cNvPicPr/>
          <p:nvPr/>
        </p:nvPicPr>
        <p:blipFill>
          <a:blip r:embed="rId1"/>
          <a:stretch/>
        </p:blipFill>
        <p:spPr>
          <a:xfrm>
            <a:off x="395280" y="2276640"/>
            <a:ext cx="3438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image.jpeg"/>
          <p:cNvPicPr/>
          <p:nvPr/>
        </p:nvPicPr>
        <p:blipFill>
          <a:blip r:embed="rId2"/>
          <a:stretch/>
        </p:blipFill>
        <p:spPr>
          <a:xfrm>
            <a:off x="4500720" y="2133720"/>
            <a:ext cx="3527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рогая 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10076066.jpg"/>
          <p:cNvPicPr/>
          <p:nvPr/>
        </p:nvPicPr>
        <p:blipFill>
          <a:blip r:embed="rId1"/>
          <a:stretch/>
        </p:blipFill>
        <p:spPr>
          <a:xfrm>
            <a:off x="108000" y="155736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79.jpg"/>
          <p:cNvPicPr/>
          <p:nvPr/>
        </p:nvPicPr>
        <p:blipFill>
          <a:blip r:embed="rId2"/>
          <a:stretch/>
        </p:blipFill>
        <p:spPr>
          <a:xfrm>
            <a:off x="5048280" y="3362400"/>
            <a:ext cx="4095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ход в открытый косм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809880" cy="2527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1905120" cy="2886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700360" y="4437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41:23Z</dcterms:created>
  <dc:creator>1</dc:creator>
  <dc:description/>
  <dc:language>en-US</dc:language>
  <cp:lastModifiedBy>1</cp:lastModifiedBy>
  <dcterms:modified xsi:type="dcterms:W3CDTF">2011-04-12T07:06:25Z</dcterms:modified>
  <cp:revision>2</cp:revision>
  <dc:subject/>
  <dc:title>Космос: вчера и сегодня</dc:title>
</cp:coreProperties>
</file>