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6ED4-0FE3-43EA-9495-9A4D9304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CFF73-F2D2-41C3-84EC-35E4999B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76BC3-9845-4046-8943-D9595A0B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965A-9478-4ED1-B88E-20935D54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F340-95D3-4D77-862B-A20880FD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5B35-8403-48CD-B59C-339C02B4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3D78-7F02-4433-AD06-D2707A7D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E311-8680-444E-BD50-253F6D4C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A8B6-DC12-455E-883B-4799C528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D972-3C8A-4F33-923B-81EC808F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0E52-AA2D-4F77-BA12-719787FD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87A9-DE74-4D8C-B868-FF069C7C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ED97-6CF7-483C-90FE-78873C42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9852-22E4-45AB-AA49-5192AF1C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BDF8-A5C4-4B8B-972A-819CAA72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BF8F-1022-48B1-B18D-8243C6BD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46F4-880E-4DDD-A6E2-AC68F219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4349-A6D0-4189-A051-B73DF195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0EE9-94F0-4B4D-8489-12DD0AF2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7501-F0D0-4936-B5F4-1E0E01FC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C9E1-2D34-46B0-ADF2-99368556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8419-F396-4D4E-9109-EF449969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F77F-AF37-48F4-8C42-9D4A2DEE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AA0D-C6C7-4B35-BC89-2B585C7E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60A0-7B9E-46C4-AA4A-102524318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4677-F026-4AD6-B392-C0518B9AF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0920" y="1828440"/>
            <a:ext cx="694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Космос: вчера и сегодня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боту подготовила кл.руководитель 7В кла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опатина Светлана Николае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смический му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Согласно документу, на орбите находится 12 тысяч 851 крупный объект искусственного происхождения, из которых 3 тысяч 190 работающих и вышедших из строя спутников и 9 тысяч 661 ступень ракет и другой космический мусор"/>
          <p:cNvPicPr/>
          <p:nvPr/>
        </p:nvPicPr>
        <p:blipFill>
          <a:blip r:embed="rId1"/>
          <a:stretch/>
        </p:blipFill>
        <p:spPr>
          <a:xfrm>
            <a:off x="539640" y="184464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оличество частиц космического мусора размером от 1 до 10 см - свыше 200 тысяч"/>
          <p:cNvPicPr/>
          <p:nvPr/>
        </p:nvPicPr>
        <p:blipFill>
          <a:blip r:embed="rId2"/>
          <a:stretch/>
        </p:blipFill>
        <p:spPr>
          <a:xfrm>
            <a:off x="4859280" y="1916280"/>
            <a:ext cx="3745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к рак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Картинка 118 из 5829"/>
          <p:cNvPicPr/>
          <p:nvPr/>
        </p:nvPicPr>
        <p:blipFill>
          <a:blip r:embed="rId1"/>
          <a:stretch/>
        </p:blipFill>
        <p:spPr>
          <a:xfrm>
            <a:off x="4716360" y="1557360"/>
            <a:ext cx="3959280" cy="468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195 из 5829"/>
          <p:cNvPicPr/>
          <p:nvPr/>
        </p:nvPicPr>
        <p:blipFill>
          <a:blip r:embed="rId2"/>
          <a:stretch/>
        </p:blipFill>
        <p:spPr>
          <a:xfrm>
            <a:off x="0" y="1557360"/>
            <a:ext cx="41241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космического кораб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Картинка 267 из 5829"/>
          <p:cNvPicPr/>
          <p:nvPr/>
        </p:nvPicPr>
        <p:blipFill>
          <a:blip r:embed="rId1"/>
          <a:stretch/>
        </p:blipFill>
        <p:spPr>
          <a:xfrm>
            <a:off x="0" y="1341360"/>
            <a:ext cx="5052960" cy="3886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59280" y="4000680"/>
            <a:ext cx="4095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Картинка 291 из 5829"/>
          <p:cNvPicPr/>
          <p:nvPr/>
        </p:nvPicPr>
        <p:blipFill>
          <a:blip r:embed="rId1"/>
          <a:stretch/>
        </p:blipFill>
        <p:spPr>
          <a:xfrm>
            <a:off x="900000" y="981000"/>
            <a:ext cx="7559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Картинка 457 из 5829"/>
          <p:cNvPicPr/>
          <p:nvPr/>
        </p:nvPicPr>
        <p:blipFill>
          <a:blip r:embed="rId1"/>
          <a:stretch/>
        </p:blipFill>
        <p:spPr>
          <a:xfrm>
            <a:off x="826920" y="1268280"/>
            <a:ext cx="7705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праздник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Картинка 189 из 5829"/>
          <p:cNvPicPr/>
          <p:nvPr/>
        </p:nvPicPr>
        <p:blipFill>
          <a:blip r:embed="rId1"/>
          <a:stretch/>
        </p:blipFill>
        <p:spPr>
          <a:xfrm>
            <a:off x="1619280" y="1700280"/>
            <a:ext cx="632124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ое живое существо, побывавшее в космос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Первое живое существо, побывавшее в космосе"/>
          <p:cNvPicPr/>
          <p:nvPr/>
        </p:nvPicPr>
        <p:blipFill>
          <a:blip r:embed="rId1"/>
          <a:stretch/>
        </p:blipFill>
        <p:spPr>
          <a:xfrm>
            <a:off x="2152800" y="2019240"/>
            <a:ext cx="4838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ый человек в космо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90 из 5829"/>
          <p:cNvPicPr/>
          <p:nvPr/>
        </p:nvPicPr>
        <p:blipFill>
          <a:blip r:embed="rId1"/>
          <a:stretch/>
        </p:blipFill>
        <p:spPr>
          <a:xfrm>
            <a:off x="971640" y="1981080"/>
            <a:ext cx="5256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Юрий Алексеевич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Картинка 251 из 5829"/>
          <p:cNvPicPr/>
          <p:nvPr/>
        </p:nvPicPr>
        <p:blipFill>
          <a:blip r:embed="rId1"/>
          <a:stretch/>
        </p:blipFill>
        <p:spPr>
          <a:xfrm>
            <a:off x="1908000" y="1557360"/>
            <a:ext cx="504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Картинка 339 из 5829"/>
          <p:cNvPicPr/>
          <p:nvPr/>
        </p:nvPicPr>
        <p:blipFill>
          <a:blip r:embed="rId1"/>
          <a:stretch/>
        </p:blipFill>
        <p:spPr>
          <a:xfrm>
            <a:off x="1187280" y="1557360"/>
            <a:ext cx="6480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М ПИТАЮТСЯ В КОСМОС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file2129.jpg"/>
          <p:cNvPicPr/>
          <p:nvPr/>
        </p:nvPicPr>
        <p:blipFill>
          <a:blip r:embed="rId1"/>
          <a:stretch/>
        </p:blipFill>
        <p:spPr>
          <a:xfrm>
            <a:off x="6227640" y="4005360"/>
            <a:ext cx="3454560" cy="2293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5280" y="2541960"/>
            <a:ext cx="62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результатам дегустаций составляется меню рассчитанное на 8-дневный цикл — спустя 8 дней меню повторяется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космонавтов четырехразовое питание. Меню строго расписано, лишнего есть нельзя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ычно в состав меню входят: бородинский хлеб, медовые коврижки, ветчина, азу, свинина в кисло-сладком соусе, говядина под майонезом, цыпленок жареный в желе, перепела, судак, сыр, осетрина, зелёные щи и борщ, творог, котлеты с картофельным пюре, клубника, печенье, шоколад, чай и коф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есерт космонавты любят заказывать творог с орехами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1037794.jpg"/>
          <p:cNvPicPr/>
          <p:nvPr/>
        </p:nvPicPr>
        <p:blipFill>
          <a:blip r:embed="rId1"/>
          <a:stretch/>
        </p:blipFill>
        <p:spPr>
          <a:xfrm>
            <a:off x="395280" y="2276640"/>
            <a:ext cx="3438360" cy="2376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image.jpeg"/>
          <p:cNvPicPr/>
          <p:nvPr/>
        </p:nvPicPr>
        <p:blipFill>
          <a:blip r:embed="rId2"/>
          <a:stretch/>
        </p:blipFill>
        <p:spPr>
          <a:xfrm>
            <a:off x="4500720" y="2133720"/>
            <a:ext cx="3527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рогая 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10076066.jpg"/>
          <p:cNvPicPr/>
          <p:nvPr/>
        </p:nvPicPr>
        <p:blipFill>
          <a:blip r:embed="rId1"/>
          <a:stretch/>
        </p:blipFill>
        <p:spPr>
          <a:xfrm>
            <a:off x="108000" y="155736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79.jpg"/>
          <p:cNvPicPr/>
          <p:nvPr/>
        </p:nvPicPr>
        <p:blipFill>
          <a:blip r:embed="rId2"/>
          <a:stretch/>
        </p:blipFill>
        <p:spPr>
          <a:xfrm>
            <a:off x="5048280" y="3362400"/>
            <a:ext cx="4095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ход в открытый косм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09880" cy="2527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1905120" cy="2886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700360" y="4437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6:41:23Z</dcterms:created>
  <dc:creator>1</dc:creator>
  <dc:description/>
  <dc:language>en-US</dc:language>
  <cp:lastModifiedBy>1</cp:lastModifiedBy>
  <dcterms:modified xsi:type="dcterms:W3CDTF">2011-04-12T07:06:25Z</dcterms:modified>
  <cp:revision>2</cp:revision>
  <dc:subject/>
  <dc:title>Космос: вчера и сегодня</dc:title>
</cp:coreProperties>
</file>