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768-39B6-4A22-B9EF-1A367667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A2B7-C2BB-427E-B403-CE3668C8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13A-A9CA-4BD7-8D2A-05CEB9C4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B82-81E0-433E-89A8-D0EC5758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AA6C-83DF-4EAF-B2F5-EF5BC0C2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5EB5-4201-4043-BD7E-8B449427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6B02-D5F7-4B54-AA7D-A4000202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0ECC-5A72-4240-8AD4-64C14E2F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3CB2-950A-490C-BDFE-DC6C7877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7D49-D2F9-43E5-9CF5-E83507B6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056D-61EB-4B91-B942-B9B4D19F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DBAD-D660-4786-AF7F-C1DF6C6D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9C0A-D967-49E1-92A1-E4CAB4C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1545-BE1C-42CE-9D83-B57E736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1DE2-4A40-413D-AFE0-1F3801CB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4925-F41D-4108-91E9-CD39FF74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508D-A3BC-4AC2-9484-EB934812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4CD58-9751-4FA8-AC61-D992C968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CEE52-3A1C-4556-909C-A031AC47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1A04-CB60-4333-976B-32533C0F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5AAB2-A727-47AC-9DE1-8BA1AA11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78833-66D6-47BD-9DEB-14E20830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08D-AE9D-4548-8CBA-61604B9E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5A58-F7AB-4C63-8563-6BF5BF6D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AC63-6030-463B-AC86-742DC20B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3CD6-45BE-41DA-B0FE-498E988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88ECF-DA44-443B-8270-7421D127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1D38-7C30-4945-A3B0-382DA984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B862-499A-4727-91DD-1F98B7E7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0A97-2BDF-4451-84F3-196EAA90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3934C-20D7-4A62-B3F4-622BF7E4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0A572-9C64-4771-8066-AA55F435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F0FA4-1BA3-4201-96CF-F941D023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225-8105-46A6-9B2B-BE91B684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A9B90-1FD3-4A2E-B063-A1718DD8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4411C-BE74-459D-A6E2-A0BEC8A3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AD0B8-DA6E-4938-A8F2-BBD8DC80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2BDF-B03A-42C9-BD34-B8850BF2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9FDF6-4537-433D-9355-CE4751A7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F09AF-D821-4255-BD29-DB5DD3F8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80C8-2B21-4000-8E9F-61B5885E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8BC6D-41E0-4B17-AF6A-7971FFB7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9EA68-FF67-419A-884B-77B4135E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2B129-5123-45CC-9217-4A4C19E6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158-424B-4257-A233-1E2BADA3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BC4A-6361-4B0C-A6A1-6366B3C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DF2B7-8F00-40A1-8C87-9BE4F24D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982C2-61AC-405B-B0EE-24F2039B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834F1-9B49-4BF7-88DB-9A756C3A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6ED82-8158-496A-8B2C-DB4486B9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86C4-98F5-437D-BB79-22A46CF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5011F-7B1B-4CF4-8A2F-54991116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D0C66-794D-4338-AE37-F1AD3D1B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82FF4-7194-497F-99FD-116927E5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9110-3403-4C3B-AAAD-E64F62D6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091-B3E8-41E1-800F-CE97B521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0C3EC-1242-47A6-82D6-ED6B3902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B602A-EE17-41C4-A805-74230E4F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1DA6B-85A4-446A-B217-DBC86F55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52B18-3B56-42CF-B6D5-C2DC0A69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3ADC8-E3D4-4155-BDA1-6D550552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8107E-0DDB-4DC7-9E42-8E2B90D0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B13D8-53E0-4856-9DDF-81393784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B211A-A361-4129-8617-DA8E862D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B4C31-6EEE-4D38-92B7-1B3A54C0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4BE59-22FE-4C3F-AFFB-024CBA36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497-2346-4785-A582-5ABF3C6F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06611-03B7-4E0E-9BE9-BA598B35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92161-A321-45D4-86D5-BAE713C6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83485-7BFF-4DE2-9189-788F681E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170B6-6F07-4402-A59E-9D479805F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7E96C-197D-4CB1-9D8F-C8FA59E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D14DF-BD1B-4A03-B5AF-8F549F83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1AC0-7D7F-4A56-A106-FB2A6DE8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A8948-8B4C-488B-BDDD-0525A537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0B09-81F8-4F4B-8700-778D864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12EDE-8E43-4B5E-A9D7-157AA334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2CB-9A2F-4DF6-AFDB-0D1C722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F8E29-2C4F-4119-8906-FD91643C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0AE88-0FB0-4AD4-941D-90AE1609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235F9-BE0D-4FBC-852D-A919369C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6746F-213C-442C-9720-8ADDC1F4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B453-9A26-4046-8886-A6ECBD1F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DC175-9E4E-415D-9B69-2D876227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3596D-ACDC-4F77-8882-D43EAB28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54654-73A0-4438-80D4-DA8DFBC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7BC53-AFA3-49F3-B0ED-DE3D0582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AE79-FBCD-4E44-8623-30235983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747-DA06-49C1-BAFB-E6697204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C6EB-4FA0-4F24-8331-DB2C913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6EC26-264A-41EB-B51F-048F09B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F8FC5-DB7D-43F0-9AB6-EDD9BB04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7DE7A-F59C-42FC-A51F-40AF3FB5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50B9E-160F-4DAE-B7B8-40F73DD6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81956-E65D-4C01-B72B-D2312E40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12519-CA1F-4EF3-8D87-821012EC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BCB7-B93E-458B-BC36-1C5DDE1CFB7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8FBD-5A63-4581-AF56-5ECCAD08DF5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8422-4CC7-432F-B3AD-0481D4EEDEE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EB34-3293-4D23-9424-10536240C2D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1543-1356-45C3-866A-7F00726A319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1C0-EF93-47D0-BC9D-9E19D6FCE20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52F4-F40E-4AE5-9DCC-C7D067AFE99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0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C3F7-BF99-4495-9D71-391E87594FD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WordArt 5" descr=""/>
          <p:cNvPicPr/>
          <p:nvPr/>
        </p:nvPicPr>
        <p:blipFill>
          <a:blip r:embed="rId1"/>
          <a:stretch/>
        </p:blipFill>
        <p:spPr>
          <a:xfrm>
            <a:off x="463680" y="1047600"/>
            <a:ext cx="8076960" cy="5389560"/>
          </a:xfrm>
          <a:prstGeom prst="rect">
            <a:avLst/>
          </a:prstGeom>
          <a:ln w="0">
            <a:noFill/>
          </a:ln>
        </p:spPr>
      </p:pic>
      <p:sp>
        <p:nvSpPr>
          <p:cNvPr id="353" name="WordArt 6"/>
          <p:cNvSpPr txBox="1"/>
          <p:nvPr/>
        </p:nvSpPr>
        <p:spPr>
          <a:xfrm>
            <a:off x="3143160" y="357120"/>
            <a:ext cx="5486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Я лиру посвятил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роду своему ...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4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usadba-nekrasova"/>
          <p:cNvPicPr/>
          <p:nvPr/>
        </p:nvPicPr>
        <p:blipFill>
          <a:blip r:embed="rId2"/>
          <a:stretch/>
        </p:blipFill>
        <p:spPr>
          <a:xfrm>
            <a:off x="457200" y="1760400"/>
            <a:ext cx="7238880" cy="45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7b"/>
          <p:cNvPicPr/>
          <p:nvPr/>
        </p:nvPicPr>
        <p:blipFill>
          <a:blip r:embed="rId1"/>
          <a:stretch/>
        </p:blipFill>
        <p:spPr>
          <a:xfrm>
            <a:off x="1908000" y="333360"/>
            <a:ext cx="5256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nekrasov02"/>
          <p:cNvPicPr/>
          <p:nvPr/>
        </p:nvPicPr>
        <p:blipFill>
          <a:blip r:embed="rId2"/>
          <a:stretch/>
        </p:blipFill>
        <p:spPr>
          <a:xfrm>
            <a:off x="1728720" y="1609560"/>
            <a:ext cx="4695840" cy="4846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nekrasov02"/>
          <p:cNvPicPr/>
          <p:nvPr/>
        </p:nvPicPr>
        <p:blipFill>
          <a:blip r:embed="rId3"/>
          <a:stretch/>
        </p:blipFill>
        <p:spPr>
          <a:xfrm>
            <a:off x="2050920" y="16002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WordArt 4"/>
          <p:cNvSpPr txBox="1"/>
          <p:nvPr/>
        </p:nvSpPr>
        <p:spPr>
          <a:xfrm>
            <a:off x="1476360" y="189000"/>
            <a:ext cx="635004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следние годы жизн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А. Некрас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80" name="Picture 5" descr="index_pic 1"/>
          <p:cNvPicPr/>
          <p:nvPr/>
        </p:nvPicPr>
        <p:blipFill>
          <a:blip r:embed="rId1"/>
          <a:stretch/>
        </p:blipFill>
        <p:spPr>
          <a:xfrm>
            <a:off x="1908000" y="1762200"/>
            <a:ext cx="584856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2"/>
          <p:cNvPicPr/>
          <p:nvPr/>
        </p:nvPicPr>
        <p:blipFill>
          <a:blip r:embed="rId1"/>
          <a:srcRect l="0" t="0" r="0" b="68"/>
          <a:stretch/>
        </p:blipFill>
        <p:spPr>
          <a:xfrm>
            <a:off x="468360" y="189000"/>
            <a:ext cx="4997520" cy="59767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5"/>
          <p:cNvSpPr/>
          <p:nvPr/>
        </p:nvSpPr>
        <p:spPr>
          <a:xfrm>
            <a:off x="5508720" y="549360"/>
            <a:ext cx="338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расов умер 27 декабря 1877 (8 января 1878) года в Петербурге. Несмотря на сильный мороз, многотысячная толпа провожала тело поэта от дома на Литейном проспекте до места вечного его успокоения на кладбище Новодевичьего монасты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4" descr="index_pic"/>
          <p:cNvPicPr/>
          <p:nvPr/>
        </p:nvPicPr>
        <p:blipFill>
          <a:blip r:embed="rId1"/>
          <a:stretch/>
        </p:blipFill>
        <p:spPr>
          <a:xfrm>
            <a:off x="2411280" y="0"/>
            <a:ext cx="4202280" cy="61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55" name="WordArt 5"/>
          <p:cNvSpPr txBox="1"/>
          <p:nvPr/>
        </p:nvSpPr>
        <p:spPr>
          <a:xfrm>
            <a:off x="3132000" y="6308640"/>
            <a:ext cx="2448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21 - 1876г.</a:t>
            </a:r>
            <a:endParaRPr b="1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1789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ские и юношеские года поэт провел здесь, в своем родовом поместь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но состояло из большого неуклюжего дома, за ним в глубине сада стоял небольшой двухэтажный флигелек – музыкантская. За усадьбой была псарн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7" name="Picture 13" descr="IMG_4557"/>
          <p:cNvPicPr/>
          <p:nvPr/>
        </p:nvPicPr>
        <p:blipFill>
          <a:blip r:embed="rId1"/>
          <a:stretch/>
        </p:blipFill>
        <p:spPr>
          <a:xfrm>
            <a:off x="4211640" y="2349360"/>
            <a:ext cx="4764240" cy="32515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4"/>
          <p:cNvSpPr/>
          <p:nvPr/>
        </p:nvSpPr>
        <p:spPr>
          <a:xfrm>
            <a:off x="4863240" y="587700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узыкантская в Грешн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15"/>
          <p:cNvSpPr txBox="1"/>
          <p:nvPr/>
        </p:nvSpPr>
        <p:spPr>
          <a:xfrm>
            <a:off x="250920" y="549360"/>
            <a:ext cx="8642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ство и юность Н. А.Некрас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Алексей Сергеевич Некрасов, отец поэта"/>
          <p:cNvPicPr/>
          <p:nvPr/>
        </p:nvPicPr>
        <p:blipFill>
          <a:blip r:embed="rId1"/>
          <a:stretch/>
        </p:blipFill>
        <p:spPr>
          <a:xfrm>
            <a:off x="2411280" y="333360"/>
            <a:ext cx="4362480" cy="571500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361" name="Rectangle 5"/>
          <p:cNvSpPr/>
          <p:nvPr/>
        </p:nvSpPr>
        <p:spPr>
          <a:xfrm>
            <a:off x="1177560" y="6093000"/>
            <a:ext cx="70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Сергеевич Некрасов, отец поэта. Фото 1850-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80520" cy="1152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IMG_4553"/>
          <p:cNvPicPr/>
          <p:nvPr/>
        </p:nvPicPr>
        <p:blipFill>
          <a:blip r:embed="rId2"/>
          <a:stretch/>
        </p:blipFill>
        <p:spPr>
          <a:xfrm>
            <a:off x="179280" y="1557360"/>
            <a:ext cx="4746600" cy="3994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932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ым замечательным местом в имении был большой сад, который к сожалению не сохранился, как и многое другое в имении поэт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349200" y="5805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ека Самарка на окраине Грешн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6"/>
          <p:cNvSpPr txBox="1"/>
          <p:nvPr/>
        </p:nvSpPr>
        <p:spPr>
          <a:xfrm>
            <a:off x="395280" y="1268280"/>
            <a:ext cx="842472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ечты и звуки" (1840г.)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ервый подражательный сборни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тихов Н.А. Некрасов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Vissarion_Belinsky_by_K_Gorbunov_1843"/>
          <p:cNvPicPr/>
          <p:nvPr/>
        </p:nvPicPr>
        <p:blipFill>
          <a:blip r:embed="rId1"/>
          <a:stretch/>
        </p:blipFill>
        <p:spPr>
          <a:xfrm>
            <a:off x="468360" y="476280"/>
            <a:ext cx="4597200" cy="57610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368" name="Text Box 5"/>
          <p:cNvSpPr/>
          <p:nvPr/>
        </p:nvSpPr>
        <p:spPr>
          <a:xfrm>
            <a:off x="5076720" y="1773360"/>
            <a:ext cx="3745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ий  критик пом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.А. Некрасову «найти себ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20840" y="438120"/>
            <a:ext cx="725472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Н"/>
          <p:cNvPicPr/>
          <p:nvPr/>
        </p:nvPicPr>
        <p:blipFill>
          <a:blip r:embed="rId1"/>
          <a:srcRect l="0" t="0" r="0" b="48"/>
          <a:stretch/>
        </p:blipFill>
        <p:spPr>
          <a:xfrm>
            <a:off x="2627280" y="981000"/>
            <a:ext cx="4741920" cy="55450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2414160" y="6491160"/>
            <a:ext cx="50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А. Некрасов. Рисунок И. Петровского. 18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6"/>
          <p:cNvSpPr txBox="1"/>
          <p:nvPr/>
        </p:nvSpPr>
        <p:spPr>
          <a:xfrm>
            <a:off x="900000" y="260280"/>
            <a:ext cx="777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А. Некрасов в 50-е годы</a:t>
            </a:r>
            <a:endParaRPr b="1" lang="en-US" sz="1800" spc="1" strike="noStrike">
              <a:ln w="28440">
                <a:solidFill>
                  <a:srgbClr val="00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14:57Z</dcterms:created>
  <dc:creator>Дима</dc:creator>
  <dc:description>rusedu.ru</dc:description>
  <dc:language>en-US</dc:language>
  <cp:lastModifiedBy>Учитель</cp:lastModifiedBy>
  <dcterms:modified xsi:type="dcterms:W3CDTF">2012-03-29T07:20:43Z</dcterms:modified>
  <cp:revision>26</cp:revision>
  <dc:subject/>
  <dc:title>Биография Некрас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7000000000001024140</vt:lpwstr>
  </property>
</Properties>
</file>