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C10-1C00-4A86-81BE-608A03B8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E9C-DA1F-4E12-928B-31FF8C48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ADE-98F5-423D-A9AF-5BA953AF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944-041E-4664-837B-6FAF4BBB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282B-2DDE-40B2-8CA9-0158A674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FB5E-C65E-423D-A45B-0F9E9A9D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5D36-53FB-40AC-BB8D-DE9BBA5F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F1DF-2E48-4752-85D6-0C3484A9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04C2-6E5E-48FA-860C-B94B841D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C1E9-A1C8-4CA5-9773-784CD847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EB39-9808-46A1-8DEF-B4A2381F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430-AC1B-4450-BE0B-B896C7B4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A6B2-4C1C-4618-92C8-6C9229CD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4A3C-00DA-49A4-BA3B-AFF179D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BF38-04F6-4678-A15D-FC1D5217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2CBF-5544-4759-9490-B7B299C3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0E55-7069-45B6-B5BC-F4921985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0589-5948-444C-A64E-414B71EF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07F72-8667-4585-A6BB-901B6FF9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8C81-ADAA-40AC-9AEE-9B2BE3F9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0DF4-AFB4-4A4B-BF25-9584042C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6EF0-270D-47D0-9075-8D4C1E4A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F3F-4548-4C84-8137-B87F2154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DD3B1-3298-475C-8916-6527A5D6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5847-52FC-4051-ADBB-384EB322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9E96-71E5-4B1A-8D7E-1D7A9459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07C0-613D-403E-BA42-2428DBC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6ABC-5609-4D1E-BE6D-463A9B2D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806E-EBB1-4E72-A36A-237EF691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9E32D-BDB9-437D-B60E-8CA67827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A264-50D9-4AAE-8C85-E905D8F7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B7C1-04CA-4BB7-8F90-C60EBDF5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4F89F-24F5-4E2D-B191-C3151BE0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F4A-D4D5-4ED8-91FF-CEFD57C1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E097-C57B-4235-8943-68774731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57378-C463-4C38-B85D-C6856566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86CC-A140-4D68-894D-873414CE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1D7E-9772-4F23-A4EB-26B13BC9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3A2B3-6DDD-4456-B2C2-C83DF908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062C-83BD-4862-A453-D3238328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D451-FEB9-4301-8543-3769AA47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A3C45-D706-4329-859B-66F13944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705E5-5B8C-4AA0-AEBF-EE36A61A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6E658-BA80-4B34-8D70-791B57CC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923-09E1-4B1F-BE0D-EC7CE848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7BF37-8096-4E47-8A47-CBF9864A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F843B-23A6-48E9-AE35-F85B3461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2A42D-A17E-4267-923B-7B7C9502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73E2C-5D17-4ADF-9100-71540B30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CEC8B-4EC9-4DB9-BC8C-4AD67BCE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76F0B-EFDF-43BE-8F55-1EB9596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0B1C8-7C04-4A8B-AA31-73B3A278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0DD5-838B-46F5-B449-53CEB3E1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24921-78B1-4231-B0D5-441721F8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ECD3-D26F-42EB-A6E5-08F530AE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333-2B2B-498B-BA6F-5194B3BC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8263-B23C-4FA7-9490-1942FF0E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4E43D-8679-4EF7-A3AF-1F69953E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5880F-5A22-4FAF-A8D4-7B50F93C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FC6C8-637A-4A6F-843A-153B9A76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489D5-9A66-48C5-AD45-580B95A8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731B4-9B67-4B55-89AF-794D7D4A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E8E08-466E-4E3A-84BD-F3FF5A41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A1FF1-821B-4317-A823-F77984CE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92420-DCB3-4AE7-B8DA-47DD3709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E6A41-290F-4708-8E07-5282AE4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744-5FFC-4C1F-BD28-4F42F8E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C26D9-2FDA-4711-929F-82EDB29D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E9E65-C6AC-40E5-B21B-523A2233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47994-AFD0-40B2-9EB8-BB6C3916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C7EDB-2F07-4BF9-B48A-0675F8B8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73999-C564-4B87-9650-0DC999B4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12BF7-6FF7-4F1A-A1A3-F45FFA11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EDCF0-2B36-4318-8822-AB404D77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BB7FE-928B-4149-8CBD-1E6DD2CC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9C00A-FBC9-4035-BC89-63892353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96770-B5A5-48B5-8464-EB2700E2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3C7-DFE4-435C-B148-C99795E3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1701E-6279-4113-A2D7-2205DFC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35453-3999-4399-B309-26B2D3AE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7BA1-1D52-4145-A5B4-ED06047C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6ED31-8683-412B-B412-C251E4E6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AB253-C937-402A-A3A4-E3AD2ED2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2BDEC-B29A-4541-8E94-D93F0202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26130-1AA8-4BE8-8C1F-650DA832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BE9FD-79E9-48AD-BC58-209A7623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AF2AB-3153-417E-940F-D2D2FF78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CF9F0-DE9E-45B6-A6A0-16784CE4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E52-CA93-4EAD-9654-231EC26B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41559-5BB4-4A52-B7D1-1DC860D1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841C2-354C-4483-A471-9BADA3F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B8EC0-66B3-4740-BACE-6F1034FC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AB741-2B5A-4467-8E71-BA4FA9E5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73ABD-8A66-4780-9CC6-B739B1A0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504F4-6B37-4392-886B-BCD76570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31BE3-FCF7-4B63-B857-356D5000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0F26-224E-472C-B5DB-31BB5747EF2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BDBD-E54D-4F31-83A3-6B9989EDB52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F3CE-029E-42B7-A73B-F222A4F3FE1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2793-0A17-485B-B55B-79175F23102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A93-1A05-4CB6-960E-5DD678CAAC9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975F-4E7E-48CE-9429-43ABD15368E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62FD-7C11-4D2E-AE11-99300A86E6B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0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54BE-BFA0-4F91-A563-8647548F95C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WordArt 5" descr=""/>
          <p:cNvPicPr/>
          <p:nvPr/>
        </p:nvPicPr>
        <p:blipFill>
          <a:blip r:embed="rId1"/>
          <a:stretch/>
        </p:blipFill>
        <p:spPr>
          <a:xfrm>
            <a:off x="463680" y="1047600"/>
            <a:ext cx="8076960" cy="5389560"/>
          </a:xfrm>
          <a:prstGeom prst="rect">
            <a:avLst/>
          </a:prstGeom>
          <a:ln w="0">
            <a:noFill/>
          </a:ln>
        </p:spPr>
      </p:pic>
      <p:sp>
        <p:nvSpPr>
          <p:cNvPr id="353" name="WordArt 6"/>
          <p:cNvSpPr txBox="1"/>
          <p:nvPr/>
        </p:nvSpPr>
        <p:spPr>
          <a:xfrm>
            <a:off x="3143160" y="357120"/>
            <a:ext cx="5486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Я лиру посвятил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роду своему ...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4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usadba-nekrasova"/>
          <p:cNvPicPr/>
          <p:nvPr/>
        </p:nvPicPr>
        <p:blipFill>
          <a:blip r:embed="rId2"/>
          <a:stretch/>
        </p:blipFill>
        <p:spPr>
          <a:xfrm>
            <a:off x="457200" y="1760400"/>
            <a:ext cx="7238880" cy="45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7b"/>
          <p:cNvPicPr/>
          <p:nvPr/>
        </p:nvPicPr>
        <p:blipFill>
          <a:blip r:embed="rId1"/>
          <a:stretch/>
        </p:blipFill>
        <p:spPr>
          <a:xfrm>
            <a:off x="1908000" y="333360"/>
            <a:ext cx="5256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3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nekrasov02"/>
          <p:cNvPicPr/>
          <p:nvPr/>
        </p:nvPicPr>
        <p:blipFill>
          <a:blip r:embed="rId2"/>
          <a:stretch/>
        </p:blipFill>
        <p:spPr>
          <a:xfrm>
            <a:off x="1728720" y="1609560"/>
            <a:ext cx="4695840" cy="4846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nekrasov02"/>
          <p:cNvPicPr/>
          <p:nvPr/>
        </p:nvPicPr>
        <p:blipFill>
          <a:blip r:embed="rId3"/>
          <a:stretch/>
        </p:blipFill>
        <p:spPr>
          <a:xfrm>
            <a:off x="2050920" y="16002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WordArt 4"/>
          <p:cNvSpPr txBox="1"/>
          <p:nvPr/>
        </p:nvSpPr>
        <p:spPr>
          <a:xfrm>
            <a:off x="1476360" y="189000"/>
            <a:ext cx="6350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следние годы жизн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А. Некрас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80" name="Picture 5" descr="index_pic 1"/>
          <p:cNvPicPr/>
          <p:nvPr/>
        </p:nvPicPr>
        <p:blipFill>
          <a:blip r:embed="rId1"/>
          <a:stretch/>
        </p:blipFill>
        <p:spPr>
          <a:xfrm>
            <a:off x="1908000" y="1762200"/>
            <a:ext cx="5848560" cy="5095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2"/>
          <p:cNvPicPr/>
          <p:nvPr/>
        </p:nvPicPr>
        <p:blipFill>
          <a:blip r:embed="rId1"/>
          <a:srcRect l="0" t="0" r="0" b="68"/>
          <a:stretch/>
        </p:blipFill>
        <p:spPr>
          <a:xfrm>
            <a:off x="468360" y="189000"/>
            <a:ext cx="4997520" cy="5976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5508720" y="549360"/>
            <a:ext cx="338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расов умер 27 декабря 1877 (8 января 1878) года в Петербурге. Несмотря на сильный мороз, многотысячная толпа провожала тело поэта от дома на Литейном проспекте до места вечного его успокоения на кладбище Новодевичьего монасты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index_pic"/>
          <p:cNvPicPr/>
          <p:nvPr/>
        </p:nvPicPr>
        <p:blipFill>
          <a:blip r:embed="rId1"/>
          <a:stretch/>
        </p:blipFill>
        <p:spPr>
          <a:xfrm>
            <a:off x="2411280" y="0"/>
            <a:ext cx="4202280" cy="61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55" name="WordArt 5"/>
          <p:cNvSpPr txBox="1"/>
          <p:nvPr/>
        </p:nvSpPr>
        <p:spPr>
          <a:xfrm>
            <a:off x="3132000" y="6308640"/>
            <a:ext cx="2448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21 - 1876г.</a:t>
            </a:r>
            <a:endParaRPr b="1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7892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ские и юношеские года поэт провел здесь, в своем родовом поместь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о состояло из большого неуклюжего дома, за ним в глубине сада стоял небольшой двухэтажный флигелек – музыкантская. За усадьбой была псарн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7" name="Picture 13" descr="IMG_4557"/>
          <p:cNvPicPr/>
          <p:nvPr/>
        </p:nvPicPr>
        <p:blipFill>
          <a:blip r:embed="rId1"/>
          <a:stretch/>
        </p:blipFill>
        <p:spPr>
          <a:xfrm>
            <a:off x="4211640" y="2349360"/>
            <a:ext cx="4764240" cy="32515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4"/>
          <p:cNvSpPr/>
          <p:nvPr/>
        </p:nvSpPr>
        <p:spPr>
          <a:xfrm>
            <a:off x="4863240" y="587700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узыкантская в Грешн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15"/>
          <p:cNvSpPr txBox="1"/>
          <p:nvPr/>
        </p:nvSpPr>
        <p:spPr>
          <a:xfrm>
            <a:off x="250920" y="549360"/>
            <a:ext cx="8642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тство и юность Н. А.Некрас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Алексей Сергеевич Некрасов, отец поэта"/>
          <p:cNvPicPr/>
          <p:nvPr/>
        </p:nvPicPr>
        <p:blipFill>
          <a:blip r:embed="rId1"/>
          <a:stretch/>
        </p:blipFill>
        <p:spPr>
          <a:xfrm>
            <a:off x="2411280" y="333360"/>
            <a:ext cx="4362480" cy="57150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361" name="Rectangle 5"/>
          <p:cNvSpPr/>
          <p:nvPr/>
        </p:nvSpPr>
        <p:spPr>
          <a:xfrm>
            <a:off x="1177560" y="6093000"/>
            <a:ext cx="70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Сергеевич Некрасов, отец поэта. Фото 1850-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80520" cy="1152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IMG_4553"/>
          <p:cNvPicPr/>
          <p:nvPr/>
        </p:nvPicPr>
        <p:blipFill>
          <a:blip r:embed="rId2"/>
          <a:stretch/>
        </p:blipFill>
        <p:spPr>
          <a:xfrm>
            <a:off x="179280" y="1557360"/>
            <a:ext cx="4746600" cy="3994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мым замечательным местом в имении был большой сад, который к сожалению не сохранился, как и многое другое в имении поэт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349200" y="5805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ка Самарка на окраине Греш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6"/>
          <p:cNvSpPr txBox="1"/>
          <p:nvPr/>
        </p:nvSpPr>
        <p:spPr>
          <a:xfrm>
            <a:off x="395280" y="1268280"/>
            <a:ext cx="8424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ечты и звуки" (1840г.)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вый подражательный сборни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ихов Н.А. Некрасо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Vissarion_Belinsky_by_K_Gorbunov_1843"/>
          <p:cNvPicPr/>
          <p:nvPr/>
        </p:nvPicPr>
        <p:blipFill>
          <a:blip r:embed="rId1"/>
          <a:stretch/>
        </p:blipFill>
        <p:spPr>
          <a:xfrm>
            <a:off x="468360" y="476280"/>
            <a:ext cx="4597200" cy="57610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368" name="Text Box 5"/>
          <p:cNvSpPr/>
          <p:nvPr/>
        </p:nvSpPr>
        <p:spPr>
          <a:xfrm>
            <a:off x="5076720" y="1773360"/>
            <a:ext cx="3745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ий  критик пом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у «найти себ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20840" y="438120"/>
            <a:ext cx="725472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Н"/>
          <p:cNvPicPr/>
          <p:nvPr/>
        </p:nvPicPr>
        <p:blipFill>
          <a:blip r:embed="rId1"/>
          <a:srcRect l="0" t="0" r="0" b="48"/>
          <a:stretch/>
        </p:blipFill>
        <p:spPr>
          <a:xfrm>
            <a:off x="2627280" y="981000"/>
            <a:ext cx="4741920" cy="55450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2414160" y="6491160"/>
            <a:ext cx="50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А. Некрасов. Рисунок И. Петровского. 18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6"/>
          <p:cNvSpPr txBox="1"/>
          <p:nvPr/>
        </p:nvSpPr>
        <p:spPr>
          <a:xfrm>
            <a:off x="900000" y="260280"/>
            <a:ext cx="777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А. Некрасов в 50-е годы</a:t>
            </a:r>
            <a:endParaRPr b="1" lang="en-US" sz="1800" spc="1" strike="noStrike">
              <a:ln w="28440">
                <a:solidFill>
                  <a:srgbClr val="00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14:57Z</dcterms:created>
  <dc:creator>Дима</dc:creator>
  <dc:description>rusedu.ru</dc:description>
  <dc:language>en-US</dc:language>
  <cp:lastModifiedBy>Учитель</cp:lastModifiedBy>
  <dcterms:modified xsi:type="dcterms:W3CDTF">2012-03-29T07:20:43Z</dcterms:modified>
  <cp:revision>26</cp:revision>
  <dc:subject/>
  <dc:title>Биография Некрас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7000000000001024140</vt:lpwstr>
  </property>
</Properties>
</file>