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F2D2-E2E9-438F-BEB1-8C6AA7418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63F3-1954-4ACF-B94D-902A7A7E96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08F-8B45-4BE3-8C95-359DD091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081-AC79-4D5C-B5D5-62E1F1B1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3F1-25BE-4FD7-B639-BC2E2E92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169-5E00-473A-B1CF-DA14D992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4B9D5-0B05-472A-80D4-DF015537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F74CC-0247-4298-BA5D-7EF5A623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79BD3-13B0-461A-8819-4A972A6D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E7C02-AC4B-41D6-A62B-D90A1E89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19DF5-3B3C-481C-8535-6276D168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537AC-3482-4FFE-976F-5F4674A9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70455-699C-4173-99D9-FFEBDB61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5FB-65C1-4291-A245-1B5A8447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C8CD2-735F-4EF8-85E8-653C07C6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6EE4F-0AF5-4DBE-B1CC-5C999D8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B5F7E-BCB5-4654-AECC-DAEFD6C5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FD233-43A1-4BB1-8512-2D762674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14B78-D9DF-4170-886C-95A4CECC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3A9-02A5-4445-8A49-E381120B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0BE-E379-47E2-B190-43008B58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40B-65CA-4F78-BFF8-2944836A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987-A60D-4F01-9798-6E0B5F7B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E42-E30E-4611-9BF3-71406B4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603-2E6C-44F7-8359-AF9A75D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7A8-44E5-42C7-9E80-F1EE3729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C9A5-75ED-4E51-8B38-4EC81B1B4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39F9-2BB9-4C30-A9E5-BA6ECA1C96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971640" y="836640"/>
            <a:ext cx="76438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cc"/>
                </a:solidFill>
                <a:latin typeface="Arial"/>
              </a:rPr>
              <a:t>Презентация разработана для 1 урока </a:t>
            </a:r>
            <a:r>
              <a:rPr b="0" lang="en-US" sz="4800" spc="-1" strike="noStrike">
                <a:solidFill>
                  <a:srgbClr val="00ffcc"/>
                </a:solidFill>
                <a:latin typeface="Arial"/>
              </a:rPr>
              <a:t>II </a:t>
            </a:r>
            <a:r>
              <a:rPr b="0" lang="ru-RU" sz="4800" spc="-1" strike="noStrike">
                <a:solidFill>
                  <a:srgbClr val="00ffcc"/>
                </a:solidFill>
                <a:latin typeface="Arial"/>
              </a:rPr>
              <a:t>раздела «Пишем письма друзьям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cc"/>
                </a:solidFill>
                <a:latin typeface="Arial"/>
              </a:rPr>
              <a:t>учебника«</a:t>
            </a:r>
            <a:r>
              <a:rPr b="0" lang="en-US" sz="4800" spc="-1" strike="noStrike">
                <a:solidFill>
                  <a:srgbClr val="00ffcc"/>
                </a:solidFill>
                <a:latin typeface="Arial"/>
              </a:rPr>
              <a:t>Enjoy English</a:t>
            </a:r>
            <a:r>
              <a:rPr b="0" lang="ru-RU" sz="4800" spc="-1" strike="noStrike">
                <a:solidFill>
                  <a:srgbClr val="00ffcc"/>
                </a:solidFill>
                <a:latin typeface="Arial"/>
              </a:rPr>
              <a:t>» (3 класс)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Иксанова М.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500040" y="28584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5572080" y="428760"/>
            <a:ext cx="25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1835280" y="3284640"/>
            <a:ext cx="471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1205280" y="142884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 Cond"/>
              </a:rPr>
              <a:t>[</a:t>
            </a:r>
            <a:r>
              <a:rPr b="0" lang="en-US" sz="4400" spc="-1" strike="noStrike">
                <a:solidFill>
                  <a:srgbClr val="c00000"/>
                </a:solidFill>
                <a:latin typeface="Franklin Gothic Medium Cond"/>
              </a:rPr>
              <a:t>ei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3846600" y="214200"/>
            <a:ext cx="10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5775120" y="1428840"/>
            <a:ext cx="103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 Cond"/>
              </a:rPr>
              <a:t>[</a:t>
            </a:r>
            <a:r>
              <a:rPr b="0" lang="en-US" sz="4400" spc="-1" strike="noStrike">
                <a:solidFill>
                  <a:srgbClr val="008000"/>
                </a:solidFill>
                <a:latin typeface="Franklin Gothic Medium Cond"/>
              </a:rPr>
              <a:t>æ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857160" y="2500200"/>
            <a:ext cx="242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g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5715000" y="2500200"/>
            <a:ext cx="242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Прямая со стрелкой 7"/>
          <p:cNvCxnSpPr/>
          <p:nvPr/>
        </p:nvCxnSpPr>
        <p:spPr>
          <a:xfrm flipH="1">
            <a:off x="2214000" y="1000080"/>
            <a:ext cx="1929240" cy="57240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" name="Прямая со стрелкой 8"/>
          <p:cNvCxnSpPr/>
          <p:nvPr/>
        </p:nvCxnSpPr>
        <p:spPr>
          <a:xfrm>
            <a:off x="4500360" y="999720"/>
            <a:ext cx="1572120" cy="42948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 rot="10800000">
            <a:off x="1142640" y="906840"/>
            <a:ext cx="121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 Cond"/>
              </a:rPr>
              <a:t>[</a:t>
            </a:r>
            <a:r>
              <a:rPr b="0" lang="el-GR" sz="3600" spc="-1" strike="noStrike">
                <a:solidFill>
                  <a:srgbClr val="c00000"/>
                </a:solidFill>
                <a:latin typeface="Franklin Gothic Medium Cond"/>
              </a:rPr>
              <a:t>Ω</a:t>
            </a:r>
            <a:r>
              <a:rPr b="0" lang="en-US" sz="4400" spc="-1" strike="noStrike">
                <a:solidFill>
                  <a:srgbClr val="c00000"/>
                </a:solidFill>
                <a:latin typeface="Franklin Gothic Medium Cond"/>
              </a:rPr>
              <a:t> e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3864240" y="214200"/>
            <a:ext cx="111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 rot="10800000">
            <a:off x="5852160" y="1505520"/>
            <a:ext cx="88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 Cond"/>
              </a:rPr>
              <a:t>[</a:t>
            </a:r>
            <a:r>
              <a:rPr b="1" lang="en-US" sz="4400" spc="-1" strike="noStrike">
                <a:solidFill>
                  <a:srgbClr val="008000"/>
                </a:solidFill>
                <a:latin typeface="Monotype Corsiva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857160" y="2500200"/>
            <a:ext cx="306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m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c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envel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5715000" y="2500200"/>
            <a:ext cx="242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ff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Прямая со стрелкой 7"/>
          <p:cNvCxnSpPr/>
          <p:nvPr/>
        </p:nvCxnSpPr>
        <p:spPr>
          <a:xfrm flipH="1">
            <a:off x="2214000" y="1000080"/>
            <a:ext cx="1929240" cy="57240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4" name="Прямая со стрелкой 8"/>
          <p:cNvCxnSpPr/>
          <p:nvPr/>
        </p:nvCxnSpPr>
        <p:spPr>
          <a:xfrm>
            <a:off x="4500360" y="999720"/>
            <a:ext cx="1572120" cy="42948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428760" y="135720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Замечание к следующему слай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ы отработать порядковые числительные с названиями месяцев, на уроке совершается путешествие на планету Необычная. Каждый месяц на этой планете длится 100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2532600" y="0"/>
            <a:ext cx="21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1 - </a:t>
            </a:r>
            <a:r>
              <a:rPr b="1" lang="en-US" sz="9600" spc="-1" strike="noStrike">
                <a:solidFill>
                  <a:srgbClr val="ffffff"/>
                </a:solidFill>
                <a:latin typeface="Calibri"/>
              </a:rPr>
              <a:t>f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4000680" y="2143080"/>
            <a:ext cx="201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alibri"/>
              </a:rPr>
              <a:t>[з: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Прямая со стрелкой 5"/>
          <p:cNvCxnSpPr/>
          <p:nvPr/>
        </p:nvCxnSpPr>
        <p:spPr>
          <a:xfrm flipH="1">
            <a:off x="5002920" y="1267920"/>
            <a:ext cx="2520" cy="856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9" name="Прямая соединительная линия 8"/>
          <p:cNvSpPr/>
          <p:nvPr/>
        </p:nvSpPr>
        <p:spPr>
          <a:xfrm>
            <a:off x="4788000" y="1268280"/>
            <a:ext cx="500040" cy="18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237960" y="5229360"/>
            <a:ext cx="159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th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4067280" y="52293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of </a:t>
            </a:r>
            <a:r>
              <a:rPr b="1" lang="en-US" sz="7200" spc="-1" strike="noStrike">
                <a:solidFill>
                  <a:srgbClr val="008000"/>
                </a:solidFill>
                <a:latin typeface="Calibri"/>
              </a:rPr>
              <a:t>J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anuar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1979640" y="494172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alibri"/>
              </a:rPr>
              <a:t>7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1908000" y="4581360"/>
            <a:ext cx="2071800" cy="2000520"/>
          </a:xfrm>
          <a:prstGeom prst="rect">
            <a:avLst/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5435640" y="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</a:rPr>
              <a:t>s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4643280" y="0"/>
            <a:ext cx="10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alibri"/>
              </a:rPr>
              <a:t>ir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1285920" y="257184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57120" y="257184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357120" y="221472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714680" y="1500120"/>
            <a:ext cx="30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2000160" y="278604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643040" y="407196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785960" y="42876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ck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5724360" y="2997360"/>
            <a:ext cx="259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2"/>
          <p:cNvSpPr/>
          <p:nvPr/>
        </p:nvSpPr>
        <p:spPr>
          <a:xfrm>
            <a:off x="357120" y="257184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286000" y="164304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928880" y="3643200"/>
            <a:ext cx="350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5715000" y="3286080"/>
            <a:ext cx="259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2"/>
          <p:cNvSpPr/>
          <p:nvPr/>
        </p:nvSpPr>
        <p:spPr>
          <a:xfrm>
            <a:off x="357120" y="235728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500120" y="14292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00120" y="1571760"/>
            <a:ext cx="37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1643040" y="2928960"/>
            <a:ext cx="28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785880" y="4572000"/>
            <a:ext cx="45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5643720" y="2928960"/>
            <a:ext cx="286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METASK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ОМАШНЕЕ ЗАДАНИ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00040" y="2214720"/>
            <a:ext cx="7429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СЛОВА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– наизус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у. 2 стр. 17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– чита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РТ у. 1,2 стр. 6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- писа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357120" y="14292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ЗВУ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071960" y="1428840"/>
            <a:ext cx="1785960" cy="27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en-US" sz="6600" spc="-1" strike="noStrike">
                <a:solidFill>
                  <a:srgbClr val="008000"/>
                </a:solidFill>
                <a:latin typeface="Calibri"/>
              </a:rPr>
              <a:t>d</a:t>
            </a:r>
            <a:r>
              <a:rPr b="1" lang="en-US" sz="9600" spc="-1" strike="noStrike" baseline="-25000">
                <a:solidFill>
                  <a:srgbClr val="008000"/>
                </a:solidFill>
                <a:latin typeface="Calibri"/>
              </a:rPr>
              <a:t>З</a:t>
            </a: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714240" y="3429000"/>
            <a:ext cx="335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J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uar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073760" y="4857840"/>
            <a:ext cx="190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J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n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6286680" y="357192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J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l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Прямая со стрелкой 12"/>
          <p:cNvCxnSpPr/>
          <p:nvPr/>
        </p:nvCxnSpPr>
        <p:spPr>
          <a:xfrm flipH="1">
            <a:off x="1142280" y="2714760"/>
            <a:ext cx="3715560" cy="10008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5" name="Прямая со стрелкой 17"/>
          <p:cNvCxnSpPr/>
          <p:nvPr/>
        </p:nvCxnSpPr>
        <p:spPr>
          <a:xfrm>
            <a:off x="4856760" y="2714760"/>
            <a:ext cx="1080" cy="23580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6" name="Прямая со стрелкой 20"/>
          <p:cNvCxnSpPr/>
          <p:nvPr/>
        </p:nvCxnSpPr>
        <p:spPr>
          <a:xfrm>
            <a:off x="4857840" y="2714400"/>
            <a:ext cx="1929600" cy="114372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sol_00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217" name="WordArt 3"/>
          <p:cNvSpPr txBox="1"/>
          <p:nvPr/>
        </p:nvSpPr>
        <p:spPr>
          <a:xfrm>
            <a:off x="214200" y="214200"/>
            <a:ext cx="89298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Bookman Old Style"/>
              </a:rPr>
              <a:t>THANK YOU FOR THE LESSON !</a:t>
            </a:r>
            <a:endParaRPr b="1" i="1" lang="en-US" sz="4000" spc="1" strike="noStrike">
              <a:ln w="1584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214200" y="428760"/>
            <a:ext cx="1405080" cy="1643040"/>
          </a:xfrm>
          <a:prstGeom prst="rect">
            <a:avLst/>
          </a:prstGeom>
          <a:solidFill>
            <a:srgbClr val="00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n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Равнобедренный треугольник 4"/>
          <p:cNvSpPr/>
          <p:nvPr/>
        </p:nvSpPr>
        <p:spPr>
          <a:xfrm>
            <a:off x="1835280" y="260280"/>
            <a:ext cx="1500120" cy="17859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192480" y="1046160"/>
            <a:ext cx="6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Arial Black"/>
              </a:rPr>
              <a:t>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4261320" y="1052640"/>
            <a:ext cx="488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7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J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uary.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15"/>
          <p:cNvSpPr/>
          <p:nvPr/>
        </p:nvSpPr>
        <p:spPr>
          <a:xfrm>
            <a:off x="5724360" y="476280"/>
            <a:ext cx="1714680" cy="1643040"/>
          </a:xfrm>
          <a:prstGeom prst="ellipse">
            <a:avLst/>
          </a:prstGeom>
          <a:solidFill>
            <a:srgbClr val="00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2" name="Прямая со стрелкой 17"/>
          <p:cNvCxnSpPr>
            <a:endCxn id="141" idx="0"/>
          </p:cNvCxnSpPr>
          <p:nvPr/>
        </p:nvCxnSpPr>
        <p:spPr>
          <a:xfrm flipV="1">
            <a:off x="6579000" y="462960"/>
            <a:ext cx="2520" cy="929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Прямая со стрелкой 18"/>
          <p:cNvCxnSpPr/>
          <p:nvPr/>
        </p:nvCxnSpPr>
        <p:spPr>
          <a:xfrm>
            <a:off x="6588000" y="1413000"/>
            <a:ext cx="85824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J:\Безымянный.bmp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-73080"/>
            <a:ext cx="82360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585720" y="73080"/>
            <a:ext cx="2998800" cy="13287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2340000" y="1285920"/>
            <a:ext cx="66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названия почтовых принадлежност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Прямоугольник 3" descr=""/>
          <p:cNvPicPr/>
          <p:nvPr/>
        </p:nvPicPr>
        <p:blipFill>
          <a:blip r:embed="rId2"/>
          <a:stretch/>
        </p:blipFill>
        <p:spPr>
          <a:xfrm>
            <a:off x="378000" y="3078000"/>
            <a:ext cx="3176280" cy="1322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476360" y="4357800"/>
            <a:ext cx="75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читать нов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составлять              словосочетания с ни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500040" y="42876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'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 rot="10800000">
            <a:off x="2571480" y="727560"/>
            <a:ext cx="5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857680" y="357120"/>
            <a:ext cx="71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372640" y="50004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ter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285840" y="214200"/>
            <a:ext cx="24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'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 rot="10800000">
            <a:off x="1785600" y="512640"/>
            <a:ext cx="5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 rot="10800000">
            <a:off x="2071440" y="5796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2714760" y="14292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k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4143240" y="214200"/>
            <a:ext cx="1143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a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00760" y="1429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286160" y="214308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car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42920" y="14292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'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ip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 rot="10800000">
            <a:off x="3071520" y="441360"/>
            <a:ext cx="5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429000" y="142920"/>
            <a:ext cx="78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286240" y="214200"/>
            <a:ext cx="328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42920" y="214200"/>
            <a:ext cx="42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æmp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5429160" y="3571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mp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857240" y="3286080"/>
            <a:ext cx="471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7:43:55Z</dcterms:created>
  <dc:creator>COMP</dc:creator>
  <dc:description/>
  <dc:language>en-US</dc:language>
  <cp:lastModifiedBy>Iksanov</cp:lastModifiedBy>
  <dcterms:modified xsi:type="dcterms:W3CDTF">2012-05-30T21:03:02Z</dcterms:modified>
  <cp:revision>53</cp:revision>
  <dc:subject/>
  <dc:title>Слайд 1</dc:title>
</cp:coreProperties>
</file>