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6C22-D671-41B1-BA18-CCB6BA09C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A969-B1BF-443C-841D-E004CB7002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AB7-A618-47D0-9B82-5EB1846B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21B-1B3A-4A3A-81B3-148BF791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CDD-687A-4579-AD59-52BF3BE4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953-6741-4D97-A576-5AB707E4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A9FA9-A772-4C20-BA63-2ACEC200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2F226-7C27-43AD-AF98-8E901ADB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47144-FB84-45E2-9317-E9A57705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A018-ADF5-448B-9918-959F20F5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67A24-00EE-40CC-9616-0477D19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AF962-F72B-48E2-94C6-C8D5E0A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06BD9-6390-43DA-B6F3-096811F9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E48-1242-47E2-A5AE-C49F3359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52299-DE52-4FE6-8343-206AD91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57D3-E6BA-4298-9994-3FD21B42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3922E-5544-493A-B33F-43C3FE6B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DD6AE-6AB4-4042-B65B-24D552C1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FA955-C886-4B11-B80F-D4B2A592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9E7-12DC-4D3F-9C83-0784EB19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868-9047-445E-900E-5C235218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C62-963F-4F7F-B208-7850CF2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79F-2816-41C7-A0E5-EA56F33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B46-A7F1-4610-9CF8-EB01BB6C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A70-C389-46FC-9521-7F2EE9C9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6ED-E455-4EEE-955A-45C10BDB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799-EF9E-4575-A9AA-D0D7475C2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405-D349-4FC3-A416-99195A416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971640" y="836640"/>
            <a:ext cx="76438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Презентация разработана для 1 урока </a:t>
            </a:r>
            <a:r>
              <a:rPr b="0" lang="en-US" sz="4800" spc="-1" strike="noStrike">
                <a:solidFill>
                  <a:srgbClr val="00ffcc"/>
                </a:solidFill>
                <a:latin typeface="Arial"/>
              </a:rPr>
              <a:t>II </a:t>
            </a: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раздела «Пишем письма друзьям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учебника«</a:t>
            </a:r>
            <a:r>
              <a:rPr b="0" lang="en-US" sz="4800" spc="-1" strike="noStrike">
                <a:solidFill>
                  <a:srgbClr val="00ffcc"/>
                </a:solidFill>
                <a:latin typeface="Arial"/>
              </a:rPr>
              <a:t>Enjoy English</a:t>
            </a:r>
            <a:r>
              <a:rPr b="0" lang="ru-RU" sz="4800" spc="-1" strike="noStrike">
                <a:solidFill>
                  <a:srgbClr val="00ffcc"/>
                </a:solidFill>
                <a:latin typeface="Arial"/>
              </a:rPr>
              <a:t>» (3 класс)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Иксанова М.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500040" y="28584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5572080" y="428760"/>
            <a:ext cx="257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1835280" y="3284640"/>
            <a:ext cx="471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205280" y="1428840"/>
            <a:ext cx="100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0" lang="en-US" sz="4400" spc="-1" strike="noStrike">
                <a:solidFill>
                  <a:srgbClr val="c00000"/>
                </a:solidFill>
                <a:latin typeface="Franklin Gothic Medium Cond"/>
              </a:rPr>
              <a:t>ei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3846600" y="214200"/>
            <a:ext cx="107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5775120" y="1428840"/>
            <a:ext cx="10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0" lang="en-US" sz="4400" spc="-1" strike="noStrike">
                <a:solidFill>
                  <a:srgbClr val="008000"/>
                </a:solidFill>
                <a:latin typeface="Franklin Gothic Medium Cond"/>
              </a:rPr>
              <a:t>æ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857160" y="2500200"/>
            <a:ext cx="24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715000" y="2500200"/>
            <a:ext cx="24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Прямая со стрелкой 7"/>
          <p:cNvCxnSpPr/>
          <p:nvPr/>
        </p:nvCxnSpPr>
        <p:spPr>
          <a:xfrm flipH="1">
            <a:off x="2214000" y="1000080"/>
            <a:ext cx="1929240" cy="57240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7" name="Прямая со стрелкой 8"/>
          <p:cNvCxnSpPr/>
          <p:nvPr/>
        </p:nvCxnSpPr>
        <p:spPr>
          <a:xfrm>
            <a:off x="4500360" y="999720"/>
            <a:ext cx="1572120" cy="42948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 rot="10800000">
            <a:off x="1142640" y="906840"/>
            <a:ext cx="121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0" lang="el-GR" sz="3600" spc="-1" strike="noStrike">
                <a:solidFill>
                  <a:srgbClr val="c00000"/>
                </a:solidFill>
                <a:latin typeface="Franklin Gothic Medium Cond"/>
              </a:rPr>
              <a:t>Ω</a:t>
            </a:r>
            <a:r>
              <a:rPr b="0" lang="en-US" sz="4400" spc="-1" strike="noStrike">
                <a:solidFill>
                  <a:srgbClr val="c00000"/>
                </a:solidFill>
                <a:latin typeface="Franklin Gothic Medium Cond"/>
              </a:rPr>
              <a:t> e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3864240" y="214200"/>
            <a:ext cx="111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 rot="10800000">
            <a:off x="5852160" y="1505520"/>
            <a:ext cx="88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Franklin Gothic Medium Cond"/>
              </a:rPr>
              <a:t>[</a:t>
            </a:r>
            <a:r>
              <a:rPr b="1" lang="en-US" sz="4400" spc="-1" strike="noStrike">
                <a:solidFill>
                  <a:srgbClr val="008000"/>
                </a:solidFill>
                <a:latin typeface="Monotype Corsiva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Franklin Gothic Medium Cond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4"/>
          <p:cNvSpPr/>
          <p:nvPr/>
        </p:nvSpPr>
        <p:spPr>
          <a:xfrm>
            <a:off x="857160" y="2500200"/>
            <a:ext cx="306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ma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c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envel</a:t>
            </a: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5715000" y="2500200"/>
            <a:ext cx="242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Calibri"/>
              </a:rPr>
              <a:t>o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ff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Прямая со стрелкой 7"/>
          <p:cNvCxnSpPr/>
          <p:nvPr/>
        </p:nvCxnSpPr>
        <p:spPr>
          <a:xfrm flipH="1">
            <a:off x="2214000" y="1000080"/>
            <a:ext cx="1929240" cy="57240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Прямая со стрелкой 8"/>
          <p:cNvCxnSpPr/>
          <p:nvPr/>
        </p:nvCxnSpPr>
        <p:spPr>
          <a:xfrm>
            <a:off x="4500360" y="999720"/>
            <a:ext cx="1572120" cy="429480"/>
          </a:xfrm>
          <a:prstGeom prst="straightConnector1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428760" y="135720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Замечание к следующему слай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отработать порядковые числительные с названиями месяцев, на уроке совершается путешествие на планету Необычная. Каждый месяц на этой планете длится 100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2532600" y="0"/>
            <a:ext cx="21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alibri"/>
              </a:rPr>
              <a:t>1 - </a:t>
            </a: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f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4000680" y="2143080"/>
            <a:ext cx="201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[з: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8" name="Прямая со стрелкой 5"/>
          <p:cNvCxnSpPr/>
          <p:nvPr/>
        </p:nvCxnSpPr>
        <p:spPr>
          <a:xfrm flipH="1">
            <a:off x="5002920" y="1267920"/>
            <a:ext cx="2520" cy="856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9" name="Прямая соединительная линия 8"/>
          <p:cNvSpPr/>
          <p:nvPr/>
        </p:nvSpPr>
        <p:spPr>
          <a:xfrm>
            <a:off x="4788000" y="1268280"/>
            <a:ext cx="500040" cy="18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237960" y="5229360"/>
            <a:ext cx="159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h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4067280" y="522936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of </a:t>
            </a:r>
            <a:r>
              <a:rPr b="1" lang="en-US" sz="7200" spc="-1" strike="noStrike">
                <a:solidFill>
                  <a:srgbClr val="008000"/>
                </a:solidFill>
                <a:latin typeface="Calibri"/>
              </a:rPr>
              <a:t>J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anuar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979640" y="494172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7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12"/>
          <p:cNvSpPr/>
          <p:nvPr/>
        </p:nvSpPr>
        <p:spPr>
          <a:xfrm>
            <a:off x="1908000" y="4581360"/>
            <a:ext cx="2071800" cy="2000520"/>
          </a:xfrm>
          <a:prstGeom prst="rect">
            <a:avLst/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5435640" y="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s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643280" y="0"/>
            <a:ext cx="10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alibri"/>
              </a:rPr>
              <a:t>i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1285920" y="257184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57120" y="257184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357120" y="221472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714680" y="1500120"/>
            <a:ext cx="30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2000160" y="278604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643040" y="4071960"/>
            <a:ext cx="300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1785960" y="42876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c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5724360" y="2997360"/>
            <a:ext cx="259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357120" y="257184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2286000" y="1643040"/>
            <a:ext cx="235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928880" y="3643200"/>
            <a:ext cx="350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715000" y="3286080"/>
            <a:ext cx="259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2"/>
          <p:cNvSpPr/>
          <p:nvPr/>
        </p:nvSpPr>
        <p:spPr>
          <a:xfrm>
            <a:off x="357120" y="2357280"/>
            <a:ext cx="85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500120" y="142920"/>
            <a:ext cx="32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00120" y="1571760"/>
            <a:ext cx="378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1643040" y="2928960"/>
            <a:ext cx="28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785880" y="4572000"/>
            <a:ext cx="45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5643720" y="2928960"/>
            <a:ext cx="286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0" y="428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METASK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МАШНЕЕ ЗАДАНИ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500040" y="2214720"/>
            <a:ext cx="7429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СЛОВА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– наизу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у. 2 стр. 17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– чита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РТ у. 1,2 стр. 6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- писа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4"/>
          <p:cNvSpPr/>
          <p:nvPr/>
        </p:nvSpPr>
        <p:spPr>
          <a:xfrm>
            <a:off x="357120" y="14292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man Old Style"/>
              </a:rPr>
              <a:t>ЗВУ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4071960" y="1428840"/>
            <a:ext cx="1785960" cy="27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en-US" sz="6600" spc="-1" strike="noStrike">
                <a:solidFill>
                  <a:srgbClr val="008000"/>
                </a:solidFill>
                <a:latin typeface="Calibri"/>
              </a:rPr>
              <a:t>d</a:t>
            </a:r>
            <a:r>
              <a:rPr b="1" lang="en-US" sz="9600" spc="-1" strike="noStrike" baseline="-25000">
                <a:solidFill>
                  <a:srgbClr val="008000"/>
                </a:solidFill>
                <a:latin typeface="Calibri"/>
              </a:rPr>
              <a:t>З</a:t>
            </a: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714240" y="3429000"/>
            <a:ext cx="3357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uar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4073760" y="4857840"/>
            <a:ext cx="190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n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6286680" y="3571920"/>
            <a:ext cx="185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l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Прямая со стрелкой 12"/>
          <p:cNvCxnSpPr/>
          <p:nvPr/>
        </p:nvCxnSpPr>
        <p:spPr>
          <a:xfrm flipH="1">
            <a:off x="1142280" y="2714760"/>
            <a:ext cx="3715560" cy="10008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5" name="Прямая со стрелкой 17"/>
          <p:cNvCxnSpPr/>
          <p:nvPr/>
        </p:nvCxnSpPr>
        <p:spPr>
          <a:xfrm>
            <a:off x="4856760" y="2714760"/>
            <a:ext cx="1080" cy="235800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6" name="Прямая со стрелкой 20"/>
          <p:cNvCxnSpPr/>
          <p:nvPr/>
        </p:nvCxnSpPr>
        <p:spPr>
          <a:xfrm>
            <a:off x="4857840" y="2714400"/>
            <a:ext cx="1929600" cy="11437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sol_00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217" name="WordArt 3"/>
          <p:cNvSpPr txBox="1"/>
          <p:nvPr/>
        </p:nvSpPr>
        <p:spPr>
          <a:xfrm>
            <a:off x="214200" y="214200"/>
            <a:ext cx="892980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99ccff"/>
                </a:solidFill>
                <a:latin typeface="Bookman Old Style"/>
              </a:rPr>
              <a:t>THANK YOU FOR THE LESSON !</a:t>
            </a:r>
            <a:endParaRPr b="1" i="1" lang="en-US" sz="4000" spc="1" strike="noStrike">
              <a:ln w="15840">
                <a:solidFill>
                  <a:srgbClr val="003300"/>
                </a:solidFill>
                <a:miter/>
              </a:ln>
              <a:solidFill>
                <a:srgbClr val="99cc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214200" y="428760"/>
            <a:ext cx="1405080" cy="1643040"/>
          </a:xfrm>
          <a:prstGeom prst="rect">
            <a:avLst/>
          </a:prstGeom>
          <a:solidFill>
            <a:srgbClr val="00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n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Равнобедренный треугольник 4"/>
          <p:cNvSpPr/>
          <p:nvPr/>
        </p:nvSpPr>
        <p:spPr>
          <a:xfrm>
            <a:off x="1835280" y="260280"/>
            <a:ext cx="1500120" cy="178596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192480" y="1046160"/>
            <a:ext cx="64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00000"/>
                </a:solidFill>
                <a:latin typeface="Arial Black"/>
              </a:rPr>
              <a:t>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261320" y="1052640"/>
            <a:ext cx="488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7200" spc="-1" strike="noStrike">
                <a:solidFill>
                  <a:srgbClr val="008000"/>
                </a:solidFill>
                <a:latin typeface="Times New Roman"/>
                <a:ea typeface="Arial Unicode MS"/>
              </a:rPr>
              <a:t>J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uary.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15"/>
          <p:cNvSpPr/>
          <p:nvPr/>
        </p:nvSpPr>
        <p:spPr>
          <a:xfrm>
            <a:off x="5724360" y="476280"/>
            <a:ext cx="1714680" cy="1643040"/>
          </a:xfrm>
          <a:prstGeom prst="ellipse">
            <a:avLst/>
          </a:prstGeom>
          <a:solidFill>
            <a:srgbClr val="0033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2" name="Прямая со стрелкой 17"/>
          <p:cNvCxnSpPr>
            <a:endCxn id="141" idx="0"/>
          </p:cNvCxnSpPr>
          <p:nvPr/>
        </p:nvCxnSpPr>
        <p:spPr>
          <a:xfrm flipV="1">
            <a:off x="6579000" y="462960"/>
            <a:ext cx="2520" cy="929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3" name="Прямая со стрелкой 18"/>
          <p:cNvCxnSpPr/>
          <p:nvPr/>
        </p:nvCxnSpPr>
        <p:spPr>
          <a:xfrm>
            <a:off x="6588000" y="1413000"/>
            <a:ext cx="85824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J:\Безымянный.bmp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50007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-73080"/>
            <a:ext cx="8236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73080"/>
            <a:ext cx="2998800" cy="13287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2340000" y="1285920"/>
            <a:ext cx="66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названия почтовых принадлежност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Прямоугольник 3" descr=""/>
          <p:cNvPicPr/>
          <p:nvPr/>
        </p:nvPicPr>
        <p:blipFill>
          <a:blip r:embed="rId2"/>
          <a:stretch/>
        </p:blipFill>
        <p:spPr>
          <a:xfrm>
            <a:off x="378000" y="3078000"/>
            <a:ext cx="3176280" cy="1322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476360" y="4357800"/>
            <a:ext cx="75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читать нов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составлять              словосочетания с ни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500040" y="42876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'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 rot="10800000">
            <a:off x="2571480" y="72756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857680" y="35712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372640" y="500040"/>
            <a:ext cx="268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te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85840" y="214200"/>
            <a:ext cx="24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'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 rot="10800000">
            <a:off x="1785600" y="51264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 rot="10800000">
            <a:off x="2071440" y="579600"/>
            <a:ext cx="78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6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2714760" y="142920"/>
            <a:ext cx="164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k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4143240" y="214200"/>
            <a:ext cx="114300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a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000760" y="142920"/>
            <a:ext cx="13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4286160" y="214308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car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42920" y="142920"/>
            <a:ext cx="314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'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i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 rot="10800000">
            <a:off x="3071520" y="441360"/>
            <a:ext cx="5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429000" y="142920"/>
            <a:ext cx="78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286240" y="214200"/>
            <a:ext cx="328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per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42920" y="214200"/>
            <a:ext cx="42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æmp]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5429160" y="3571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mp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857240" y="3286080"/>
            <a:ext cx="471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7:43:55Z</dcterms:created>
  <dc:creator>COMP</dc:creator>
  <dc:description/>
  <dc:language>en-US</dc:language>
  <cp:lastModifiedBy>Iksanov</cp:lastModifiedBy>
  <dcterms:modified xsi:type="dcterms:W3CDTF">2012-05-30T21:03:02Z</dcterms:modified>
  <cp:revision>53</cp:revision>
  <dc:subject/>
  <dc:title>Слайд 1</dc:title>
</cp:coreProperties>
</file>