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69C-9662-4068-A74C-1EB41C4F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8C98-B15E-42CC-BD47-116FFFA2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1DE-6B24-471E-995A-0F1CDF32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468-3390-40FA-9159-2A3BB526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CA3-EA73-4134-898F-A3C4BA18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50A-B44E-4FF6-B34E-328E728D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093-7F0F-48B2-B624-8DA7E96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18E-D1CC-47E2-BA13-F3A25A3B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261-413C-42F5-9F6C-95E19CFC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4E8-10B8-4C3A-A4FB-FEAF4A55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890-15BD-4D8D-BF1F-5C6A87AE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4C1-DD99-4C56-A22D-B8D1741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8F1-4053-48CF-AA51-202597E188B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26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Подготовка к проверочной работ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«СТРОЕНИЕ  И ЭВОЛЮЦИЯ ВСЕЛЕННО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жёлт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риус.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еб.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деба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ас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неб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ярная.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тельгейзе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ел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везды явл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ярная.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нце.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ьдебаран.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сколько примерно лет после рождения звезда покинет главную последовательность на диаграмме Герцшпрунга – Рессела  (см. рисунок 22.3 на стр. 102 учебника), если её  масса равна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4,5  масс Солн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20 масс Солн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ссе Солнц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0 млн. лет.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 млрд. лет.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0 тысяч лет.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 млн.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9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асные гиган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ячие звезды огромных размеров и высокой плот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узкого конуса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лодные звёзды огромных размеров и очень низкой плот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а далёких галактик, находящихся в состоянии очень высокой актив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0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ульса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1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цефеид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2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чёрные ды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менные звёз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а - невидимки, имеющие мощное гравитационное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е далёкие тела, наблюдаемые во Всел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ные звёзды, излучающие электромагнитные волны в пределах    узкого кон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3.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ближе к Солнцу находится планета, тем она движется    ….  (быстрее, медленне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4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типы галакти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5.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аша Галакт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ральной.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правильной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липтической.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биче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6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пектрах далёких галактик спектральные линии смещены относительно их нормального положения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А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расную или фиолетовую сторону в зависимости от их скор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Б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ктральные линии не смещ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фиолетов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Г.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расную сторо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я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странице 156 учебника, выразите среднее расстояние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от Нептуна до Солнц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в млн. к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1.    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2349000"/>
            <a:ext cx="8785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30,1 а.е.=</a:t>
            </a:r>
            <a:r>
              <a:rPr b="0" lang="ru-RU" sz="5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30,1∙ 149,6 км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 4502,96 к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а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Третий закон Кепле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2.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шение кубов больших полуосей орбит Нептуна  и Земли примерно равно 27271. Чему примерно равно отношение квадратов их периодов обращения вокруг Солн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2.  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2205000"/>
            <a:ext cx="8435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а</a:t>
            </a:r>
            <a:r>
              <a:rPr b="1" lang="ru-RU" sz="54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н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/ а</a:t>
            </a:r>
            <a:r>
              <a:rPr b="1" lang="ru-RU" sz="54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з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  <a:ea typeface="Calibri"/>
              </a:rPr>
              <a:t> 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) </a:t>
            </a:r>
            <a:r>
              <a:rPr b="1" lang="ru-RU" sz="5400" spc="-1" strike="noStrike" baseline="30000">
                <a:solidFill>
                  <a:srgbClr val="c00000"/>
                </a:solidFill>
                <a:latin typeface="Calibri"/>
              </a:rPr>
              <a:t>3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 (Т</a:t>
            </a:r>
            <a:r>
              <a:rPr b="1" lang="ru-RU" sz="5400" spc="-1" strike="noStrike" baseline="-25000">
                <a:solidFill>
                  <a:srgbClr val="c00000"/>
                </a:solidFill>
                <a:latin typeface="Calibri"/>
              </a:rPr>
              <a:t>н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/ Т</a:t>
            </a:r>
            <a:r>
              <a:rPr b="1" lang="ru-RU" sz="5400" spc="-1" strike="noStrike" baseline="-25000">
                <a:solidFill>
                  <a:srgbClr val="c00000"/>
                </a:solidFill>
                <a:latin typeface="Calibri"/>
              </a:rPr>
              <a:t>з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ru-RU" sz="54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=2727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а по теме 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«Третий закон Кеплер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шение кубов больших полуосей орбит Нептуна  и Земли примерно равно 27271. Чему примерно равно отношение их периодов обращения вокруг Солнц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3.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24000" y="333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2492280"/>
            <a:ext cx="822960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  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Т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Calibri"/>
                <a:ea typeface="Calibri"/>
              </a:rPr>
              <a:t>н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/ Т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Calibri"/>
                <a:ea typeface="Calibri"/>
              </a:rPr>
              <a:t>з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=</a:t>
            </a:r>
            <a:r>
              <a:rPr b="1" lang="ru-RU" sz="4800" spc="-1" strike="noStrike">
                <a:solidFill>
                  <a:srgbClr val="c00000"/>
                </a:solidFill>
                <a:latin typeface="Symbol"/>
                <a:ea typeface="Symbol"/>
              </a:rPr>
              <a:t>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(а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н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/ а</a:t>
            </a:r>
            <a:r>
              <a:rPr b="1" lang="ru-RU" sz="4800" spc="-1" strike="noStrike" baseline="-30000">
                <a:solidFill>
                  <a:srgbClr val="c00000"/>
                </a:solidFill>
                <a:latin typeface="Monotype Corsiva"/>
                <a:ea typeface="Calibri"/>
              </a:rPr>
              <a:t>з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) </a:t>
            </a:r>
            <a:r>
              <a:rPr b="1" lang="ru-RU" sz="4800" spc="-1" strike="noStrike" baseline="30000">
                <a:solidFill>
                  <a:srgbClr val="c00000"/>
                </a:solidFill>
                <a:latin typeface="Monotype Corsiva"/>
                <a:ea typeface="Calibri"/>
              </a:rPr>
              <a:t>3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Calibri"/>
              </a:rPr>
              <a:t>= </a:t>
            </a:r>
            <a:r>
              <a:rPr b="1" lang="ru-RU" sz="4800" spc="-1" strike="noStrike">
                <a:solidFill>
                  <a:srgbClr val="c00000"/>
                </a:solidFill>
                <a:latin typeface="Symbol"/>
                <a:ea typeface="Symbol"/>
              </a:rPr>
              <a:t>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27271</a:t>
            </a:r>
            <a:r>
              <a:rPr b="1" lang="ru-RU" sz="4800" spc="-1" strike="noStrike">
                <a:solidFill>
                  <a:srgbClr val="c00000"/>
                </a:solidFill>
                <a:latin typeface="Vectors_Symbol"/>
                <a:ea typeface="Calibri"/>
              </a:rPr>
              <a:t>~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16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10"/>
          <p:cNvSpPr/>
          <p:nvPr/>
        </p:nvSpPr>
        <p:spPr>
          <a:xfrm>
            <a:off x="2843280" y="3284640"/>
            <a:ext cx="19429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5435640" y="3284640"/>
            <a:ext cx="1584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4.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уя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на странице 156 учебника, выразите среднее расстояние от Солнца до звезды Ригель в парсе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4.                  Реш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2133720"/>
            <a:ext cx="8496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800 св. л = 800 : 3,2616 пк </a:t>
            </a:r>
            <a:r>
              <a:rPr b="1" lang="ru-RU" sz="4000" spc="-1" strike="noStrike">
                <a:solidFill>
                  <a:srgbClr val="c00000"/>
                </a:solidFill>
                <a:latin typeface="Vectors_Symbol"/>
                <a:ea typeface="Vectors_Symbol"/>
              </a:rPr>
              <a:t>~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245,3 п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7:43:52Z</dcterms:created>
  <dc:creator>Admin</dc:creator>
  <dc:description/>
  <dc:language>en-US</dc:language>
  <cp:lastModifiedBy>Admin</cp:lastModifiedBy>
  <dcterms:modified xsi:type="dcterms:W3CDTF">2012-05-15T13:16:56Z</dcterms:modified>
  <cp:revision>22</cp:revision>
  <dc:subject/>
  <dc:title>Подготовка к проверочной работе</dc:title>
</cp:coreProperties>
</file>