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7BD-7FA6-42B3-9339-963A51A2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E82-022D-407D-B2AE-6E44D3C0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C9A-058E-45B7-A645-0248C2CD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A4E-83F2-4DA8-8753-F9B7927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1C9-0640-4D05-9245-1B1D1A2D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102-A54C-4FE0-8EF8-D053D5C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A9A-0784-415E-8BD3-F85818A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A8D-58DC-4A29-AB17-0C0CF92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A39-88B3-4172-B884-6853CA3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362-595E-456F-A89D-D9846A9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436-C600-4EE3-BE27-A9E927D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941-6290-4EA0-A5EB-DC1D1186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B4D7-BADE-4B1B-8A4A-DAE623C07D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Подготовка к проверочной рабо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ТРОЕНИЕ  И ЭВОЛЮЦИЯ ВСЕЛЕНН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ёлт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риус.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еб.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деба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еб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ярная.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ельгейзе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ел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ярная.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дебаран.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сколько примерно лет после рождения звезда покинет главную последовательность на диаграмме Герцшпрунга – Рессела  (см. рисунок 22.3 на стр. 102 учебника), если её  масса равна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4,5  масс Солн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20 масс Солн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ссе Солнц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0 млн. лет.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 млрд. лет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0 тысяч лет.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 млн.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9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асные гига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ячие звезды огромных размеров и высокой пло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узкого конус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лодные звёзды огромных размеров и очень низкой пло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а далёких галактик, находящихся в состоянии очень высокой а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0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ульса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1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цефеи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2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ёрные ды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  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3.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ближе к Солнцу находится планета, тем она движется    ….  (быстрее, медленне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4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ипы галакти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5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ша Галакт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ральной.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й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липтической.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биче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6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пектрах далёких галактик спектральные линии смещены относительно их нормального положения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расную или фиолетовую сторону в зависимости от их скор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ктральные линии не смещ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фиолетов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расн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я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странице 156 учебника, выразите среднее расстояние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 Нептуна до Солнц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 млн. к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1.    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349000"/>
            <a:ext cx="8785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30,1 а.е.=</a:t>
            </a: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30,1∙ 149,6 км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 4502,96 к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а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Третий закон Кепле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2.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шение кубов больших полуосей орбит Нептуна  и Земли примерно равно 27271. Чему примерно равно отношение квадратов их периодов обращения вокруг Солн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2.  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205000"/>
            <a:ext cx="8435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а</a:t>
            </a:r>
            <a:r>
              <a:rPr b="1" lang="ru-RU" sz="54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н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/ а</a:t>
            </a:r>
            <a:r>
              <a:rPr b="1" lang="ru-RU" sz="54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з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) </a:t>
            </a:r>
            <a:r>
              <a:rPr b="1" lang="ru-RU" sz="54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 (Т</a:t>
            </a:r>
            <a:r>
              <a:rPr b="1" lang="ru-RU" sz="5400" spc="-1" strike="noStrike" baseline="-25000">
                <a:solidFill>
                  <a:srgbClr val="c00000"/>
                </a:solidFill>
                <a:latin typeface="Calibri"/>
              </a:rPr>
              <a:t>н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/ Т</a:t>
            </a:r>
            <a:r>
              <a:rPr b="1" lang="ru-RU" sz="5400" spc="-1" strike="noStrike" baseline="-25000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ru-RU" sz="54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2727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а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Третий закон Кепле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шение кубов больших полуосей орбит Нептуна  и Земли примерно равно 27271. Чему примерно равно отношение их периодов обращения вокруг Солн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3.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2400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249228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  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Т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Calibri"/>
                <a:ea typeface="Calibri"/>
              </a:rPr>
              <a:t>н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/ Т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Calibri"/>
                <a:ea typeface="Calibri"/>
              </a:rPr>
              <a:t>з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=</a:t>
            </a:r>
            <a:r>
              <a:rPr b="1" lang="ru-RU" sz="4800" spc="-1" strike="noStrike">
                <a:solidFill>
                  <a:srgbClr val="c00000"/>
                </a:solidFill>
                <a:latin typeface="Symbol"/>
                <a:ea typeface="Symbol"/>
              </a:rPr>
              <a:t>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(а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н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/ а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з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) </a:t>
            </a:r>
            <a:r>
              <a:rPr b="1" lang="ru-RU" sz="4800" spc="-1" strike="noStrike" baseline="30000">
                <a:solidFill>
                  <a:srgbClr val="c00000"/>
                </a:solidFill>
                <a:latin typeface="Monotype Corsiva"/>
                <a:ea typeface="Calibri"/>
              </a:rPr>
              <a:t>3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= </a:t>
            </a:r>
            <a:r>
              <a:rPr b="1" lang="ru-RU" sz="4800" spc="-1" strike="noStrike">
                <a:solidFill>
                  <a:srgbClr val="c00000"/>
                </a:solidFill>
                <a:latin typeface="Symbol"/>
                <a:ea typeface="Symbol"/>
              </a:rPr>
              <a:t>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27271</a:t>
            </a:r>
            <a:r>
              <a:rPr b="1" lang="ru-RU" sz="4800" spc="-1" strike="noStrike">
                <a:solidFill>
                  <a:srgbClr val="c00000"/>
                </a:solidFill>
                <a:latin typeface="Vectors_Symbol"/>
                <a:ea typeface="Calibri"/>
              </a:rPr>
              <a:t>~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16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0"/>
          <p:cNvSpPr/>
          <p:nvPr/>
        </p:nvSpPr>
        <p:spPr>
          <a:xfrm>
            <a:off x="2843280" y="3284640"/>
            <a:ext cx="19429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5435640" y="3284640"/>
            <a:ext cx="1584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я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странице 156 учебника, выразите среднее расстояние от Солнца до звезды Ригель в парсе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4.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2133720"/>
            <a:ext cx="849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800 св. л = 800 : 3,2616 пк </a:t>
            </a:r>
            <a:r>
              <a:rPr b="1" lang="ru-RU" sz="4000" spc="-1" strike="noStrike">
                <a:solidFill>
                  <a:srgbClr val="c00000"/>
                </a:solidFill>
                <a:latin typeface="Vectors_Symbol"/>
                <a:ea typeface="Vectors_Symbol"/>
              </a:rPr>
              <a:t>~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45,3 п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7:43:52Z</dcterms:created>
  <dc:creator>Admin</dc:creator>
  <dc:description/>
  <dc:language>en-US</dc:language>
  <cp:lastModifiedBy>Admin</cp:lastModifiedBy>
  <dcterms:modified xsi:type="dcterms:W3CDTF">2012-05-15T13:16:56Z</dcterms:modified>
  <cp:revision>22</cp:revision>
  <dc:subject/>
  <dc:title>Подготовка к проверочной работе</dc:title>
</cp:coreProperties>
</file>