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C2E4-FD01-46ED-93C2-DD6963A4CA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23F2-3774-414F-9FE2-F874F235B3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F3C0-8160-48C2-AE69-0C78C087AE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3716-7CA5-4686-9EA5-0B05B0D177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F85D-85D5-47FF-83D6-A0C2A89BB3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1FCB-ABC9-4FBD-93BC-7A249E0FAD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5E0B-D127-46D0-BB1B-3C0BBD4591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3702-78CD-4687-966C-7F965447B3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07A-24D5-4913-849C-782E26AE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363-8078-4197-AC62-4C02A628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44183-7AFA-492F-9D55-95716D52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D2D40-A150-4BAF-9E53-76D45E1A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3E88E-FAF0-423F-A095-AC86768C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6DE57-5FA9-46D5-AF03-FB02E6F2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D35C2-C72D-41A9-A086-5D5A42DB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DCD35-4C6A-4CE8-BE8C-1EAE7712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5AA0F-6E2E-423D-849E-02A01580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BBBA6-9CDB-4731-973F-4BFA968C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8F42F-3B5D-4EA8-9E45-58DB1814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85531-E8CB-4760-ABE4-A7FF8D22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F35-7EA0-4F28-98FA-FBE6263F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971D1-180F-4704-82F8-52845BE9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79014-83A8-4C81-A62B-AA080762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1638C-1412-4704-B684-B217D918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279B8-5DD6-4ED3-BD2E-2BB5B1A7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020D5-EB58-4FA9-874C-E2A88165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A50E7-5887-4CFB-BAD5-D8B00A43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1FBBD-825D-4E24-9341-38CA38D3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4644B-A536-4094-8CF3-9F87E513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9D7A9-FD9A-4B29-96A7-A4278A8B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FB307-4942-49B2-BFFC-8CFE5A33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056-8733-4FD0-8FDD-6044BB5D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A5F22-C5C4-48E8-A179-D4A012D7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AA41D-25D3-4BB1-9B85-593581C9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962A3-BB59-4A3F-AE12-3739A0D8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1EE19-7086-4680-9173-42B5BED4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B2F00-BEB6-41A8-8C14-D83B8FA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833ED-3F79-45E3-B847-18B54B9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1D3BA-CAF5-490A-A929-3AA9BBA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871A0-E430-4F5D-9BB0-B2E56D9C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8E5CF-8744-4D98-AC45-FE707D54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0835C-53CE-47CC-B4FF-157F010C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14D8-CAAE-4520-A7DC-9F4B0203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A3FB0-CAC2-4F02-BB2C-9AF2B763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AE295-03A4-40BA-A214-82C5CD18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4DC90-237E-4C02-9749-5A2D928B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72C71-4A6A-4AA7-B03F-0DD90E65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2AEE5-9C3E-4D9A-AF49-E166A26F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F53BB-AE59-4293-AA73-A0C6CD69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12EE1-904C-4B23-B2E3-69A4C769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32505-C48F-47B0-9768-E79AE147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70C41-8DCF-4F4C-B3AA-03C78B83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EB763-D7C7-4E85-819A-F53DE7C1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0F7E-08D7-4DDA-98DB-FEE09C3A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8F6DC-D5B1-4067-9A11-BC1379B0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12434-802A-4848-972B-2FBCA173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A2339-2058-42FB-9BBA-CD1F514A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40636-BEA2-446B-AB1A-0273FCE0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FC723-0262-41FF-81BC-E46964E7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90A4-B72A-4B5E-8A5E-03F7F330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4F93-6E98-4FE6-A863-38F4462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EB8D-DFFB-47D5-93F7-1BDDAC67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9E3C-0F8A-4987-8A53-BA7B3D64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1D36-EC1D-45B3-8CC8-D41726F5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CAA-BA62-4E04-8AC8-45356839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7E9E-81D0-418A-93EE-342AB83B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D59E-0FD6-4532-9FFC-DE58F46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8602-F6E7-47CB-8711-5C20630D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25A8-DACE-42E7-8AB9-2EE91679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E64E-BEC6-481E-8FB7-FFC550BB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A48A-491A-4C2A-B0D1-F6518396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9972-0449-4AE9-B92E-97ED01B8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7DDCA-0418-420C-A08B-4B09908B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9A2B-CB83-43BC-9014-A1235480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F0D9-7CB4-4847-9B74-B6CB71E5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B5D-EF47-41C4-BBCA-118E8A87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1A57-5019-4AE3-8FCA-644FFBE7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BDA9-01E8-41D4-9F01-80195AC3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0DB8-28DB-4B31-9546-743E0E72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11052-DEE3-4898-9840-2E6A8CC6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2D98-5212-43A0-9350-1B1C790B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1976-83F9-421A-BC85-7629EC5C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116D-2D90-4DDC-B9EF-82A6037A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BF69-CCE5-4D53-8142-414B2AC9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6B432-5A5C-4A11-A258-9D32B2B5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4DCF-D88E-4C7A-8194-0326275F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94B-5E9E-49CC-9C08-0097E74F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68B3-F0E5-421F-A693-11FFA548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F417A-F468-4683-A409-04E32ADA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B0DD-F312-4F1C-AD0A-7B11839F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F8D16-AB9F-43F1-A62E-5131E06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CECB-7BC6-424A-989B-EF6562F4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B67CB-FFAF-43C3-BE44-47F706F8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DB8F1-40EB-43A0-A30D-1977EDDB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7601-5352-4898-9804-23D0A441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C8C9-B603-4796-B4D7-AEE0D1B5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A272-F1DF-4210-9884-4350DC43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2E2-781B-4DE7-9B7E-61B09BD7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27C33-8E69-4245-AB81-5CD48F45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073D4-C21D-4B97-B2C0-A972D66A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CAA4F-8853-4019-8D69-49E3AEFD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F3DB5-A4BA-4855-AEFD-1170FD60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380CB-4F10-4AEC-A56C-37795B5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F0512-C1F0-43CE-99E1-EE3DE9C3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1919B-D3E6-49C2-873C-A061C88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50D76-FFC2-4859-BE49-E838E103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B10BC-80DF-4AE1-BC61-F3533B4C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C9159-50EC-4A3A-8A8E-329B4C06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2FC-54B9-46E9-BE5B-2BB6D74E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7F5CC-89B7-4804-8686-FCC11047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E8171-A2CA-4E61-A320-2935021D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6D884-9C11-40E6-8C1C-87991E76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6C00B-54BD-4DA1-950E-44AC68FF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7F6E3-D6ED-4C52-958B-B490A761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482E-3330-4371-AF58-C05C429F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88F75-DC47-4EBF-9390-55D67D59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C6116-EBC2-4FC3-9534-A8E4629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37E51-237A-4A55-B1FE-FF4FB6C7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75A5A-FB73-4D25-9E88-8506F496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9AE-6036-4346-AB3B-4626821C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5758B-B3B0-48D5-B2C9-8A5A9BD3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9A3A2-B1CB-49EC-AD6F-C6471303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43CDB-76D2-4A8B-9769-31746566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0C3E9-23C1-449F-94B8-9B2E9C0D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BE21B-570D-40CD-B831-7DD85E82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2A543-7FCB-4F06-8EE8-3CA1D0F2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999EA-F9A7-4349-B635-50C9C4D2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D8914-AA10-4163-B700-A43C8C63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5D15B-491E-45CD-AC75-FC88E316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BF5E-3D94-4E17-B2A7-488F10A5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986-763A-4A52-99D5-3AF8A8AC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81361-E70D-4FD7-8E39-1701821B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D8CAD-0F8A-472D-86EB-540AE1E5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8BE7A-18AF-48C7-85B9-0E3AEA7C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A5207-68A1-4234-9D44-3FDF1CC5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04008-98E2-444A-8F43-9E57906A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DCEE5-5BAB-4F28-B5BF-00E5CC25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6E363-8CAE-437F-ADC8-849B664D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600C6-369A-48CD-809B-58A9394B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D88C8-9260-4C85-AF2E-6C800A1E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CA1F4-5C63-4B18-A145-085324E4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008-0428-4A26-BDD4-3A639574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15E29-139C-4FC1-ACB7-B6E959D6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8CBCD-7CBA-4B28-B6A8-25FA94E0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4A077-98E2-4690-8B46-94DF4A04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C507F-EE34-470E-899B-28D7DFFF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E606E-FC7B-49E0-9D37-8D515417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FC745-73C0-4E89-9A2D-ED627017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57611-ADA3-4222-9D30-3B1091F1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9647D-08A3-408B-83DA-C7AF2E9B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EDF79-418B-480A-81AC-5EBF039D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43606-CEFE-42CD-8562-29BAF55E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D175-EEB0-400A-A5AA-C3E282C4948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AEFC-EFCB-494F-9DA2-D56DDB65848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8F4E-8812-4E79-8ECA-C2785235191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F4EB-E606-4632-B453-9EF5D963A70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B8C2-DA8B-4CDA-93FB-1900BA3F4F4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8D49-6D4B-4B96-A13F-88A46CB66BC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11FD-0A6B-4E70-83D6-7E955FFBBA3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3B23-8226-40F0-A4E5-F33FFECFD22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C2E3-5428-424D-AD4E-A89349073B9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3E17-A95B-4C21-B218-9A50C272BBE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4C90-741B-4B5C-BC53-D6C47FD1A921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922B-2F55-4292-8667-F2305D1305F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14280" y="5000400"/>
            <a:ext cx="68580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УРОК УСВОЕНИЯ НОВЫХ ЗНАНИЙ В 6 КЛАССЕ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«ПРЕДСТАВЛЕНИЕ НЕЗНАКОМЦА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999720" y="2999880"/>
            <a:ext cx="735804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Приложение к уроку по теме:</a:t>
            </a:r>
            <a:br>
              <a:rPr sz="3800"/>
            </a:b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«Слова состояния»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8c61"/>
                </a:solidFill>
                <a:latin typeface="Georgia"/>
              </a:rPr>
              <a:t>Весна в нашем городе!</a:t>
            </a: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3" name="Picture 8" descr="IMG_2528"/>
          <p:cNvPicPr/>
          <p:nvPr/>
        </p:nvPicPr>
        <p:blipFill>
          <a:blip r:embed="rId1"/>
          <a:stretch/>
        </p:blipFill>
        <p:spPr>
          <a:xfrm>
            <a:off x="2214720" y="4071960"/>
            <a:ext cx="4098600" cy="2519280"/>
          </a:xfrm>
          <a:prstGeom prst="rect">
            <a:avLst/>
          </a:prstGeom>
          <a:ln w="9360">
            <a:solidFill>
              <a:srgbClr val="648c61">
                <a:alpha val="96000"/>
              </a:srgbClr>
            </a:solidFill>
            <a:miter/>
          </a:ln>
        </p:spPr>
      </p:pic>
      <p:pic>
        <p:nvPicPr>
          <p:cNvPr id="634" name="Picture 8" descr="май 2007 038"/>
          <p:cNvPicPr/>
          <p:nvPr/>
        </p:nvPicPr>
        <p:blipFill>
          <a:blip r:embed="rId2"/>
          <a:stretch/>
        </p:blipFill>
        <p:spPr>
          <a:xfrm rot="860400">
            <a:off x="4981320" y="1638000"/>
            <a:ext cx="3905280" cy="25556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6" descr="наш город 17 мая 2007 092"/>
          <p:cNvPicPr/>
          <p:nvPr/>
        </p:nvPicPr>
        <p:blipFill>
          <a:blip r:embed="rId3"/>
          <a:stretch/>
        </p:blipFill>
        <p:spPr>
          <a:xfrm rot="21005400">
            <a:off x="417240" y="1308240"/>
            <a:ext cx="38098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- Одинаковой ли частью речи являются слова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c00000"/>
                </a:solidFill>
                <a:latin typeface="Georgia"/>
              </a:rPr>
              <a:t>Утро сегодня </a:t>
            </a:r>
            <a:r>
              <a:rPr b="1" i="1" lang="ru-RU" sz="2700" spc="-1" strike="noStrike">
                <a:solidFill>
                  <a:srgbClr val="c00000"/>
                </a:solidFill>
                <a:latin typeface="Georgia"/>
              </a:rPr>
              <a:t>радостн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c00000"/>
                </a:solidFill>
                <a:latin typeface="Georgia"/>
              </a:rPr>
              <a:t>Глаза светились </a:t>
            </a:r>
            <a:r>
              <a:rPr b="1" i="1" lang="ru-RU" sz="2700" spc="-1" strike="noStrike">
                <a:solidFill>
                  <a:srgbClr val="c00000"/>
                </a:solidFill>
                <a:latin typeface="Georgia"/>
              </a:rPr>
              <a:t>радостн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дайте вопрос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пробуйте  измени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пределите синтаксическую рол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- Определите линии сравн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428760" y="1571760"/>
          <a:ext cx="8229600" cy="4727520"/>
        </p:xfrm>
        <a:graphic>
          <a:graphicData uri="http://schemas.openxmlformats.org/drawingml/2006/table">
            <a:tbl>
              <a:tblPr/>
              <a:tblGrid>
                <a:gridCol w="2057400"/>
                <a:gridCol w="2228760"/>
                <a:gridCol w="1886040"/>
                <a:gridCol w="2057400"/>
              </a:tblGrid>
              <a:tr h="379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и 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ъекты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знаком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4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яется по родам, числам, падежа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изменя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868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-Сравните слово </a:t>
            </a: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радостно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 из предложения </a:t>
            </a:r>
            <a:r>
              <a:rPr b="0" lang="ru-RU" sz="2400" spc="-1" strike="noStrike">
                <a:solidFill>
                  <a:srgbClr val="a9432b"/>
                </a:solidFill>
                <a:latin typeface="Georgia"/>
              </a:rPr>
              <a:t>«На душе у ребят </a:t>
            </a:r>
            <a:r>
              <a:rPr b="1" i="1" lang="ru-RU" sz="2400" spc="-1" strike="noStrike">
                <a:solidFill>
                  <a:srgbClr val="a9432b"/>
                </a:solidFill>
                <a:latin typeface="Georgia"/>
              </a:rPr>
              <a:t>радостно</a:t>
            </a:r>
            <a:r>
              <a:rPr b="0" lang="ru-RU" sz="2400" spc="-1" strike="noStrike">
                <a:solidFill>
                  <a:srgbClr val="a9432b"/>
                </a:solidFill>
                <a:latin typeface="Georgia"/>
              </a:rPr>
              <a:t>» 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с известными частями речи. Заполните последнюю графу таблицы 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14200" y="1571760"/>
          <a:ext cx="8515440" cy="4879800"/>
        </p:xfrm>
        <a:graphic>
          <a:graphicData uri="http://schemas.openxmlformats.org/drawingml/2006/table">
            <a:tbl>
              <a:tblPr/>
              <a:tblGrid>
                <a:gridCol w="2343240"/>
                <a:gridCol w="2300400"/>
                <a:gridCol w="1814400"/>
                <a:gridCol w="2057400"/>
              </a:tblGrid>
              <a:tr h="51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и 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ъекты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знаком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38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рфологически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яется по родам, числам, падежа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изменя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2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рфемны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синтаксически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- Проверьте себя.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357120" y="1643040"/>
          <a:ext cx="8504280" cy="4286160"/>
        </p:xfrm>
        <a:graphic>
          <a:graphicData uri="http://schemas.openxmlformats.org/drawingml/2006/table">
            <a:tbl>
              <a:tblPr/>
              <a:tblGrid>
                <a:gridCol w="2125800"/>
                <a:gridCol w="2287440"/>
                <a:gridCol w="1965240"/>
                <a:gridCol w="2125800"/>
              </a:tblGrid>
              <a:tr h="38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и 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ъекты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Незнаком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8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ак? и како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153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фологически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яется по родам, числам, падежа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изменя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е изменя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фемны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ет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аксически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r>
                        <a:rPr b="0" lang="ru-RU" sz="4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Calibri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- Заполните таблицу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85840" y="1785960"/>
          <a:ext cx="8643960" cy="3529080"/>
        </p:xfrm>
        <a:graphic>
          <a:graphicData uri="http://schemas.openxmlformats.org/drawingml/2006/table">
            <a:tbl>
              <a:tblPr/>
              <a:tblGrid>
                <a:gridCol w="2214360"/>
                <a:gridCol w="2643480"/>
                <a:gridCol w="1625400"/>
                <a:gridCol w="2160720"/>
              </a:tblGrid>
              <a:tr h="5205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 душе у ребят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дос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ход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зличный 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оверьте себ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85840" y="1785960"/>
          <a:ext cx="8572320" cy="4449600"/>
        </p:xfrm>
        <a:graphic>
          <a:graphicData uri="http://schemas.openxmlformats.org/drawingml/2006/table">
            <a:tbl>
              <a:tblPr/>
              <a:tblGrid>
                <a:gridCol w="2143080"/>
                <a:gridCol w="2714760"/>
                <a:gridCol w="1714320"/>
                <a:gridCol w="2000160"/>
              </a:tblGrid>
              <a:tr h="947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 душе у ребят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дос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ход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зличный 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ко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к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азуемое без подлежащ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азуем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измен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т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- </a:t>
            </a: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Самостоятельно прочитайте § 120, используя значки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٧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же знал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+   нов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-   думал инач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? есть вопросы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Соотнесите название частей речи и предложения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357120" y="1571760"/>
          <a:ext cx="8504280" cy="2977920"/>
        </p:xfrm>
        <a:graphic>
          <a:graphicData uri="http://schemas.openxmlformats.org/drawingml/2006/table">
            <a:tbl>
              <a:tblPr/>
              <a:tblGrid>
                <a:gridCol w="4253040"/>
                <a:gridCol w="4251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Цветущее дерево красив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наре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В лесу весной красив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) 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Красиво плывут обла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) слово состоя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8:56:55Z</dcterms:created>
  <dc:creator>Admin</dc:creator>
  <dc:description/>
  <dc:language>en-US</dc:language>
  <cp:lastModifiedBy>Admin</cp:lastModifiedBy>
  <dcterms:modified xsi:type="dcterms:W3CDTF">2012-05-31T12:29:41Z</dcterms:modified>
  <cp:revision>24</cp:revision>
  <dc:subject/>
  <dc:title>Приложение к уроку по теме: «Слова состояния»</dc:title>
</cp:coreProperties>
</file>