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F646-44B7-412C-A88F-959708351C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F12D-3EF1-4C47-8F14-E203BDEAED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7B81-DC85-4031-865A-01D28620D9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F739-0AA1-4DF7-ABD4-484109E2BE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4B7F-57D7-49CA-93BC-5BB14F6D3F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6EBB-B1C7-49AB-91DF-9EB7312D4C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15E9-6A33-4C7A-8B4C-4D60E09ABF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04AD-DD5A-4F45-A5F7-B3F1108038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1CB4-A507-48A5-87EE-DFB77935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5083-E07E-4F0E-AB35-861B2316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F5CCA1-40FF-45A2-B0AE-0D90283E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254D8B-FB84-4C22-8EDA-676C8832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D5E2ED-225C-46A7-A5B9-BD23D93E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F1A8E1-83C6-4896-A90B-8B7EF5C2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6A4036-810C-4525-8F7D-86F6EAE3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921C4-2768-41BC-81BB-CE0D6BA1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5E66F4-C8FA-4D6A-A49D-5E178B93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552CAE-48A4-4EAA-90EC-FC034BC3A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D67D2D-5F92-4770-87BA-209533D1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897CC3-BE09-40A9-9F57-3FBA8E6F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A6CA-CB07-4DF5-8AD6-2AAE74FB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D57B40-0CCB-43EA-89CD-B3BE396B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96E2C6-0CD1-48DD-9DC5-746926BD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04FBC4-9E1B-40C0-8D21-62D52DCA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D8688D-E133-4E36-AE68-A91D7E3F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F17405-F40A-41B0-BBE8-DA811C2A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696EA2-CEEB-46A7-887C-4C018C6F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79D066-7036-42EE-B581-21936603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0FB6B5-D6F4-444C-9664-6A7DB0AA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A8438C-0E5E-41B5-9C7B-13C826F1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31C14E-D8B1-442E-BC7A-FDB4C902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F69D-2986-4E14-946A-9D4F993A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99637C-12F3-4ED2-BF67-4FC0E09A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F5DED-3C0D-4773-8B17-76DF11D2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480E0-F5BD-48CA-B823-42763FFF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F01E5-B095-4CE8-B0E1-A86ACA90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055D6-5D8C-4B2A-8926-25FABF14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72564-E6EE-4F09-B1EA-89449184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DE6C0-44E0-46A1-B2E0-9BCD962D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D2486-B515-45A8-8F21-3928A2A3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050FD-D289-4815-BF96-ACEA4A01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92DDF-6683-4188-A425-398C4AB3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0D36-4382-4999-9707-F50FDFFB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D8C8D-2F8D-4650-84A3-702725DD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8385C-EC00-40CE-9710-CE025860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0E6E3-78B9-4879-A405-56630CA5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EC54C8-6943-461C-9776-2972F552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1C3B82-D625-4B8D-814D-71F1158F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3180CF-BA3B-4A8B-9409-A4949989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51A650-6C61-494E-9E62-B2CDEA10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353179-4475-49AA-9169-7C3E8908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2CB9A2-7C5D-4EE7-A2FE-21C2F93C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6FDE01-0335-4BE6-BE09-902D79FE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890F-3259-4A6C-A3D9-9237BB69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7F75E7-3777-4E03-9183-B8854A89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73FA3B-2DC2-4037-A8A9-AF3087AC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600F84-4508-4EC1-8E2F-A57E8A8D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5BEF26-20FB-44B7-80E9-DAD1562B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D3887D-8E0E-4550-8583-D7DBF44B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2379-8C5B-4619-B5AA-761325EF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1D1D-2E49-424D-98C8-F771E933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BC3A-B1FC-4B1D-9FB0-83D30C78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51EE-F7C9-4C5A-92DD-E6548316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1F0C-5207-4104-8489-4BA4D274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EAE4-33AD-47B1-894C-5A1E3985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93FC-24DE-495D-867F-69737EAB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94E4-59E6-49EB-9F91-D3A70DBA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84D6-2CCC-467B-98A6-6BA960EB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7C4A-C4D8-4A43-814F-8BE8820F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3734-00BF-41C3-A541-947B8D6C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A1FA7-2650-44F6-8F86-5A3248AA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10217-BD0E-422E-8BD0-CC5F7ABC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320E6-8CF8-4DFC-8D06-220B2F6A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C5EB7-76E9-4CCB-B740-67975443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00FB6-66DE-4DC3-9E68-7F894A79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6BBB-714C-4501-ACDE-189A336A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01CAF-DF50-45A7-ACB6-CFE33BF7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C8A41-7EC0-45D7-9383-925FFB20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531B3-C286-4280-B3A2-0029A14B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8DFF6-A78A-4187-9B8D-93F1B5CD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BDC13-3BF1-4CB8-8B70-E11E7EC1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F6515-B825-4A0F-A93C-ACEE8CE2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FACC1-5C9A-4E03-8C2C-4DF47F10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8FD9B-2D6D-4200-BA65-0652948A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DB720-EF9A-42F0-9B3A-6D64DA4C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8AFF3-FCEE-4971-8B51-53B4452B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2AC0-FC44-46AD-8B27-41A0EEFE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712DE-CB75-4BF0-BBAA-FEE84334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FB2DF-3595-4E51-9B2C-553D383A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601BE-EC63-4340-8098-25C597E0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40046-97E8-4250-9CF6-54711D81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1EEC2-7FE8-42A7-94C5-F7EEFE59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94AE3-6CDB-4B94-B8C1-68B6A09C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3661A-B6C8-4D1D-974E-7E166ECC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DC841-664E-4BDF-9A90-B88A857D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770D0-3FEB-4D9D-8EF2-DD46BA1F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713E0-F62E-4286-8D89-DBC3C86A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3537-50F5-4102-BBFB-DB8206B5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D8D12-57EC-4E00-A885-6A365884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DB281-5BB6-48A0-922A-D1E5B05C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0E9C7-94A1-48B9-A92C-548000C2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484DB-5B94-4567-91A3-4FDC2098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9A8E8-AE16-4F3D-929A-45D16879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C1704-24E0-45A9-BFE0-C6E58DF9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66B18-9003-4CF5-9C54-BB460553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1464C-0723-4408-A0A7-7DC83621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739B3-7C0D-4E5C-BBE2-DC02BBA7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B5EA0-54E9-4CAA-8619-8D5B4B93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3B4B-DC36-47E0-9C95-CACFFEC5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0DAF1-F6BE-46DB-86AE-FD92BE06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3EAE7-9926-43EA-9737-CA6916A8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DB43E-E001-4EC3-9994-1EA784AA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8C91A-24FA-4915-BFC2-BF235F7E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DD0C5-23E4-4BDB-9AB6-CB7F781B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A48E2-812A-4ACB-9775-509948DD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668C6-82B6-4576-BADD-CC301B2E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1E02E-B3D8-49BB-B916-969D8A16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5D5DC-4E40-4719-ABC1-07902372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C6FB3-C6AD-4C58-B0F8-11271545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42F3-6351-48E9-995A-14619493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DFE36-A3EA-4E00-AE42-5C49DA05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E7789-C29D-411D-9CD7-34DC91B7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D12E3-3897-4E9A-B3E3-3DBCA7BF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C4FD4-B8E3-4CBA-81C6-5BF3FB2E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BFF69-5294-448E-B9CC-CD31BD03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8E4DD-CDBD-4F3F-8A06-2C5BA984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4D9AE-9155-44C9-87BC-20800301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74403-419B-41B4-A661-2636F90D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86D55-F4AD-48E6-AC4F-A063ACF6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E15ED-75A4-4D69-A395-369D14CF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FA34-F6CA-49C6-A604-0AA541B1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ABF3B-522F-413A-905A-EDB237EC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FD616-7D2C-4D4E-A2C4-DBD41C34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59891-219E-4D6A-92A7-9F74188A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F31B7-ED53-4E64-BAE4-044A74A3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74576-13D4-4B9B-87E2-B2423037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6BA33-50C3-4ADB-B469-C8DED6FA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0FCF3-AEBD-46A9-A8D6-AB5CD718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47316-7311-43F6-851B-FE094579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3821D-FA88-42D0-B3A7-6E961E99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18841-C7D2-4A1D-B0A6-B86040EC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F37D-4320-4B1F-81BC-2B9193BB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CB44B-D40C-4BFD-A810-A6C8157F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A31F0-F575-474F-80F8-460359EC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980CD-2FAB-4226-AAE4-960183BA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72E4F-FD46-4ABC-A6A2-52DED143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2C6F0-0B4F-4F75-B91F-EF657885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B5559-48E9-414F-9C2E-86E8565F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1DF4E-70E0-45DE-A410-B3A64610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9ED9ED-E3F4-4EE7-9EA8-C8F836A8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8F03EF-E5B2-4F66-8792-AE66B285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010FFD-074C-42DC-AEB9-94991DCD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C25B-66B8-48A2-9CEE-1253BB5F6D6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B770-BC5B-4D78-9ADE-B71248677B6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7EAE-F951-4786-9757-99D2593E8C1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691D-4FA1-44E4-8B9B-97C148E3373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A3F2-929B-45C0-B10A-3DCD6B9F2D0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46AC-D186-4820-8D4F-4C03C469DEF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3EA6-B0D2-4305-A461-BE3370729C6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ED42-F503-4873-8F08-0826D3B2277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7930-E659-4022-9177-877D605FBBE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E0BF-9310-4DAF-81B6-6151AED4182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7BE3-1F0F-466E-A6C0-BEB24325E56C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A16B-648C-4EDA-9B25-ED5B6AA8BF9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214280" y="5000400"/>
            <a:ext cx="6858000" cy="9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УРОК УСВОЕНИЯ НОВЫХ ЗНАНИЙ В 6 КЛАССЕ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«ПРЕДСТАВЛЕНИЕ НЕЗНАКОМЦА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999720" y="2999880"/>
            <a:ext cx="735804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Приложение к уроку по теме:</a:t>
            </a:r>
            <a:br>
              <a:rPr sz="3800"/>
            </a:b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«Слова состояния»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8c61"/>
                </a:solidFill>
                <a:latin typeface="Georgia"/>
              </a:rPr>
              <a:t>Весна в нашем городе!</a:t>
            </a:r>
            <a:br>
              <a:rPr sz="2800"/>
            </a:b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3" name="Picture 8" descr="IMG_2528"/>
          <p:cNvPicPr/>
          <p:nvPr/>
        </p:nvPicPr>
        <p:blipFill>
          <a:blip r:embed="rId1"/>
          <a:stretch/>
        </p:blipFill>
        <p:spPr>
          <a:xfrm>
            <a:off x="2214720" y="4071960"/>
            <a:ext cx="4098600" cy="2519280"/>
          </a:xfrm>
          <a:prstGeom prst="rect">
            <a:avLst/>
          </a:prstGeom>
          <a:ln w="9360">
            <a:solidFill>
              <a:srgbClr val="648c61">
                <a:alpha val="96000"/>
              </a:srgbClr>
            </a:solidFill>
            <a:miter/>
          </a:ln>
        </p:spPr>
      </p:pic>
      <p:pic>
        <p:nvPicPr>
          <p:cNvPr id="634" name="Picture 8" descr="май 2007 038"/>
          <p:cNvPicPr/>
          <p:nvPr/>
        </p:nvPicPr>
        <p:blipFill>
          <a:blip r:embed="rId2"/>
          <a:stretch/>
        </p:blipFill>
        <p:spPr>
          <a:xfrm rot="860400">
            <a:off x="4981320" y="1638000"/>
            <a:ext cx="3905280" cy="25556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16" descr="наш город 17 мая 2007 092"/>
          <p:cNvPicPr/>
          <p:nvPr/>
        </p:nvPicPr>
        <p:blipFill>
          <a:blip r:embed="rId3"/>
          <a:stretch/>
        </p:blipFill>
        <p:spPr>
          <a:xfrm rot="21005400">
            <a:off x="417240" y="1308240"/>
            <a:ext cx="380988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- Одинаковой ли частью речи являются слова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c00000"/>
                </a:solidFill>
                <a:latin typeface="Georgia"/>
              </a:rPr>
              <a:t>Утро сегодня </a:t>
            </a:r>
            <a:r>
              <a:rPr b="1" i="1" lang="ru-RU" sz="2700" spc="-1" strike="noStrike">
                <a:solidFill>
                  <a:srgbClr val="c00000"/>
                </a:solidFill>
                <a:latin typeface="Georgia"/>
              </a:rPr>
              <a:t>радостн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c00000"/>
                </a:solidFill>
                <a:latin typeface="Georgia"/>
              </a:rPr>
              <a:t>Глаза светились </a:t>
            </a:r>
            <a:r>
              <a:rPr b="1" i="1" lang="ru-RU" sz="2700" spc="-1" strike="noStrike">
                <a:solidFill>
                  <a:srgbClr val="c00000"/>
                </a:solidFill>
                <a:latin typeface="Georgia"/>
              </a:rPr>
              <a:t>радостн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адайте вопрос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пробуйте  измени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пределите синтаксическую рол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- Определите линии сравнен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428760" y="1571760"/>
          <a:ext cx="8229600" cy="4727520"/>
        </p:xfrm>
        <a:graphic>
          <a:graphicData uri="http://schemas.openxmlformats.org/drawingml/2006/table">
            <a:tbl>
              <a:tblPr/>
              <a:tblGrid>
                <a:gridCol w="2057400"/>
                <a:gridCol w="2228760"/>
                <a:gridCol w="1886040"/>
                <a:gridCol w="2057400"/>
              </a:tblGrid>
              <a:tr h="379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инии 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бъекты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илага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дост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реч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дост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знаком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ов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14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меняется по родам, числам, падежа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изменя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 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 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11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радост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радост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8688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ru-RU" sz="2400" spc="-1" strike="noStrike">
                <a:solidFill>
                  <a:srgbClr val="7b9899"/>
                </a:solidFill>
                <a:latin typeface="Georgia"/>
              </a:rPr>
              <a:t>-Сравните слово </a:t>
            </a:r>
            <a:r>
              <a:rPr b="1" i="1" lang="ru-RU" sz="2400" spc="-1" strike="noStrike">
                <a:solidFill>
                  <a:srgbClr val="7b9899"/>
                </a:solidFill>
                <a:latin typeface="Georgia"/>
              </a:rPr>
              <a:t>радостно</a:t>
            </a:r>
            <a:r>
              <a:rPr b="0" lang="ru-RU" sz="2400" spc="-1" strike="noStrike">
                <a:solidFill>
                  <a:srgbClr val="7b9899"/>
                </a:solidFill>
                <a:latin typeface="Georgia"/>
              </a:rPr>
              <a:t> из предложения </a:t>
            </a:r>
            <a:r>
              <a:rPr b="0" lang="ru-RU" sz="2400" spc="-1" strike="noStrike">
                <a:solidFill>
                  <a:srgbClr val="a9432b"/>
                </a:solidFill>
                <a:latin typeface="Georgia"/>
              </a:rPr>
              <a:t>«На душе у ребят </a:t>
            </a:r>
            <a:r>
              <a:rPr b="1" i="1" lang="ru-RU" sz="2400" spc="-1" strike="noStrike">
                <a:solidFill>
                  <a:srgbClr val="a9432b"/>
                </a:solidFill>
                <a:latin typeface="Georgia"/>
              </a:rPr>
              <a:t>радостно</a:t>
            </a:r>
            <a:r>
              <a:rPr b="0" lang="ru-RU" sz="2400" spc="-1" strike="noStrike">
                <a:solidFill>
                  <a:srgbClr val="a9432b"/>
                </a:solidFill>
                <a:latin typeface="Georgia"/>
              </a:rPr>
              <a:t>» </a:t>
            </a:r>
            <a:r>
              <a:rPr b="0" lang="ru-RU" sz="2400" spc="-1" strike="noStrike">
                <a:solidFill>
                  <a:srgbClr val="7b9899"/>
                </a:solidFill>
                <a:latin typeface="Georgia"/>
              </a:rPr>
              <a:t>с известными частями речи. Заполните последнюю графу таблицы 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214200" y="1571760"/>
          <a:ext cx="8515440" cy="4879800"/>
        </p:xfrm>
        <a:graphic>
          <a:graphicData uri="http://schemas.openxmlformats.org/drawingml/2006/table">
            <a:tbl>
              <a:tblPr/>
              <a:tblGrid>
                <a:gridCol w="2343240"/>
                <a:gridCol w="2300400"/>
                <a:gridCol w="1814400"/>
                <a:gridCol w="2057400"/>
              </a:tblGrid>
              <a:tr h="519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инии 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бъекты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илага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дост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реч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дост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знаком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дост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ов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1384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морфологические при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меняется по родам, числам, падежа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изменя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24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морфемные при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 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 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синтаксические при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радост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радост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- Проверьте себя.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357120" y="1643040"/>
          <a:ext cx="8504280" cy="4286160"/>
        </p:xfrm>
        <a:graphic>
          <a:graphicData uri="http://schemas.openxmlformats.org/drawingml/2006/table">
            <a:tbl>
              <a:tblPr/>
              <a:tblGrid>
                <a:gridCol w="2125800"/>
                <a:gridCol w="2287440"/>
                <a:gridCol w="1965240"/>
                <a:gridCol w="2125800"/>
              </a:tblGrid>
              <a:tr h="389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Линии 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бъекты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илага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дост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реч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дост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Незнаком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00000"/>
                          </a:solidFill>
                          <a:latin typeface="Georgia"/>
                        </a:rPr>
                        <a:t>радост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89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ов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как? и каков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1153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рфологические при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меняется по родам, числам, падежа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изменя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не изменя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0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рфемные при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сть 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 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нет 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70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нтаксические при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радост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радост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Calibri"/>
                        </a:rPr>
                        <a:t>радостно</a:t>
                      </a:r>
                      <a:r>
                        <a:rPr b="0" lang="ru-RU" sz="44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Calibri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- Заполните таблицу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285840" y="1785960"/>
          <a:ext cx="8643960" cy="3529080"/>
        </p:xfrm>
        <a:graphic>
          <a:graphicData uri="http://schemas.openxmlformats.org/drawingml/2006/table">
            <a:tbl>
              <a:tblPr/>
              <a:tblGrid>
                <a:gridCol w="2214360"/>
                <a:gridCol w="2643480"/>
                <a:gridCol w="1625400"/>
                <a:gridCol w="2160720"/>
              </a:tblGrid>
              <a:tr h="5205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а душе у ребят </a:t>
                      </a: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адост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ходные чер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лага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еч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зличный глаг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22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роверьте себ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285840" y="1785960"/>
          <a:ext cx="8572320" cy="4449600"/>
        </p:xfrm>
        <a:graphic>
          <a:graphicData uri="http://schemas.openxmlformats.org/drawingml/2006/table">
            <a:tbl>
              <a:tblPr/>
              <a:tblGrid>
                <a:gridCol w="2143080"/>
                <a:gridCol w="2714760"/>
                <a:gridCol w="1714320"/>
                <a:gridCol w="2000160"/>
              </a:tblGrid>
              <a:tr h="947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а душе у ребят </a:t>
                      </a: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адост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ходные чер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лага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реч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зличный глаг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аков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ак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азуемое без подлежащ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казуем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 изменя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т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22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- </a:t>
            </a:r>
            <a:r>
              <a:rPr b="0" lang="ru-RU" sz="2800" spc="-1" strike="noStrike">
                <a:solidFill>
                  <a:srgbClr val="7b9899"/>
                </a:solidFill>
                <a:latin typeface="Georgia"/>
              </a:rPr>
              <a:t>Самостоятельно прочитайте § 120, используя значки.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٧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уже знал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+   новое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-   думал иначе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? есть вопросы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8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b9899"/>
                </a:solidFill>
                <a:latin typeface="Georgia"/>
              </a:rPr>
              <a:t>Соотнесите название частей речи и предложения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357120" y="1571760"/>
          <a:ext cx="8504280" cy="2977920"/>
        </p:xfrm>
        <a:graphic>
          <a:graphicData uri="http://schemas.openxmlformats.org/drawingml/2006/table">
            <a:tbl>
              <a:tblPr/>
              <a:tblGrid>
                <a:gridCol w="4253040"/>
                <a:gridCol w="4251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 Цветущее дерево красив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) нареч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 В лесу весной красив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) прилага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. Красиво плывут обла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) слово состоя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8:56:55Z</dcterms:created>
  <dc:creator>Admin</dc:creator>
  <dc:description/>
  <dc:language>en-US</dc:language>
  <cp:lastModifiedBy>Admin</cp:lastModifiedBy>
  <dcterms:modified xsi:type="dcterms:W3CDTF">2012-05-31T12:29:41Z</dcterms:modified>
  <cp:revision>24</cp:revision>
  <dc:subject/>
  <dc:title>Приложение к уроку по теме: «Слова состояния»</dc:title>
</cp:coreProperties>
</file>