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4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F0B8-9B5E-42C5-8C99-A8938D0C9F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7CF6-BF61-49AF-94EC-79C4104536D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B7A1-F987-4CEB-91D9-2480E376586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F28E-4FA1-4983-BE97-3DBCACBC5C2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BAE4-1BD1-4173-851E-F6BC6172B45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D33D-C683-4FA1-BFDC-8B906F3AB84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9DCF-5E9E-45B5-A50C-69CEECA06DA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76E1-19CF-4A95-914D-F2DE018645D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A873-CB8D-4379-8D44-1427D6BF22A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5B04-B2DD-4E8C-B356-7784F4DFB7C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3FD-2D06-49B6-8E0E-5A204C35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48E-00D9-4729-A56F-FBD1D07F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DE2-4420-4D45-A4B6-432BA1F8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A7A-7A8A-4C2E-BAAE-794C81F3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0A5C-74BF-4E20-8D62-BD6A9605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2EEF-725C-4CDB-BE75-33B95209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21C6-CE4A-436C-A550-DDCD8417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E5D2-C15E-4FFE-9307-4BEB091E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F656-E393-4B7D-9C41-E374C737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2A02-9733-4AF4-BA54-CB0E206F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1988-3275-4813-9194-75A81A13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7DE-3759-46FA-B80D-9F3738D1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8215-FD45-4676-BCDE-681B2DB9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00AE-EEC6-43FB-BE69-217E65D0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9CBA-0694-463B-8FBC-44AD55CD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8C8A-0631-4177-8FC6-F6465158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8E6E-8D40-47C1-BE89-E44D2726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86D-E1B9-456D-AE7D-4375DC26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652-C3E4-47F1-BAC2-FD3D435C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5F3-2D55-43F3-8C63-A6D058D6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4BA-F320-4E41-9575-8443429E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CB67-BA65-474A-9DAD-4A124A6D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2D5-9687-485F-8647-451B5ADE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B75-EABB-465C-A3D8-12B45456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AF6C-45A0-4545-8F64-19F07A27D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12EF-2951-483F-BC81-AFF4AAC50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Verdana"/>
              </a:rPr>
              <a:t>Ударени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27432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Шитова И.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БОУ «СОШ № 8 г. Петровска Саратовской области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012 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457200" y="3808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йонный семинар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учителей начальных класс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Отгадка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мок                           Замо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bLbIsauK4I0BBqItW6ubcoqNiPULk5jSzirCF7iqehen6AJMyYddAL7CWasIaIN1300310328175372"/>
          <p:cNvPicPr/>
          <p:nvPr/>
        </p:nvPicPr>
        <p:blipFill>
          <a:blip r:embed="rId2"/>
          <a:stretch/>
        </p:blipFill>
        <p:spPr>
          <a:xfrm>
            <a:off x="304920" y="2666880"/>
            <a:ext cx="316368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1_872_3"/>
          <p:cNvPicPr/>
          <p:nvPr/>
        </p:nvPicPr>
        <p:blipFill>
          <a:blip r:embed="rId3"/>
          <a:stretch/>
        </p:blipFill>
        <p:spPr>
          <a:xfrm>
            <a:off x="4191120" y="2379600"/>
            <a:ext cx="42670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vbLbIsauK4I0BBqItW6ubcoqNiPULk5jSzirCF7iqehen6AJMyYddAL7CWasIaIN1300310328175372"/>
          <p:cNvPicPr/>
          <p:nvPr/>
        </p:nvPicPr>
        <p:blipFill>
          <a:blip r:embed="rId2"/>
          <a:stretch/>
        </p:blipFill>
        <p:spPr>
          <a:xfrm>
            <a:off x="6094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1_872_3"/>
          <p:cNvPicPr/>
          <p:nvPr/>
        </p:nvPicPr>
        <p:blipFill>
          <a:blip r:embed="rId3"/>
          <a:stretch/>
        </p:blipFill>
        <p:spPr>
          <a:xfrm>
            <a:off x="6095880" y="1600200"/>
            <a:ext cx="2514600" cy="22352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609480" y="403848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934320" y="419112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6019920" y="419112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7848720" y="419112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7391520" y="4191120"/>
            <a:ext cx="45720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1066680" y="4038480"/>
            <a:ext cx="45720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1523880" y="403848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981080" y="4038480"/>
            <a:ext cx="45720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2438280" y="403848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rc 16"/>
          <p:cNvSpPr/>
          <p:nvPr/>
        </p:nvSpPr>
        <p:spPr>
          <a:xfrm rot="8114400">
            <a:off x="761400" y="4343400"/>
            <a:ext cx="533160" cy="533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rc 17"/>
          <p:cNvSpPr/>
          <p:nvPr/>
        </p:nvSpPr>
        <p:spPr>
          <a:xfrm rot="8114400">
            <a:off x="1752120" y="4176360"/>
            <a:ext cx="914400" cy="838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rc 18"/>
          <p:cNvSpPr/>
          <p:nvPr/>
        </p:nvSpPr>
        <p:spPr>
          <a:xfrm rot="8114400">
            <a:off x="7086240" y="4267080"/>
            <a:ext cx="914400" cy="911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rc 19"/>
          <p:cNvSpPr/>
          <p:nvPr/>
        </p:nvSpPr>
        <p:spPr>
          <a:xfrm rot="8114400">
            <a:off x="6172200" y="4495320"/>
            <a:ext cx="533520" cy="533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20"/>
          <p:cNvSpPr/>
          <p:nvPr/>
        </p:nvSpPr>
        <p:spPr>
          <a:xfrm flipH="1">
            <a:off x="2209320" y="36576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21"/>
          <p:cNvSpPr/>
          <p:nvPr/>
        </p:nvSpPr>
        <p:spPr>
          <a:xfrm flipH="1">
            <a:off x="6705360" y="38862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Рисунок 22" descr="0_25346_3988edc7_S.gif"/>
          <p:cNvPicPr/>
          <p:nvPr/>
        </p:nvPicPr>
        <p:blipFill>
          <a:blip r:embed="rId4"/>
          <a:stretch/>
        </p:blipFill>
        <p:spPr>
          <a:xfrm>
            <a:off x="3276720" y="0"/>
            <a:ext cx="2471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Тема урок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Прямоугольник 3" descr=""/>
          <p:cNvPicPr/>
          <p:nvPr/>
        </p:nvPicPr>
        <p:blipFill>
          <a:blip r:embed="rId2"/>
          <a:stretch/>
        </p:blipFill>
        <p:spPr>
          <a:xfrm>
            <a:off x="42840" y="2146320"/>
            <a:ext cx="92044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1288394302_chasy-1"/>
          <p:cNvPicPr/>
          <p:nvPr/>
        </p:nvPicPr>
        <p:blipFill>
          <a:blip r:embed="rId2"/>
          <a:stretch/>
        </p:blipFill>
        <p:spPr>
          <a:xfrm>
            <a:off x="609480" y="228600"/>
            <a:ext cx="3619800" cy="361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strelba"/>
          <p:cNvPicPr/>
          <p:nvPr/>
        </p:nvPicPr>
        <p:blipFill>
          <a:blip r:embed="rId3"/>
          <a:stretch/>
        </p:blipFill>
        <p:spPr>
          <a:xfrm>
            <a:off x="4267080" y="609480"/>
            <a:ext cx="4648320" cy="3083040"/>
          </a:xfrm>
          <a:prstGeom prst="rect">
            <a:avLst/>
          </a:prstGeom>
          <a:ln w="0">
            <a:noFill/>
          </a:ln>
        </p:spPr>
      </p:pic>
      <p:sp>
        <p:nvSpPr>
          <p:cNvPr id="125" name="WordArt 6"/>
          <p:cNvSpPr txBox="1"/>
          <p:nvPr/>
        </p:nvSpPr>
        <p:spPr>
          <a:xfrm>
            <a:off x="1143000" y="5181480"/>
            <a:ext cx="3200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рел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5257800" y="5029200"/>
            <a:ext cx="3090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рел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2666520" y="38862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9"/>
          <p:cNvSpPr/>
          <p:nvPr/>
        </p:nvSpPr>
        <p:spPr>
          <a:xfrm flipH="1">
            <a:off x="8152920" y="48006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Arc 10"/>
          <p:cNvSpPr/>
          <p:nvPr/>
        </p:nvSpPr>
        <p:spPr>
          <a:xfrm rot="7961400">
            <a:off x="1591560" y="4933800"/>
            <a:ext cx="1143000" cy="1307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rc 11"/>
          <p:cNvSpPr/>
          <p:nvPr/>
        </p:nvSpPr>
        <p:spPr>
          <a:xfrm rot="8114400">
            <a:off x="3692160" y="5368680"/>
            <a:ext cx="533520" cy="533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rc 12"/>
          <p:cNvSpPr/>
          <p:nvPr/>
        </p:nvSpPr>
        <p:spPr>
          <a:xfrm rot="8114400">
            <a:off x="7502400" y="5520960"/>
            <a:ext cx="533520" cy="533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rc 13"/>
          <p:cNvSpPr/>
          <p:nvPr/>
        </p:nvSpPr>
        <p:spPr>
          <a:xfrm rot="8114400">
            <a:off x="5312880" y="4932000"/>
            <a:ext cx="1371600" cy="1371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3" name="Group 24"/>
          <p:cNvGrpSpPr/>
          <p:nvPr/>
        </p:nvGrpSpPr>
        <p:grpSpPr>
          <a:xfrm>
            <a:off x="1066680" y="4191120"/>
            <a:ext cx="3200400" cy="457200"/>
            <a:chOff x="1066680" y="4191120"/>
            <a:chExt cx="3200400" cy="457200"/>
          </a:xfrm>
        </p:grpSpPr>
        <p:sp>
          <p:nvSpPr>
            <p:cNvPr id="134" name="Rectangle 6"/>
            <p:cNvSpPr/>
            <p:nvPr/>
          </p:nvSpPr>
          <p:spPr>
            <a:xfrm>
              <a:off x="1066680" y="4191120"/>
              <a:ext cx="45720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1523880" y="4191120"/>
              <a:ext cx="45720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Rectangle 6"/>
            <p:cNvSpPr/>
            <p:nvPr/>
          </p:nvSpPr>
          <p:spPr>
            <a:xfrm>
              <a:off x="1981080" y="4191120"/>
              <a:ext cx="457200" cy="45720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Rectangle 6"/>
            <p:cNvSpPr/>
            <p:nvPr/>
          </p:nvSpPr>
          <p:spPr>
            <a:xfrm>
              <a:off x="2438280" y="4191120"/>
              <a:ext cx="457200" cy="45720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2895480" y="4191120"/>
              <a:ext cx="45720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3352680" y="4191120"/>
              <a:ext cx="457200" cy="45720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>
              <a:off x="3809880" y="4191120"/>
              <a:ext cx="457200" cy="457200"/>
            </a:xfrm>
            <a:prstGeom prst="rect">
              <a:avLst/>
            </a:prstGeom>
            <a:solidFill>
              <a:srgbClr val="ff3c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1" name="Arc 10"/>
          <p:cNvSpPr/>
          <p:nvPr/>
        </p:nvSpPr>
        <p:spPr>
          <a:xfrm rot="7961400">
            <a:off x="1541520" y="3951360"/>
            <a:ext cx="1466640" cy="1520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Arc 11"/>
          <p:cNvSpPr/>
          <p:nvPr/>
        </p:nvSpPr>
        <p:spPr>
          <a:xfrm rot="8114400">
            <a:off x="3616200" y="4530240"/>
            <a:ext cx="533520" cy="533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4038120" y="38862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8"/>
          <p:cNvSpPr/>
          <p:nvPr/>
        </p:nvSpPr>
        <p:spPr>
          <a:xfrm flipH="1">
            <a:off x="2666520" y="487692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3809880" cy="3353040"/>
          </a:xfrm>
          <a:prstGeom prst="rect">
            <a:avLst/>
          </a:prstGeom>
          <a:ln w="9360">
            <a:solidFill>
              <a:srgbClr val="ff4747"/>
            </a:solidFill>
            <a:miter/>
          </a:ln>
        </p:spPr>
      </p:pic>
      <p:sp>
        <p:nvSpPr>
          <p:cNvPr id="147" name="WordArt 5"/>
          <p:cNvSpPr txBox="1"/>
          <p:nvPr/>
        </p:nvSpPr>
        <p:spPr>
          <a:xfrm>
            <a:off x="685800" y="5486400"/>
            <a:ext cx="3200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л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8" name="WordArt 6"/>
          <p:cNvSpPr txBox="1"/>
          <p:nvPr/>
        </p:nvSpPr>
        <p:spPr>
          <a:xfrm>
            <a:off x="5105520" y="5410080"/>
            <a:ext cx="3200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л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9" name="Arc 7"/>
          <p:cNvSpPr/>
          <p:nvPr/>
        </p:nvSpPr>
        <p:spPr>
          <a:xfrm rot="7961400">
            <a:off x="905760" y="5619600"/>
            <a:ext cx="1143000" cy="1307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rc 8"/>
          <p:cNvSpPr/>
          <p:nvPr/>
        </p:nvSpPr>
        <p:spPr>
          <a:xfrm rot="7961400">
            <a:off x="5249160" y="5543280"/>
            <a:ext cx="1143000" cy="1307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rc 9"/>
          <p:cNvSpPr/>
          <p:nvPr/>
        </p:nvSpPr>
        <p:spPr>
          <a:xfrm rot="8114400">
            <a:off x="2798280" y="6003720"/>
            <a:ext cx="762120" cy="685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rc 10"/>
          <p:cNvSpPr/>
          <p:nvPr/>
        </p:nvSpPr>
        <p:spPr>
          <a:xfrm rot="8114400">
            <a:off x="7370280" y="6003720"/>
            <a:ext cx="762120" cy="685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Line 11"/>
          <p:cNvSpPr/>
          <p:nvPr/>
        </p:nvSpPr>
        <p:spPr>
          <a:xfrm flipH="1">
            <a:off x="1676160" y="533412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13" descr="C:\Users\атто\Desktop\Шитова\картинки\16362.jpeg"/>
          <p:cNvPicPr/>
          <p:nvPr/>
        </p:nvPicPr>
        <p:blipFill>
          <a:blip r:embed="rId3"/>
          <a:stretch/>
        </p:blipFill>
        <p:spPr>
          <a:xfrm>
            <a:off x="4572000" y="762120"/>
            <a:ext cx="4262400" cy="3429000"/>
          </a:xfrm>
          <a:prstGeom prst="rect">
            <a:avLst/>
          </a:prstGeom>
          <a:ln w="9360">
            <a:solidFill>
              <a:srgbClr val="ff4747"/>
            </a:solidFill>
            <a:miter/>
          </a:ln>
        </p:spPr>
      </p:pic>
      <p:sp>
        <p:nvSpPr>
          <p:cNvPr id="155" name="Line 12"/>
          <p:cNvSpPr/>
          <p:nvPr/>
        </p:nvSpPr>
        <p:spPr>
          <a:xfrm flipH="1">
            <a:off x="8152920" y="52578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010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«Букварь» стр. 78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c68e6a19c4d4"/>
          <p:cNvPicPr/>
          <p:nvPr/>
        </p:nvPicPr>
        <p:blipFill>
          <a:blip r:embed="rId2"/>
          <a:stretch/>
        </p:blipFill>
        <p:spPr>
          <a:xfrm>
            <a:off x="4800600" y="30481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6912"/>
          <p:cNvPicPr/>
          <p:nvPr/>
        </p:nvPicPr>
        <p:blipFill>
          <a:blip r:embed="rId3"/>
          <a:stretch/>
        </p:blipFill>
        <p:spPr>
          <a:xfrm>
            <a:off x="4876920" y="609480"/>
            <a:ext cx="1714320" cy="1657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Convallaria"/>
          <p:cNvPicPr/>
          <p:nvPr/>
        </p:nvPicPr>
        <p:blipFill>
          <a:blip r:embed="rId4"/>
          <a:stretch/>
        </p:blipFill>
        <p:spPr>
          <a:xfrm>
            <a:off x="7010280" y="4419720"/>
            <a:ext cx="1508400" cy="1600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plum-tree-sliva"/>
          <p:cNvPicPr/>
          <p:nvPr/>
        </p:nvPicPr>
        <p:blipFill>
          <a:blip r:embed="rId5"/>
          <a:stretch/>
        </p:blipFill>
        <p:spPr>
          <a:xfrm>
            <a:off x="6858000" y="1371600"/>
            <a:ext cx="1981080" cy="1884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"/>
          <p:cNvPicPr/>
          <p:nvPr/>
        </p:nvPicPr>
        <p:blipFill>
          <a:blip r:embed="rId6"/>
          <a:stretch/>
        </p:blipFill>
        <p:spPr>
          <a:xfrm>
            <a:off x="609480" y="838080"/>
            <a:ext cx="4102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Оживи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лово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886200" cy="3429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Users\атто\Desktop\Шитова\картинки\images (1).jpg"/>
          <p:cNvPicPr/>
          <p:nvPr/>
        </p:nvPicPr>
        <p:blipFill>
          <a:blip r:embed="rId3"/>
          <a:stretch/>
        </p:blipFill>
        <p:spPr>
          <a:xfrm>
            <a:off x="2743200" y="1752480"/>
            <a:ext cx="3505320" cy="4227480"/>
          </a:xfrm>
          <a:prstGeom prst="rect">
            <a:avLst/>
          </a:prstGeom>
          <a:ln w="9360">
            <a:solidFill>
              <a:srgbClr val="ff3c3c"/>
            </a:solidFill>
            <a:miter/>
          </a:ln>
        </p:spPr>
      </p:pic>
      <p:pic>
        <p:nvPicPr>
          <p:cNvPr id="165" name="Picture 7" descr="C:\Users\атто\Desktop\Шитова\картинки\images.jpg"/>
          <p:cNvPicPr/>
          <p:nvPr/>
        </p:nvPicPr>
        <p:blipFill>
          <a:blip r:embed="rId4"/>
          <a:stretch/>
        </p:blipFill>
        <p:spPr>
          <a:xfrm>
            <a:off x="5181480" y="1371600"/>
            <a:ext cx="3143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Рефлексия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7-конечная звезда 5"/>
          <p:cNvSpPr/>
          <p:nvPr/>
        </p:nvSpPr>
        <p:spPr>
          <a:xfrm>
            <a:off x="838080" y="1905120"/>
            <a:ext cx="1600200" cy="1904760"/>
          </a:xfrm>
          <a:prstGeom prst="pie">
            <a:avLst/>
          </a:prstGeom>
          <a:solidFill>
            <a:srgbClr val="cc0000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7-конечная звезда 7"/>
          <p:cNvSpPr/>
          <p:nvPr/>
        </p:nvSpPr>
        <p:spPr>
          <a:xfrm>
            <a:off x="3200400" y="3124080"/>
            <a:ext cx="1600200" cy="1905120"/>
          </a:xfrm>
          <a:prstGeom prst="pie">
            <a:avLst/>
          </a:prstGeom>
          <a:solidFill>
            <a:srgbClr val="00b050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7-конечная звезда 8"/>
          <p:cNvSpPr/>
          <p:nvPr/>
        </p:nvSpPr>
        <p:spPr>
          <a:xfrm>
            <a:off x="5943600" y="4191120"/>
            <a:ext cx="1600200" cy="1904760"/>
          </a:xfrm>
          <a:prstGeom prst="pie">
            <a:avLst/>
          </a:prstGeom>
          <a:solidFill>
            <a:srgbClr val="0070c0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3T10:38:2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