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A6B-603D-4D7B-9D11-B15063A9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963-2EA4-4F39-9326-6D9D58B2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401-0EF2-43F1-8F4C-7A895FB3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59E-B110-49BD-A9C1-016E10CC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F9F5-ADEC-4354-8178-7325541A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E755-521C-4D93-B6A1-C88D6D94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11FD-33A9-4887-BAC5-821A0676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0AAE-AD0D-46DC-B3ED-E3B97EB5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48B2-B555-437E-83B3-9646CA5A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0EB1-3762-450B-BA9E-E8A55612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DC89-049F-4376-B74A-3E8BFE1E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8BD-041C-4A4E-9571-4E0FA60F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D40E-2154-445E-9F83-B8FC1E44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F725-9E9B-4B2B-99DA-119F8196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7CB3-A9DA-44D1-9CE2-4819E0D6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C5C8-7B70-4FE2-8557-6ABDAE2B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09F4-61FC-47F0-AC7A-1FC46E79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6D3-392E-4489-AE93-A621281F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CB2-73E7-4B20-AF43-F215DE61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0B9-C225-41CF-998A-FE6A66F2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191-3E50-4DB8-9284-B51E09A1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6EB-CCDE-44B9-9B27-835D720D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77A-C5D9-4B97-ACCD-F1DFF806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725-D866-477B-A6D8-5F2C9F1B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8136-67C5-4CAB-8E5F-E294EBFB9563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FA4D-5F3B-4E26-AE75-DBDB4A0B6B8C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Times New Roman"/>
              </a:rPr>
              <a:t>Адресаты пушкинской лирики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ИТЕРАТУРНЫЙ БА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Чаадае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чаадаев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3" name="чаадаев1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М.Н. Волконска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волкон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8" name="волконская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Московская гостья З.И. Волконска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москва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790800" cy="4114800"/>
          </a:xfrm>
          <a:prstGeom prst="rect">
            <a:avLst/>
          </a:prstGeom>
          <a:ln w="0">
            <a:noFill/>
          </a:ln>
        </p:spPr>
      </p:pic>
      <p:pic>
        <p:nvPicPr>
          <p:cNvPr id="153" name="з.а.в.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нна Кер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керн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керн1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2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Музыка стихла. По залу пробегает легкий шепот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вар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.С.Пушкин и Н.Н. Гончаров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пу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66" name="ланская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Мадонн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стих%20гон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ал завершается. Зал опустел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зала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174" name="занавес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анкт-Петербург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зимний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зимний2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АЛ, БАЛ, БАЛ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бал5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Все в ожидании чуда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бал1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4190760"/>
          </a:xfrm>
          <a:prstGeom prst="rect">
            <a:avLst/>
          </a:prstGeom>
          <a:ln w="0">
            <a:noFill/>
          </a:ln>
        </p:spPr>
      </p:pic>
      <p:pic>
        <p:nvPicPr>
          <p:cNvPr id="114" name="бал6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И.И. Пущи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Мой первый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друг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мой друг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бесценный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пущин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рузья-лицеист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дельвиг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лицей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6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В.А. Жуковский и Языко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жуковский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языков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а самая «милая Бакунина»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бакунина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3" name="бал4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Чета Воронцовых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воронцов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8" name="воронцова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оловьева Л.С.</cp:lastModifiedBy>
  <dcterms:modified xsi:type="dcterms:W3CDTF">2012-05-30T18:54:48Z</dcterms:modified>
  <cp:revision>5</cp:revision>
  <dc:subject/>
  <dc:title>Адресаты пушкинской лирики</dc:title>
</cp:coreProperties>
</file>