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7C0-AEBB-4C98-97BE-24F2FD4D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BEE-47CA-42F0-AC57-9B8ECA4D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B29-AD86-4B92-AE75-F87803C9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D58-BC23-48FF-A235-5D817015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F0AD-78AB-4BDE-89F9-B05EB6B3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CA2C-54C1-49E9-A7BF-F56FD756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C9BC-6483-4251-985C-CE546E81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C0C2-FEC7-4798-B188-EF6A215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39A5-D1EC-4E3F-BFD9-1066F177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FFA9-E754-49F5-8EB7-69F639C2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6172-0C2F-443F-B7BC-E237EF7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C26-DC86-4BE3-9961-A2C7C26F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9EC8-AF78-417E-99CB-C9567A26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F443-3151-4392-9273-A7B8911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B7D6-245B-479F-A67A-DF5287F2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7102-60C9-4267-9724-14110827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27CA-226E-49F9-8617-E39F1C71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FD2-D20C-4199-86E9-EBB5FA94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36D-C988-4EE0-997D-965ACCB6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760-BCFD-44C0-BF8A-0C8B7555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4AE-5252-493E-8022-589DCCB6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E7F-5DBB-4788-AEFA-C3FCED4A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52D-6AF8-4EC4-BDA7-0DC81CFB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F1C-0946-4356-BEAC-4BEAF7C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66FB-A1BD-4093-9A6B-7CAAE51F449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5429-4E2A-404B-BA3C-ED1CB3843072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Times New Roman"/>
              </a:rPr>
              <a:t>Адресаты пушкинской лирики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ИТЕРАТУРНЫЙ БА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Чаадае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чаадаев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3" name="чаадаев1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.Н. Волконска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волкон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8" name="волконская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осковская гостья З.И. Волконска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москва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7908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з.а.в.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нна Кер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керн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керн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2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узыка стихла. По залу пробегает легкий шепот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вар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.С.Пушкин и Н.Н. Гончаров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пу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6" name="ланская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адонн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стих%20гон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ал завершается. Зал опустел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зала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174" name="занавес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анкт-Петербург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зимний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зимний2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АЛ, БАЛ, БАЛ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бал5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се в ожидании чуда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бал1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4190760"/>
          </a:xfrm>
          <a:prstGeom prst="rect">
            <a:avLst/>
          </a:prstGeom>
          <a:ln w="0">
            <a:noFill/>
          </a:ln>
        </p:spPr>
      </p:pic>
      <p:pic>
        <p:nvPicPr>
          <p:cNvPr id="114" name="бал6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.И. Пущи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Мой первый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друг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мой друг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бесценный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пущин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рузья-лицеист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дельвиг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лицей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6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.А. Жуковский и Языко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жуковский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языков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а самая «милая Бакунина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бакунина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3" name="бал4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Чета Воронцовых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воронцов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воронцова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ловьева Л.С.</cp:lastModifiedBy>
  <dcterms:modified xsi:type="dcterms:W3CDTF">2012-05-30T18:54:48Z</dcterms:modified>
  <cp:revision>5</cp:revision>
  <dc:subject/>
  <dc:title>Адресаты пушкинской лирики</dc:title>
</cp:coreProperties>
</file>