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E686-1B00-4FFD-AA93-757E49D8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5DB-9944-4724-AA1F-F633DBEC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9CE3-E443-4D5E-8330-47E66E80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446-7835-4EB1-B695-6B2216A0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99A0-15B5-41EF-A12D-0EF909F9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CED6-E68E-4B85-8493-CBC02175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5DFF-FC0C-40A8-A8BC-522C88C3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4B7D-3986-4E7D-8D3A-49226D97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8A21-C0EA-44C6-9ABE-AD9DA9D7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4E8C-4C75-4037-9496-2D7EAEBB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B533-AEF2-4F36-A5AF-B065D675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E69-CBD7-4AED-9B5B-29E68B18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1F30-5D9E-45C0-ACAC-77FB74C4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6E69-5FC5-4968-A59C-570980CF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D799-0013-417D-8304-849A4950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E0C1-619F-4FE9-8C3C-C8BD706A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E686-BF7A-4C7B-8DEC-91F40E5A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653ED-BEAB-4E92-8521-D72209FC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33117-431C-4377-AD2B-352CE310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58543-562D-4231-ACB1-444DFB16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805F8-663A-43E4-B80F-9344A544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D6D93-163A-41A6-8EAA-74D7BA1F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EB1-1BF0-4042-B941-120311C0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962F2-9260-43BC-BAF5-80C007B8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59222-C9CD-4CE6-8C01-2FBE4944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2D079-749F-42EC-AF04-7923FA66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0F6A0-03C4-464E-AFF6-E272E341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BC029-DEAE-4252-8D66-F0EFCC8A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182FA-A21F-49E3-81BD-2E450B86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E4D3A-3E0C-4934-BFBE-468107F1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21010-376F-4681-89F7-5DD941FB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A642E-FE17-43C4-B10E-8D35959D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47B37-D038-4824-8B2A-C8C91181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7E0-1B71-4CAC-8E54-4DE7DB0A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AFF6B-5907-4C40-B8FB-4D20E53C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DF1DE-572B-4B3A-8BBF-E323A69C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9BE73-5AC2-419A-AAE1-5AC810A1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653A0-7458-4408-91F5-8C374C0B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2769E-FE53-4540-984C-C4823058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15AC3-9EC6-4D60-AAEF-AF027462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6A2EA-EEEB-4C04-B69A-69BF147E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C545C-F41D-4E35-8FAE-44353530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B84DF-94F7-4C08-A717-052C0D73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215D5E-507F-4DD2-8F97-BA97D575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C537-B32D-4D5B-BC00-BDC59B73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FBFC14-2CAA-438E-8C00-67D06792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180039-BF8A-48CC-9545-8E38A4E3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3D02A5-0A46-4D1D-805F-2AEEBDEA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8ACB7D-61C6-4009-9D61-F7F6664F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F40566-12A7-428D-BE8C-378DD298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7A32E7-C59D-43D1-A702-8B2CB5E7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626CB6-249E-4AF5-AA97-CED38BA4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4CE03A-EF48-4779-AC00-BD0C1D58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6EB8EE-4BE1-4EA4-AD44-8072A19A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8817E0-2D93-4767-A72A-513FC363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168-AD76-4BF8-9071-3F867CB8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668511-93C7-4A23-A5AA-FDFEDC0B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A9B7BA-348D-453F-B75D-9F736B89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D7F503-8F64-4FE9-A0C5-8C4A0A74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0735E6-DF79-4A15-A5B7-89E59624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F66E36-82B3-4A8B-8B8B-690E221C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E0C0A7-3158-41E2-8FEE-9A5A606F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CE07A4-65DB-463E-A2BF-B4294171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E0F28C-919C-4E3C-AFD3-DC98C87C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74B2B3-3282-4289-90D7-3BB8E53B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26D864-DEB3-4643-A24F-B73012F9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501-18EF-4767-A3FD-8D42EB34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E71292-2836-461A-BF0C-3A377FBA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D46A48-FEAE-41C6-8D57-95CA5F82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368248-45FA-48BF-850C-C4AB2BD5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F37D3-08D2-4368-87B6-1E31A70E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1619F-A59D-4E40-91FC-2AD4ED90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46CDF-342C-4CD7-8CCB-25AE7FC4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A49F9-909D-4578-A335-B77FEF5E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BF32C-F9AE-4CF3-8CDC-B8F3D44B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9F080-2F5B-4441-B67B-F4087B13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E4AF9-5CD7-47CA-9867-F7FDCFEB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A9F-48BE-49FF-BD91-3CDBAE0F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2E640-71F7-45DE-AE74-B072FD52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54C51-F1B3-4493-BF36-0DCEA823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2D0BE-FAF9-4E19-A355-B16B2ED1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80101-FEDC-4F6F-A00E-F111C4DB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99F98-54B7-4A8F-BBE3-EBFAD3F0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58794B-B163-46B5-8E20-01909E57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B12463-57DE-4ACE-BEA4-51A21949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782D3B-F4E3-419A-87EF-8B16C711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5BDBA2-FCB3-4346-AD5B-2B0F6D2C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050120-1E00-44A1-84BD-B240D816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734-EE70-4F1A-B382-721A528B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90D77E-2884-487B-9CFB-082F4D2F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89436D-7718-48F1-888B-64A969B5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FE7739-BFBC-41FD-B62E-9F9FB025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321E12-55EC-4B5C-9C1B-DC0F75D4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CBAD9A-3444-4100-B00A-CB762EE9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0DCBF7-7828-4E22-A813-803962B9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54A9C6-4F5C-4C27-A14A-9E10051A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C4FA-8CD2-4B12-AE6F-542A342287B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7C1E-9E60-4D34-A54A-EDB2C57BAAB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2A1D-EB37-484B-B15C-290964CCF56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AE08-A870-4DB6-A3F3-D3AB1258CDF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3A9E-BB83-466F-BE27-3C72D78365B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1F09-3D7A-48D6-AC23-5DB77DD382A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7568-B966-4BFE-845A-51C9260CB6A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2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B366-A8DD-4919-8769-D25A832BAE5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dt" idx="2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4"/>
          <p:cNvSpPr/>
          <p:nvPr/>
        </p:nvSpPr>
        <p:spPr>
          <a:xfrm>
            <a:off x="1258920" y="191628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Text Box 5" descr=""/>
          <p:cNvPicPr/>
          <p:nvPr/>
        </p:nvPicPr>
        <p:blipFill>
          <a:blip r:embed="rId1"/>
          <a:stretch/>
        </p:blipFill>
        <p:spPr>
          <a:xfrm>
            <a:off x="-6480" y="1828800"/>
            <a:ext cx="9156960" cy="14810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6"/>
          <p:cNvSpPr/>
          <p:nvPr/>
        </p:nvSpPr>
        <p:spPr>
          <a:xfrm>
            <a:off x="5072040" y="3714840"/>
            <a:ext cx="33116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ork has been do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Tiunova K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ach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ukhova N.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2700360" y="4762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Secondary school 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345" name="WordArt 6" descr=""/>
          <p:cNvPicPr/>
          <p:nvPr/>
        </p:nvPicPr>
        <p:blipFill>
          <a:blip r:embed="rId2"/>
          <a:stretch/>
        </p:blipFill>
        <p:spPr>
          <a:xfrm>
            <a:off x="957240" y="689040"/>
            <a:ext cx="7016760" cy="2249280"/>
          </a:xfrm>
          <a:prstGeom prst="rect">
            <a:avLst/>
          </a:prstGeom>
          <a:ln w="0">
            <a:noFill/>
          </a:ln>
        </p:spPr>
      </p:pic>
      <p:pic>
        <p:nvPicPr>
          <p:cNvPr id="346" name="WordArt 7" descr=""/>
          <p:cNvPicPr/>
          <p:nvPr/>
        </p:nvPicPr>
        <p:blipFill>
          <a:blip r:embed="rId3"/>
          <a:stretch/>
        </p:blipFill>
        <p:spPr>
          <a:xfrm>
            <a:off x="927000" y="3333600"/>
            <a:ext cx="7588440" cy="2256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azanoff</cp:lastModifiedBy>
  <dcterms:modified xsi:type="dcterms:W3CDTF">2012-06-01T07:58:32Z</dcterms:modified>
  <cp:revision>66</cp:revision>
  <dc:subject/>
  <dc:title>The theme of my work is the genealogical tree of my family</dc:title>
</cp:coreProperties>
</file>