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341-D9A6-4126-82D5-022E2860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AC9-D3BB-42E3-ADCC-4A64B243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AB9-BC0D-43EA-AB4B-37553762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316-6BE0-480A-BD19-6A0843C3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A124-BD58-4C31-8A2C-1EC48D72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6682-8550-4132-AAD7-44FA1D41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FD9E-EE48-44EA-AD6F-3CACE790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B558-32CA-4379-8345-78C61AEE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FF34-19C8-4F08-9F61-C130DC78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AA19-7638-4440-BC3E-63C397D6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119D-3B80-45E7-A0AB-3BE79D56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89E-EB5F-4840-A91E-BC4A564D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1E81-76AA-420C-8B95-6FF06232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BD73-B20C-4947-9225-9C1A2554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1FC4-050F-45E9-B1B0-78A3B046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0C87-14F2-4808-9861-94C25B77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418E-856D-40D8-B4DF-FF1BE703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EB704-B80C-4C04-91F7-68F81FCF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72D38-DCC7-4160-9750-EA098B87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5BFAA-44D7-4702-9B0E-4A33B5E4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73D0C-B8C8-4410-AB94-3884F25B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C7E17-FC8F-4D09-ADDF-66AB4F4E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518-086F-48C3-9A6C-45D752D8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5BD95-7AFA-4223-9D06-E0D1127E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1B870-BA0A-41B8-96C7-5BF37624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766D3-BE09-4971-968B-190A0B6E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7456A-EF3F-4A65-8443-33BCE38F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B07DD-E9C0-46FE-8D92-B0DC075F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6E612-053C-43F4-A2D3-6BE6D4BF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42ADD-C27C-4546-AA9F-407465C8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32D6-674E-49A3-8ACE-E4446F52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B054-5E8E-4FF2-96DF-CBA59D42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A605-CADB-4A98-A98F-254C2A93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699-E3E5-4723-9D05-B3CB2AF1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5177A-6285-41A6-9E66-440F7023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D5BD-FD97-4434-8AF4-9B0B30D3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F999F-EAF8-4AAE-B8A3-3AF94751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0286-064E-48FE-A0EF-7950703B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42D12-A35B-4B31-B6FC-1C5E578F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AF68-178E-4843-90E7-1EC43A7D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C6519-51F9-4628-9707-10480556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D0AE1-4129-407F-AA6C-66B3196C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237E-776A-4153-A668-1A9EC105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EC448-2AF3-4F3C-94A8-20169133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929-F29A-4D13-A125-EC790982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BE0E4A-5F5C-455D-9BF0-A80B9EF8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DC4DA4-E040-4A9E-BBEC-8F61F86A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E1C762-6F2A-40DD-88E5-5311BAC0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9DB372-9DA4-4B83-9378-8989A1F3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00C859-AF29-4A10-B5EE-50DC9C18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4DF254-6F08-4755-B34E-C7A8651E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F0162F-4655-4C2A-8B9A-90DBC77E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295C94-2743-4B2A-BCE9-A1C694EA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3E4303-5F9B-4729-A4B0-DE50F08D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B17390-CD09-4717-BA97-13238B48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27F-C183-4BCE-ACAC-466EBA35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6F3B85-32C6-4E64-9487-03F3F20C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E2CD5-AF17-4DC3-9E53-F8CD2D82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B5659-49B3-4787-B4D5-8D34A65D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91D6A-FA53-4568-B651-326BDE4D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A262A-602E-49EA-95A6-2BDB972F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53A87-3256-4569-ADA3-F43CCFA4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0B9F4-0080-4F8D-AA93-FA50F0D0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071F2-1CC8-4AC1-85E7-6C9E60F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C9628-6658-4B48-BFDA-ABB88CDE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6919D-13D7-4084-8B0A-208EBA0A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ACE-5080-4059-90E6-A40CEE01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B2213-15A1-4302-A5BB-339F90A0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05CF0-936B-46CE-AD66-2FEAB7E8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555DB-7B4C-43C9-98C9-21234C17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33351-B56B-42A0-A8A9-A652B4B0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382A2-0ED8-4722-B095-F0219F7C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AEC65-A5DA-46F2-81B3-E2B200DD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A2300-DE0B-422D-8C5C-976414A4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F0DFF-3CEB-4624-9208-BE30EFCA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AA363-D0F9-4AF1-84EC-346ED6CC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CB996-4EB5-4E28-B24A-408125BF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778-574E-4E70-AA25-16F0CCAA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1CA0-A3F8-41D1-86A2-95054C5A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95934-56EE-4742-8EBA-5681189F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D54EB-402D-4CBE-977E-AD614DEE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4D321-250B-4E72-AABB-47E6C768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EC86E-BC7F-4AA8-8DF8-2892BE21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F779BD-44AA-4925-8448-101AF0F4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2E9E8E-F87F-4079-A8E1-3FE4D40B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2C9731-7849-49F6-86C9-5F124E45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6BC010-E6F1-4DD3-9A50-367CCF2E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6BA6CB-4629-4000-BE08-C62996D2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F88-FD0F-4F05-B31C-99884E37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F0B23D-8C94-43F7-910E-5D03E2BA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42996D-619C-4170-A962-6B16D1FA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FBB6FD-38B6-4801-BFBD-E5C64754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24F44B-6B06-4BE2-A2DB-92ACE92B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401388-9408-4DEC-8CD3-0C27736F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0FA3BD-019E-4CF2-9208-DE617AA0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4965B3-7B62-4195-8C57-DEA7EC0B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F4C1-9B6D-4561-9023-56A16E662C8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B79B-FE4E-4E29-9EF8-939B62F27BD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F189-D3E4-44F3-ADF4-57604AF372F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5189-0B8F-4B23-8225-967A54F30B1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3E25-764A-4025-9B0F-7267D0F888D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DE66-7B4D-4B73-B822-09BF6671683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7E60-5AAD-4CF9-BD64-9611E859786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6661-7A51-44DB-81DA-49379F7BA1D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1258920" y="191628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Text Box 5" descr=""/>
          <p:cNvPicPr/>
          <p:nvPr/>
        </p:nvPicPr>
        <p:blipFill>
          <a:blip r:embed="rId1"/>
          <a:stretch/>
        </p:blipFill>
        <p:spPr>
          <a:xfrm>
            <a:off x="-6480" y="1828800"/>
            <a:ext cx="9156960" cy="14810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6"/>
          <p:cNvSpPr/>
          <p:nvPr/>
        </p:nvSpPr>
        <p:spPr>
          <a:xfrm>
            <a:off x="5072040" y="3714840"/>
            <a:ext cx="3311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ork has been do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Tiunova K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ach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ukhova N.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700360" y="476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Secondary school </a:t>
            </a:r>
            <a:r>
              <a:rPr b="1" lang="ru-RU" sz="2400" spc="-1" strike="noStrike">
                <a:solidFill>
                  <a:srgbClr val="0d0d0d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345" name="WordArt 6" descr=""/>
          <p:cNvPicPr/>
          <p:nvPr/>
        </p:nvPicPr>
        <p:blipFill>
          <a:blip r:embed="rId2"/>
          <a:stretch/>
        </p:blipFill>
        <p:spPr>
          <a:xfrm>
            <a:off x="957240" y="689040"/>
            <a:ext cx="7016760" cy="2249280"/>
          </a:xfrm>
          <a:prstGeom prst="rect">
            <a:avLst/>
          </a:prstGeom>
          <a:ln w="0">
            <a:noFill/>
          </a:ln>
        </p:spPr>
      </p:pic>
      <p:pic>
        <p:nvPicPr>
          <p:cNvPr id="346" name="WordArt 7" descr=""/>
          <p:cNvPicPr/>
          <p:nvPr/>
        </p:nvPicPr>
        <p:blipFill>
          <a:blip r:embed="rId3"/>
          <a:stretch/>
        </p:blipFill>
        <p:spPr>
          <a:xfrm>
            <a:off x="927000" y="3333600"/>
            <a:ext cx="7588440" cy="2256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zanoff</cp:lastModifiedBy>
  <dcterms:modified xsi:type="dcterms:W3CDTF">2012-06-01T07:58:32Z</dcterms:modified>
  <cp:revision>66</cp:revision>
  <dc:subject/>
  <dc:title>The theme of my work is the genealogical tree of my family</dc:title>
</cp:coreProperties>
</file>