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63F0-4971-403C-8D67-CA9078BB6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1. to work with inform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write texts using symbols as a pla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unov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unova K.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nslate texts into 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can phot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s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To design an electronic album “Family Tre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slides (present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6FB4-A74C-4004-9E50-FBC7AC2C79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CE6-FFFB-4037-BC31-BFE15C9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7B5-8D44-4896-BAB1-F20806A6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CF4-29AC-43F6-AA85-1A022A72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BF1-03AA-4153-A346-BA0AE52D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A40A-BEAD-4996-855A-E8C8A9A4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B1632-A01D-4930-82C3-CFF1E6D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2AB09-B7DA-461C-B5B1-E501B791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B1C36-FD66-4E5C-9920-34F3AAF4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AF742-3035-4059-8C9C-0D7495BB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FB882-B4DB-4811-9902-1FAFDF7D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0878B-85E6-484F-8777-815ACE9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ABB-6B7E-4B05-A9E7-AD9E73E4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B384A-E45E-487A-801B-31FA669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A0FE2-9385-4346-9424-9B264EC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B0C42-8406-4BC0-B2AF-49552916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03E70-4947-4C5C-85EF-8B371A42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16E9C-17C5-4C0D-B9E4-B29853D6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47BB-8A2C-4A48-AE0A-FB670EBE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D4CF-47C1-4D77-A086-1242159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5AB4-D5E4-42D1-BE12-D7FEA96B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E415-541D-4502-BFC1-D52EE9DF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2F6E-7621-40F0-92A1-EEC0028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19E-817F-4EB3-AC49-97EEC8B1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2764-F798-4FFD-9471-6040ECA4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33E2-E170-419D-955F-CF3B952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DCE8-2403-44B3-9DED-0779FA8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0A47-8137-4ACC-9591-4731A67C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04A2-FF2E-4D43-918C-E0BD824F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9273-318D-4808-A27E-D74552DA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9A33-8CE5-4082-A749-28D4FE37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DFFC6-A018-4282-B702-EBA04CC6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F4329-3061-4D48-AAFF-1C22554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67C97-D6C2-4A35-B8C2-82D7289D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C05-FDD4-4941-A9C8-9AE494D5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C2B86-C5A1-4E70-949D-F816CAB8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8C9B9-574F-4145-A080-1387D05F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2363A-D1CC-4A58-801C-D495B89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0E115-1D16-4581-9371-8723DB8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EA928-63A9-4D4F-8F83-06987766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55355-476C-433F-B0CA-7EECE57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B60F0-A620-4525-B0AA-B9979A74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1E796-B411-4E3D-8537-C8385B9E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831A5-3B87-4E08-BDA3-BC2C29E2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A5E-DB33-452E-8797-301FB3DC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10C-C065-4A2B-81B4-21C8F16D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F20-6F69-476D-8B54-F10FFC0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EFB-21D1-40C2-8967-9234EC4C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20F-DB54-491F-B269-A6CF1AD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516D-99C5-44EE-9558-548EC16C3BF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7D00-2CF8-4E96-849E-0FEFEEAA6E9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CAFD-4C47-467E-A1BE-A38DD7060AF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63A9-9743-4A9C-8EE1-FB234A59E90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Объект 2" descr=""/>
          <p:cNvPicPr/>
          <p:nvPr/>
        </p:nvPicPr>
        <p:blipFill>
          <a:blip r:embed="rId1"/>
          <a:stretch/>
        </p:blipFill>
        <p:spPr>
          <a:xfrm>
            <a:off x="334800" y="1719360"/>
            <a:ext cx="8382240" cy="438300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:\Documents and Settings\Администратор\Рабочий стол\Изображение 003.jpg"/>
          <p:cNvPicPr/>
          <p:nvPr/>
        </p:nvPicPr>
        <p:blipFill>
          <a:blip r:embed="rId1"/>
          <a:stretch/>
        </p:blipFill>
        <p:spPr>
          <a:xfrm>
            <a:off x="714240" y="1571760"/>
            <a:ext cx="7729560" cy="435744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4" descr=""/>
          <p:cNvPicPr/>
          <p:nvPr/>
        </p:nvPicPr>
        <p:blipFill>
          <a:blip r:embed="rId2"/>
          <a:stretch/>
        </p:blipFill>
        <p:spPr>
          <a:xfrm>
            <a:off x="2951280" y="317520"/>
            <a:ext cx="268128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714680" y="1928880"/>
            <a:ext cx="57150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14200" y="1000080"/>
          <a:ext cx="8715600" cy="5338800"/>
        </p:xfrm>
        <a:graphic>
          <a:graphicData uri="http://schemas.openxmlformats.org/drawingml/2006/table">
            <a:tbl>
              <a:tblPr/>
              <a:tblGrid>
                <a:gridCol w="2000520"/>
                <a:gridCol w="1928520"/>
                <a:gridCol w="1714680"/>
                <a:gridCol w="1714320"/>
                <a:gridCol w="1357560"/>
              </a:tblGrid>
              <a:tr h="50004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first stage– prepa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o 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to 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to collect information about rel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work with albums, letters, dairi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2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o talk with parents about rel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ake an intervi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parents rel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to work out the scheme of the family tre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work in the Interne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a s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14200" y="406440"/>
          <a:ext cx="8715600" cy="5935680"/>
        </p:xfrm>
        <a:graphic>
          <a:graphicData uri="http://schemas.openxmlformats.org/drawingml/2006/table">
            <a:tbl>
              <a:tblPr/>
              <a:tblGrid>
                <a:gridCol w="1857600"/>
                <a:gridCol w="2071440"/>
                <a:gridCol w="1643040"/>
                <a:gridCol w="1857600"/>
                <a:gridCol w="1285920"/>
              </a:tblGrid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second stage – writ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to work with informa-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write texts using symbols as a plan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ranslate texts into Engl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scan photo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a s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3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o design an electronic album “Family Tree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make slides (presentatio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40" y="-3877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7:58:22Z</dcterms:modified>
  <cp:revision>66</cp:revision>
  <dc:subject/>
  <dc:title>The theme of my work is the genealogical tree of my family</dc:title>
</cp:coreProperties>
</file>