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ED5-3338-402F-8105-9873FD28F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1. to work with inform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write texts using symbols as a pla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unov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unova K.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late texts into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can phot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s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To design an electronic album “Family Tre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slides (present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unova K.     a 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138-C8D3-424E-862F-C39005CD82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8DA-0519-48F2-BE56-ECF2E054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B5B-8E08-451C-8328-04A24F84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656-61DB-43A4-8FD3-88DE0E43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A71-2824-4864-A803-0CE2F5C8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ED7F-3294-4AB3-8711-0CAAE10C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3D13D-9B0F-40DD-B298-F781A9B6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67776-BBD9-4B7D-94A8-CFD5265D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02D6B-B6B9-4F9B-97F0-01858BF7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0E79-640E-466C-B322-5542B031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F3B91-B95C-42F4-9FCB-C3DFC26B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E175-791F-4276-81B3-1355F43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07E-7185-4F08-9A8C-88283CD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9EEA-F1CB-44F9-B99B-ECF93ED3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9C204-7226-491F-B81B-22E521DD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3D1E5-8E51-40B8-9DE2-03EC5E43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B0A30-295B-4310-97A0-CEDCC8CE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0E25C-B8C5-486A-98BB-4DFD9B30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65BE9-F962-4A6C-8C67-CD4C556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77286-9F39-40B2-A86A-BFCC3893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6092-5C23-4BF7-B835-CB36E3D9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8230-2AA8-4B27-BEED-10A992D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7159-C2E1-4DBF-91D2-0377879E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0CB-045B-4522-8704-53E98BE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E41F-1722-4843-BF8E-0E66E09C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C08F-BFD8-4251-A751-2E30D320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53DC-1225-4990-B1B3-6A21CB6A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4724-468F-4599-BC7F-028B66A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FB9B-09BF-4CE4-9594-22F6268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7E3F-C7C3-4EEC-B477-82EAE0A1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ECAAF-59A6-4893-AF42-743F8C2C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38AFC-68EA-41FA-A3C7-432E0434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E63BE-9042-4D47-BA97-2900A4B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BF908-AB72-4E0D-8296-ACF6912A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499-B458-43BF-8202-7ECF8DC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B67351-7BB1-4812-9E93-497B98B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7B7E5-8CEE-4D56-867A-B8C5039E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9C0AD-F948-4219-BE2A-62AF7E7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C985B-4055-4FEF-A806-D5FDB8E2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8A4D7-F055-4C99-8570-F601F74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AE584-1089-43F3-B72F-31796406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2BE883-219A-41BB-8898-9416C41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63861-CB18-4C2E-BA24-74557F35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A9DEF-AC2A-425E-9173-8F32ABCC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55B-6382-4785-903B-F1790D4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8BE-3CCF-464F-8067-91DFCDC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C50-284B-409A-AB92-7A286B4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AEA9-F2BE-439B-AAAA-9871845E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535-2F1D-473C-911A-2953A52D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C16-FC4E-4177-9917-E2D19165A42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F38D-F721-4AB1-BFEC-31365BB6FA5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330A-69BA-4B27-A05C-450C89711EA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63F1-342A-4632-ABF9-1B5CD176463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2" descr=""/>
          <p:cNvPicPr/>
          <p:nvPr/>
        </p:nvPicPr>
        <p:blipFill>
          <a:blip r:embed="rId1"/>
          <a:stretch/>
        </p:blipFill>
        <p:spPr>
          <a:xfrm>
            <a:off x="334800" y="1719360"/>
            <a:ext cx="8382240" cy="438300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C:\Documents and Settings\Администратор\Рабочий стол\Изображение 003.jpg"/>
          <p:cNvPicPr/>
          <p:nvPr/>
        </p:nvPicPr>
        <p:blipFill>
          <a:blip r:embed="rId1"/>
          <a:stretch/>
        </p:blipFill>
        <p:spPr>
          <a:xfrm>
            <a:off x="714240" y="1571760"/>
            <a:ext cx="7729560" cy="43574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4" descr=""/>
          <p:cNvPicPr/>
          <p:nvPr/>
        </p:nvPicPr>
        <p:blipFill>
          <a:blip r:embed="rId2"/>
          <a:stretch/>
        </p:blipFill>
        <p:spPr>
          <a:xfrm>
            <a:off x="2951280" y="317520"/>
            <a:ext cx="268128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714680" y="1928880"/>
            <a:ext cx="571500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14200" y="1000080"/>
          <a:ext cx="8715600" cy="5338800"/>
        </p:xfrm>
        <a:graphic>
          <a:graphicData uri="http://schemas.openxmlformats.org/drawingml/2006/table">
            <a:tbl>
              <a:tblPr/>
              <a:tblGrid>
                <a:gridCol w="2000520"/>
                <a:gridCol w="1928520"/>
                <a:gridCol w="1714680"/>
                <a:gridCol w="1714320"/>
                <a:gridCol w="1357560"/>
              </a:tblGrid>
              <a:tr h="50004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first stage– prepa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at to 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w to 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collect information about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ork with albums, letters, dairi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112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talk with parents about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ake an intervi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parents relativ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nu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to work out the scheme of the family tre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ork in the Interne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a s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14200" y="406440"/>
          <a:ext cx="8715600" cy="5935680"/>
        </p:xfrm>
        <a:graphic>
          <a:graphicData uri="http://schemas.openxmlformats.org/drawingml/2006/table">
            <a:tbl>
              <a:tblPr/>
              <a:tblGrid>
                <a:gridCol w="1857600"/>
                <a:gridCol w="2071440"/>
                <a:gridCol w="1643040"/>
                <a:gridCol w="1857600"/>
                <a:gridCol w="1285920"/>
              </a:tblGrid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second stage – writin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work with informa-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write texts using symbols as a plan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translate texts into Engl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scan photo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a sis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3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design an electronic album “Family Tree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make slides (presentation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0040" y="-3877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7:58:22Z</dcterms:modified>
  <cp:revision>66</cp:revision>
  <dc:subject/>
  <dc:title>The theme of my work is the genealogical tree of my family</dc:title>
</cp:coreProperties>
</file>