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CAF-654C-497B-8059-1E13BFB6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3AE-8E68-442B-B309-79F2A807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01D-AD83-486C-A3A5-E3640ACF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473-3502-4292-9EFB-A6151EC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D6E3-B9CD-4303-A718-4D47194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556-406B-4E08-8ACE-27F8FA8E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B2E1-83C4-498B-B133-42A68861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A679-7D04-40A8-8B1C-C4221BFF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0C73-4CF7-4F06-A133-B70FD3D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1CB-A276-4BDC-9CBC-75A3169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2918-2F30-4EC6-AED6-5C75F5A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E71-24E1-4E08-A1DC-458F0FFB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BE86-11B4-46DF-A91E-ABF1925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FC0E-C9EE-4FA9-A2CA-9033D95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DA4-2E48-4EA2-9FCE-6B587D66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C7C2-0B36-4466-931E-E42AA371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7705-B958-483A-A0DC-CBA18667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5C98F-CBF3-4DCD-A255-022AB6AF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53013-A801-46EB-B3A5-9249BC7F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E83E8-6D16-4600-98CE-A5C88FFF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0122C-4D7D-440E-B8D5-0C46C373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D89C2-A683-4B57-BEB8-F27023B0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4CE-162A-4FA9-A297-A4363587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9C4BB-09A5-4754-AE60-A677695A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5D067-B9FE-45EB-A006-9F24C1F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460C4-E9E2-49C8-A4E1-95CBF70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129A4-FAD5-449A-85CC-B0232BA5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09405-A316-41C2-8832-0B89DBCB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61364-8D2E-4EE7-AFB5-93D99771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C0BD6-34EE-4A51-AF65-9C407EE4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7D35-5821-4978-AA21-0C5E68FB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2E599-46E6-4AF1-B92F-0940EC5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2F113-FF3A-4211-BE06-73870172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DED5-8318-4438-8886-F1E69B85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DFEA-2801-4279-81C1-91B4BC3D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DAF8C-32C1-4597-8669-A8B08C16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730E9-DD53-4622-9A4F-785A38ED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F5E4-3784-4AC0-8C92-855DF1F3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6499-42F3-4B97-A9EE-BC9471C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FAB41-0FA0-45E9-AFB2-EB124AA4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650C-3B65-4DB6-946B-B025EFFC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E7A8-270C-48D2-9498-C9692F0D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568AA-3DA8-442A-B45A-953470D0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0BA63-176F-4121-930C-5A2CD460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2B1-C4AB-4A6B-9230-53F0AB0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671C97-7D12-48FB-9638-C05F95F3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4E752-780E-4CB3-A135-2906323A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7B506-803B-4332-9312-8F330137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28B56-0E40-4879-A69C-356CA486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37FB0-0232-4C98-8547-172470AD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9ECE3-BAD2-4F8E-8BAA-BAA4B404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0BDAC3-44AF-4562-AC6A-690C83C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7A04B-C850-4EAF-B4F5-52AD66A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14D44E-2025-4342-9D39-7FB3D8B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952C78-5870-4179-91F5-B5CCBB17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5A0-6037-4D8A-9980-B776E604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1B4BE5-76F7-433B-9A1D-8F5F8E4B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66247-46BD-4CF9-975A-70C662B2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98B9C5-A85C-4D30-A30F-5D2B2FF6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94F67-D480-4C58-BC22-D8A5FAAB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B028E-CDB0-45E3-853B-3F34323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1EA48-DB69-4E3C-A3AB-E351F018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A895D-79F3-450E-AF45-5FA4390A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52A0EF-08ED-4537-94FD-70575EB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D9F8D-410B-40E4-B2BB-492B020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AA328-79C3-4A9A-BCF7-54211B0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BD2-191C-44CE-BEE0-48414C5F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1B255-0546-443D-A71E-C0E8A9CD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6F19D-23DD-4F1A-BB5B-41673590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9AC68-011D-484D-B900-B80929A7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B6061-3EC5-4DA4-88AF-9D99D0C1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357E2-230B-4DEE-9B86-16EBFE7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6AD34-80CA-461A-8B0D-14637050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B791A-0A08-4903-9469-8003E828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BDB9-5392-448B-80C9-F32DF88A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6B579-6849-4E6D-84B1-2769C6F5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FDB31-0A3A-4868-8EB6-1C46DE4A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110-CCB8-41DB-991A-15477C2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7C3C6-5A05-4E61-874B-EA402E49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20835-FB62-448A-926E-706084C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CF7C2-B680-49FD-BB55-5A4AB79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A3C3C-E337-43E6-9E9D-E63B5537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AF26-EFA5-4BEE-9868-CFE82959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587B4-6132-4167-B5CB-3546FBD2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DBDEEA-6477-4373-AC12-AC19C766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D30A1B-3963-4A32-94ED-A5031808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4A735-2B24-4E12-B437-F9883A89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E52B62-8FEE-4462-9159-0A825A9D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7F2-959E-426D-ABD6-D1FE573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0DE59F-564F-497B-AC36-0CBBD727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0C0496-5B4A-4341-BDBB-C0FA5E95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3144C-A6CF-441B-BA89-3E3D948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0F240C-D19A-4E74-86B3-4AFCAD65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9DD3AE-41F7-4FD7-ADED-AA6815F8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6B28AB-CF4A-42D1-BDA8-BB3A0FBD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C8F21-A4F6-4199-8DF0-8CB90C3C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E164-B121-4135-93CE-D039FB8F05A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F59-3C48-4C13-8A4A-65F75E255C6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117-E9C9-4155-9F88-11793B60FCE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D25-C253-49D0-AC20-859E8A07577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89E5-83ED-4A26-A481-A658238574E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704-5A83-4324-B011-62F2E0064F9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F86-FFEB-4CAC-9D5E-7735066488D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4D6-8BDE-455A-B9AF-7855F864596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Объект 2" descr=""/>
          <p:cNvPicPr/>
          <p:nvPr/>
        </p:nvPicPr>
        <p:blipFill>
          <a:blip r:embed="rId1"/>
          <a:stretch/>
        </p:blipFill>
        <p:spPr>
          <a:xfrm>
            <a:off x="828720" y="1494000"/>
            <a:ext cx="4913280" cy="4657680"/>
          </a:xfrm>
          <a:prstGeom prst="rect">
            <a:avLst/>
          </a:prstGeom>
          <a:ln w="0">
            <a:noFill/>
          </a:ln>
        </p:spPr>
      </p:pic>
      <p:pic>
        <p:nvPicPr>
          <p:cNvPr id="341" name="Заголовок 3" descr=""/>
          <p:cNvPicPr/>
          <p:nvPr/>
        </p:nvPicPr>
        <p:blipFill>
          <a:blip r:embed="rId2"/>
          <a:stretch/>
        </p:blipFill>
        <p:spPr>
          <a:xfrm>
            <a:off x="835200" y="146160"/>
            <a:ext cx="7858080" cy="1231920"/>
          </a:xfrm>
          <a:prstGeom prst="rect">
            <a:avLst/>
          </a:prstGeom>
          <a:ln w="0">
            <a:noFill/>
          </a:ln>
        </p:spPr>
      </p:pic>
      <p:sp>
        <p:nvSpPr>
          <p:cNvPr id="342" name="Улыбающееся лицо 4"/>
          <p:cNvSpPr/>
          <p:nvPr/>
        </p:nvSpPr>
        <p:spPr>
          <a:xfrm>
            <a:off x="1071720" y="4214880"/>
            <a:ext cx="285480" cy="285840"/>
          </a:xfrm>
          <a:prstGeom prst="smileyFace">
            <a:avLst>
              <a:gd name="adj" fmla="val 9282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5-конечная звезда 5"/>
          <p:cNvSpPr/>
          <p:nvPr/>
        </p:nvSpPr>
        <p:spPr>
          <a:xfrm>
            <a:off x="1000080" y="5143680"/>
            <a:ext cx="357120" cy="357120"/>
          </a:xfrm>
          <a:prstGeom prst="pi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357120" y="714240"/>
          <a:ext cx="8429760" cy="5143680"/>
        </p:xfrm>
        <a:graphic>
          <a:graphicData uri="http://schemas.openxmlformats.org/drawingml/2006/table">
            <a:tbl>
              <a:tblPr/>
              <a:tblGrid>
                <a:gridCol w="2143080"/>
                <a:gridCol w="1714680"/>
                <a:gridCol w="1714320"/>
                <a:gridCol w="1643040"/>
                <a:gridCol w="1214640"/>
              </a:tblGrid>
              <a:tr h="941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he third stage - conclus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to make a conclus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appreciate all stag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    a teac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2100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o perform the results of the 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show the project to relatives, and classm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unova K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8:01:12Z</dcterms:modified>
  <cp:revision>66</cp:revision>
  <dc:subject/>
  <dc:title>The theme of my work is the genealogical tree of my family</dc:title>
</cp:coreProperties>
</file>