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24B-5BD6-4831-8FDB-7F34E665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3A2-1DED-4B4E-BC0B-16734031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9FF-0F5D-4B5E-9F6E-A36AE197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163-91AB-4FAA-9886-56A01EB2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3704-91CA-4C46-9993-CA7F89E6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F52D-0EA7-46B7-B4EE-DB3D7A70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6255-F63D-4D52-B371-E66BFACF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8674-9430-4782-98D7-F86749C9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7AC8-AF27-47D5-9AD8-9E76AC6F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963B-1BFB-4B8B-B6BF-34168C90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D566-3ECA-4EAC-B068-EE93A1F4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CC0-1E2A-4974-A1C0-D95855C4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2020-409B-440B-9E96-F3FCAB18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4D13-E7A1-42E8-AEC0-7718A199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23AD-EC3E-460D-A9BE-1F188BAF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F2A0-C477-4D84-BD55-3A354C4D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14B8-076B-49E9-AAB3-5E366330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326A9-4656-48A7-8095-7C3B874F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3BC9E-E6DB-4407-9B35-C7EB9CD6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86507-B89F-40E2-B137-C1683644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0A233-D321-4DC4-8FEC-002C37FF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81B1C-8E82-48C8-B909-1424FA34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3DE-8EB4-417E-9961-D8F7391A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8E997-F9C6-44FC-B0AB-D5F4A2DF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3CF1A-1ED3-4DB2-B3C9-3FD2D798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5B290-53EA-420E-BD8E-314E554A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E806F-AC8C-47A3-94E3-FB1A13DB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5E338-AF94-4C6F-A5B1-2EC86126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0C95A-BAD2-4910-9818-1321354C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FFA88-5E31-4EA0-855E-F917AFBB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4B1CD-C148-44C6-96B8-85C74447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1D5AC-74FC-4457-A01F-3272F61E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99394-EA49-4185-BB4D-0BBFE4A0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3E1-165B-41FB-9933-DAB0316C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E45BB-E6E0-4EBE-89B4-52ACB0F7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8606B-9830-40AC-94AA-E529DDF3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7143F-3722-4EF4-9FC2-94DDF131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DFE40-83FD-4831-B62D-69702DCD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7DCD0-ADA4-497F-918B-567FC7AB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31D64-AAAC-4F01-A84C-7663C0F9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9B2F2-A7CD-405F-9BBF-B87A097F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FC0CE-5EDF-4AB5-AEE5-DE65D1F4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7D751-67E1-4F85-ACC7-5F694C85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3F013B-87F6-4F01-B033-7481663C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0E6-C58F-45D8-A181-7FCA3876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311FF7-43C5-4095-A3C0-3FBF4DA1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10569A-58C0-43BF-8AF0-0F8756C9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A9C425-0E17-4FD7-8CE8-69579635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D42CA5-3999-4B2C-8295-3CC85E5A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A25A64-A4F0-4CA8-88C4-15E34490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034B13-0221-4885-A833-FAABB6A1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13234D-3E82-4C7C-80FD-37B5652C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207DDC-973D-4758-8440-28E6E960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55A451-AF5E-4B32-8DAA-316FA5E4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FC18CE-3C4E-4AF7-B7F9-C0B3A72C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3E4-AD2E-48B2-B794-CF7B6861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28D7F5-9C6E-40F1-97E3-D342F366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3C735F-E0D0-4EB1-841E-3ECCEE0C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6B5583-EC7E-49B3-833E-AD0697AF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60CED-07CE-41D8-B945-BED62E81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0B775D-8767-4823-84A5-C900D84B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2BE28A-79F1-4AA4-A72E-E7E9EE9E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1CF28-4504-403A-AFA1-DB0281A3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F0AF6A-CCEC-42D2-ACC5-9A18E32B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2FCCC0-73E5-4287-9584-3ADF9856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B8A6F1-1B85-4F95-9F1C-66E2CC6E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5AE4-9262-40AD-BF38-1C3EE16E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86BEF4-DFC3-4CC5-8E27-B58522C6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DB2F28-2AB9-4DA5-913C-4615E408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11147-1766-465E-9B41-039EDABB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292D2-738A-4BD1-8BE7-DB7B962B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F6E59-33C6-414F-B20D-AB873218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E1D4D-97DB-4ACE-AD3B-F0DBF41E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54E33-06BE-41B7-BDFA-1E0D48F3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B5DEA-A5BB-4CA8-B718-981509DB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9095B-F2C1-47DE-8E2F-A5C456BE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DCFF8-956B-4316-A71C-35774EF5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A37-B025-499D-A331-E817CAEF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6C18D-8C38-4D66-B31C-7B788B65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76DF6-3773-4220-90B2-0B37BC8E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B794A-AF57-418B-AEC6-B9627234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AB9FE-E0B4-4E33-A9F0-FC487258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6DEA6-D303-4EF9-8554-C79E6057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85C4B7-67A8-47E7-9468-13683EB8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249555-7346-412F-A81A-1530C9AF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338C8E-3F48-4538-AA45-A1C60277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8CA015-3905-4C43-B2E8-2C9B80F3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150A54-5B81-4033-ACFF-78A1EF6E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82A-B1B2-454F-816A-79CD0C6B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55D435-43C2-4500-B86E-5904C5DE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31FF5B-BDA8-422A-B604-B45BEC59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798AE7-089E-480D-AA73-CB0AFFA0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A32DD0-2FC7-42D5-A6A9-E37B2AEF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72CCD3-C4CE-4856-9E1F-E1B4AE5F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810338-7D03-4B3C-848D-89D47B79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4CE3FB-1674-4B85-BA81-9D5BC980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E3C1-32CE-4786-9B14-2CF7333F98F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81DD-99E3-48F0-BFA2-6B968FF9F54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33AE-E001-4D9F-AD78-4D6F240A390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2882-4FC4-4F6C-B113-77D36685081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704A-4CE3-4E8D-A5E3-8733B697C4A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01BB-09EC-4ADF-8DA8-E3358E7E349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7F8A-7725-42A7-8362-F37BE362274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32B7-DB51-457F-802B-751D81EFA9D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dt" idx="2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Объект 2" descr=""/>
          <p:cNvPicPr/>
          <p:nvPr/>
        </p:nvPicPr>
        <p:blipFill>
          <a:blip r:embed="rId1"/>
          <a:stretch/>
        </p:blipFill>
        <p:spPr>
          <a:xfrm>
            <a:off x="828720" y="1494000"/>
            <a:ext cx="4913280" cy="4657680"/>
          </a:xfrm>
          <a:prstGeom prst="rect">
            <a:avLst/>
          </a:prstGeom>
          <a:ln w="0">
            <a:noFill/>
          </a:ln>
        </p:spPr>
      </p:pic>
      <p:pic>
        <p:nvPicPr>
          <p:cNvPr id="341" name="Заголовок 3" descr=""/>
          <p:cNvPicPr/>
          <p:nvPr/>
        </p:nvPicPr>
        <p:blipFill>
          <a:blip r:embed="rId2"/>
          <a:stretch/>
        </p:blipFill>
        <p:spPr>
          <a:xfrm>
            <a:off x="835200" y="146160"/>
            <a:ext cx="7858080" cy="1231920"/>
          </a:xfrm>
          <a:prstGeom prst="rect">
            <a:avLst/>
          </a:prstGeom>
          <a:ln w="0">
            <a:noFill/>
          </a:ln>
        </p:spPr>
      </p:pic>
      <p:sp>
        <p:nvSpPr>
          <p:cNvPr id="342" name="Улыбающееся лицо 4"/>
          <p:cNvSpPr/>
          <p:nvPr/>
        </p:nvSpPr>
        <p:spPr>
          <a:xfrm>
            <a:off x="1071720" y="421488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5-конечная звезда 5"/>
          <p:cNvSpPr/>
          <p:nvPr/>
        </p:nvSpPr>
        <p:spPr>
          <a:xfrm>
            <a:off x="1000080" y="5143680"/>
            <a:ext cx="357120" cy="35712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357120" y="714240"/>
          <a:ext cx="8429760" cy="5143680"/>
        </p:xfrm>
        <a:graphic>
          <a:graphicData uri="http://schemas.openxmlformats.org/drawingml/2006/table">
            <a:tbl>
              <a:tblPr/>
              <a:tblGrid>
                <a:gridCol w="2143080"/>
                <a:gridCol w="1714680"/>
                <a:gridCol w="1714320"/>
                <a:gridCol w="1643040"/>
                <a:gridCol w="1214640"/>
              </a:tblGrid>
              <a:tr h="941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he third stage - conclus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to make a conclus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appreciate all stag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    a 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   a 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2100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to perform the results of the pro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show the project to relatives, and classm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azanoff</cp:lastModifiedBy>
  <dcterms:modified xsi:type="dcterms:W3CDTF">2012-06-01T08:01:12Z</dcterms:modified>
  <cp:revision>66</cp:revision>
  <dc:subject/>
  <dc:title>The theme of my work is the genealogical tree of my family</dc:title>
</cp:coreProperties>
</file>