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462-9C05-41DA-8296-0812FE2B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9D6-E214-457C-B878-1B0C2E14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0E2-1CFF-4CE2-B235-3D9DDD55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190-E650-492C-9CDE-5AD0212E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29A-CCBF-4F02-B856-A419C56E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75C4-2F58-48AC-890D-D7F27B9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711F-43EE-452D-8B02-54335FB8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4F8A-C45A-4F5F-888F-9C911769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D4FE-ECE2-4DC9-8A7F-EAA053F6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9541-5B19-4986-8C22-C48D11F5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3387-EEF0-4E55-A6F5-8B83187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375-096A-442E-9C6D-D2501CB3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DD3F-69E1-43F9-BCD0-1D0FDC4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0FBC-1337-41D8-9921-90E6D1F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869D-325D-46D9-A1E7-6F2DD650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F95F-998F-4E3B-B0D7-44DE85E6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B309-DE69-4F08-A506-6C2E333C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7F1A-2147-4991-BC78-2502B90A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C77B-D83C-4C90-AFB4-D484002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D373-CC00-4928-984E-3024849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680E-3A08-4B34-A8EB-DF2C35ED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86B1-19EA-45B1-B047-7512C28F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F95-9775-4B79-BA86-E26DB21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7625-CFC3-4E6B-ADF8-B4A0BCF4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AEF0-8B98-4370-BB05-35C59A2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9969-43CC-491B-805C-E5DD8EA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71A3-4919-4345-AF81-D1913539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65B5-4497-41CA-B09C-F278C119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76C1-C1D7-4717-AD44-BCBF67B6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0DD9-B7DF-4110-B63F-1EB6C484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E710-632D-49A8-830F-BAD97702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5C174-D5ED-4F1A-A4B6-8DDEA251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E1095-543B-4A95-A3B5-AA116A0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CD3-B840-4529-A6FB-C0A173D9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4DA5-36D1-44EB-919E-FAE62728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A7BC-B6C1-4973-B885-2F3700A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8A2B-2D80-45CA-8C5A-C849A66F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86828-20BB-425B-A370-B0A916C3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9045-19D3-431D-97C7-0E40A936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06CA-A320-4FF3-B248-896F621B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ACEB4-5FB3-4A9C-98A4-3AEFB061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F094-B12B-40E8-827C-8FE69122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CB37-FF24-4CB2-99AC-6564F306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F92D6-593F-415D-A380-2D77B90B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8E9-8EC8-4745-BAC6-A3AC8849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BC37-CE83-4289-9FA2-4B243345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74632-D80F-4DC7-933C-542D134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42FAF-B1FA-42AA-A6DF-B5921DB9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1DF4-3FF3-4BB4-8654-EB9EE70B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93B1-E1C8-4B6C-AFC5-E5443CA1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18D4-1494-4A32-8B77-7DDAB05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6323-7D84-4D2C-BF5A-AB8F05D0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4B15-8047-4AF6-8DFA-11B7C7E2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745F-BE77-4F57-82F1-B05725A4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4892F-53D7-4295-9E37-370360FD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3F8-EC06-4379-840C-8421491D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E5E0B-221F-480E-8893-3E9AD65B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AD7-953C-49EC-B04B-EB21AD1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537-A90F-46AD-A352-FCB093F2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8F9-13B4-4BDE-A070-386CE4FD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8547-9D2F-47FB-A458-3DEDA900B041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571-CFB2-4030-8DBF-2E3DCA8F656C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D4E-A231-4469-A01D-A6B931A58B74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E7FD-A9E2-441C-BCCA-914CB66FD964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2BBB-6940-422D-804A-BA3C3932397F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884160" y="260280"/>
            <a:ext cx="735120" cy="897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1979640" y="260280"/>
            <a:ext cx="758880" cy="897120"/>
          </a:xfrm>
          <a:prstGeom prst="rect">
            <a:avLst/>
          </a:prstGeom>
          <a:ln w="0">
            <a:noFill/>
          </a:ln>
        </p:spPr>
      </p:pic>
      <p:pic>
        <p:nvPicPr>
          <p:cNvPr id="393" name="TextBox 5" descr=""/>
          <p:cNvPicPr/>
          <p:nvPr/>
        </p:nvPicPr>
        <p:blipFill>
          <a:blip r:embed="rId4"/>
          <a:stretch/>
        </p:blipFill>
        <p:spPr>
          <a:xfrm>
            <a:off x="566640" y="1103400"/>
            <a:ext cx="2799000" cy="4269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ая соединительная линия 7"/>
          <p:cNvSpPr/>
          <p:nvPr/>
        </p:nvSpPr>
        <p:spPr>
          <a:xfrm>
            <a:off x="1692360" y="141912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5"/>
          <a:stretch/>
        </p:blipFill>
        <p:spPr>
          <a:xfrm>
            <a:off x="1309680" y="1844640"/>
            <a:ext cx="763560" cy="10224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ая соединительная линия 12"/>
          <p:cNvSpPr/>
          <p:nvPr/>
        </p:nvSpPr>
        <p:spPr>
          <a:xfrm>
            <a:off x="1619280" y="7081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ая соединительная линия 16"/>
          <p:cNvSpPr/>
          <p:nvPr/>
        </p:nvSpPr>
        <p:spPr>
          <a:xfrm>
            <a:off x="4284720" y="3933720"/>
            <a:ext cx="914400" cy="91440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2556000" y="1844640"/>
            <a:ext cx="792000" cy="9698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18"/>
          <p:cNvSpPr/>
          <p:nvPr/>
        </p:nvSpPr>
        <p:spPr>
          <a:xfrm>
            <a:off x="2073240" y="23288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TextBox 20" descr=""/>
          <p:cNvPicPr/>
          <p:nvPr/>
        </p:nvPicPr>
        <p:blipFill>
          <a:blip r:embed="rId7"/>
          <a:stretch/>
        </p:blipFill>
        <p:spPr>
          <a:xfrm>
            <a:off x="1219320" y="2809800"/>
            <a:ext cx="2023920" cy="6526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ая соединительная линия 22"/>
          <p:cNvSpPr/>
          <p:nvPr/>
        </p:nvSpPr>
        <p:spPr>
          <a:xfrm>
            <a:off x="2389320" y="312732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8" descr=""/>
          <p:cNvPicPr/>
          <p:nvPr/>
        </p:nvPicPr>
        <p:blipFill>
          <a:blip r:embed="rId8"/>
          <a:stretch/>
        </p:blipFill>
        <p:spPr>
          <a:xfrm>
            <a:off x="8066160" y="293760"/>
            <a:ext cx="639720" cy="830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"/>
          <p:cNvPicPr/>
          <p:nvPr/>
        </p:nvPicPr>
        <p:blipFill>
          <a:blip r:embed="rId9"/>
          <a:stretch/>
        </p:blipFill>
        <p:spPr>
          <a:xfrm>
            <a:off x="5562720" y="237960"/>
            <a:ext cx="687240" cy="830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"/>
          <p:cNvPicPr/>
          <p:nvPr/>
        </p:nvPicPr>
        <p:blipFill>
          <a:blip r:embed="rId10"/>
          <a:stretch/>
        </p:blipFill>
        <p:spPr>
          <a:xfrm>
            <a:off x="1979640" y="3444840"/>
            <a:ext cx="915840" cy="992160"/>
          </a:xfrm>
          <a:prstGeom prst="rect">
            <a:avLst/>
          </a:prstGeom>
          <a:ln w="0">
            <a:noFill/>
          </a:ln>
        </p:spPr>
      </p:pic>
      <p:pic>
        <p:nvPicPr>
          <p:cNvPr id="405" name="TextBox 24" descr=""/>
          <p:cNvPicPr/>
          <p:nvPr/>
        </p:nvPicPr>
        <p:blipFill>
          <a:blip r:embed="rId11"/>
          <a:stretch/>
        </p:blipFill>
        <p:spPr>
          <a:xfrm>
            <a:off x="3925800" y="1079640"/>
            <a:ext cx="2511360" cy="65232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25" descr=""/>
          <p:cNvPicPr/>
          <p:nvPr/>
        </p:nvPicPr>
        <p:blipFill>
          <a:blip r:embed="rId12"/>
          <a:stretch/>
        </p:blipFill>
        <p:spPr>
          <a:xfrm>
            <a:off x="6278400" y="1163520"/>
            <a:ext cx="2872080" cy="4273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27"/>
          <p:cNvSpPr/>
          <p:nvPr/>
        </p:nvSpPr>
        <p:spPr>
          <a:xfrm>
            <a:off x="5364000" y="13860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1023"/>
          <p:cNvSpPr/>
          <p:nvPr/>
        </p:nvSpPr>
        <p:spPr>
          <a:xfrm>
            <a:off x="7448400" y="141912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11" descr=""/>
          <p:cNvPicPr/>
          <p:nvPr/>
        </p:nvPicPr>
        <p:blipFill>
          <a:blip r:embed="rId13"/>
          <a:stretch/>
        </p:blipFill>
        <p:spPr>
          <a:xfrm>
            <a:off x="7164360" y="1916280"/>
            <a:ext cx="776160" cy="969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2" descr=""/>
          <p:cNvPicPr/>
          <p:nvPr/>
        </p:nvPicPr>
        <p:blipFill>
          <a:blip r:embed="rId14"/>
          <a:stretch/>
        </p:blipFill>
        <p:spPr>
          <a:xfrm>
            <a:off x="5199120" y="1916280"/>
            <a:ext cx="728640" cy="96984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ая соединительная линия 1036"/>
          <p:cNvSpPr/>
          <p:nvPr/>
        </p:nvSpPr>
        <p:spPr>
          <a:xfrm>
            <a:off x="5927760" y="2355840"/>
            <a:ext cx="123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TextBox 1038" descr=""/>
          <p:cNvPicPr/>
          <p:nvPr/>
        </p:nvPicPr>
        <p:blipFill>
          <a:blip r:embed="rId15"/>
          <a:stretch/>
        </p:blipFill>
        <p:spPr>
          <a:xfrm>
            <a:off x="5827680" y="2852640"/>
            <a:ext cx="1963800" cy="6526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ая соединительная линия 1040"/>
          <p:cNvSpPr/>
          <p:nvPr/>
        </p:nvSpPr>
        <p:spPr>
          <a:xfrm flipH="1">
            <a:off x="6545160" y="3265560"/>
            <a:ext cx="26352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3" descr=""/>
          <p:cNvPicPr/>
          <p:nvPr/>
        </p:nvPicPr>
        <p:blipFill>
          <a:blip r:embed="rId16"/>
          <a:stretch/>
        </p:blipFill>
        <p:spPr>
          <a:xfrm>
            <a:off x="6094440" y="3444840"/>
            <a:ext cx="998640" cy="1000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ая соединительная линия 1043"/>
          <p:cNvSpPr/>
          <p:nvPr/>
        </p:nvSpPr>
        <p:spPr>
          <a:xfrm>
            <a:off x="2895480" y="3941640"/>
            <a:ext cx="3198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TextBox 1047" descr=""/>
          <p:cNvPicPr/>
          <p:nvPr/>
        </p:nvPicPr>
        <p:blipFill>
          <a:blip r:embed="rId17"/>
          <a:stretch/>
        </p:blipFill>
        <p:spPr>
          <a:xfrm>
            <a:off x="1878120" y="4413240"/>
            <a:ext cx="1657080" cy="426960"/>
          </a:xfrm>
          <a:prstGeom prst="rect">
            <a:avLst/>
          </a:prstGeom>
          <a:ln w="0">
            <a:noFill/>
          </a:ln>
        </p:spPr>
      </p:pic>
      <p:pic>
        <p:nvPicPr>
          <p:cNvPr id="417" name="TextBox 1048" descr=""/>
          <p:cNvPicPr/>
          <p:nvPr/>
        </p:nvPicPr>
        <p:blipFill>
          <a:blip r:embed="rId18"/>
          <a:stretch/>
        </p:blipFill>
        <p:spPr>
          <a:xfrm>
            <a:off x="5992920" y="4419720"/>
            <a:ext cx="1407960" cy="65232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050"/>
          <p:cNvSpPr/>
          <p:nvPr/>
        </p:nvSpPr>
        <p:spPr>
          <a:xfrm flipV="1">
            <a:off x="4284720" y="3944880"/>
            <a:ext cx="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054"/>
          <p:cNvSpPr/>
          <p:nvPr/>
        </p:nvSpPr>
        <p:spPr>
          <a:xfrm>
            <a:off x="3348000" y="501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1057"/>
          <p:cNvSpPr/>
          <p:nvPr/>
        </p:nvSpPr>
        <p:spPr>
          <a:xfrm>
            <a:off x="5364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1059"/>
          <p:cNvSpPr/>
          <p:nvPr/>
        </p:nvSpPr>
        <p:spPr>
          <a:xfrm>
            <a:off x="3348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1061"/>
          <p:cNvSpPr/>
          <p:nvPr/>
        </p:nvSpPr>
        <p:spPr>
          <a:xfrm>
            <a:off x="4284720" y="3429000"/>
            <a:ext cx="914400" cy="91440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4" descr=""/>
          <p:cNvPicPr/>
          <p:nvPr/>
        </p:nvPicPr>
        <p:blipFill>
          <a:blip r:embed="rId19"/>
          <a:stretch/>
        </p:blipFill>
        <p:spPr>
          <a:xfrm>
            <a:off x="2786040" y="5213520"/>
            <a:ext cx="974880" cy="1204920"/>
          </a:xfrm>
          <a:prstGeom prst="rect">
            <a:avLst/>
          </a:prstGeom>
          <a:ln w="0">
            <a:noFill/>
          </a:ln>
        </p:spPr>
      </p:pic>
      <p:pic>
        <p:nvPicPr>
          <p:cNvPr id="424" name="TextBox 1063" descr=""/>
          <p:cNvPicPr/>
          <p:nvPr/>
        </p:nvPicPr>
        <p:blipFill>
          <a:blip r:embed="rId20"/>
          <a:stretch/>
        </p:blipFill>
        <p:spPr>
          <a:xfrm>
            <a:off x="2298600" y="6437160"/>
            <a:ext cx="1913040" cy="4273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6" descr=""/>
          <p:cNvPicPr/>
          <p:nvPr/>
        </p:nvPicPr>
        <p:blipFill>
          <a:blip r:embed="rId21"/>
          <a:stretch/>
        </p:blipFill>
        <p:spPr>
          <a:xfrm>
            <a:off x="5072040" y="5214960"/>
            <a:ext cx="816120" cy="1220760"/>
          </a:xfrm>
          <a:prstGeom prst="rect">
            <a:avLst/>
          </a:prstGeom>
          <a:ln w="0">
            <a:noFill/>
          </a:ln>
        </p:spPr>
      </p:pic>
      <p:pic>
        <p:nvPicPr>
          <p:cNvPr id="426" name="TextBox 1066" descr=""/>
          <p:cNvPicPr/>
          <p:nvPr/>
        </p:nvPicPr>
        <p:blipFill>
          <a:blip r:embed="rId22"/>
          <a:stretch/>
        </p:blipFill>
        <p:spPr>
          <a:xfrm>
            <a:off x="4853160" y="6437160"/>
            <a:ext cx="1371600" cy="427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"/>
          <p:cNvPicPr/>
          <p:nvPr/>
        </p:nvPicPr>
        <p:blipFill>
          <a:blip r:embed="rId23"/>
          <a:stretch/>
        </p:blipFill>
        <p:spPr>
          <a:xfrm>
            <a:off x="7594560" y="4629240"/>
            <a:ext cx="1303200" cy="1949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4"/>
          <a:stretch/>
        </p:blipFill>
        <p:spPr>
          <a:xfrm>
            <a:off x="4432320" y="220680"/>
            <a:ext cx="696960" cy="86364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ая соединительная линия 3"/>
          <p:cNvSpPr/>
          <p:nvPr/>
        </p:nvSpPr>
        <p:spPr>
          <a:xfrm>
            <a:off x="5129280" y="65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5"/>
          <a:stretch/>
        </p:blipFill>
        <p:spPr>
          <a:xfrm>
            <a:off x="7088040" y="293760"/>
            <a:ext cx="420840" cy="9158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ая соединительная линия 9"/>
          <p:cNvSpPr/>
          <p:nvPr/>
        </p:nvSpPr>
        <p:spPr>
          <a:xfrm>
            <a:off x="7551720" y="66204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8:01:48Z</dcterms:modified>
  <cp:revision>66</cp:revision>
  <dc:subject/>
  <dc:title>The theme of my work is the genealogical tree of my family</dc:title>
</cp:coreProperties>
</file>