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2E3-8E92-4E2E-8ECA-2918E022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311-B09B-4A8C-B08E-D74F6630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5DCB-EDBF-4966-A563-1B19733A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760-86B1-4704-8D77-05A5806E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F9D-87F5-4DE7-8A3E-AEB56E34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7E74-A893-48C8-A2CB-CF37F81E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CF6B-E554-4CAA-A8F5-D33C6C78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A991-0A25-4DBB-9FD4-92ABDCE8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C2CC-D921-4E56-93F3-B0AF8BAD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37F4-55B8-47DC-BDFD-1425EE79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5DFA-A6F2-4050-8342-7F39772B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93D-C1B6-432A-9685-CB4FA203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4691-BF1A-419F-9CAF-43F59232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EB93-2058-47A0-9020-4B3338B7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F735-B801-40A7-89C4-E2943E0C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88D8-2B07-4C94-B421-4E9BFFE9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0DBA-8CE9-43C4-88BA-ED9D95D3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9F05-2FA9-4F99-ACE0-379EB454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B5BB-F5B7-4FE4-A5B4-C3492221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6CA6-277C-4999-A00E-4DB4FDDE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13DA-FC04-4E11-96F1-F8288699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0EC0B-4924-426F-B663-18D658D5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66F-854B-4769-91AB-D2392B34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E491-271D-48A4-9358-94C19C08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BE9D-959A-4CD2-B525-F8ACC35F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61934-168D-4369-83E8-01714414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7C24-7A86-469A-834D-38816C3F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5D41-E7D7-4904-A184-5C133BFA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C8B2-2A5F-4830-B457-7C38536C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1C8E-0A5C-4061-9D14-8EBD71E2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D596-9274-4A69-84DE-19A50DDA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5F566-1D60-4B2F-8A42-12891AF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0F9C6-E392-46AB-91D2-517B32CC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28C-055E-4D06-9DA4-B4AC0F6B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746E0-BC7A-4436-B688-8D1BBECE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41B1F-7287-4C1D-B037-BCE108E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0B830-34A7-4682-8349-EB76F3BD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17F64-2C1D-4FB0-8336-696D806B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09D85-ECF1-4710-8E3C-E207DED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0B934-AABF-4823-9C0D-FB56DA0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883FC-E0E2-4CEB-AF3F-8EC07920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2709C-76D4-42FF-B81C-7FAF0CEA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D4E0-979A-4295-BC43-5B92904F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7DA1-82D8-4B2D-8E89-FB017B7E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02D-FA0A-4A2F-95FA-F745543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A5674-12FE-4920-A3A2-21E4CAC9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28F1-A8E5-4999-80BB-7EDCB3A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710D-F587-44AF-AB9B-BFFABBC8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7AA8D-BCD9-49FE-91EB-DE5E9707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871A4-1537-4F6E-ADA4-AB73B153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06BB5-9C62-477C-BBD8-9091B06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C99A8-EA43-40B6-BB14-3951F72F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7848B-E288-411B-80A2-64F57AF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F2A8-D809-463E-8337-0F49C419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A5F7D-AF3B-4225-B37B-D902F06F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EC8-F7E8-4F79-92C7-7248B61B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62A4F-2DC4-433C-BE78-130BD4A3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C47-5DF6-4E83-9B58-941B718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E56-EE24-4A07-9183-1BE3688A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69F-2A8E-48ED-AA72-E3790FBF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FEC-D21B-4EFA-A358-8153F972C18A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D1FD-C8D1-4F8D-BCC2-78663A9D262A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ACFC-F74B-44A9-B6EE-15B2D58A113C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9DDA-B2F9-4CB0-BE9E-BEE562DBFF84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7B02-E448-4BD6-AF93-47B82D97B1CF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500040" y="3357720"/>
            <a:ext cx="4071960" cy="3046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734000" y="228600"/>
            <a:ext cx="4124160" cy="3057480"/>
          </a:xfrm>
          <a:prstGeom prst="rect">
            <a:avLst/>
          </a:prstGeom>
          <a:ln w="0">
            <a:noFill/>
          </a:ln>
        </p:spPr>
      </p:pic>
      <p:pic>
        <p:nvPicPr>
          <p:cNvPr id="392" name="TextBox 1" descr=""/>
          <p:cNvPicPr/>
          <p:nvPr/>
        </p:nvPicPr>
        <p:blipFill>
          <a:blip r:embed="rId3"/>
          <a:stretch/>
        </p:blipFill>
        <p:spPr>
          <a:xfrm>
            <a:off x="255600" y="401760"/>
            <a:ext cx="4852800" cy="6886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4857840" y="3441600"/>
            <a:ext cx="40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eatgrandfather was a blacksmith. He was a participant of three wars (the Finnish War, The Civil War, The Great Patriotic War). He was awarded the Order of the Red Star for hero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285840" y="1500120"/>
            <a:ext cx="45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greatgrandmother worked on the fields helping our country to  make the vic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8:09:04Z</dcterms:modified>
  <cp:revision>67</cp:revision>
  <dc:subject/>
  <dc:title>The theme of my work is the genealogical tree of my family</dc:title>
</cp:coreProperties>
</file>