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08E-E148-4513-8EC8-4FFC50AC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0E4-49B5-464D-98C3-9F51B230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C62-DED7-4EF4-AA3D-B1F582F1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D07-BC42-4D6B-B308-A680461C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EDF-2A4F-4715-AA4B-66FE308F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84C-5CB8-46F9-882A-13FE6D8C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5F6-5B69-4F81-B5B7-2221AE81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3F7-C5EF-4B5E-AB6A-9D4AA0B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957-98A8-4675-BAA5-6A14955B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E28-C155-46F3-BD3A-6CEBFE4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F99-C7EE-4F5A-89E9-27741200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7F9-A4E9-4FA1-88C5-63E5545C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D21-A30C-41DD-8F3E-9BA67E51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МЯТНИКИ АРХИТЕК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СИКА, АЯЧЧО - РОДИНА НАПОЛЕ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6744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62000" y="1553040"/>
            <a:ext cx="930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иумфальная арка — это прекрас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никнутый идеей торжества русского нар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мвол победившей Моск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главный памятник Отечественной войны 18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толице. Триумфальная арка стоит на площади Побе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далеко от Поклонной г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2 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иумфальная арка 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йд 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Триумфальные  арки в Новочерк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814-1817 годах по распоряжению героя Отечественной войны, Атамана Войска Донского графа М. И. Платова в Новочеркасске на въезде и выезде были сооружены две одинаковые триумфальные арки в честь победы русского оружия в Отечественной войне 1812 года и участия в ней донских каз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йд 4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Александровская колонна(Санкт-Петербург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ийский Столп был возведен в 1834 г. в центре Дворцовой площади1 в Санкт-Петербурге по заказу Императора Николая I в память о победе его старшего брата - Императора Александра I над Наполеоном. Монумент, представляет из себя огромную колонну из розового гранита, стоящую на квадратном пьедестале. Венчает колонну скульптура, изображающая позолоченного ангела с лицом Императора Александра I. В левой руке ангел держит крест, а правую воздевает к н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ота Столпа вместе со статуей - 47,5 м (он выше всех аналогичных монументов ми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мятник Петру Ивановичу Багратиону на Кутузовском проспекте Мос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сентября 1999 г. в Москве был торжественно открыт памятник генералу  Петру Ивановичу Багратиону. Перед нами летящий на крыльях славы воин, такой, каким его видели солдаты в роковой для генерала день Боро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Бородинский мо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йска, покидавшие Москву, были вынуждены медленно двигаться одной большой колонной   по Дорогомиловскому мосту. Следом за ними прошло ополчение, потом пехота и артиллерия. Замыкали колонну каза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рно стучали солдатские сапоги по деревянной мостовой на подъезде к Дорогомиловскому мосту.  Толстые доски прогибались и скрипели под тяжестью орудий.  Был момент, когда старый мост не выдержал. На некоторое время возле него скопились войска, но проезжавший Кутузов, как обычно спокойно, распорядился о немедленной починке моста. И вскоре войска продолжали неторопливое дви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вгусте 1837 г. Россия отмечала четвертьвековой юбилей Бородинского сражения. Тогда же Дорогомиловский мост был переименован в Бород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неж — памятник победы русского народа в Отечественной войне 18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енью 1817 г. Москва готовилась торжественно отмети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яту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годовщину победы в Отечественной войне. Из Петербурга должен был прийти сводный гвардейский отряд, составленный из героев наполеоновских войн. Для смотра и парада войск было приказано построить  манеж, в котором мог бы развернуться пехотный полк, т. е. почти 2 тысячи солдат. На мемориальной доске из серого камня скупые слова: «Здание манежа построено в 1817 г. в ознаменование победы русского народа в Отечественной войне 1812 г.»  подтверждают ,что Манеж-  один из достойных памятников рядовым великой битвы, простым солдатам русской армии, храбрость, выносливость, муж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8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амятники войны 1812 года города Смолен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бытиям Отечественной войны 1812 г. посвящены многочисленные памятники, находящиеся в г.Смоленске и Смоленской области. Большинство из них установлены в столетнюю годовщину войн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 9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риятель отражен на всех пункт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л, отлитый в бронзе 75 лет назад, венчает памятник Кутузову на высоте в центре нынешней деревни Горки, рядом с командным пунктом главнокомандующего русскими войсками в «великий день Бородина» М. И. Кутуз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ужающемся кверху четырехгранном обелиске, напоминающем штык, застыл распластавший свои могучие крылья бронзовый орел, который сжимает в лапах лавровый позолоченный венок.. На лицевой грани обелиска укреплен острием вверх огромный позолоченный меч как предупреждение любому агрессору о неизбежном отмщ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айд10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сика, Аяччо - родина Наполе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быстрый путь на Корсику – это путешествие на огромной лодке-пароме из итальянского города Ливорно в Бастию. Бастия гостеприимно встретит вас обилием маленьких французских кафе и уютных отелей. С небольшого вокзала поезд домчит до Аяччо -знаменитой родины Наполеона, который находится в южной части 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умфальная арка в Моск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РИУМФАЛЬНЫЕ АРКИ НОВОЧЕРКАС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ЕКСАНДРОВСКАЯ КОЛОНН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АНКТ-ПЕТЕРБУР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9006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МЯТНИК ПЕТРУ ИВАНОВИЧУ БАГРАТИОНУ В МОСК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62160" y="1600200"/>
            <a:ext cx="33433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РОДИНСКИЙ М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СКОВСКИЙ МАНЕ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г.Смоленск)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мятник М.И. Кутузо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51080" y="32464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51080" y="32464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мятник Героям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еприятель отражен на всех пункт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673280"/>
            <a:ext cx="35053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9:24Z</dcterms:created>
  <dc:creator>Ivan</dc:creator>
  <dc:description/>
  <dc:language>en-US</dc:language>
  <cp:lastModifiedBy>Ivan</cp:lastModifiedBy>
  <dcterms:modified xsi:type="dcterms:W3CDTF">2012-04-10T15:35:36Z</dcterms:modified>
  <cp:revision>4</cp:revision>
  <dc:subject/>
  <dc:title>Триумфальная арка в Москве</dc:title>
</cp:coreProperties>
</file>