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6A0-9C9C-4B51-AC24-C7EC5800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C09-1D4D-46D7-B513-A95DCFEF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E8A-87AC-432B-A253-BC47DE31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9AE-21BC-4573-B140-E76362E2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1C5-36FB-4935-A728-1FC69E36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278-D2F7-46DA-84D7-CC7FBCFD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322-347A-447C-9ECB-3B73ED2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16D-ED02-4941-929D-22069CD9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033-7F28-4D68-A450-6A9AB236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39B-5172-496A-B651-A9821118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3EE-6B63-42DD-B0CA-4AD36BCA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2F2-3F87-464C-A458-69526ED8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571F-E2FA-4E5F-83D9-1E23E3266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МЯТНИКИ АРХИТЕК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СИКА, АЯЧЧО - РОДИНА НАПОЛЕ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967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62000" y="1553040"/>
            <a:ext cx="930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умфальная арка — это прекрас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никнутый идеей торжества русского нар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вол победившей Моск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главный памятник Отечественной войны 18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толице. Триумфальная арка стоит на площади Побе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далеко от Поклонной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2 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иумфальная арка в Моск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йд 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Триумфальные  арки в Новочерк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814-1817 годах по распоряжению героя Отечественной войны, Атамана Войска Донского графа М. И. Платова в Новочеркасске на въезде и выезде были сооружены две одинаковые триумфальные арки в честь победы русского оружия в Отечественной войне 1812 года и участия в ней донских каз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йд 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лександровская колонна(Санкт-Петербур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ийский Столп был возведен в 1834 г. в центре Дворцовой площади1 в Санкт-Петербурге по заказу Императора Николая I в память о победе его старшего брата - Императора Александра I над Наполеоном. Монумент, представляет из себя огромную колонну из розового гранита, стоящую на квадратном пьедестале. Венчает колонну скульптура, изображающая позолоченного ангела с лицом Императора Александра I. В левой руке ангел держит крест, а правую воздевает к н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та Столпа вместе со статуей - 47,5 м (он выше всех аналогичных монументов ми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мятник Петру Ивановичу Багратиону на Кутузовском проспекте М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сентября 1999 г. в Москве был торжественно открыт памятник генералу  Петру Ивановичу Багратиону. Перед нами летящий на крыльях славы воин, такой, каким его видели солдаты в роковой для генерала день Бород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 Бородинский мо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йска, покидавшие Москву, были вынуждены медленно двигаться одной большой колонной   по Дорогомиловскому мосту. Следом за ними прошло ополчение, потом пехота и артиллерия. Замыкали колонну каз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но стучали солдатские сапоги по деревянной мостовой на подъезде к Дорогомиловскому мосту.  Толстые доски прогибались и скрипели под тяжестью орудий.  Был момент, когда старый мост не выдержал. На некоторое время возле него скопились войска, но проезжавший Кутузов, как обычно спокойно, распорядился о немедленной починке моста. И вскоре войска продолжали неторопливое дви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августе 1837 г. Россия отмечала четвертьвековой юбилей Бородинского сражения. Тогда же Дорогомиловский мост был переименован в Бород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еж — памятник победы русского народа в Отечественной войне 18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нью 1817 г. Москва готовилась торжественно отмети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яту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годовщину победы в Отечественной войне. Из Петербурга должен был прийти сводный гвардейский отряд, составленный из героев наполеоновских войн. Для смотра и парада войск было приказано построить  манеж, в котором мог бы развернуться пехотный полк, т. е. почти 2 тысячи солдат. На мемориальной доске из серого камня скупые слова: «Здание манежа построено в 1817 г. в ознаменование победы русского народа в Отечественной войне 1812 г.»  подтверждают ,что Манеж-  один из достойных памятников рядовым великой битвы, простым солдатам русской армии, храбрость, выносливость, муж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8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амятники войны 1812 года города Смолен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бытиям Отечественной войны 1812 г. посвящены многочисленные памятники, находящиеся в г.Смоленске и Смоленской области. Большинство из них установлены в столетнюю годовщину вой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9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приятель отражен на всех пункт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ел, отлитый в бронзе 75 лет назад, венчает памятник Кутузову на высоте в центре нынешней деревни Горки, рядом с командным пунктом главнокомандующего русскими войсками в «великий день Бородина» М. И. Кутуз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ужающемся кверху четырехгранном обелиске, напоминающем штык, застыл распластавший свои могучие крылья бронзовый орел, который сжимает в лапах лавровый позолоченный венок.. На лицевой грани обелиска укреплен острием вверх огромный позолоченный меч как предупреждение любому агрессору о неизбежном отмщ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10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сика, Аяччо - родина Наполе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й быстрый путь на Корсику – это путешествие на огромной лодке-пароме из итальянского города Ливорно в Бастию. Бастия гостеприимно встретит вас обилием маленьких французских кафе и уютных отелей. С небольшого вокзала поезд домчит до Аяччо -знаменитой родины Наполеона, который находится в южной части 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умфальная арка в Моск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ИУМФАЛЬНЫЕ АРКИ НОВОЧЕРКАС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ЕКСАНДРОВСКАЯ КОЛОНН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АНКТ-ПЕТЕРБУР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900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МЯТНИК ПЕТРУ ИВАНОВИЧУ БАГРАТИОНУ В МОСК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62160" y="1600200"/>
            <a:ext cx="33433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ОДИНСКИЙ М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СКОВСКИЙ МАН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 Героям 1812 г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г.Смоленск)</a:t>
            </a: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мятник М.И. Кутуз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51080" y="32464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Героям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1080" y="32464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Героям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Неприятель отражен на всех пункт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2000" y="1673280"/>
            <a:ext cx="35053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4:49:24Z</dcterms:created>
  <dc:creator>Ivan</dc:creator>
  <dc:description/>
  <dc:language>en-US</dc:language>
  <cp:lastModifiedBy>Ivan</cp:lastModifiedBy>
  <dcterms:modified xsi:type="dcterms:W3CDTF">2012-04-10T15:35:36Z</dcterms:modified>
  <cp:revision>4</cp:revision>
  <dc:subject/>
  <dc:title>Триумфальная арка в Москве</dc:title>
</cp:coreProperties>
</file>