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gif" ContentType="image/gif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199A-3F4D-45FC-ABD4-D90F4E25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6563-4EB1-421C-91BD-DDED855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BD54-D6C3-4D62-B81C-9A1DD7E0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A502-A07A-4E86-8377-ADA6C841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BE15-6699-4C12-9531-D134721E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92CF-9FA3-49EB-B6E9-C3E56FD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441-D517-414A-B0FB-1C5E7A2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D90E-3BE3-45A1-99CC-817CFDEE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43D-C8BF-4D27-852B-BD4E7586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5FD3-7E9F-4DFA-8A0F-8C555923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D4F1-E7B5-4115-9C89-A9A3CD2F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1424-CD85-4DC9-BFBB-096CB09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7D17-9D36-475B-BDE3-7301045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E743-E708-4106-BBA5-B43F5D0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62CD-14C4-4DEF-B4C1-03B928A0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034-0086-4659-A16A-84035AC5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752A-615B-47A3-9EDE-B485816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FF684-6A2A-4446-9299-0773BE0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1AC9-1919-4C3C-A24B-09E73D58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F526-DBC5-46C1-92EB-5EA1C29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67D96-A470-421C-AA28-3A6A6964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1AA0-18E5-4446-92EC-82529C2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86712-F841-4D40-B699-472B7F6B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0B2B-9F2D-4B90-AA40-883DEF3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BFF5-7952-48E1-A145-9E66E59D25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9320"/>
            <a:ext cx="7314840" cy="4571280"/>
            <a:chOff x="91476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6760"/>
              <a:ext cx="7314840" cy="4098960"/>
              <a:chOff x="914760" y="1436760"/>
              <a:chExt cx="731484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6760"/>
                <a:ext cx="7298640" cy="821520"/>
                <a:chOff x="914760" y="1436760"/>
                <a:chExt cx="72986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6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03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160" y="198324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46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7160" y="334044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31320"/>
                <a:ext cx="7298640" cy="820440"/>
                <a:chOff x="914760" y="3631320"/>
                <a:chExt cx="729864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313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60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160" y="417780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528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7160" y="5535720"/>
                  <a:ext cx="72241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17D9-BE48-4A94-92D0-4983EEB2CE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/>
          <p:cNvSpPr/>
          <p:nvPr/>
        </p:nvSpPr>
        <p:spPr>
          <a:xfrm>
            <a:off x="1219320" y="137160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п.Усть-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907920" y="2382840"/>
            <a:ext cx="7400880" cy="75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C:\Users\1\Desktop\Пуч\SSL22847.jpg"/>
          <p:cNvPicPr/>
          <p:nvPr/>
        </p:nvPicPr>
        <p:blipFill>
          <a:blip r:embed="rId2"/>
          <a:stretch/>
        </p:blipFill>
        <p:spPr>
          <a:xfrm>
            <a:off x="3581280" y="35812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3z21q35"/>
          <p:cNvPicPr/>
          <p:nvPr/>
        </p:nvPicPr>
        <p:blipFill>
          <a:blip r:embed="rId3"/>
          <a:stretch/>
        </p:blipFill>
        <p:spPr>
          <a:xfrm rot="21217200">
            <a:off x="7577280" y="5307120"/>
            <a:ext cx="915840" cy="641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3z21q35"/>
          <p:cNvPicPr/>
          <p:nvPr/>
        </p:nvPicPr>
        <p:blipFill>
          <a:blip r:embed="rId4"/>
          <a:stretch/>
        </p:blipFill>
        <p:spPr>
          <a:xfrm rot="5017200">
            <a:off x="673560" y="5123520"/>
            <a:ext cx="915840" cy="641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3z21q35"/>
          <p:cNvPicPr/>
          <p:nvPr/>
        </p:nvPicPr>
        <p:blipFill>
          <a:blip r:embed="rId5"/>
          <a:stretch/>
        </p:blipFill>
        <p:spPr>
          <a:xfrm rot="15817200">
            <a:off x="7499880" y="1267200"/>
            <a:ext cx="91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:\Users\1\Desktop\Пуч\SSL22849.jpg"/>
          <p:cNvPicPr/>
          <p:nvPr/>
        </p:nvPicPr>
        <p:blipFill>
          <a:blip r:embed="rId1"/>
          <a:stretch/>
        </p:blipFill>
        <p:spPr>
          <a:xfrm>
            <a:off x="1447920" y="1447920"/>
            <a:ext cx="2971800" cy="32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1\Desktop\Пуч\SSL22887.JPG"/>
          <p:cNvPicPr/>
          <p:nvPr/>
        </p:nvPicPr>
        <p:blipFill>
          <a:blip r:embed="rId2"/>
          <a:stretch/>
        </p:blipFill>
        <p:spPr>
          <a:xfrm>
            <a:off x="5181480" y="2286000"/>
            <a:ext cx="3276720" cy="2286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5"/>
          <p:cNvSpPr/>
          <p:nvPr/>
        </p:nvSpPr>
        <p:spPr>
          <a:xfrm>
            <a:off x="1066680" y="4876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ма  осуществила мою мечту. А сама-то как ра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029200" y="137160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й терьер – в переводе «игруше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5105520" y="46483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так выглядит мой тойч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 кличке Пу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C:\Users\1\Desktop\Пуч\SSL22888.JPG"/>
          <p:cNvPicPr/>
          <p:nvPr/>
        </p:nvPicPr>
        <p:blipFill>
          <a:blip r:embed="rId1"/>
          <a:stretch/>
        </p:blipFill>
        <p:spPr>
          <a:xfrm>
            <a:off x="2362320" y="1219320"/>
            <a:ext cx="441936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371600" y="4724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помогает мне умываться. Сам уже помылся и показывает свой чистенький язы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C:\Users\1\Desktop\Пуч\SSL22886.JPG"/>
          <p:cNvPicPr/>
          <p:nvPr/>
        </p:nvPicPr>
        <p:blipFill>
          <a:blip r:embed="rId1"/>
          <a:stretch/>
        </p:blipFill>
        <p:spPr>
          <a:xfrm>
            <a:off x="2971800" y="990720"/>
            <a:ext cx="3962520" cy="3047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990720" y="41911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целый день лежит в своей кроватке, глаза грустные. Ах, как не хочется, чтобы мой тойчик болел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C:\Users\1\Desktop\Пуч\SSL22880.JPG"/>
          <p:cNvPicPr/>
          <p:nvPr/>
        </p:nvPicPr>
        <p:blipFill>
          <a:blip r:embed="rId1"/>
          <a:stretch/>
        </p:blipFill>
        <p:spPr>
          <a:xfrm>
            <a:off x="5486400" y="76212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1\Desktop\Пуч\SSL22881.JPG"/>
          <p:cNvPicPr/>
          <p:nvPr/>
        </p:nvPicPr>
        <p:blipFill>
          <a:blip r:embed="rId2"/>
          <a:stretch/>
        </p:blipFill>
        <p:spPr>
          <a:xfrm>
            <a:off x="1523880" y="45720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9"/>
          <p:cNvSpPr/>
          <p:nvPr/>
        </p:nvSpPr>
        <p:spPr>
          <a:xfrm>
            <a:off x="1066680" y="373392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первый раз идёт по первому снегу. И не просто идё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поджав уши и свой маленький хвостик, делаёт удивлённые гл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рыбой, которая в два раза больше его по размеру. Но  любопытство  сильнее боязни перед непонятным су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1\Desktop\Пуч\SSL22892.JPG"/>
          <p:cNvPicPr/>
          <p:nvPr/>
        </p:nvPicPr>
        <p:blipFill>
          <a:blip r:embed="rId1"/>
          <a:stretch/>
        </p:blipFill>
        <p:spPr>
          <a:xfrm>
            <a:off x="5105520" y="99072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1\Desktop\Пуч\SSL22891.JPG"/>
          <p:cNvPicPr/>
          <p:nvPr/>
        </p:nvPicPr>
        <p:blipFill>
          <a:blip r:embed="rId2"/>
          <a:stretch/>
        </p:blipFill>
        <p:spPr>
          <a:xfrm>
            <a:off x="1523880" y="45720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914400" y="34290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д сном обязательно встр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любимой игр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4876920" y="38098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колыбельную песе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ч засыпает. Сладких т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ов, мой ласковый и 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2438280" y="5335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1219320" y="1600200"/>
            <a:ext cx="768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ая жизнь своего собачки, я подтвердила свои гипотезы. Для того, чтобы понимать своего питомца, надо научиться самостоятельно ухаживать и заботиться о нём, надо знать значение некоторых телодвижений собачки.   Заботливому хозяину желательно научиться понимать язык питомца, и, что к приобретению домашнего животного надо относиться серьезно! И я в этом убеди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5"/>
          <p:cNvSpPr/>
          <p:nvPr/>
        </p:nvSpPr>
        <p:spPr>
          <a:xfrm>
            <a:off x="1523880" y="1447920"/>
            <a:ext cx="7010640" cy="40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сследовательскую  работу   подгото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ернак  Крист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ца  4 класса МОУ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п.Усть-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дитель исследовательской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ерова Е.А., учитель начальных классов МОУ СОШ р.п.Усть-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j0336739"/>
          <p:cNvPicPr/>
          <p:nvPr/>
        </p:nvPicPr>
        <p:blipFill>
          <a:blip r:embed="rId1"/>
          <a:stretch/>
        </p:blipFill>
        <p:spPr>
          <a:xfrm>
            <a:off x="8001000" y="609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990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35b1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AG00373_"/>
          <p:cNvPicPr/>
          <p:nvPr/>
        </p:nvPicPr>
        <p:blipFill>
          <a:blip r:embed="rId1"/>
          <a:stretch/>
        </p:blipFill>
        <p:spPr>
          <a:xfrm>
            <a:off x="3657600" y="3657600"/>
            <a:ext cx="19810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Z</cp:lastModifiedBy>
  <dcterms:modified xsi:type="dcterms:W3CDTF">2012-05-31T10:49:40Z</dcterms:modified>
  <cp:revision>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