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42D-B673-4AB9-99C5-1542D4F0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736-8B39-4185-8755-0E11EA08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D23-44E4-47F7-BE22-58F45E52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CF8-D7B0-42C0-8971-F7DA388F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41FE5-2D78-4507-845C-F054C0FB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C0D48-6C35-45A2-B6E2-8435FB2C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5F1C2-0AC7-495B-B736-5F4E9E7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B431C-8921-4168-A570-F01698AE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12C5F-F0B6-4FB6-860F-28287A12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87E96-2FF1-4717-8EF7-8CC431BA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5EE28-74D4-455A-A27B-F5BF318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93A-AE6E-4F29-8188-41E27889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0B2C9-E0BC-415B-85A3-BF15515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696E7-7C63-48FD-AE41-ECD4E666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032AD-389A-4289-BDF9-13B85008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88825-494D-47FF-8C81-3AE8DB6A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3F874-F082-4419-A2C6-12169E21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BD69-CEEC-46DC-B451-BD3D92F9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2A17-1794-4FF6-A7B0-490DE6A4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51AB5-F404-4AF4-8766-B6CF3C4D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8F66D-DC36-4CE2-B887-2429614E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B668-D22B-47D9-8E62-DCA378E9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F25-DA73-4E20-B99C-B793556B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D3E1-C22C-4A3A-8B2C-83C40608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A7DD-8A27-4AB5-ACD1-6C3AEA14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4DB50-57B8-4712-81B6-A7674198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FE38-6FA3-4CCC-90D9-BB6DCF16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D8F4-021A-4A2A-8CA1-853ACBE4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6FF9-8838-47A0-8907-EC484CE4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394E-EB0F-4226-8BF0-16E2852A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13D322-7ACE-4405-8925-E8FDED2F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24AB8-582B-4C13-828D-72547860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60FEC7-E36A-4458-88FC-76EB7B42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FFA-ACFE-41DE-B6E2-1525FC3D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4C8F9-D42A-41E9-96E5-164EF6C5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49288-D9B9-4427-9619-57713150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C96E8-BFAF-4B2A-B9D3-EE2208EA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328DE-0D31-4E15-8EDD-3452324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34F4F-864F-4BD6-8D3F-5F2F5780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C2DFEC-2D01-4DDF-9E6F-6B7B372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F14C7-297C-49F0-981F-E2814027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4413A3-8B88-4373-B4F3-36C33C82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27F200-0DC9-413D-B498-91A0E8B5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B876D-047C-4CE4-AC4E-2E22994C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1E3-9497-4CF9-BEA6-D7F3D43A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41053-2963-4CD3-B26B-3CB96ABD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D264F-EEF5-4924-BFDD-8666C4F7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B2FFF-34FB-408D-B9F5-C4867B0B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F8165-6EA8-4D66-BE4C-970E5214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818C1-08F7-42F5-AE03-0AEC20E9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EF23E-6140-4DA7-8FC1-CB4B1430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7B1A4-CDF1-4291-ACB7-F7D93949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E8924-BB07-4DD5-B3F2-E2F38836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75936-A4B6-4992-96F0-95FD936A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F91E0-4633-4949-B08B-AAFC30EC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4AD-CF57-42E2-9B51-F184DFF8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179B6-0EF6-4BEF-BBB0-0193F9FC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7FB3C-5D30-43AD-B6ED-9AB9DCFA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CEB7B-A3EE-4709-9835-9ABE36C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B8119-E59A-43FC-A093-287C9921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89063-7282-4A0E-9C95-2B386819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EE542-89A0-4DAC-A89C-781ACE06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3DD4A-A71B-454F-BFB1-707F93AA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3ACEE-6E36-4FFF-BB85-629F60AA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BCC88-91F1-41BB-B1FD-CDE5CED3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20B61E-B634-431E-9B47-5D436DEA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18E-7E62-4D8A-A7A4-A85122B9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82432-7D9A-46CA-AF0C-1B046991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83575-763A-4511-8CFC-F3140AEB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7D4B1-F16D-4FE7-9912-CCCC32AD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33B-F656-4028-8C68-15B691C7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D2A-7FF0-4184-A165-4CD8D697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D81F-E9B4-4324-8935-29530E2156B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A91B-B91D-4D92-AA93-7A280599389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DA9D-635A-4132-B588-DF6CB63D91D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697B-7ADE-4C8A-B30C-B686973B2C9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485D-2AC2-485D-8425-DA7DC1BF687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5409-2F87-4AB0-A89D-D0DAC271F5E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" descr="C:\Documents and Settings\Admin\Мои документы\Мои рисунки\Романсы\img20110329180301_4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4786200" y="0"/>
            <a:ext cx="41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Романс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214200" y="474840"/>
            <a:ext cx="66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Цыганский роман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 За основу был взят романс обыкновенный, но в музыку и тексты были добавлены специфически цыганские приёмы и обороты. Темой текста является любовное переживание, от нежности до страст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твоё повторяю им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ночам во тьме молчаливой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собираются звезды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лунному водопою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мутные листья дремлют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сившись над тропо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ажусь я себе в эту пор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отой из звуков и боли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зумевшими часами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о прошлом поют поневол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твоё повторяю им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й ночью во тьме молчаливой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звучит оно так отдаленно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ещё никогда не звучал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Picture 2" descr="C:\Documents and Settings\Admin\Мои документы\Мои рисунки\Романсы\21_big.jpg"/>
          <p:cNvPicPr/>
          <p:nvPr/>
        </p:nvPicPr>
        <p:blipFill>
          <a:blip r:embed="rId1"/>
          <a:srcRect l="0" t="0" r="0" b="12887"/>
          <a:stretch/>
        </p:blipFill>
        <p:spPr>
          <a:xfrm>
            <a:off x="4500720" y="1749600"/>
            <a:ext cx="46432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85840" y="2858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Жестокий роман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Своеобразие данного жанра и заключается в гармоничном синтезе жанровых принципов баллады, лирической песни, романса. В жестоком романсе можно выделить чуть больше десятка основных сюжетов. Отличаются они друг от друга главным образом причинами трагедии, а выбор концовок и вовсе невелик: убийство, самоубийство, смерть героя от горя либо смертельное гор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Picture 1" descr="C:\Documents and Settings\Admin\Мои документы\Мои рисунки\Романсы\B11.jpg.jpeg"/>
          <p:cNvPicPr/>
          <p:nvPr/>
        </p:nvPicPr>
        <p:blipFill>
          <a:blip r:embed="rId1"/>
          <a:stretch/>
        </p:blipFill>
        <p:spPr>
          <a:xfrm>
            <a:off x="1071720" y="2523960"/>
            <a:ext cx="65005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357120" y="58680"/>
            <a:ext cx="4143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церкви стояла карет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м пышная свадьба был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гости нарядно одеты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еста всех краше была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ней было белое платье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нок был приколот из роз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на святое распять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мотрела сквозь радугу слез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ели венчальные свечи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еста стояла бледн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щеннику клятвенны реч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зать не хотела она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ей священник на палец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ел золотое кольцо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глаз ее горькие слезы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учьем потекли на лицо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слышал в толпе говорили: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"Жених неприглядный такой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сно девицу сгубили", -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вышел я вслед за толпой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церкви стояла карет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м пышная свадьба был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гости нарядно одеты,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еста всех краше был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1" descr="C:\Documents and Settings\Admin\Мои документы\Мои рисунки\Романсы\a.jpg"/>
          <p:cNvPicPr/>
          <p:nvPr/>
        </p:nvPicPr>
        <p:blipFill>
          <a:blip r:embed="rId1"/>
          <a:stretch/>
        </p:blipFill>
        <p:spPr>
          <a:xfrm>
            <a:off x="3857760" y="1428840"/>
            <a:ext cx="5286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" descr="C:\Documents and Settings\Admin\Мои документы\Мои рисунки\Романсы\Pukirev_ner_br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2"/>
          <p:cNvSpPr/>
          <p:nvPr/>
        </p:nvSpPr>
        <p:spPr>
          <a:xfrm>
            <a:off x="214200" y="21420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азачий роман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 Казачьи авторские песни, на казачью тематику, зародились на Дону. Родоначальником "казачьего романса", считается песня неизвестного автор 19 века "Не для меня придёт весна..."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3" descr="C:\Documents and Settings\Admin\Мои документы\Мои рисунки\Романсы\15497.jpg"/>
          <p:cNvPicPr/>
          <p:nvPr/>
        </p:nvPicPr>
        <p:blipFill>
          <a:blip r:embed="rId1"/>
          <a:stretch/>
        </p:blipFill>
        <p:spPr>
          <a:xfrm>
            <a:off x="5000760" y="1450800"/>
            <a:ext cx="4143240" cy="54072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357120" y="2274840"/>
            <a:ext cx="3786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ля меня придет весна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ля меня песнь разольется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ердце радостно забьетс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сторге чувств не для мен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ля меня река, шумя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рега родные омывает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еск кротких волн душу ласкает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течет не для мен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1214280" y="14292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Современные исполнители романс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2" descr="C:\Documents and Settings\Admin\Мои документы\Мои рисунки\Романсы\imgpreview.jpg"/>
          <p:cNvPicPr/>
          <p:nvPr/>
        </p:nvPicPr>
        <p:blipFill>
          <a:blip r:embed="rId1"/>
          <a:stretch/>
        </p:blipFill>
        <p:spPr>
          <a:xfrm>
            <a:off x="0" y="92880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Documents and Settings\Admin\Мои документы\Мои рисунки\Романсы\imgpreview (5).jpg"/>
          <p:cNvPicPr/>
          <p:nvPr/>
        </p:nvPicPr>
        <p:blipFill>
          <a:blip r:embed="rId2"/>
          <a:stretch/>
        </p:blipFill>
        <p:spPr>
          <a:xfrm>
            <a:off x="4286160" y="2193840"/>
            <a:ext cx="48578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:\Documents and Settings\Admin\Мои документы\Мои рисунки\Романсы\imgpreview (6).jpg"/>
          <p:cNvPicPr/>
          <p:nvPr/>
        </p:nvPicPr>
        <p:blipFill>
          <a:blip r:embed="rId1"/>
          <a:stretch/>
        </p:blipFill>
        <p:spPr>
          <a:xfrm>
            <a:off x="0" y="0"/>
            <a:ext cx="5357880" cy="4071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Documents and Settings\Admin\Мои документы\Мои рисунки\Романсы\imgpreview (3).jpg"/>
          <p:cNvPicPr/>
          <p:nvPr/>
        </p:nvPicPr>
        <p:blipFill>
          <a:blip r:embed="rId2"/>
          <a:stretch/>
        </p:blipFill>
        <p:spPr>
          <a:xfrm>
            <a:off x="5286240" y="300024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:\Documents and Settings\Admin\Мои документы\Мои рисунки\Романсы\imgpreview (2).jpg"/>
          <p:cNvPicPr/>
          <p:nvPr/>
        </p:nvPicPr>
        <p:blipFill>
          <a:blip r:embed="rId1"/>
          <a:stretch/>
        </p:blipFill>
        <p:spPr>
          <a:xfrm>
            <a:off x="0" y="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Documents and Settings\Admin\Мои документы\Мои рисунки\Романсы\imgpreview (1).jpg"/>
          <p:cNvPicPr/>
          <p:nvPr/>
        </p:nvPicPr>
        <p:blipFill>
          <a:blip r:embed="rId2"/>
          <a:stretch/>
        </p:blipFill>
        <p:spPr>
          <a:xfrm>
            <a:off x="4286160" y="2000160"/>
            <a:ext cx="485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Admin\Мои документы\Мои рисунки\Романсы\12809380605.jpg"/>
          <p:cNvPicPr/>
          <p:nvPr/>
        </p:nvPicPr>
        <p:blipFill>
          <a:blip r:embed="rId1"/>
          <a:stretch/>
        </p:blipFill>
        <p:spPr>
          <a:xfrm>
            <a:off x="0" y="0"/>
            <a:ext cx="5126040" cy="6834240"/>
          </a:xfrm>
          <a:prstGeom prst="rect">
            <a:avLst/>
          </a:prstGeom>
          <a:ln w="0">
            <a:noFill/>
          </a:ln>
        </p:spPr>
      </p:pic>
      <p:pic>
        <p:nvPicPr>
          <p:cNvPr id="287" name="Александр_Малинин_(на_стихи_Е.Евтушенко)_-_Дай_бог_(MusVid.net)_.mp3" descr=""/>
          <p:cNvPicPr/>
          <p:nvPr/>
        </p:nvPicPr>
        <p:blipFill>
          <a:blip r:embed="rId2"/>
          <a:stretch/>
        </p:blipFill>
        <p:spPr>
          <a:xfrm>
            <a:off x="8358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675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:\Documents and Settings\Admin\Мои документы\Мои рисунки\Романсы\deti_aleksandra_malinina.jpg"/>
          <p:cNvPicPr/>
          <p:nvPr/>
        </p:nvPicPr>
        <p:blipFill>
          <a:blip r:embed="rId1"/>
          <a:srcRect l="0" t="0" r="0" b="8644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Александр_Малинин_-_Поручик_Голицын_(М.Звездинский)_(MusVid.net)_.mp3" descr=""/>
          <p:cNvPicPr/>
          <p:nvPr/>
        </p:nvPicPr>
        <p:blipFill>
          <a:blip r:embed="rId2"/>
          <a:stretch/>
        </p:blipFill>
        <p:spPr>
          <a:xfrm>
            <a:off x="8429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6924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1643040" y="1071720"/>
            <a:ext cx="5572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Calibri"/>
                <a:ea typeface="Times New Roman"/>
              </a:rPr>
              <a:t>Я счастлив тем, что встретил Вас,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Calibri"/>
                <a:ea typeface="Times New Roman"/>
              </a:rPr>
              <a:t>Неповторимый и прекрасный.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Calibri"/>
                <a:ea typeface="Times New Roman"/>
              </a:rPr>
              <a:t>И, значит, жил я не напрасно...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Calibri"/>
                <a:ea typeface="Times New Roman"/>
              </a:rPr>
              <a:t>Благодарю, волшебный мой Романс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7" descr="C:\Documents and Settings\Admin\Мои документы\Мои рисунки\Романсы\1232460092_d230d85a7f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Александр_Малинин_-_романс___(MusVid.net)_.mp3" descr=""/>
          <p:cNvPicPr/>
          <p:nvPr/>
        </p:nvPicPr>
        <p:blipFill>
          <a:blip r:embed="rId2"/>
          <a:stretch/>
        </p:blipFill>
        <p:spPr>
          <a:xfrm>
            <a:off x="928800" y="6143760"/>
            <a:ext cx="36648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984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214200" y="500040"/>
            <a:ext cx="40006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Романс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в музыке (исп. romance, от позднелат. romanice, букваль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-романск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 то ес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-испанск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вокальное сочинение, написанное на небольшое стихотворение лирического содержания, преимущественно любовного; камерное музыкально-поэтическое произведение для голоса с инструментальным сопровождение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2" descr="C:\Documents and Settings\Admin\Мои документы\Мои рисунки\Романсы\imgpreview (8).jpg"/>
          <p:cNvPicPr/>
          <p:nvPr/>
        </p:nvPicPr>
        <p:blipFill>
          <a:blip r:embed="rId1"/>
          <a:srcRect l="4172" t="0" r="0" b="0"/>
          <a:stretch/>
        </p:blipFill>
        <p:spPr>
          <a:xfrm>
            <a:off x="4570560" y="1428840"/>
            <a:ext cx="45734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500040" y="42876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воим появлением на свет романс обязан солнечной Испании. Благодаря творчеству странствующих поэтов-певцов в XIII—XIV веках возник, а затем утвердился новый песенный жанр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71680" y="1357200"/>
            <a:ext cx="62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калу обязательно сопутствовал аккомпанемент музыкального инструмента — виуэлы или гитары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642960" y="21430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 Россию романс проник через Францию во второй половине XVIII века, сразу же попав на благоприятную почву расцвета русской поэзи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Picture 1" descr="C:\Documents and Settings\Admin\Мои документы\Мои рисунки\Романсы\e5d12be2c2ce.jpg"/>
          <p:cNvPicPr/>
          <p:nvPr/>
        </p:nvPicPr>
        <p:blipFill>
          <a:blip r:embed="rId1"/>
          <a:stretch/>
        </p:blipFill>
        <p:spPr>
          <a:xfrm>
            <a:off x="4000680" y="3137040"/>
            <a:ext cx="514332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357120" y="474840"/>
            <a:ext cx="42148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ТРУБАДУР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- средневековый поэт южной Франции, сочинявший стихи на древнеокситанском языке (langue d'oc). Трубадуры были людьми всех слоев общества: феодалы, церковники, горожане. Трубадур воспевает благородную и совершенную даму. Творчество трубадуров свидетельствовало о большой культурной утонченности южной Франции в Средние Век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МИННЕЗИНГЕР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- эквивалент трубадура в Германии; миннезингер сочиняет на средневерхненемецком язык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ТРУВЕР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- эквивалент трубадура на севере Франции; трувер пишет на лангедойль (северном диалекте французского языка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Picture 1" descr="C:\Documents and Settings\Admin\Мои документы\Мои рисунки\Романсы\imgpreview (7)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C:\Documents and Settings\Admin\Мои документы\Мои рисунки\Романсы\zamok-egeskov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" descr="C:\Documents and Settings\Admin\Мои документы\Мои рисунки\Романсы\3869174_652994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C:\Documents and Settings\Admin\Мои документы\Мои рисунки\Романсы\e5d12be2c2ce.jpg"/>
          <p:cNvPicPr/>
          <p:nvPr/>
        </p:nvPicPr>
        <p:blipFill>
          <a:blip r:embed="rId1"/>
          <a:stretch/>
        </p:blipFill>
        <p:spPr>
          <a:xfrm>
            <a:off x="0" y="0"/>
            <a:ext cx="908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"/>
          <p:cNvSpPr/>
          <p:nvPr/>
        </p:nvSpPr>
        <p:spPr>
          <a:xfrm>
            <a:off x="2286000" y="1429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иды русского роман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285840" y="571680"/>
            <a:ext cx="6572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ородской роман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Основными отличительными признаками городского романса с литературной точки зрения являются конкретика в образах, ступенчатая композиция, представление лирического героя о самом себе, как о бывалом человеке, недостижимость объекта любви. С музыкальной точки зрения городской романс отличают гармонический минор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– генеральская дочь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робко в любви объяснился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прогнала его проч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шел титулярный советни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ьянствовал с горя всю ночь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винном тумане носилась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 ним генеральская доч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Picture 4" descr="C:\Documents and Settings\Admin\Мои документы\Мои рисунки\Романсы\img20110329180126_3886.jpg"/>
          <p:cNvPicPr/>
          <p:nvPr/>
        </p:nvPicPr>
        <p:blipFill>
          <a:blip r:embed="rId1"/>
          <a:stretch/>
        </p:blipFill>
        <p:spPr>
          <a:xfrm>
            <a:off x="4091040" y="2928960"/>
            <a:ext cx="5052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20:27:11Z</dcterms:created>
  <dc:creator>Admin</dc:creator>
  <dc:description/>
  <dc:language>en-US</dc:language>
  <cp:lastModifiedBy>Admin</cp:lastModifiedBy>
  <dcterms:modified xsi:type="dcterms:W3CDTF">2012-05-03T20:47:26Z</dcterms:modified>
  <cp:revision>3</cp:revision>
  <dc:subject/>
  <dc:title>Слайд 1</dc:title>
</cp:coreProperties>
</file>