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C2D-3FF8-4891-9631-592DA84B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173-ABCA-438F-850A-64797B7F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8419-D1AC-4A2F-AD59-2E223E37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3DF5-6CBC-4B17-B8A0-4B299A1D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5F29F-9CD4-4F24-A5E1-65D0B1BF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F8F49-802C-461A-8A1B-47193B33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8792D-7771-45EE-8359-F00A4FEE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198E5-B063-40D2-997E-29C7324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ED22D-13AA-4FE4-9635-2A214775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35F8C-5C97-4FD0-A3E6-48C91362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67939-3FD8-4F1D-ACA9-6A8AEE7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7ABA-6D7F-48C3-958A-F1E49388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AE25F-1FCE-456F-9D42-2CFFE185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E03FC-BD94-48FD-A319-61769F54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5AFD4-7C20-498A-AEC8-62DC9A19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441EC-AFB5-4CFB-9297-E9C05731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4F05B-8747-43FD-900C-9D855266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1983-BC82-40BC-90D8-FFBD0B63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C792-CAB3-4ECD-ADC1-51B4C32C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E1D31-018D-49B2-B5CD-1683D057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A329-7A12-484A-8227-B311535C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68976-D08F-4D50-B02B-4DC785D7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1621-59A3-43A5-94AF-D33ED522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CB89-8279-49E5-908A-A7834762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6A00-A002-4847-8597-A52A2F5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36664-3389-4F9F-8DBE-6A1B3CA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4350-C59B-4DF2-B3E5-F06BDCF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006A-FEB1-4E66-B4E6-45ADEA2C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6E5E4-266D-4D87-998A-6AE1F842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9C3C-3266-422E-9DD5-2F5B3503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533CA-A694-484A-BDE2-3D62C4759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F36FF5-8F06-45FE-AED8-F240C49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4DB2D-09C7-47A0-96CA-350A75CC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CE3-8C43-483B-9FE3-FDE22C94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3A3F2-65EF-4755-AB2F-8F1D8265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6F2AD-3211-4712-A293-4523F27E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38381-E1CA-4EBD-8E87-2DA37D9C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338C8-5428-4CD2-A1D8-CB09D401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16BEF-3220-4061-A55E-BC3ECCE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7795F-8922-4CE2-8C6B-023304F1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2B6D6-1A9D-463E-9189-5FE36CD3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7F838-D2C9-4D0D-90FA-0CE35DE6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7B3E4-D60C-419F-A314-A2E541EE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D56F8-C409-419A-BFD6-7D358889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4C1-37E5-4C96-9E34-07E268A8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972108-D5A3-44F0-9B0E-9273A838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95620-FD33-4902-8B40-45DEA88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9E69BF-4480-438A-8B62-EAE10DB4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A35E8-CDA5-40A9-B67C-0B9B505B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CD762-882F-4659-8987-24CCFBC3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00171-BBE7-4B2C-8CEF-8B657BC9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27FC7-BCEC-41BE-81CE-E85DD0D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4E710-FB01-4841-AD99-816A16C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EA70F-F347-4934-AD3B-48714AB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7847C-6C06-499F-86F8-2B0E10CA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AB1-5C27-47BD-9164-333B080D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90B4B-81C0-4537-850F-33F5EC6D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16FE06-8C5E-454C-AF0D-DD0A757D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CB979-4BDF-426B-B78C-166B566F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9F50B-2783-459B-A0A5-1946C636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A9B36-F384-45E9-BA22-8AD51D59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658004-EF70-44EA-ACB2-8F2753E4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49761-1A33-4681-9781-D1F7C1DB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70937-5292-44CB-8B2C-EAC70CB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435B7D-CEF8-44E2-B3E0-CF96D91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844CE-1FCD-4F75-8980-F0EDC5F6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FC0-FCB5-4C80-97B4-19DDB928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606A1-6EA3-4E40-B0A6-DD82F43F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7614D-7CA9-4640-9DAF-EE5E4C24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94316-6ECF-4CA4-90E3-0C8DC966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77F-7FB0-4F57-914D-086427DF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C36-ACD2-41C7-AD18-33DC9C5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6B93-7492-49F1-AA7F-44593E4298D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AE44-680C-4B0E-B4F6-655195E0AE8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AFFC-BBE6-4B04-9F5E-A242884AB50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5EBF-A3B3-4096-A75B-228F0DD70CC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728D-A0B5-441D-8B80-50F2376CB71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3B2D-1F72-457E-A2C8-49298E08617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1" descr="C:\Documents and Settings\Admin\Мои документы\Мои рисунки\Романсы\img20110329180301_4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4786200" y="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nstantia"/>
              </a:rPr>
              <a:t>Романс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214200" y="474840"/>
            <a:ext cx="66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Цыганский рома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За основу был взят романс обыкновенный, но в музыку и тексты были добавлены специфически цыганские приёмы и обороты. Темой текста является любовное переживание, от нежности до страсти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твоё повторяю им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ночам во тьме молчаливой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собираются звезд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лунному водопою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мутные листья дремлют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сившись над тропо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ажусь я себе в эту пору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отой из звуков и бол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зумевшими часами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о прошлом поют поневол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твоё повторяю им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й ночью во тьме молчаливой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вучит оно так отдаленно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ещё никогда не звучало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Picture 2" descr="C:\Documents and Settings\Admin\Мои документы\Мои рисунки\Романсы\21_big.jpg"/>
          <p:cNvPicPr/>
          <p:nvPr/>
        </p:nvPicPr>
        <p:blipFill>
          <a:blip r:embed="rId1"/>
          <a:srcRect l="0" t="0" r="0" b="12887"/>
          <a:stretch/>
        </p:blipFill>
        <p:spPr>
          <a:xfrm>
            <a:off x="4500720" y="1749600"/>
            <a:ext cx="46432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85840" y="2858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Жестокий роман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Своеобразие данного жанра и заключается в гармоничном синтезе жанровых принципов баллады, лирической песни, романса. В жестоком романсе можно выделить чуть больше десятка основных сюжетов. Отличаются они друг от друга главным образом причинами трагедии, а выбор концовок и вовсе невелик: убийство, самоубийство, смерть героя от горя либо смертельное гор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Picture 1" descr="C:\Documents and Settings\Admin\Мои документы\Мои рисунки\Романсы\B11.jpg.jpeg"/>
          <p:cNvPicPr/>
          <p:nvPr/>
        </p:nvPicPr>
        <p:blipFill>
          <a:blip r:embed="rId1"/>
          <a:stretch/>
        </p:blipFill>
        <p:spPr>
          <a:xfrm>
            <a:off x="1071720" y="2523960"/>
            <a:ext cx="650052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357120" y="58680"/>
            <a:ext cx="4143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церкви стояла карет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 пышная свадьба был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гости нарядно одеты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еста всех краше был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ей было белое платье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нок был приколот из роз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на святое распять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отрела сквозь радугу слез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ели венчальные свечи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еста стояла бледн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щеннику клятвенны речи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азать не хотела она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ей священник на палец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дел золотое кольцо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глаз ее горькие слезы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учьем потекли на лицо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 слышал в толпе говорили: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"Жених неприглядный такой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сно девицу сгубили", -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ышел я вслед за толпой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церкви стояла карет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 пышная свадьба была,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гости нарядно одеты,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еста всех краше был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1" descr="C:\Documents and Settings\Admin\Мои документы\Мои рисунки\Романсы\a.jpg"/>
          <p:cNvPicPr/>
          <p:nvPr/>
        </p:nvPicPr>
        <p:blipFill>
          <a:blip r:embed="rId1"/>
          <a:stretch/>
        </p:blipFill>
        <p:spPr>
          <a:xfrm>
            <a:off x="3857760" y="1428840"/>
            <a:ext cx="5286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" descr="C:\Documents and Settings\Admin\Мои документы\Мои рисунки\Романсы\Pukirev_ner_br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2"/>
          <p:cNvSpPr/>
          <p:nvPr/>
        </p:nvSpPr>
        <p:spPr>
          <a:xfrm>
            <a:off x="214200" y="21420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азачий роман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 Казачьи авторские песни, на казачью тематику, зародились на Дону. Родоначальником "казачьего романса", считается песня неизвестного автор 19 века "Не для меня придёт весна..."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3" descr="C:\Documents and Settings\Admin\Мои документы\Мои рисунки\Романсы\15497.jpg"/>
          <p:cNvPicPr/>
          <p:nvPr/>
        </p:nvPicPr>
        <p:blipFill>
          <a:blip r:embed="rId1"/>
          <a:stretch/>
        </p:blipFill>
        <p:spPr>
          <a:xfrm>
            <a:off x="5000760" y="1450800"/>
            <a:ext cx="4143240" cy="54072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4"/>
          <p:cNvSpPr/>
          <p:nvPr/>
        </p:nvSpPr>
        <p:spPr>
          <a:xfrm>
            <a:off x="357120" y="2274840"/>
            <a:ext cx="378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ля меня придет весна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ля меня песнь разольетс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ердце радостно забьется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сторге чувств не для мен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ля меня река, шум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рега родные омывает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еск кротких волн душу ласкает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течет не для мен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1214280" y="142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Современные исполнители романс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C:\Documents and Settings\Admin\Мои документы\Мои рисунки\Романсы\imgpreview.jpg"/>
          <p:cNvPicPr/>
          <p:nvPr/>
        </p:nvPicPr>
        <p:blipFill>
          <a:blip r:embed="rId1"/>
          <a:stretch/>
        </p:blipFill>
        <p:spPr>
          <a:xfrm>
            <a:off x="0" y="9288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C:\Documents and Settings\Admin\Мои документы\Мои рисунки\Романсы\imgpreview (5).jpg"/>
          <p:cNvPicPr/>
          <p:nvPr/>
        </p:nvPicPr>
        <p:blipFill>
          <a:blip r:embed="rId2"/>
          <a:stretch/>
        </p:blipFill>
        <p:spPr>
          <a:xfrm>
            <a:off x="4286160" y="2193840"/>
            <a:ext cx="48578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:\Documents and Settings\Admin\Мои документы\Мои рисунки\Романсы\imgpreview (6).jpg"/>
          <p:cNvPicPr/>
          <p:nvPr/>
        </p:nvPicPr>
        <p:blipFill>
          <a:blip r:embed="rId1"/>
          <a:stretch/>
        </p:blipFill>
        <p:spPr>
          <a:xfrm>
            <a:off x="0" y="0"/>
            <a:ext cx="5357880" cy="40719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Documents and Settings\Admin\Мои документы\Мои рисунки\Романсы\imgpreview (3).jpg"/>
          <p:cNvPicPr/>
          <p:nvPr/>
        </p:nvPicPr>
        <p:blipFill>
          <a:blip r:embed="rId2"/>
          <a:stretch/>
        </p:blipFill>
        <p:spPr>
          <a:xfrm>
            <a:off x="5286240" y="300024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Documents and Settings\Admin\Мои документы\Мои рисунки\Романсы\imgpreview (2).jpg"/>
          <p:cNvPicPr/>
          <p:nvPr/>
        </p:nvPicPr>
        <p:blipFill>
          <a:blip r:embed="rId1"/>
          <a:stretch/>
        </p:blipFill>
        <p:spPr>
          <a:xfrm>
            <a:off x="0" y="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Documents and Settings\Admin\Мои документы\Мои рисунки\Романсы\imgpreview (1).jpg"/>
          <p:cNvPicPr/>
          <p:nvPr/>
        </p:nvPicPr>
        <p:blipFill>
          <a:blip r:embed="rId2"/>
          <a:stretch/>
        </p:blipFill>
        <p:spPr>
          <a:xfrm>
            <a:off x="4286160" y="2000160"/>
            <a:ext cx="485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Admin\Мои документы\Мои рисунки\Романсы\12809380605.jpg"/>
          <p:cNvPicPr/>
          <p:nvPr/>
        </p:nvPicPr>
        <p:blipFill>
          <a:blip r:embed="rId1"/>
          <a:stretch/>
        </p:blipFill>
        <p:spPr>
          <a:xfrm>
            <a:off x="0" y="0"/>
            <a:ext cx="5126040" cy="6834240"/>
          </a:xfrm>
          <a:prstGeom prst="rect">
            <a:avLst/>
          </a:prstGeom>
          <a:ln w="0">
            <a:noFill/>
          </a:ln>
        </p:spPr>
      </p:pic>
      <p:pic>
        <p:nvPicPr>
          <p:cNvPr id="287" name="Александр_Малинин_(на_стихи_Е.Евтушенко)_-_Дай_бог_(MusVid.net)_.mp3" descr=""/>
          <p:cNvPicPr/>
          <p:nvPr/>
        </p:nvPicPr>
        <p:blipFill>
          <a:blip r:embed="rId2"/>
          <a:stretch/>
        </p:blipFill>
        <p:spPr>
          <a:xfrm>
            <a:off x="8358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675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Documents and Settings\Admin\Мои документы\Мои рисунки\Романсы\deti_aleksandra_malinina.jpg"/>
          <p:cNvPicPr/>
          <p:nvPr/>
        </p:nvPicPr>
        <p:blipFill>
          <a:blip r:embed="rId1"/>
          <a:srcRect l="0" t="0" r="0" b="8644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Александр_Малинин_-_Поручик_Голицын_(М.Звездинский)_(MusVid.net)_.mp3" descr=""/>
          <p:cNvPicPr/>
          <p:nvPr/>
        </p:nvPicPr>
        <p:blipFill>
          <a:blip r:embed="rId2"/>
          <a:stretch/>
        </p:blipFill>
        <p:spPr>
          <a:xfrm>
            <a:off x="8429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6924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1643040" y="1071720"/>
            <a:ext cx="5572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Calibri"/>
                <a:ea typeface="Times New Roman"/>
              </a:rPr>
              <a:t>Я счастлив тем, что встретил Вас,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Calibri"/>
                <a:ea typeface="Times New Roman"/>
              </a:rPr>
              <a:t>Неповторимый и прекрасный.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Calibri"/>
                <a:ea typeface="Times New Roman"/>
              </a:rPr>
              <a:t>И, значит, жил я не напрасно...</a:t>
            </a:r>
            <a:br>
              <a:rPr sz="3200"/>
            </a:br>
            <a:r>
              <a:rPr b="1" lang="ru-RU" sz="3200" spc="-1" strike="noStrike">
                <a:solidFill>
                  <a:srgbClr val="333300"/>
                </a:solidFill>
                <a:latin typeface="Calibri"/>
                <a:ea typeface="Times New Roman"/>
              </a:rPr>
              <a:t>Благодарю, волшебный мой Романс!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7" descr="C:\Documents and Settings\Admin\Мои документы\Мои рисунки\Романсы\1232460092_d230d85a7f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1" name="Александр_Малинин_-_романс___(MusVid.net)_.mp3" descr=""/>
          <p:cNvPicPr/>
          <p:nvPr/>
        </p:nvPicPr>
        <p:blipFill>
          <a:blip r:embed="rId2"/>
          <a:stretch/>
        </p:blipFill>
        <p:spPr>
          <a:xfrm>
            <a:off x="928800" y="6143760"/>
            <a:ext cx="366480" cy="36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984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214200" y="500040"/>
            <a:ext cx="40006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Романс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в музыке (исп. romance, от позднелат. romanice, буквальн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-романск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, то ес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-испанск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)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вокальное сочинение, написанное на небольшое стихотворение лирического содержания, преимущественно любовного; камерное музыкально-поэтическое произведение для голоса с инструментальным сопровождение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Picture 2" descr="C:\Documents and Settings\Admin\Мои документы\Мои рисунки\Романсы\imgpreview (8).jpg"/>
          <p:cNvPicPr/>
          <p:nvPr/>
        </p:nvPicPr>
        <p:blipFill>
          <a:blip r:embed="rId1"/>
          <a:srcRect l="4172" t="0" r="0" b="0"/>
          <a:stretch/>
        </p:blipFill>
        <p:spPr>
          <a:xfrm>
            <a:off x="4570560" y="1428840"/>
            <a:ext cx="4573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500040" y="42876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воим появлением на свет романс обязан солнечной Испании. Благодаря творчеству странствующих поэтов-певцов в XIII—XIV веках возник, а затем утвердился новый песенный жанр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571680" y="1357200"/>
            <a:ext cx="628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окалу обязательно сопутствовал аккомпанемент музыкального инструмента — виуэлы или гитары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642960" y="21430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 Россию романс проник через Францию во второй половине XVIII века, сразу же попав на благоприятную почву расцвета русской поэзи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Picture 1" descr="C:\Documents and Settings\Admin\Мои документы\Мои рисунки\Романсы\e5d12be2c2ce.jpg"/>
          <p:cNvPicPr/>
          <p:nvPr/>
        </p:nvPicPr>
        <p:blipFill>
          <a:blip r:embed="rId1"/>
          <a:stretch/>
        </p:blipFill>
        <p:spPr>
          <a:xfrm>
            <a:off x="4000680" y="3137040"/>
            <a:ext cx="51433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357120" y="474840"/>
            <a:ext cx="42148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ТРУБАДУР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- средневековый поэт южной Франции, сочинявший стихи на древнеокситанском языке (langue d'oc). Трубадуры были людьми всех слоев общества: феодалы, церковники, горожане. Трубадур воспевает благородную и совершенную даму. Творчество трубадуров свидетельствовало о большой культурной утонченности южной Франции в Средние Век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МИННЕЗИНГЕР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- эквивалент трубадура в Германии; миннезингер сочиняет на средневерхненемецком язык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ТРУВЕР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- эквивалент трубадура на севере Франции; трувер пишет на лангедойль (северном диалекте французского языка)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1" descr="C:\Documents and Settings\Admin\Мои документы\Мои рисунки\Романсы\imgpreview (7)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Documents and Settings\Admin\Мои документы\Мои рисунки\Романсы\zamok-egeskov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C:\Documents and Settings\Admin\Мои документы\Мои рисунки\Романсы\3869174_652994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C:\Documents and Settings\Admin\Мои документы\Мои рисунки\Романсы\e5d12be2c2ce.jpg"/>
          <p:cNvPicPr/>
          <p:nvPr/>
        </p:nvPicPr>
        <p:blipFill>
          <a:blip r:embed="rId1"/>
          <a:stretch/>
        </p:blipFill>
        <p:spPr>
          <a:xfrm>
            <a:off x="0" y="0"/>
            <a:ext cx="908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/>
          <p:cNvSpPr/>
          <p:nvPr/>
        </p:nvSpPr>
        <p:spPr>
          <a:xfrm>
            <a:off x="2286000" y="1429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иды русского романс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285840" y="571680"/>
            <a:ext cx="6572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ородской роман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Основными отличительными признаками городского романса с литературной точки зрения являются конкретика в образах, ступенчатая композиция, представление лирического героя о самом себе, как о бывалом человеке, недостижимость объекта любви. С музыкальной точки зрения городской романс отличают гармонический минор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– генеральская дочь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робко в любви объяснился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прогнала его проч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шел титулярный советник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ьянствовал с горя всю ночь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винном тумане носилась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 ним генеральская дочь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Picture 4" descr="C:\Documents and Settings\Admin\Мои документы\Мои рисунки\Романсы\img20110329180126_3886.jpg"/>
          <p:cNvPicPr/>
          <p:nvPr/>
        </p:nvPicPr>
        <p:blipFill>
          <a:blip r:embed="rId1"/>
          <a:stretch/>
        </p:blipFill>
        <p:spPr>
          <a:xfrm>
            <a:off x="4091040" y="2928960"/>
            <a:ext cx="5052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20:27:11Z</dcterms:created>
  <dc:creator>Admin</dc:creator>
  <dc:description/>
  <dc:language>en-US</dc:language>
  <cp:lastModifiedBy>Admin</cp:lastModifiedBy>
  <dcterms:modified xsi:type="dcterms:W3CDTF">2012-05-03T20:47:26Z</dcterms:modified>
  <cp:revision>3</cp:revision>
  <dc:subject/>
  <dc:title>Слайд 1</dc:title>
</cp:coreProperties>
</file>