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0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DBA-1E68-4808-A741-6E350500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0F38-8C88-4189-991D-636D96D4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C83B-0354-4A03-B76B-E79A630C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A53-B36C-41C6-B94A-D9D5F00E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1E92-6BB7-472D-94FC-B1AE77B0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8D36-CDFD-403F-8D55-6CC8D2D4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388E-A7B6-47A1-90BA-6A4804B5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4834-B62B-4D59-AAB8-0D6A0FFD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F380-75CC-4661-AC1A-ECCCF5D0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6C5C-084F-4FCB-A84E-219CFF9D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54CA-1CFB-420D-9D97-8F85A69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449-C952-4C7A-900A-B32DB261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32DC-6818-4B6B-AB16-6B48CCB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50E3-64AB-4AA3-A9C2-00D40EC4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69D3-61D4-4CC0-B14B-87B6C046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B064-62E0-4ED3-BB17-CDAA1F33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57ED-A96B-4395-929D-BDBD2B9C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BBC6-0B12-4AF4-8471-62C9D395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2A55-D505-46B3-9323-6412B990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7D5B-5327-4F2D-B8D7-BE3B1EEA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DB68-A7C5-40FF-9719-A5E251EA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E63E-ACD4-4C63-8262-4EE90A27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F6D-DA92-458B-AF2D-666C84E1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7447-AE50-4799-9968-4A317A34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513E-8B4D-4DCD-A96A-AADBFCFF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3B56-16FE-4C25-9BFB-90E3E7FA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58703-6FF7-48AE-B1DB-B53AA230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5F9C-C2E5-4B3A-8C2B-A08B5E22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9286-10DC-4762-9D2B-1B4348B9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DD48-6A30-4015-ADA7-9CEFF487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0609-6C9E-4136-BCB6-F3F65557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2378-847C-4E58-95F7-676E9276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5606-0883-44D0-81C0-E526780D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A6E-304C-4E33-9063-DF5CD5D4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E5E25-C530-4F7E-8A82-665CBDDF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AA697-09CC-4C91-9ABC-0A46F45B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3D7E7-7262-435F-AE96-0CDBE42E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679B-FD03-4DEE-8106-C8FA705F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80D4-D336-40EB-A586-449B0133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8AD9C-D1D9-411F-9F28-4B52E5BE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69AA-091C-4AE6-AD3B-1990FC4A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5F56-56F5-4846-B9C1-E64ED7D6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8C8F-93AB-4739-A8DA-BAE0D0DC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55129-4DE9-4DF7-AEC8-47A99D31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306-5DCB-4AC3-93E1-AD5C1A7E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E5179-7830-4244-AE12-4530F6F3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1E1C0-5324-451C-89C4-85E0328D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0437-F587-419B-B008-125DEB80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E388C-D37A-4492-B7F0-927FC312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5B97D-7E00-41D3-8396-256B3ED8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CE5DE-84FD-47D8-BA5A-2BF977B7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D1456-D908-4C50-82DC-B6AF0F8D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DE0C0-D7C1-4474-AD99-B96AB13B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97404-3005-4038-B9FB-5BB9D57E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EE07-66B1-4C0D-828B-33C8790B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90E-F10F-488C-B051-7ECCF43F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A9E3-2470-4209-B2CA-81A602F7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FD5D1-0016-4F5E-90A6-7D96DF3D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CD155-EACB-45BB-8C6E-41FF2088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F6EE1-1D32-40B8-90D0-D247B65F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E3521-1802-41C2-9834-DABD5064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5D5F8-85AB-466C-A077-2F5EB33E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1BAD1-D795-4778-B31C-42FEAFB4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CD785-8721-4BFD-8A35-B53F9FED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8537A-3E59-4A73-9970-FDAB1507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156F4-5336-4424-95EC-4BC69A69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31E-8DE1-474C-9C9C-C83C7806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F700D-9D16-4E76-AE01-972B3341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0903D-40CF-4206-9501-01AB020F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C5222-7E89-4FFF-B67E-92CDBA22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912-93F1-4D0C-A804-4D1054A6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95B-4FC4-4759-B4B3-D217FF36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A574-706C-491F-9532-FE81AD2942E3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B0FC-45F1-46DF-81BC-9A3518E800F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BAB4-831E-47FF-90C3-CBFD86E1D951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39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f39d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B107-069E-4350-A548-A680A41D62E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41B6-745C-4BE3-B270-772C636E9B44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e87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9F16-EA0C-4D18-8685-033BBFA7A96F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58760" y="974880"/>
            <a:ext cx="8661240" cy="16891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99640" y="4797360"/>
            <a:ext cx="278604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535f"/>
                </a:solidFill>
                <a:latin typeface="Franklin Gothic Book"/>
              </a:rPr>
              <a:t>ИНФОРМАТИКА 11</a:t>
            </a:r>
            <a:endParaRPr b="0" lang="en-US" sz="2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Прямоугольник 3"/>
          <p:cNvSpPr/>
          <p:nvPr/>
        </p:nvSpPr>
        <p:spPr>
          <a:xfrm>
            <a:off x="6156360" y="50133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Работа учителя информатики Мишкиной И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"/>
          <p:cNvSpPr/>
          <p:nvPr/>
        </p:nvSpPr>
        <p:spPr>
          <a:xfrm>
            <a:off x="90000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Большеаксинская средняя общеобразовательная школа» Дрожжановского муниципального района Республики татар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1347840" y="328680"/>
            <a:ext cx="5699160" cy="1176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28760" y="1357200"/>
            <a:ext cx="764352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75f6d"/>
                </a:solidFill>
                <a:uFillTx/>
                <a:latin typeface="Franklin Gothic Book"/>
              </a:rPr>
              <a:t>http://broadcasting.ru/wiki/index.php?title=%D0%A3%D1%81%D1%82%D1%80%D0%BE%D0%B9%D1%81%D1%82%D0%B2%D0%BE_%D0%B2%D0%B2%D0%BE%D0%B4%D0%B0_%D0%B3%D1%80%D0%B0%D1%84%D0%B8%D1%87%D0%B5%D1%81%D0%BA%D0%BE%D0%B9_%D0%B8%D0%BD%D1%84%D0%BE%D1%80%D0%BC%D0%B0%D1%86%D0%B8%D0%B8</a:t>
            </a:r>
            <a:endParaRPr b="0" lang="en-US" sz="1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75f6d"/>
                </a:solidFill>
                <a:uFillTx/>
                <a:latin typeface="Franklin Gothic Book"/>
              </a:rPr>
              <a:t>http://school-collection.edu.ru/catalog/rubr/9916334c-3915-4f52-965d-f33da2f8638e/82973/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Устройства ввода графической информации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находят широкое распространение благодаря компактности и наглядности способа представления информации для человека.</a:t>
            </a:r>
            <a:br>
              <a:rPr sz="3200"/>
            </a:b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По степени автоматизации поиска и выделения элементов изображения, устройства ввода графической информации делятся на 2 больших класса: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- 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автоматические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Franklin Gothic Book"/>
              </a:rPr>
              <a:t>-</a:t>
            </a:r>
            <a:r>
              <a:rPr b="1" i="1" lang="ru-RU" sz="3200" spc="-1" strike="noStrike">
                <a:solidFill>
                  <a:srgbClr val="ff0000"/>
                </a:solidFill>
                <a:latin typeface="Franklin Gothic Book"/>
              </a:rPr>
              <a:t> полуавтоматические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85520" y="1071720"/>
            <a:ext cx="74293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В полуавтоматических 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устройствах ввода графической информации функции поиска и выделения элементов изображения возлагаются на человека, а преобразование координат считываемых точек выполняется автоматически.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71320" y="428760"/>
            <a:ext cx="7500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В автоматических 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устройствах процесс поиска и выделения элементов изображения осуществляется без участия человека. Эти устройства строятся либо по принципу сканирования всего изображения с последующей его обработкой и переводом из растровой формы представления в векторную , либо по принципу слежения за линией, обеспечивающей считывание графической информации, представленной в виде графиков, диаграмм, контурных изображений.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0200"/>
            <a:ext cx="5472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графические планшеты (дигитайзеры)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— для ручного ввода графической информации, изображений путем перемещения по планшету специального указателя (пера); при перемещении пера автоматически выполняется считывание координат его местоположения и ввод этих координат в компьютер; 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5572080" y="1857240"/>
            <a:ext cx="335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512640" y="420840"/>
            <a:ext cx="7126560" cy="1152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Franklin Gothic Book"/>
              </a:rPr>
              <a:t>сканеры</a:t>
            </a:r>
            <a:r>
              <a:rPr b="0" lang="ru-RU" sz="3200" spc="-1" strike="noStrike">
                <a:solidFill>
                  <a:srgbClr val="575f6d"/>
                </a:solidFill>
                <a:latin typeface="Franklin Gothic Book"/>
              </a:rPr>
              <a:t> (читающие автоматы) — для автоматического считывания с бумажных носителей и ввода в компьютер машинописных текстов, графиков, рисунков, чертежей; 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4" name="Picture 25" descr="сканер_01"/>
          <p:cNvPicPr/>
          <p:nvPr/>
        </p:nvPicPr>
        <p:blipFill>
          <a:blip r:embed="rId2"/>
          <a:stretch/>
        </p:blipFill>
        <p:spPr>
          <a:xfrm>
            <a:off x="428760" y="4143240"/>
            <a:ext cx="3168360" cy="2311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4" descr="сканер"/>
          <p:cNvPicPr/>
          <p:nvPr/>
        </p:nvPicPr>
        <p:blipFill>
          <a:blip r:embed="rId3"/>
          <a:stretch/>
        </p:blipFill>
        <p:spPr>
          <a:xfrm>
            <a:off x="5000760" y="4071960"/>
            <a:ext cx="33130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511280" y="122400"/>
            <a:ext cx="5518080" cy="1139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57120" y="11426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    </a:t>
            </a: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устройства указания </a:t>
            </a:r>
            <a:r>
              <a:rPr b="0" lang="ru-RU" sz="3000" spc="-1" strike="noStrike">
                <a:solidFill>
                  <a:srgbClr val="575f6d"/>
                </a:solidFill>
                <a:latin typeface="Franklin Gothic Book"/>
              </a:rPr>
              <a:t>(графические манипуляторы) — для ввода графической информации на экран монитора путем управления движением курсора по экрану с последующим кодированием координат курсора и вводом их в компьютер (джойстик, мышь, трекбол, световое перо); </a:t>
            </a:r>
            <a:endParaRPr b="0" lang="en-US" sz="3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28" name="Picture 18" descr="мышка_02"/>
          <p:cNvPicPr/>
          <p:nvPr/>
        </p:nvPicPr>
        <p:blipFill>
          <a:blip r:embed="rId2"/>
          <a:stretch/>
        </p:blipFill>
        <p:spPr>
          <a:xfrm>
            <a:off x="2000160" y="4572000"/>
            <a:ext cx="1857600" cy="1606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трекбол"/>
          <p:cNvPicPr/>
          <p:nvPr/>
        </p:nvPicPr>
        <p:blipFill>
          <a:blip r:embed="rId3"/>
          <a:stretch/>
        </p:blipFill>
        <p:spPr>
          <a:xfrm>
            <a:off x="4143240" y="4786200"/>
            <a:ext cx="1428840" cy="1239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4"/>
          <a:stretch/>
        </p:blipFill>
        <p:spPr>
          <a:xfrm>
            <a:off x="642960" y="4357800"/>
            <a:ext cx="1214280" cy="1909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5"/>
          <a:stretch/>
        </p:blipFill>
        <p:spPr>
          <a:xfrm>
            <a:off x="6215040" y="40719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4906800" cy="1152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5429160" y="4000320"/>
            <a:ext cx="32860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5f6d"/>
                </a:solidFill>
                <a:latin typeface="Franklin Gothic Book"/>
              </a:rPr>
              <a:t>  </a:t>
            </a:r>
            <a:endParaRPr b="0" lang="en-US" sz="22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      </a:t>
            </a:r>
            <a:r>
              <a:rPr b="0" lang="ru-RU" sz="1800" spc="-1" strike="noStrike">
                <a:solidFill>
                  <a:srgbClr val="ff0000"/>
                </a:solidFill>
                <a:latin typeface="Franklin Gothic Book"/>
              </a:rPr>
              <a:t>ТАЧПАД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       </a:t>
            </a:r>
            <a:r>
              <a:rPr b="0" lang="ru-RU" sz="1800" spc="-1" strike="noStrike">
                <a:solidFill>
                  <a:srgbClr val="575f6d"/>
                </a:solidFill>
                <a:latin typeface="Franklin Gothic Book"/>
              </a:rPr>
              <a:t>Представляет собой панель прямоугольной формы, чувствительную к перемещению пальца и нажатию пальцем, эквивалентное нажатию на кнопку мыши.</a:t>
            </a: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4" name="Picture 8" descr="тачпад_01"/>
          <p:cNvPicPr/>
          <p:nvPr/>
        </p:nvPicPr>
        <p:blipFill>
          <a:blip r:embed="rId2"/>
          <a:stretch/>
        </p:blipFill>
        <p:spPr>
          <a:xfrm>
            <a:off x="5572080" y="1357200"/>
            <a:ext cx="2641680" cy="242892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6"/>
          <p:cNvSpPr/>
          <p:nvPr/>
        </p:nvSpPr>
        <p:spPr>
          <a:xfrm>
            <a:off x="428760" y="1357200"/>
            <a:ext cx="3929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Book"/>
              </a:rPr>
              <a:t>сенсорные экраны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— для ввода отдельных элементов изображения, программ или команд с полиэкрана дисплея в компьютер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3"/>
          <a:stretch/>
        </p:blipFill>
        <p:spPr>
          <a:xfrm>
            <a:off x="2500200" y="4000680"/>
            <a:ext cx="20192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7913520" cy="11527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Цифровые камеры позволяют получать видео-изображение и фотоснимки в цифровом формате.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Для передачи «живого» видео по компьютерным сетям используются веб-камеры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1562"/>
              </a:spcBef>
              <a:buClr>
                <a:srgbClr val="fe8637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5f6d"/>
                </a:solidFill>
                <a:latin typeface="Franklin Gothic Book"/>
              </a:rPr>
              <a:t>При наличии в ПК спецплаты (ТВ-тюнер) возможно просматривать телевизионные программы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39" name="Picture 12" descr="цифр"/>
          <p:cNvPicPr/>
          <p:nvPr/>
        </p:nvPicPr>
        <p:blipFill>
          <a:blip r:embed="rId2"/>
          <a:stretch/>
        </p:blipFill>
        <p:spPr>
          <a:xfrm>
            <a:off x="6286680" y="1643040"/>
            <a:ext cx="1944360" cy="1709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вебкамера"/>
          <p:cNvPicPr/>
          <p:nvPr/>
        </p:nvPicPr>
        <p:blipFill>
          <a:blip r:embed="rId3"/>
          <a:stretch/>
        </p:blipFill>
        <p:spPr>
          <a:xfrm>
            <a:off x="6357960" y="3643200"/>
            <a:ext cx="20178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8:40:37Z</dcterms:created>
  <dc:creator>Ираида</dc:creator>
  <dc:description/>
  <dc:language>en-US</dc:language>
  <cp:lastModifiedBy>Ираида</cp:lastModifiedBy>
  <dcterms:modified xsi:type="dcterms:W3CDTF">2012-05-29T08:08:38Z</dcterms:modified>
  <cp:revision>9</cp:revision>
  <dc:subject/>
  <dc:title>Слайд 1</dc:title>
</cp:coreProperties>
</file>