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84A-9523-4B4B-8F79-0A8067E3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9EA-5E44-48D7-AE0F-77C49D7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6AD-3CF8-4991-92E0-53D5C068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BBE-4360-4CFE-8C40-0138DB2C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0ACE-AECE-4B79-B6B0-F0B8F34F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772-30CA-48EF-87FE-B4EF6A9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925F-607E-4E34-AF0E-B08025F7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8E4-6DB7-46E5-96A9-57835C68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474-29E8-46F5-BADC-90CDDB5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C9B9-4D4D-4767-8495-BF46DEC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044F-D22D-4168-B497-67A7B08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056-376E-4C96-8F8D-19200737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8AB-1508-4146-B9AC-C7C9AB6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F41-DDBC-4F16-8444-28549EF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81EC-D620-4480-8127-D1DE5BE0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12E3-B2C2-495F-B345-76FB08DE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E06-FE1A-43D1-AB87-50839F37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A2D2-B1E2-4A79-8755-2D4D8C6B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5F69-E666-47DF-9D68-F30C867C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9A25-0BB8-46DA-B069-9DFA6E6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591E-11F5-42FE-84A2-C2FB558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0298-0E92-4E7A-B5E3-9C6326B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A6E-A254-4862-AE46-7BFEA10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2964-787B-41B2-8BC0-4BFDBF54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4EF2-7CF4-4F3B-8882-1E6EABE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4949-7C85-4D7C-9564-3AFF933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E2B4-CD7D-4BB2-8B7D-2CDB2D9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58AB-2AE7-48CB-83A7-BAA3B0E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57C0-CBB2-4521-B87E-0FCA7E20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95DB-5865-4469-86F1-98EE12F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6B2D-D4C6-4416-B6C2-F1EC8D89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59FC-9040-42E3-B34D-C073DF8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4DFF-F8E9-46A8-811D-60036BA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FF2-73B1-40DA-B7EC-BDB00AE0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9F36-241A-4029-AB41-C6CF9D4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9C1F-9392-40A3-8714-C6D5C41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95205-2365-49B9-8A77-F1E035E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AAC4-C53A-4518-AD1C-261376C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4894-8643-458B-8795-8859FC9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2C04-67F8-44BA-8BC6-70715CD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8E7F-7F76-43E2-8BDB-9DD35784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9CD0-7E4E-4007-BCDF-5C85915A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3BA1-3C4C-4B23-8BA0-DAAF1BBB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1282-4DB5-463D-B749-548DA897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AD1-0656-4E09-9CDE-6178F67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4AB6-A35F-4797-8641-20B3EB7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6B08-7CC8-40BC-AC0C-5DC348B3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9DF1-E94A-4C41-9376-50B7A20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3413-5CB9-4F85-AAAB-B122CA76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ED51-2B0E-4B28-840A-1540F46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7911-F712-4F26-AF52-E4FD5DB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A3AD-ADA6-4F2B-ABFD-4DFCE76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2F6B-1CA9-445F-8A70-445B691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054D-1259-4514-AC83-6E8DECD0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536A-CC7D-4C9F-B57C-241451CD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E8C-9D88-40F4-9D0C-FC41F8D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6549-8979-4C80-9014-09FE20BD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9104-83AC-4287-A47E-05C58C9B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33C6-4A86-4C16-91E3-39202D4F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0440-1B01-4B1F-A70D-976A5BF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FB9C-448A-4B71-8E41-FEFAAD61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2E81-DE23-4DF7-BAC8-CB1DF076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1A76-0EFC-4BE4-BECC-022DA43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0622-8412-46A2-80B3-5EC8D57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90558-8BA3-4839-82C0-3BFD549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B453-D315-400E-AD93-9B5CBFC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B01-313F-4F0C-ADC3-C459649D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DF4C1-3908-4935-A5D1-DA6C8EB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D41C-8F18-4CDF-98E6-3FE622F0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8A25-5368-46B6-9D74-7FFB1B0C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127-A625-48C1-87A8-9A4DBE4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B30-3735-4630-A908-6B0EE33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0BE1-D35E-404F-AB86-678E4B2A037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13D0-BEFD-459A-83DE-C0AB650E5C2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F9CE-46EC-445D-BB3B-14575505AF6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2F0-0F95-4DDC-8114-2E5F0BA440B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C12-0519-4088-8BFD-4506FA8F1C7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A3E-01C1-4D91-B4F2-BCDFE75D3DB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58760" y="974880"/>
            <a:ext cx="866124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278604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ИНФОРМАТИКА 1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156360" y="5013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бота учителя информатики Мишкиной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Большеаксинская средняя общеобразовательная школа» Дрожжановского муниципальн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347840" y="328680"/>
            <a:ext cx="5699160" cy="11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28760" y="1357200"/>
            <a:ext cx="76435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broadcasting.ru/wiki/index.php?title=%D0%A3%D1%81%D1%82%D1%80%D0%BE%D0%B9%D1%81%D1%82%D0%B2%D0%BE_%D0%B2%D0%B2%D0%BE%D0%B4%D0%B0_%D0%B3%D1%80%D0%B0%D1%84%D0%B8%D1%87%D0%B5%D1%81%D0%BA%D0%BE%D0%B9_%D0%B8%D0%BD%D1%84%D0%BE%D1%80%D0%BC%D0%B0%D1%86%D0%B8%D0%B8</a:t>
            </a:r>
            <a:endParaRPr b="0" lang="en-US" sz="1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school-collection.edu.ru/catalog/rubr/9916334c-3915-4f52-965d-f33da2f8638e/82973/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Устройства ввода графической информации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ходят широкое распространение благодаря компактности и наглядности способа представления информации для человека.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По степени автоматизации поиска и выделения элементов изображения, устройства ввода графической информации делятся на 2 больших класса: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автоматические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полуавтоматически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85520" y="1071720"/>
            <a:ext cx="7429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полуавтоматических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устройствах ввода графической информации функции поиска и выделения элементов изображения возлагаются на человека, а преобразование координат считываемых точек выполняется автоматически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71320" y="428760"/>
            <a:ext cx="7500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В автоматических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устройствах процесс поиска и выделения элементов изображения осуществляется без участия человека. Эти устройства строятся либо по принципу сканирования всего изображения с последующей его обработкой и переводом из растровой формы представления в векторную , либо по принципу слежения за линией, обеспечивающей считывание графической информации, представленной в виде графиков, диаграмм, контурных изображений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0200"/>
            <a:ext cx="54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графические планшеты (дигитайзеры)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— для ручного ввода графической информации, изображений путем перемещения по планшету специального указателя (пера); при перемещении пера автоматически выполняется считывание координат его местоположения и ввод этих координат в компьютер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512640" y="420840"/>
            <a:ext cx="7126560" cy="115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канеры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(читающие автоматы) — для автоматического считывания с бумажных носителей и ввода в компьютер машинописных текстов, графиков, рисунков, чертежей;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4" name="Picture 25" descr="сканер_01"/>
          <p:cNvPicPr/>
          <p:nvPr/>
        </p:nvPicPr>
        <p:blipFill>
          <a:blip r:embed="rId2"/>
          <a:stretch/>
        </p:blipFill>
        <p:spPr>
          <a:xfrm>
            <a:off x="428760" y="4143240"/>
            <a:ext cx="3168360" cy="231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сканер"/>
          <p:cNvPicPr/>
          <p:nvPr/>
        </p:nvPicPr>
        <p:blipFill>
          <a:blip r:embed="rId3"/>
          <a:stretch/>
        </p:blipFill>
        <p:spPr>
          <a:xfrm>
            <a:off x="5000760" y="4071960"/>
            <a:ext cx="331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511280" y="122400"/>
            <a:ext cx="5518080" cy="113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57120" y="11426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устройства указания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(графические манипуляторы) — для ввода графической информации на экран монитора путем управления движением курсора по экрану с последующим кодированием координат курсора и вводом их в компьютер (джойстик, мышь, трекбол, световое перо)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8" name="Picture 18" descr="мышка_02"/>
          <p:cNvPicPr/>
          <p:nvPr/>
        </p:nvPicPr>
        <p:blipFill>
          <a:blip r:embed="rId2"/>
          <a:stretch/>
        </p:blipFill>
        <p:spPr>
          <a:xfrm>
            <a:off x="2000160" y="4572000"/>
            <a:ext cx="1857600" cy="1606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трекбол"/>
          <p:cNvPicPr/>
          <p:nvPr/>
        </p:nvPicPr>
        <p:blipFill>
          <a:blip r:embed="rId3"/>
          <a:stretch/>
        </p:blipFill>
        <p:spPr>
          <a:xfrm>
            <a:off x="4143240" y="4786200"/>
            <a:ext cx="1428840" cy="123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1214280" cy="1909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6215040" y="40719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429160" y="4000320"/>
            <a:ext cx="3286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ТАЧПАД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редставляет собой панель прямоугольной формы, чувствительную к перемещению пальца и нажатию пальцем, эквивалентное нажатию на кнопку мыши.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4" name="Picture 8" descr="тачпад_01"/>
          <p:cNvPicPr/>
          <p:nvPr/>
        </p:nvPicPr>
        <p:blipFill>
          <a:blip r:embed="rId2"/>
          <a:stretch/>
        </p:blipFill>
        <p:spPr>
          <a:xfrm>
            <a:off x="5572080" y="1357200"/>
            <a:ext cx="2641680" cy="24289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428760" y="1357200"/>
            <a:ext cx="392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енсорные экраны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— для ввода отдельных элементов изображения, программ или команд с полиэкрана дисплея в компьюте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2500200" y="40006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791352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Цифровые камеры позволяют получать видео-изображение и фотоснимки в цифровом формате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ля передачи «живого» видео по компьютерным сетям используются веб-камер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При наличии в ПК спецплаты (ТВ-тюнер) возможно просматривать телевизионные программ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9" name="Picture 12" descr="цифр"/>
          <p:cNvPicPr/>
          <p:nvPr/>
        </p:nvPicPr>
        <p:blipFill>
          <a:blip r:embed="rId2"/>
          <a:stretch/>
        </p:blipFill>
        <p:spPr>
          <a:xfrm>
            <a:off x="6286680" y="1643040"/>
            <a:ext cx="1944360" cy="170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вебкамера"/>
          <p:cNvPicPr/>
          <p:nvPr/>
        </p:nvPicPr>
        <p:blipFill>
          <a:blip r:embed="rId3"/>
          <a:stretch/>
        </p:blipFill>
        <p:spPr>
          <a:xfrm>
            <a:off x="6357960" y="3643200"/>
            <a:ext cx="2017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37Z</dcterms:created>
  <dc:creator>Ираида</dc:creator>
  <dc:description/>
  <dc:language>en-US</dc:language>
  <cp:lastModifiedBy>Ираида</cp:lastModifiedBy>
  <dcterms:modified xsi:type="dcterms:W3CDTF">2012-05-29T08:08:38Z</dcterms:modified>
  <cp:revision>9</cp:revision>
  <dc:subject/>
  <dc:title>Слайд 1</dc:title>
</cp:coreProperties>
</file>