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DB2-D1EE-4100-A129-E43CB829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220-1814-4F13-9141-B0F0E65C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B51-77B3-4A09-BC2B-A47AACF3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3CA-36E7-4224-A48B-0E0CB121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2EBE-9029-4DD8-AAA5-DF365732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6B39-0D5B-4702-8CE0-A8C21B6C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E3E9-2E91-47BC-98D5-EF3E64FE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5C03-1FA5-471F-A4D3-6F2713F7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EBD6-91E0-41C8-BCA2-1249A57A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2903-E39B-4386-AB20-754AF203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3F4D-A5BF-4C8E-8F6D-925C36BE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C6C-E3B6-4A61-9A1C-340D5781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3BED-739F-4F32-B3FC-7DDAB5B9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6A57-9DCA-4B50-9EAF-F9258B6C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314F-744C-4A09-963D-53B07B5E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1109-67B3-4E19-BACC-8BA19945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FC6B-C6FE-4C49-BF08-43C9748A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491-A87B-4A6B-BE38-E8F74CC4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FB3-8CC1-400F-92DF-25EDD93F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18C-048D-402A-8010-F3582A00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10A-FE0B-4F4E-ABF4-9748837B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3CE-ADE7-4E70-ABD6-A618ADC1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3FC3-B55F-4A2A-89AF-77CADBDD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F27-AA02-4043-870C-ED01A22C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4207-6A3E-481F-A11E-8FF76090A52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CB07-252C-40C9-BEFF-86371140471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Информационно- правовой практикум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Garamond"/>
              </a:rPr>
              <a:t>«Новый Закон на защите детств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3333600" cy="311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032200" cy="244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3"/>
          <a:stretch/>
        </p:blipFill>
        <p:spPr>
          <a:xfrm>
            <a:off x="5435640" y="4057560"/>
            <a:ext cx="1998720" cy="225108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5" descr=""/>
          <p:cNvPicPr/>
          <p:nvPr/>
        </p:nvPicPr>
        <p:blipFill>
          <a:blip r:embed="rId4"/>
          <a:stretch/>
        </p:blipFill>
        <p:spPr>
          <a:xfrm>
            <a:off x="658800" y="5346720"/>
            <a:ext cx="39196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Garamond"/>
              </a:rPr>
              <a:t>ПРИОРИТЕТЫ ЗАКОНА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Garamond"/>
              </a:rPr>
              <a:t>«О мерах по профилактике безнадзорности и правонарушений несовершеннолетних в Краснодарском крае» </a:t>
            </a:r>
            <a:br>
              <a:rPr sz="20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( От 21 июля 2008года №15391539 - КЗ) </a:t>
            </a:r>
            <a:br>
              <a:rPr sz="1800"/>
            </a:b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офилактика безнадзорности несовершеннолетних, защита их прав и законных интерес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силение ответственности родителей за выполнение обязанностей по воспитанию дете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оздание условий для развития духовности, творчества, занятий массовым спорто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Запрет на продажу спиртных напитков и сигарет в радиусе 150 метров от детских, общеобразовательных, спортивных и медицинских учреждени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Защита жизни и здоровья дете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7" descr="сканирование0002"/>
          <p:cNvPicPr/>
          <p:nvPr/>
        </p:nvPicPr>
        <p:blipFill>
          <a:blip r:embed="rId1"/>
          <a:srcRect l="9076" t="2086" r="0" b="9565"/>
          <a:stretch/>
        </p:blipFill>
        <p:spPr>
          <a:xfrm>
            <a:off x="395280" y="2276640"/>
            <a:ext cx="4186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оритеты Закон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1. Без сопровождения взрослых дети не должны находиться в общественных местах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- до 7 лет – круглосуточно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- с 7 лет до 14 лет - с 21 часа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- с 14 лет до 18 лет - с 22 часо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тветственность за это несут родител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. Запрещена продажа алкогольной, спиртосодержащей продукции, пива и табака несовершеннолетни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. Детям до 16 лет запрещено находиться: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 игорных и эксплуатирующих интерес к сексу заведениях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без сопровождения родителей - в ресторанах, кафе, барах, где алкогольная продукция продается на розлив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после 22 часов - в интернет-клубах, дискотеках и других развлекательных заведениях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тветственность за это несут владельцы указанных заведений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600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аши несовершеннолетние дети дома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явления такого характера все чаще можно встретить на входе во многие интернет-кафе, игровые и ночные клубы и другие развлекательные заведения Краснодарского края. Эти объекты досуга теперь в зоне внимания городских властей и мил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ченический билет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96720" y="1600200"/>
            <a:ext cx="908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 всех образовательных учреждениях с 1 сентября 2008 года  вводятся ученические билет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мечание: ученический билет двухсторонний, по размеру бейджа,  заламинированный. Может носиться в бейдже, в кармане, на шнуре. Ученик имеет его при себе, находясь в общественных местах без сопровождения родителей (законных представителей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ля того, чтобы билеты были выданы вовремя, необходимо, чтобы  принести в школу 29 августа в 9.00 следующее: фотографию 3 х 4, сведения о месте проживания (домашний адрес), Ф.И.О. и номера контактных телефонов родител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тдыхаешь? Но только до 22 часов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3" name="Picture 9" descr="BD19566_"/>
          <p:cNvPicPr/>
          <p:nvPr/>
        </p:nvPicPr>
        <p:blipFill>
          <a:blip r:embed="rId1"/>
          <a:stretch/>
        </p:blipFill>
        <p:spPr>
          <a:xfrm>
            <a:off x="1042920" y="1773360"/>
            <a:ext cx="3457800" cy="403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BD19588_"/>
          <p:cNvPicPr/>
          <p:nvPr/>
        </p:nvPicPr>
        <p:blipFill>
          <a:blip r:embed="rId2"/>
          <a:stretch/>
        </p:blipFill>
        <p:spPr>
          <a:xfrm>
            <a:off x="5003640" y="1844640"/>
            <a:ext cx="331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етской безнадзорности — твердое нет !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6" name="Picture 18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959280" cy="5040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239000" y="2780640"/>
            <a:ext cx="48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тской безнадзорности — твердое не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11" descr="Ребенок"/>
          <p:cNvPicPr/>
          <p:nvPr/>
        </p:nvPicPr>
        <p:blipFill>
          <a:blip r:embed="rId2"/>
          <a:stretch/>
        </p:blipFill>
        <p:spPr>
          <a:xfrm>
            <a:off x="4572000" y="1125360"/>
            <a:ext cx="4249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Цель: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ознакомить учащихся с новым Законом Краснодарского края «О мерах по профилактике безнадзорности и правонарушений несовершеннолетних  в Краснодарском кра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обеспечить знание и соблюдение учащимися в дальнейшем на практике — в жизни — норм Закон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воспитание правовой культуры старшеклассник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формирование гражданско –правой пози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580000" y="4076640"/>
            <a:ext cx="2664000" cy="237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580000" y="1628640"/>
            <a:ext cx="2675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Г. Золина: Нам предстоит остановить вымирание Росси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9 мая в Краснодаре состоялось расширенное заседание Совета безопасности, посвященное мерам по профилактике безнадзорности и правонарушений среди несовершеннолетних в Краснодарском кра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докладом на заседании Совбеза выступила, в частности, вице-губернатор Кубани по социальным вопросам Галина Золи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вое выступление Г. Золина начала с приписываемой директору ЦРУ Алена Даллесу цитаты с планом уничтожения "самого непокорного на земле народа, окончательного необратимого угасания его самосознания", для чего, якобы, планировалось специально подменять в России истинные духовные ценности на фальшивые, а также "вдалбливать в человеческое сознание культ  насилия, садизма, предательства", бросив на "оболванивание и одурачивание людей" всю материальную мощь и ресурс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16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"Этот сценарий мы с вами и видим сегодня",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178080" cy="3773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80000" y="1268280"/>
            <a:ext cx="5184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тметила она, подчеркнув, что сегодня перед государством и обществом стоит вопрос о том, как остановить вымирание стра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тановившись на демографическом кризисе и росте числа разводов в молодых семьях, Г. Золина перечислила основные проблемы современного общества, приводящие к криминализации несовершеннолетних. Среди наиболее тревожных факторов вице-губернатор выделила широкое распространение среди подростков курения, которое она назвала первым шагом к наркомании, а также поголовное увлечение пивом, в котором, по ее словам, содержатся "психотропные вещества, относящиеся к нелегальным наркотикам"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к считают краевые власти, исправить ситуацию поможет "Закон о мерах по предупреждению безнадзорности и правонарушений среди несовершеннолетних", принятый в первом чтении Законодательным собранием Кубани 28 ма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р других стран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19280" y="1600200"/>
            <a:ext cx="526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, например, если в Соединенных Штатах Америки родители оставляют своих детей, которым еще не исполнилось 12 лет, одних дома или на улице, то, скорее всего, соседи или знакомые тут же сообщат об этом в специальные государственные агентства. В этом случае родителям грозит большой штраф и воспитательные курс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Англии оставление детей в возрасте до 14 лет считается уголовным преступлением. В Германии можно попасть в тюрьму за оставление ребенка до 14 лет одного даже на 15 минут. Во Франции гражданину, не сообщившему о ребенке, попавшем в социально опасное положение, грозит уголовное преследовани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5" descr="PE01103_"/>
          <p:cNvPicPr/>
          <p:nvPr/>
        </p:nvPicPr>
        <p:blipFill>
          <a:blip r:embed="rId1"/>
          <a:stretch/>
        </p:blipFill>
        <p:spPr>
          <a:xfrm>
            <a:off x="539640" y="1916280"/>
            <a:ext cx="2786040" cy="2703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татистика  на  Кубан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337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тобы понять, что стоит за этим стоит, достаточно обратиться к статистике. Если в 2007 году кубанские подростки совершили 2618 преступлений, в том числе 17 убийств, то лишь за полгода 2008-го несовершеннолетними уже совершено около 1300 правонарушений, из них 7 убийств. А в 14 районах края зафиксирован рост подростковой преступност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то касается угрозы для самих детей, то в прошлом году на Кубани пропало без вести 1200 детей, а 3800 ребят милиция обнаружила на рынках, в подвалах, на вокзалах, ночующими в люках, на мусорных свалках. В этом году из дома ушли и не вернулись 253 ребенка, двое обнаружены мертвыми. За шесть последних лет количество сексуальных домогательств к детям и подросткам в Краснодарском крае увеличилось в 30 раз. Понятно, что все эти тревожные данные заставляют краевое руководство принимать срочные и решительные меры. Тем более они дают уже на начальном этапе достаточно эффективный результат. За неделю кубанские милиционеры задержали свыше 4 тысяч несовершеннолетних любителей ночных прогулок и составили больше тысячи протоколов. Шестеро подростков были переданы в органы соцзащиты. После проверки их родителей могут лишить родительских прав (в прошлом году эта мера была применена в 1700 семьях на Кубани)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7" descr="u17_57"/>
          <p:cNvPicPr/>
          <p:nvPr/>
        </p:nvPicPr>
        <p:blipFill>
          <a:blip r:embed="rId1"/>
          <a:stretch/>
        </p:blipFill>
        <p:spPr>
          <a:xfrm>
            <a:off x="6908760" y="2421000"/>
            <a:ext cx="22352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Понятия, используемые в рамках настоящего Закона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ля целей настоящего Закона используются следующие понятия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совершеннолетний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— лицо, не достигшее возраста восемнадцати лет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держание несовершеннолетнего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— материальное обеспечение несовершеннолетнего, порядок и форма предоставления которого определяются родителями (законными представителями) самостоятельно, а также обеспечение родителями (законными представителями) оптимальных санитарных, гигиенических требований при решении вопросов питания несовершеннолетнего, обустройства мест, предназначенных для сна и отдыха несовершеннолетнего, выполнения им учебных заданий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знадзорный несовершеннолетн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— несовершеннолетний, контроль за поведением которого отсутствует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еспризорный несовершеннолетн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— безнадзорный несовершеннолетний, не имеющий места жительства и (или) места пребывания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Закон Краснодарского кра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Garamond"/>
              </a:rPr>
              <a:t>«О мерах по профилактике безнадзорности и правонарушений несовершеннолет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Garamond"/>
              </a:rPr>
              <a:t>в Краснодарском крае»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1539-КЗ от 21 июля 2008 го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Принят Законодательным Собранием Краснодарского кр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16 июля 2008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0" y="2708280"/>
            <a:ext cx="2411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b9efee"/>
                </a:solidFill>
                <a:uFillTx/>
                <a:latin typeface="Garamond"/>
              </a:rPr>
              <a:t>Законодательная защита семейных ценностей и детства на Кубани: основное содержание Закона</a:t>
            </a: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ль Закона (статья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спечение прав ребенка (позитивная трактовка ограничительных положений Закона как прав ребенка, как проявления заботы краевой власти о защите жизни и здоровья детей (статья 3 (п.2, 3), статья 5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конодательная ответственность а) ребенка (статья 5), б) семьи (статья 3, пункт 2–6), в) школы (статья 3, пункт 7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7:13:03Z</dcterms:created>
  <dc:creator>User</dc:creator>
  <dc:description/>
  <dc:language>en-US</dc:language>
  <cp:lastModifiedBy>СВЕТЛАНА</cp:lastModifiedBy>
  <dcterms:modified xsi:type="dcterms:W3CDTF">2011-02-21T11:17:14Z</dcterms:modified>
  <cp:revision>9</cp:revision>
  <dc:subject/>
  <dc:title>Слайд 1</dc:title>
</cp:coreProperties>
</file>