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050-CD46-40F2-B434-EB99B87B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5D5-794B-44BD-B73B-A94DBC1B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729-0C18-42CC-9808-EA721021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F5A-A01A-4790-B340-EF3132E5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7EDF-8029-416B-A0C3-41B4C2FE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946D-5EB8-4273-A9CA-934253CB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F8D0-D7D4-4D21-8791-28B1DD6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3BD-BE9A-4A14-9DAF-56FFE9C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091F-4E0A-4721-A0AC-E80157AE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3F2-F9DC-471F-82A0-246A03A8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C3B-1ACB-4FDE-A942-1BA185A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84C-0793-419A-A53E-D234F28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B5F9-82E5-4081-AE2A-B2F5DAE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5099-12BB-4C83-A2CC-01FE39A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798-EC61-4019-BF46-93239F2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7F1-3C31-4DF4-9CE2-64B41D89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1912-A238-4F29-B12D-50ED0247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EAF-C759-4F60-AD98-A2DA052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121-C7EA-4B7A-908A-BA8D742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2EE-3AC3-4AA9-B020-D650D94B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CF5-DFA1-4683-AAF2-F2AAA6F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5CB-7F5D-4488-98E3-C89EE9B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623-33E2-4D04-A885-3434DA2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C1E-2D81-444C-977C-EBF2774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CC6-4798-4E81-8FC9-2CD12D266B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30DD-60A9-42D0-A42E-E6FCB6A500B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Информационно- правовой практикум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«Новый Закон на защите детств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333600" cy="31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032200" cy="24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3"/>
          <a:stretch/>
        </p:blipFill>
        <p:spPr>
          <a:xfrm>
            <a:off x="5435640" y="4057560"/>
            <a:ext cx="1998720" cy="225108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5" descr=""/>
          <p:cNvPicPr/>
          <p:nvPr/>
        </p:nvPicPr>
        <p:blipFill>
          <a:blip r:embed="rId4"/>
          <a:stretch/>
        </p:blipFill>
        <p:spPr>
          <a:xfrm>
            <a:off x="658800" y="5346720"/>
            <a:ext cx="39196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Garamond"/>
              </a:rPr>
              <a:t>ПРИОРИТЕТЫ ЗАКОНА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Garamond"/>
              </a:rPr>
              <a:t>«О мерах по профилактике безнадзорности и правонарушений несовершеннолетних в Краснодарском крае» </a:t>
            </a:r>
            <a:br>
              <a:rPr sz="20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( От 21 июля 2008года №15391539 - КЗ) </a:t>
            </a:r>
            <a:br>
              <a:rPr sz="1800"/>
            </a:b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филактика безнадзорности несовершеннолетних, защита их прав и законных интерес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силение ответственности родителей за выполнение обязанностей по воспитанию де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духовности, творчества, занятий массовым спорт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прет на продажу спиртных напитков и сигарет в радиусе 150 метров от детских, общеобразовательных, спортивных и медицинских учрежде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щита жизни и здоровья де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7" descr="сканирование0002"/>
          <p:cNvPicPr/>
          <p:nvPr/>
        </p:nvPicPr>
        <p:blipFill>
          <a:blip r:embed="rId1"/>
          <a:srcRect l="9076" t="2086" r="0" b="9565"/>
          <a:stretch/>
        </p:blipFill>
        <p:spPr>
          <a:xfrm>
            <a:off x="395280" y="2276640"/>
            <a:ext cx="4186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оритеты Зако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1. Без сопровождения взрослых дети не должны находиться в общественных местах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до 7 лет – круглосуточно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с 7 лет до 14 лет - с 21 часа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с 14 лет до 18 лет - с 22 час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ветственность за это несут родител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 Запрещена продажа алкогольной, спиртосодержащей продукции, пива и табака несовершеннолетни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Детям до 16 лет запрещено находиться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 игорных и эксплуатирующих интерес к сексу заведениях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без сопровождения родителей - в ресторанах, кафе, барах, где алкогольная продукция продается на розлив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после 22 часов - в интернет-клубах, дискотеках и других развлекательных заведениях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ветственность за это несут владельцы указанных завед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60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аши несовершеннолетние дети дом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явления такого характера все чаще можно встретить на входе во многие интернет-кафе, игровые и ночные клубы и другие развлекательные заведения Краснодарского края. Эти объекты досуга теперь в зоне внимания городских властей и мил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ченический бил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96720" y="1600200"/>
            <a:ext cx="908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 всех образовательных учреждениях с 1 сентября 2008 года  вводятся ученические билет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мечание: ученический билет двухсторонний, по размеру бейджа,  заламинированный. Может носиться в бейдже, в кармане, на шнуре. Ученик имеет его при себе, находясь в общественных местах без сопровождения родителей (законных представител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билеты были выданы вовремя, необходимо, чтобы  принести в школу 29 августа в 9.00 следующее: фотографию 3 х 4, сведения о месте проживания (домашний адрес), Ф.И.О. и номера контактных телефонов родит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тдыхаешь? Но только до 22 часов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3" name="Picture 9" descr="BD19566_"/>
          <p:cNvPicPr/>
          <p:nvPr/>
        </p:nvPicPr>
        <p:blipFill>
          <a:blip r:embed="rId1"/>
          <a:stretch/>
        </p:blipFill>
        <p:spPr>
          <a:xfrm>
            <a:off x="1042920" y="1773360"/>
            <a:ext cx="3457800" cy="403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BD19588_"/>
          <p:cNvPicPr/>
          <p:nvPr/>
        </p:nvPicPr>
        <p:blipFill>
          <a:blip r:embed="rId2"/>
          <a:stretch/>
        </p:blipFill>
        <p:spPr>
          <a:xfrm>
            <a:off x="5003640" y="1844640"/>
            <a:ext cx="331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тской безнадзорности — твердое нет !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39000" y="2780640"/>
            <a:ext cx="48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тской безнадзорности — твердое не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1" descr="Ребенок"/>
          <p:cNvPicPr/>
          <p:nvPr/>
        </p:nvPicPr>
        <p:blipFill>
          <a:blip r:embed="rId2"/>
          <a:stretch/>
        </p:blipFill>
        <p:spPr>
          <a:xfrm>
            <a:off x="4572000" y="1125360"/>
            <a:ext cx="424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Цель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ознакомить учащихся с новым Законом Краснодарского края «О мерах по профилактике безнадзорности и правонарушений несовершеннолетних  в Краснодарском кра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обеспечить знание и соблюдение учащимися в дальнейшем на практике — в жизни — норм Зако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воспитание правовой культуры старшеклассник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формирование гражданско –правой пози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266400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675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. Золина: Нам предстоит остановить вымирание Росс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9 мая в Краснодаре состоялось расширенное заседание Совета безопасности, посвященное мерам по профилактике безнадзорности и правонарушений среди несовершеннолетних в Краснодарском кра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докладом на заседании Совбеза выступила, в частности, вице-губернатор Кубани по социальным вопросам Галина Золи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ое выступление Г. Золина начала с приписываемой директору ЦРУ Алена Даллесу цитаты с планом уничтожения "самого непокорного на земле народа, окончательного необратимого угасания его самосознания", для чего, якобы, планировалось специально подменять в России истинные духовные ценности на фальшивые, а также "вдалбливать в человеческое сознание культ  насилия, садизма, предательства", бросив на "оболванивание и одурачивание людей" всю материальную мощь и ресурс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1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"Этот сценарий мы с вами и видим сегодня",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78080" cy="3773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80000" y="1268280"/>
            <a:ext cx="5184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метила она, подчеркнув, что сегодня перед государством и обществом стоит вопрос о том, как остановить вымирание стра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ановившись на демографическом кризисе и росте числа разводов в молодых семьях, Г. Золина перечислила основные проблемы современного общества, приводящие к криминализации несовершеннолетних. Среди наиболее тревожных факторов вице-губернатор выделила широкое распространение среди подростков курения, которое она назвала первым шагом к наркомании, а также поголовное увлечение пивом, в котором, по ее словам, содержатся "психотропные вещества, относящиеся к нелегальным наркотикам"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к считают краевые власти, исправить ситуацию поможет "Закон о мерах по предупреждению безнадзорности и правонарушений среди несовершеннолетних", принятый в первом чтении Законодательным собранием Кубани 28 ма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р других стран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, например, если в Соединенных Штатах Америки родители оставляют своих детей, которым еще не исполнилось 12 лет, одних дома или на улице, то, скорее всего, соседи или знакомые тут же сообщат об этом в специальные государственные агентства. В этом случае родителям грозит большой штраф и воспитательные кур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Англии оставление детей в возрасте до 14 лет считается уголовным преступлением. В Германии можно попасть в тюрьму за оставление ребенка до 14 лет одного даже на 15 минут. Во Франции гражданину, не сообщившему о ребенке, попавшем в социально опасное положение, грозит уголовное преследовани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5" descr="PE01103_"/>
          <p:cNvPicPr/>
          <p:nvPr/>
        </p:nvPicPr>
        <p:blipFill>
          <a:blip r:embed="rId1"/>
          <a:stretch/>
        </p:blipFill>
        <p:spPr>
          <a:xfrm>
            <a:off x="539640" y="1916280"/>
            <a:ext cx="2786040" cy="270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ка  на  Кубан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337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бы понять, что стоит за этим стоит, достаточно обратиться к статистике. Если в 2007 году кубанские подростки совершили 2618 преступлений, в том числе 17 убийств, то лишь за полгода 2008-го несовершеннолетними уже совершено около 1300 правонарушений, из них 7 убийств. А в 14 районах края зафиксирован рост подростковой преступнос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 касается угрозы для самих детей, то в прошлом году на Кубани пропало без вести 1200 детей, а 3800 ребят милиция обнаружила на рынках, в подвалах, на вокзалах, ночующими в люках, на мусорных свалках. В этом году из дома ушли и не вернулись 253 ребенка, двое обнаружены мертвыми. За шесть последних лет количество сексуальных домогательств к детям и подросткам в Краснодарском крае увеличилось в 30 раз. Понятно, что все эти тревожные данные заставляют краевое руководство принимать срочные и решительные меры. Тем более они дают уже на начальном этапе достаточно эффективный результат. За неделю кубанские милиционеры задержали свыше 4 тысяч несовершеннолетних любителей ночных прогулок и составили больше тысячи протоколов. Шестеро подростков были переданы в органы соцзащиты. После проверки их родителей могут лишить родительских прав (в прошлом году эта мера была применена в 1700 семьях на Кубани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u17_57"/>
          <p:cNvPicPr/>
          <p:nvPr/>
        </p:nvPicPr>
        <p:blipFill>
          <a:blip r:embed="rId1"/>
          <a:stretch/>
        </p:blipFill>
        <p:spPr>
          <a:xfrm>
            <a:off x="6908760" y="2421000"/>
            <a:ext cx="22352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Понятия, используемые в рамках настоящего Закон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я целей настоящего Закона используются следующие понятия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совершеннолетний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— лицо, не достигшее возраста восемнадцати лет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держание несовершеннолетнег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материальное обеспечение несовершеннолетнего, порядок и форма предоставления которого определяются родителями (законными представителями) самостоятельно, а также обеспечение родителями (законными представителями) оптимальных санитарных, гигиенических требований при решении вопросов питания несовершеннолетнего, обустройства мест, предназначенных для сна и отдыха несовершеннолетнего, выполнения им учебных заданий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знадзорный несовершеннолетн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несовершеннолетний, контроль за поведением которого отсутствует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спризорный несовершеннолетн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безнадзорный несовершеннолетний, не имеющий места жительства и (или) места пребывания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Закон Краснодарского кра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aramond"/>
              </a:rPr>
              <a:t>«О мерах по профилактике безнадзорности и правонарушений несовершеннолет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aramond"/>
              </a:rPr>
              <a:t>в Краснодарском крае»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539-КЗ от 21 июля 2008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ринят Законодательным Собранием Краснодарского кр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16 июля 200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2411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b9efee"/>
                </a:solidFill>
                <a:uFillTx/>
                <a:latin typeface="Garamond"/>
              </a:rPr>
              <a:t>Законодательная защита семейных ценностей и детства на Кубани: основное содержание Закона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ь Закона (статья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прав ребенка (позитивная трактовка ограничительных положений Закона как прав ребенка, как проявления заботы краевой власти о защите жизни и здоровья детей (статья 3 (п.2, 3), статья 5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онодательная ответственность а) ребенка (статья 5), б) семьи (статья 3, пункт 2–6), в) школы (статья 3, пункт 7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13:03Z</dcterms:created>
  <dc:creator>User</dc:creator>
  <dc:description/>
  <dc:language>en-US</dc:language>
  <cp:lastModifiedBy>СВЕТЛАНА</cp:lastModifiedBy>
  <dcterms:modified xsi:type="dcterms:W3CDTF">2011-02-21T11:17:14Z</dcterms:modified>
  <cp:revision>9</cp:revision>
  <dc:subject/>
  <dc:title>Слайд 1</dc:title>
</cp:coreProperties>
</file>