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6230-61E0-4DCF-A4C1-F164BC96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3B7-48B4-4214-AE4B-765AA09F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016-9766-4615-87BD-A5249C26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D50-E10B-44A7-A5AA-51AF1730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8025-C933-4350-8B95-DCE12C44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3381-1745-4664-8734-2F36C8F4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2739-6CA3-4DC1-8F3E-1BA3CD03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F1AC-C684-499D-8481-2EDC7F69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751D-4939-462C-AE56-5C4CF9EB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A94D-06C5-4783-819E-61EBB1C2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C129-C620-4F80-8165-DCC9830B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695-F1B2-42B2-90E0-3789693E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44B2-2144-4327-8354-62132BC3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3C67-34EA-42AE-A1FA-9AFD9F2B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D7F5-7E87-4CE9-98D1-CCC6F324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D492-03FE-4D78-8353-80C0EC0F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57B9-7680-42CA-97EA-3F2DD4FF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DF1-3218-4AF7-9261-06A855A8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DE5B-D092-4318-9D0D-4CE6BECE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7C1-87DE-41E0-8774-019E0F76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244-746A-4CEB-81B9-953F47DA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28C-C208-4BA2-B91B-2C5BD395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96CE-97E5-49D1-A9F1-0494E77B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65B-AAEA-4F88-8ABC-791D1B6D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FFD3-9521-42B9-9AE8-A0E224655A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F8FF-2A10-4FA5-A255-F6B6FAB21E8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86_&#1075;&#1086;&#1076;" TargetMode="External"/><Relationship Id="rId2" Type="http://schemas.openxmlformats.org/officeDocument/2006/relationships/hyperlink" Target="http://ru.wikipedia.org/wiki/1988_&#1075;&#1086;&#1076;" TargetMode="External"/><Relationship Id="rId3" Type="http://schemas.openxmlformats.org/officeDocument/2006/relationships/hyperlink" Target="http://ru.wikipedia.org/wiki/1995_&#1075;&#1086;&#1076;" TargetMode="External"/><Relationship Id="rId4" Type="http://schemas.openxmlformats.org/officeDocument/2006/relationships/hyperlink" Target="http://ru.wikipedia.org/wiki/1999" TargetMode="External"/><Relationship Id="rId5" Type="http://schemas.openxmlformats.org/officeDocument/2006/relationships/hyperlink" Target="http://ru.wikipedia.org/wiki/&#1057;&#1090;&#1080;&#1093;" TargetMode="External"/><Relationship Id="rId6" Type="http://schemas.openxmlformats.org/officeDocument/2006/relationships/hyperlink" Target="http://ru.wikipedia.org/wiki/27_&#1084;&#1072;&#1088;&#1090;&#1072;" TargetMode="External"/><Relationship Id="rId7" Type="http://schemas.openxmlformats.org/officeDocument/2006/relationships/hyperlink" Target="http://ru.wikipedia.org/wiki/2006_&#1075;&#1086;&#1076;" TargetMode="External"/><Relationship Id="rId8" Type="http://schemas.openxmlformats.org/officeDocument/2006/relationships/hyperlink" Target="http://ru.wikipedia.org/wiki/&#1063;&#1077;&#1075;&#1077;&#1090;" TargetMode="External"/><Relationship Id="rId9" Type="http://schemas.openxmlformats.org/officeDocument/2006/relationships/hyperlink" Target="http://ru.wikipedia.org/wiki/&#1050;&#1072;&#1073;&#1072;&#1088;&#1076;&#1080;&#1085;&#1086;-&#1041;&#1072;&#1083;&#1082;&#1072;&#1088;&#1089;&#1082;&#1072;&#1103;_&#1056;&#1077;&#1089;&#1087;&#1091;&#1073;&#1083;&#1080;&#1082;&#1072;" TargetMode="External"/><Relationship Id="rId10" Type="http://schemas.openxmlformats.org/officeDocument/2006/relationships/hyperlink" Target="http://ru.wikipedia.org/wiki/&#1040;&#1074;&#1090;&#1086;&#1088;&#1089;&#1082;&#1072;&#1103;_&#1087;&#1077;&#1089;&#1085;&#1103;" TargetMode="External"/><Relationship Id="rId11" Type="http://schemas.openxmlformats.org/officeDocument/2006/relationships/hyperlink" Target="http://ru.wikipedia.org/wiki/&#1040;&#1074;&#1090;&#1086;&#1088;-&#1080;&#1089;&#1087;&#1086;&#1083;&#1085;&#1080;&#1090;&#1077;&#1083;&#1100;" TargetMode="External"/><Relationship Id="rId12" Type="http://schemas.openxmlformats.org/officeDocument/2006/relationships/hyperlink" Target="http://ru.wikipedia.org/wiki/&#1040;&#1082;&#1090;&#1105;&#1088;" TargetMode="External"/><Relationship Id="rId13" Type="http://schemas.openxmlformats.org/officeDocument/2006/relationships/hyperlink" Target="http://ru.wikipedia.org/wiki/&#1044;&#1088;&#1072;&#1084;&#1072;&#1090;&#1091;&#1088;&#1075;" TargetMode="External"/><Relationship Id="rId14" Type="http://schemas.openxmlformats.org/officeDocument/2006/relationships/hyperlink" Target="http://ru.wikipedia.org/wiki/&#1046;&#1091;&#1088;&#1085;&#1072;&#1083;&#1080;&#1089;&#1090;" TargetMode="External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88;&#1090;" TargetMode="External"/><Relationship Id="rId2" Type="http://schemas.openxmlformats.org/officeDocument/2006/relationships/hyperlink" Target="http://ru.wikipedia.org/wiki/1984" TargetMode="External"/><Relationship Id="rId3" Type="http://schemas.openxmlformats.org/officeDocument/2006/relationships/hyperlink" Target="http://ru.wikipedia.org/wiki/&#1050;&#1072;&#1088;&#1094;&#1080;&#1085;&#1086;&#1084;&#1072;" TargetMode="External"/><Relationship Id="rId4" Type="http://schemas.openxmlformats.org/officeDocument/2006/relationships/hyperlink" Target="http://ru.wikipedia.org/wiki/17_&#1089;&#1077;&#1085;&#1090;&#1103;&#1073;&#1088;&#1103;" TargetMode="External"/><Relationship Id="rId5" Type="http://schemas.openxmlformats.org/officeDocument/2006/relationships/hyperlink" Target="http://ru.wikipedia.org/wiki/1984" TargetMode="External"/><Relationship Id="rId6" Type="http://schemas.openxmlformats.org/officeDocument/2006/relationships/hyperlink" Target="http://ru.wikipedia.org/wiki/&#1052;&#1086;&#1089;&#1082;&#1074;&#1072;" TargetMode="External"/><Relationship Id="rId7" Type="http://schemas.openxmlformats.org/officeDocument/2006/relationships/hyperlink" Target="http://ru.wikipedia.org/wiki/&#1050;&#1091;&#1085;&#1094;&#1077;&#1074;&#1089;&#1082;&#1086;&#1077;_&#1082;&#1083;&#1072;&#1076;&#1073;&#1080;&#1097;&#1077;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0;&#1079;&#1073;&#1086;&#1088;,_&#1070;&#1088;&#1080;&#1081;_&#1048;&#1086;&#1089;&#1080;&#1092;&#1086;&#1074;&#1080;&#1095;#.D0.A0.D0.B0.D0.BD.D0.BD.D0.B8.D0.B5_.D0.B3.D0.BE.D0.B4.D1.8B" TargetMode="External"/><Relationship Id="rId2" Type="http://schemas.openxmlformats.org/officeDocument/2006/relationships/hyperlink" Target="http://ru.wikipedia.org/wiki/&#1042;&#1080;&#1079;&#1073;&#1086;&#1088;,_&#1070;&#1088;&#1080;&#1081;_&#1048;&#1086;&#1089;&#1080;&#1092;&#1086;&#1074;&#1080;&#1095;#.D0.9B.D0.B8.D1.87.D0.BD.D0.B0.D1.8F_.D0.B6.D0.B8.D0.B7.D0.BD.D1.8C" TargetMode="External"/><Relationship Id="rId3" Type="http://schemas.openxmlformats.org/officeDocument/2006/relationships/hyperlink" Target="http://ru.wikipedia.org/wiki/&#1042;&#1080;&#1079;&#1073;&#1086;&#1088;,_&#1070;&#1088;&#1080;&#1081;_&#1048;&#1086;&#1089;&#1080;&#1092;&#1086;&#1074;&#1080;&#1095;#.D0.9D.D0.B0.D1.87.D0.B0.D0.BB.D0.BE_.D0.B6.D1.83.D1.80.D0.BD.D0.B0.D0.BB.D0.B8.D1.81.D1.82.D1.81.D0.BA.D0.BE.D0.B9_.D0.BA.D0.B0.D1.80.D1.8C.D0.B5.D1.80.D1.8B" TargetMode="External"/><Relationship Id="rId4" Type="http://schemas.openxmlformats.org/officeDocument/2006/relationships/hyperlink" Target="http://ru.wikipedia.org/wiki/&#1042;&#1080;&#1079;&#1073;&#1086;&#1088;,_&#1070;&#1088;&#1080;&#1081;_&#1048;&#1086;&#1089;&#1080;&#1092;&#1086;&#1074;&#1080;&#1095;#.D0.92.D0.B8.D0.B7.D0.B1.D0.BE.D1.80.C2.A0.E2.80.94_.D0.BF.D1.83.D1.82.D0.B5.D1.88.D0.B5.D1.81.D1.82.D0.B2.D0.B5.D0.BD.D0.BD.D0.B8.D0.BA_.D0.B8_.D0.B0.D0.BB.D1.8C.D0.BF.D0.B8.D0.BD.D0.B8.D1.81.D1.82" TargetMode="External"/><Relationship Id="rId5" Type="http://schemas.openxmlformats.org/officeDocument/2006/relationships/hyperlink" Target="http://ru.wikipedia.org/wiki/&#1042;&#1080;&#1079;&#1073;&#1086;&#1088;,_&#1070;&#1088;&#1080;&#1081;_&#1048;&#1086;&#1089;&#1080;&#1092;&#1086;&#1074;&#1080;&#1095;#.D0.91.D0.BE.D0.BB.D0.B5.D0.B7.D0.BD.D1.8C_.D0.B8_.D1.81.D0.BC.D0.B5.D1.80.D1.82.D1.8C" TargetMode="External"/><Relationship Id="rId6" Type="http://schemas.openxmlformats.org/officeDocument/2006/relationships/hyperlink" Target="http://ru.wikipedia.org/wiki/&#1042;&#1080;&#1079;&#1073;&#1086;&#1088;,_&#1070;&#1088;&#1080;&#1081;_&#1048;&#1086;&#1089;&#1080;&#1092;&#1086;&#1074;&#1080;&#1095;#.D0.9B.D0.B8.D1.87.D0.BD.D0.B0.D1.8F_.D0.B6.D0.B8.D0.B7.D0.BD.D1.8C" TargetMode="External"/><Relationship Id="rId7" Type="http://schemas.openxmlformats.org/officeDocument/2006/relationships/hyperlink" Target="http://ru.wikipedia.org/wiki/&#1042;&#1080;&#1079;&#1073;&#1086;&#1088;,_&#1070;&#1088;&#1080;&#1081;_&#1048;&#1086;&#1089;&#1080;&#1092;&#1086;&#1074;&#1080;&#1095;#.D0.A2.D0.B2.D0.BE.D1.80.D1.87.D0.B5.D1.81.D0.BA.D0.BE.D0.B5_.D0.BD.D0.B0.D1.81.D0.BB.D0.B5.D0.B4.D0.B8.D0.B5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_&#1080;&#1102;&#1085;&#1103;" TargetMode="External"/><Relationship Id="rId2" Type="http://schemas.openxmlformats.org/officeDocument/2006/relationships/hyperlink" Target="http://ru.wikipedia.org/wiki/1934" TargetMode="External"/><Relationship Id="rId3" Type="http://schemas.openxmlformats.org/officeDocument/2006/relationships/hyperlink" Target="http://ru.wikipedia.org/wiki/17_&#1089;&#1077;&#1085;&#1090;&#1103;&#1073;&#1088;&#1103;" TargetMode="External"/><Relationship Id="rId4" Type="http://schemas.openxmlformats.org/officeDocument/2006/relationships/hyperlink" Target="http://ru.wikipedia.org/wiki/1984" TargetMode="External"/><Relationship Id="rId5" Type="http://schemas.openxmlformats.org/officeDocument/2006/relationships/hyperlink" Target="http://ru.wikipedia.org/wiki/&#1040;&#1074;&#1090;&#1086;&#1088;-&#1080;&#1089;&#1087;&#1086;&#1083;&#1085;&#1080;&#1090;&#1077;&#1083;&#1100;" TargetMode="External"/><Relationship Id="rId6" Type="http://schemas.openxmlformats.org/officeDocument/2006/relationships/hyperlink" Target="http://ru.wikipedia.org/wiki/&#1055;&#1086;&#1101;&#1090;" TargetMode="External"/><Relationship Id="rId7" Type="http://schemas.openxmlformats.org/officeDocument/2006/relationships/hyperlink" Target="http://ru.wikipedia.org/wiki/&#1040;&#1074;&#1090;&#1086;&#1088;&#1089;&#1082;&#1072;&#1103;_&#1087;&#1077;&#1089;&#1085;&#1103;" TargetMode="External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_&#1080;&#1102;&#1085;&#1103;" TargetMode="External"/><Relationship Id="rId2" Type="http://schemas.openxmlformats.org/officeDocument/2006/relationships/hyperlink" Target="http://ru.wikipedia.org/wiki/1934" TargetMode="External"/><Relationship Id="rId3" Type="http://schemas.openxmlformats.org/officeDocument/2006/relationships/hyperlink" Target="http://ru.wikipedia.org/wiki/&#1056;&#1072;&#1073;&#1086;&#1095;&#1077;-&#1050;&#1088;&#1077;&#1089;&#1090;&#1100;&#1103;&#1085;&#1089;&#1082;&#1072;&#1103;_&#1050;&#1088;&#1072;&#1089;&#1085;&#1072;&#1103;_&#1040;&#1088;&#1084;&#1080;&#1103;" TargetMode="External"/><Relationship Id="rId4" Type="http://schemas.openxmlformats.org/officeDocument/2006/relationships/hyperlink" Target="http://ru.wikipedia.org/wiki/1937" TargetMode="External"/><Relationship Id="rId5" Type="http://schemas.openxmlformats.org/officeDocument/2006/relationships/hyperlink" Target="http://ru.wikipedia.org/wiki/&#1057;&#1090;&#1072;&#1083;&#1080;&#1085;&#1089;&#1082;&#1080;&#1077;_&#1088;&#1077;&#1087;&#1088;&#1077;&#1089;&#1089;&#1080;&#1080;" TargetMode="External"/><Relationship Id="rId6" Type="http://schemas.openxmlformats.org/officeDocument/2006/relationships/hyperlink" Target="http://ru.wikipedia.org/wiki/1958" TargetMode="External"/><Relationship Id="rId7" Type="http://schemas.openxmlformats.org/officeDocument/2006/relationships/hyperlink" Target="http://ru.wikipedia.org/wiki/&#1056;&#1077;&#1072;&#1073;&#1080;&#1083;&#1080;&#1090;&#1072;&#1094;&#1080;&#1103;" TargetMode="External"/><Relationship Id="rId8" Type="http://schemas.openxmlformats.org/officeDocument/2006/relationships/hyperlink" Target="http://ru.wikipedia.org/wiki/1941" TargetMode="External"/><Relationship Id="rId9" Type="http://schemas.openxmlformats.org/officeDocument/2006/relationships/hyperlink" Target="http://ru.wikipedia.org/wiki/&#1057;&#1088;&#1077;&#1090;&#1077;&#1085;&#1082;&#1072;_(&#1091;&#1083;&#1080;&#1094;&#1072;)" TargetMode="Externa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58_&#1075;&#1086;&#1076;" TargetMode="External"/><Relationship Id="rId2" Type="http://schemas.openxmlformats.org/officeDocument/2006/relationships/hyperlink" Target="http://ru.wikipedia.org/wiki/&#1045;&#1074;&#1075;&#1077;&#1085;&#1080;&#1103;_&#1059;&#1088;&#1072;&#1083;&#1086;&#1074;&#1072;" TargetMode="External"/><Relationship Id="rId3" Type="http://schemas.openxmlformats.org/officeDocument/2006/relationships/hyperlink" Target="http://ru.wikipedia.org/wiki/&#1045;&#1074;&#1075;&#1077;&#1085;&#1080;&#1103;_&#1059;&#1088;&#1072;&#1083;&#1086;&#1074;&#1072;" TargetMode="External"/><Relationship Id="rId4" Type="http://schemas.openxmlformats.org/officeDocument/2006/relationships/hyperlink" Target="http://ru.wikipedia.org/wiki/&#1048;&#1102;&#1083;&#1100;&#1089;&#1082;&#1080;&#1081;_&#1076;&#1086;&#1078;&#1076;&#1100;" TargetMode="External"/><Relationship Id="rId5" Type="http://schemas.openxmlformats.org/officeDocument/2006/relationships/hyperlink" Target="http://ru.wikipedia.org/wiki/1967_&#1075;&#1086;&#1076;" TargetMode="External"/><Relationship Id="rId6" Type="http://schemas.openxmlformats.org/officeDocument/2006/relationships/hyperlink" Target="http://ru.wikipedia.org/wiki/1974_&#1075;&#1086;&#1076;" TargetMode="Externa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1;&#1091;&#1094;&#1080;&#1077;&#1074;,_&#1052;&#1072;&#1088;&#1083;&#1077;&#1085;_&#1052;&#1072;&#1088;&#1090;&#1099;&#1085;&#1086;&#1074;&#1080;&#1095;" TargetMode="External"/><Relationship Id="rId2" Type="http://schemas.openxmlformats.org/officeDocument/2006/relationships/hyperlink" Target="http://ru.wikipedia.org/wiki/&#1048;&#1102;&#1083;&#1100;&#1089;&#1082;&#1080;&#1081;_&#1076;&#1086;&#1078;&#1076;&#1100;" TargetMode="External"/><Relationship Id="rId3" Type="http://schemas.openxmlformats.org/officeDocument/2006/relationships/hyperlink" Target="http://ru.wikipedia.org/wiki/&#1054;&#1082;&#1091;&#1076;&#1078;&#1072;&#1074;&#1072;,_&#1041;&#1091;&#1083;&#1072;&#1090;_&#1064;&#1072;&#1083;&#1074;&#1086;&#1074;&#1080;&#1095;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72;&#1089;&#1085;&#1072;&#1103;_&#1087;&#1072;&#1083;&#1072;&#1090;&#1082;&#1072;_(&#1092;&#1080;&#1083;&#1100;&#1084;,_1969)" TargetMode="External"/><Relationship Id="rId2" Type="http://schemas.openxmlformats.org/officeDocument/2006/relationships/hyperlink" Target="http://ru.wikipedia.org/wiki/&#1053;&#1072;&#1095;&#1072;&#1083;&#1086;_(&#1092;&#1080;&#1083;&#1100;&#1084;,_1970)" TargetMode="External"/><Relationship Id="rId3" Type="http://schemas.openxmlformats.org/officeDocument/2006/relationships/hyperlink" Target="http://ru.wikipedia.org/wiki/&#1044;&#1085;&#1077;&#1074;&#1085;&#1080;&#1082;_&#1076;&#1080;&#1088;&#1077;&#1082;&#1090;&#1086;&#1088;&#1072;_&#1096;&#1082;&#1086;&#1083;&#1099;_(&#1092;&#1080;&#1083;&#1100;&#1084;)" TargetMode="External"/><Relationship Id="rId4" Type="http://schemas.openxmlformats.org/officeDocument/2006/relationships/hyperlink" Target="http://ru.wikipedia.org/wiki/&#1064;&#1077;&#1087;&#1080;&#1090;&#1100;&#1082;&#1086;,_&#1051;&#1072;&#1088;&#1080;&#1089;&#1072;_&#1045;&#1092;&#1080;&#1084;&#1086;&#1074;&#1085;&#1072;" TargetMode="External"/><Relationship Id="rId5" Type="http://schemas.openxmlformats.org/officeDocument/2006/relationships/hyperlink" Target="http://ru.wikipedia.org/wiki/&#1058;&#1099;_&#1080;_&#1103;_(&#1092;&#1080;&#1083;&#1100;&#1084;,_1971)" TargetMode="External"/><Relationship Id="rId6" Type="http://schemas.openxmlformats.org/officeDocument/2006/relationships/hyperlink" Target="http://ru.wikipedia.org/wiki/&#1044;&#1077;&#1084;&#1080;&#1076;&#1086;&#1074;&#1072;,_&#1040;&#1083;&#1083;&#1072;_&#1057;&#1077;&#1088;&#1075;&#1077;&#1077;&#1074;&#1085;&#1072;" TargetMode="External"/><Relationship Id="rId7" Type="http://schemas.openxmlformats.org/officeDocument/2006/relationships/hyperlink" Target="http://ru.wikipedia.org/wiki/&#1041;&#1086;&#1088;&#1084;&#1072;&#1085;,_&#1052;&#1072;&#1088;&#1090;&#1080;&#1085;" TargetMode="External"/><Relationship Id="rId8" Type="http://schemas.openxmlformats.org/officeDocument/2006/relationships/hyperlink" Target="http://ru.wikipedia.org/wiki/&#1057;&#1077;&#1084;&#1085;&#1072;&#1076;&#1094;&#1072;&#1090;&#1100;_&#1084;&#1075;&#1085;&#1086;&#1074;&#1077;&#1085;&#1080;&#1081;_&#1074;&#1077;&#1089;&#1085;&#1099;_(&#1090;&#1077;&#1083;&#1077;&#1092;&#1080;&#1083;&#1100;&#1084;)" TargetMode="External"/><Relationship Id="rId9" Type="http://schemas.openxmlformats.org/officeDocument/2006/relationships/image" Target="../media/image5.jpe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57" TargetMode="External"/><Relationship Id="rId2" Type="http://schemas.openxmlformats.org/officeDocument/2006/relationships/hyperlink" Target="http://ru.wikipedia.org/wiki/1958" TargetMode="External"/><Relationship Id="rId3" Type="http://schemas.openxmlformats.org/officeDocument/2006/relationships/hyperlink" Target="http://ru.wikipedia.org/wiki/1962" TargetMode="External"/><Relationship Id="rId4" Type="http://schemas.openxmlformats.org/officeDocument/2006/relationships/hyperlink" Target="http://ru.wikipedia.org/wiki/&#1070;&#1085;&#1086;&#1089;&#1090;&#1100;_(&#1088;&#1072;&#1076;&#1080;&#1086;&#1089;&#1090;&#1072;&#1085;&#1094;&#1080;&#1103;)" TargetMode="External"/><Relationship Id="rId5" Type="http://schemas.openxmlformats.org/officeDocument/2006/relationships/hyperlink" Target="http://ru.wikipedia.org/wiki/1964" TargetMode="External"/><Relationship Id="rId6" Type="http://schemas.openxmlformats.org/officeDocument/2006/relationships/hyperlink" Target="http://ru.wikipedia.org/wiki/&#1050;&#1088;&#1091;&#1075;&#1086;&#1079;&#1086;&#1088;_(&#1078;&#1091;&#1088;&#1085;&#1072;&#1083;,_&#1057;&#1057;&#1057;&#1056;)" TargetMode="External"/><Relationship Id="rId7" Type="http://schemas.openxmlformats.org/officeDocument/2006/relationships/hyperlink" Target="http://ru.wikipedia.org/wiki/&#1056;&#1072;&#1089;&#1074;&#1091;&#1084;&#1095;&#1086;&#1088;&#1088;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01680" y="260280"/>
            <a:ext cx="8540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Творческое наслед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шли пластинки, кассеты, книги стихов и прозы в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1986 год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«Я сердце оставил в синих горах», в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1988 год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«Сад вершин», в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1995 год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«Я верю в семиструнную гитару» и «…И льёт на пустыни мои доброта…», в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1999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двухтомник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стих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есен и прозы), компакт-дис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27 мар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2006 год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на горе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Чеге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9"/>
              </a:rPr>
              <a:t>Кабардино-Балкарская Республ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 во время проведения VII Фестиваля горнолыжной авторской песни «Приэльбрусье — 2006» была установлена мемориальная доска одному из основоположников жанра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10"/>
              </a:rPr>
              <a:t>авторской песн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известному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11"/>
              </a:rPr>
              <a:t>бард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12"/>
              </a:rPr>
              <a:t>актёр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13"/>
              </a:rPr>
              <a:t>драматург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14"/>
              </a:rPr>
              <a:t>журналист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Юрию Иосифовичу Визбо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сташковском районе Тверской области ежегодно проводится фестиваль авторской песни "Распахнутые ветра" имени Юрия Визб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5183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Болезнь и смер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март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1984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Визбор пишет свою последнюю песню («Цейская»). Всего за 33 года написано более 300 песен и более пятидесяти его стихотворений положено на музыку другими композитор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апреля тяжело болен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раком печен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17 сентябр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1984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Визбор скончался в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Москв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Похоронен на московском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Новокунцевском кладбищ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1979640" y="2997360"/>
            <a:ext cx="4680000" cy="38606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826920" y="549360"/>
            <a:ext cx="7921800" cy="531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нимание!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3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Содержание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. 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Ранние годы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2. 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Личная жизнь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3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ктерская карьера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4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Начало журналистской карьеры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_x000b_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5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ворческое наследие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6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Болезнь и смерть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_x000b_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_x000b_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 advTm="1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140000" y="188640"/>
            <a:ext cx="47019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Юрий Иосифович Визб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20 июн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1934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17 сентябр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1984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 — советский автор-исполнитель песен (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бар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, киноактёр, журналист, писатель, сценарист,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поэ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один из основоположников жанра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авторской песн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создатель жанра песни-репортажа, автор более 300 пес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8"/>
          <a:stretch/>
        </p:blipFill>
        <p:spPr>
          <a:xfrm>
            <a:off x="0" y="333360"/>
            <a:ext cx="4299120" cy="61866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54064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анние г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Юрий Визбор родился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20 июн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1934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в Москве, в семье командира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Красной Арми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Вот фрагмент автобиографии Юрия Визбора: «Я родился по недосмотру 20 июня 1934 года, в Москве, в родильном доме им. Крупской, что на Миуссах. Моя двадцатилетняя к тому времени матушка Мария Шевченко, привезённая в Москву из Краснодара молодым, вспыльчивым и ревнивым командиром, бывшим моряком, устремившимся в семнадцатом году из благообразной Литвы в Россию Юзефом Визборасом (в России непонятное для пролетариата „ас“ было отброшено и отец мой стал просто Визбором)»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1937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отец Юрия был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репрессирова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(в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1958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он был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посмертно реабилитирова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. В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194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семья переехала на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9"/>
              </a:rPr>
              <a:t>Сретенк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с образом которой впоследствии связаны многие мотивы в творчестве Визбора-бар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01680" y="0"/>
            <a:ext cx="8540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четырнадцать лет под влиянием «большой принципиальной любви» в пионерском лагере, где я работал помощником вожатого, я написал первое стихотворение, которое начиналось следующим четверостишие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годня я тоскую по любимо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вспоминаю счастье прежних дне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как тучки пронеслися мимо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снова страсть горит в груди мо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традка с тайными виршами была обнаружена матушкой при генеральной уборке. Состоялось расследование насчёт «прежних дней». На следующий день на своём столе я обнаружил «случайно» забытую матушкой брошюру «Что нужно знать о сифилисе». Всё-таки матушка была прежде всего врач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 себе я полагал, что стану либо футболистом, либо лётчиком. С девятого класса я повадился ходить в аэроклуб, летал на По-2 и Як-1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последствии многие произведения он посвятит футболу и «небу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01680" y="333360"/>
            <a:ext cx="854064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Личная жиз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Юрий Визбор был женат три раза. В </a:t>
            </a: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1958 год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он женился на Аде Якушевой. Их дочь Татьяна стала теле- и радиожурналисткой. Второй женой стала актриса </a:t>
            </a: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Евгения </a:t>
            </a: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Уралов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с которой Визбор познакомился на съёмках фильма «</a:t>
            </a: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Июльский дожд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». В этом браке, заключённом в </a:t>
            </a: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1967 год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родилась дочь Анна. Третий раз Визбор женился в </a:t>
            </a: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1974 год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С последней женой Ниной Тихоновой он не расставался до конца своей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851280" y="189000"/>
            <a:ext cx="49910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ктерская карье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ую роль в кино Визбор сыграл в 1965 г., снявшись в фильме 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М. Хуциев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«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Июльский дожд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. По собственному признанию Визбора, когда режиссер позвонил ему и предложил сняться в кино, он воспринял это как розыгрыш. Тем не менее для непрофессионального актера дебют Визбора оказался очень убедительным, и роль обаятельного «человека с гитарой», обольстителя девушек Алика стала одной из его главных удач. В фильме Визбор исполнил три песни — «Простите пехоте»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Б.Окуджав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«Обеденный перерыв» Е. Клячкина и собственную «Спокойно, дружище, спокойно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0" y="1773360"/>
            <a:ext cx="4241880" cy="50846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356000" y="259920"/>
            <a:ext cx="44863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дальнейшем Визбор довольно регулярно снимался в кино, отметившись в таких знаковых для 1960-70-х гг. фильмах, как «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Красная палат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Начал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Дневник директора школ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. Особенно удачной стала главная роль в фильме 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Л.Шепитьк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«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Ты и 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где он сыграл в паре с 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Аллой Демидов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Редкое обаяние позволяло актеру делать запоминающимися даже маленькие эпиз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сколько особняком стоит в актерской карьере Визбора роль рейхсляйтера 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Мартина Борман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в многосерийном телевизионном фильме «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Семнадцать мгновений весн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. Она нехарактерна для Визбора, к тому же, вопреки обыкновению, озвучена не самим актером. Однако именно она стала «визитной карточкой» Визбора-актера и остается ей до сих по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9"/>
          <a:stretch/>
        </p:blipFill>
        <p:spPr>
          <a:xfrm>
            <a:off x="0" y="260280"/>
            <a:ext cx="4672080" cy="6381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10"/>
          <a:stretch/>
        </p:blipFill>
        <p:spPr>
          <a:xfrm>
            <a:off x="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3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591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чало журналистской карьеры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1957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уволился из армии в звании старшего сержант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чал работать журналистом. Был одним из организаторов звуковой газеты «Говорит Комсомолия». В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1958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Визбор женится на А. Якушевой, у них рождается дочь Татьяна. Песни Визбора, распространяемые в неофициальных магнитофонных записях, приобретают популярность среди студентов, туристов и интеллигенции вообще, сперва в Москве, а затем и по всей стра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196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принял участие в создании радиостанции «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Юнос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1964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выступает как создатель жанра песни-репортажа: в первом номере журнала «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Кругоз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 публикуется первая песня-репортаж «На плато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Расвумчор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0:18:58Z</dcterms:created>
  <dc:creator>Biblioteka</dc:creator>
  <dc:description/>
  <dc:language>en-US</dc:language>
  <cp:lastModifiedBy>school</cp:lastModifiedBy>
  <dcterms:modified xsi:type="dcterms:W3CDTF">2012-05-23T08:30:24Z</dcterms:modified>
  <cp:revision>4</cp:revision>
  <dc:subject/>
  <dc:title>Слайд 1</dc:title>
</cp:coreProperties>
</file>