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2DF1-B40A-4F1B-8C59-77DF58F070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66BD-1CCB-4425-84D9-7808283B30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21E-9603-482B-B1ED-62AABDC1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211-1C08-407E-97FE-BC17002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008-4519-4D25-B6A8-94815ED7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D52-193A-4882-B21D-B63B6A39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817C-43DE-4FD4-AEF2-509FF583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898C-4C29-440A-8D18-A81E68C3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AC72-3C61-4E94-B569-5C78ACBC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2230-A653-4985-9AA2-D0464924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AB44-B445-4CDC-8AFC-36144D23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ECC1-A67C-4DC1-9D36-E9AF10A3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ABC0-B2BA-4EC2-A9C1-A643B81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148-82C3-44A3-AE92-8A601AE0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B18-877E-4D24-8541-CA5D220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CF2C-4B0F-4173-A0D2-4992072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C748-367C-40E0-B90E-84AE5AD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37DE-259C-44E4-8567-A51936C0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9172-1893-4CD3-B2D9-ACB3C05D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C077-864A-4DCC-B2CA-ED56EB23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208-2CD0-4FEE-AAB7-86E0D967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E9D-9792-4AEF-8378-713A5459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A77-E8EB-4807-A771-E635C615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9ED-3864-46B7-BBC0-FD1544CB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A0A2-CCB4-4BAC-9046-A7BF7C32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27F-AEE7-42E5-ADDC-218D351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69B0-DB63-4BA1-8E36-B9111789D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75D-F0AC-4688-8C89-9474FA354C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713880"/>
            <a:ext cx="8839080" cy="35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дносоставное предложение в функции газетного заголов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на материале газеты «Вестник»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280" y="4642920"/>
            <a:ext cx="883944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головок, его виды и функ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ок - полноправный компонент газетного текста, входящий в него и связанный с другими компонентами целостного произвед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перечислить основные функции  заголов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-выдели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ин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лам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есконечном многообразии форм и типов заголовков непреходяще одно: заголовок должен быть точным, кратким, выразительным, конкрет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бщая характеристика заголовков в газете «Вестник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головки газеты «Вестник» разнообразны. В функции заголовков выступают как простые, так и сложные предложения, последние представлены двусоставными: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итуац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зменится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лучшему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№48 от 02.12.11 г.) и односоставными моделями: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Ледовый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ворец мечты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№48 от 02.12.11 г.). Встречаются заголовки, состоящие из двух и более предложений: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Нарушения? Звоните!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№41 от 14.10.11 г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§1. Модели односоставных предложений-заголов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глагольных односоставных предложений преобладают определенно-личны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бережём детям зрени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36 от 09.09.11 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помощью реальной модальности содержание предложений оценивается как соответствующее действительности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 школе готовы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 №31 от 05.08.11 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ирреальная модальность передает содержание как требуемое, но не соответствующее действительности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ворите добрые дел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№ 38 от 09.09.11 г). Призыв к действию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овьте местных специалистов!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24 от 17.06.11 г.),  совет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губи молодос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24 от 17.06.11 г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пределенно-личные предложения, выступившие в качестве заголовков, выражают независимое действие, представляя деятеля как неопределенного: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мущество оформят на дом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42 от 21.10.11 г.);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йон не подве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41 от 14.11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которых инфинитивных предложениях есть потенциальный деятель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де нам записаться в добровольцы?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 47 от 25.11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личные предложения, использованные в качестве заголовков, немногочисленны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ржать мар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№46 от 18.11.11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ительные инфинитивные предложения с частицей ЛИ передают нерешительное предположение, сомнени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 ли проводить межевани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№48 от 02.12.11 7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менных односоставных предложениях  употребляется независимый именительный падеж существительного и передается грамматическое значение бытийности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истая вода в приоритет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47 от 25.11.11 г.); В исследованных заголовках преобладают номинативные предложения с реальной модальностью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случайный выбо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2 от 12.08.11 г.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реальная модальность передается с помощью интонации и вопросительного знака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покалипсис завтра?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32 от 12.08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ются распространенные и нераспространенные номинативные предложения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рок бережного отнош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№24 от 17.07.11 г.);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агода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№35 от 02.09.11 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§2. Рейтинг синтаксических мод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Диаграмма 1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73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исследования обусловливается тем, что в наш современный скоротечный век у людей все меньше времени читать газеты, поэтому роль заголовков многократно возрастает – именно от них во многом зависит, будет ли прочитан матери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Newspapers"/>
          <p:cNvPicPr/>
          <p:nvPr/>
        </p:nvPicPr>
        <p:blipFill>
          <a:blip r:embed="rId1"/>
          <a:stretch/>
        </p:blipFill>
        <p:spPr>
          <a:xfrm>
            <a:off x="4568760" y="3645000"/>
            <a:ext cx="4575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заголовков газеты «Вестник» выступают все типы предложений, разнообразные по структуре, значениям и функциям. Это простые и сложные предложения, двусоставные и односоставные, полные и непол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 всех односоставных предложений-заголовков особо выделяются номинативные как самая многочисленная группа предложений. Главная функция этих предложений – назвать предмет материала, обозначить его существование. Именно поэтому преобладающий тип номинативных предложений – бытий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одимого опроса – определить, какие заголовки находят больший отклик у читателей и способствуют желанию прочесть статью, помещенную под этим заголовком. Была выявлена следующая закономерность: наибольший интерес вызвали информативные заголовки. Односоставные номинативные предлож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428760"/>
            <a:ext cx="868680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осный л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 или класс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с (учитель,ученик)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ьте, пожалуйста, из предложенных заголовков тот, который способствовал бы вашему желанию прочесть статью, помещенную под этим заголов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ть или не пить? (№48 от 02.12.11г.)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довый дворец мечты (№48 от 02.12.11г.)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еми чудес (№48 от 02.12.11г.)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х, эти свадьбы! (№45 от 11.11.11г.)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окалипсис завтра? (№32 от 12.08.11г.)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твые души ” в школьных стенах (№36 от 09.09.11г.)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ый фундамент с юных лет (№24 от 17.06.11 г.) 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омьтесь: лучший товар года (№45 от 11.11.11г.)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лияет ли выбор статьи от заголовка?____________________(Да/Нет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7786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работы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ю работ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изучение особенностей односоставных предложений, выступающих в роли заголовков. Для достижения данной цели необходимо решить следу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работы, посвященные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газетные заголовки с помощью метода сплошной выборки и составить картоте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различные модели заголовков и выявить их рейт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 предмет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к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я -  публикации газеты «Вестник» в период с 23 июня по 2 декабря 2011 года в количестве 27 экземпля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я - заголовки, выбранные автором  из публикаций еженедельной газеты  Сургутского района «Вестник» в количестве 356 еди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 материалы могут быть использованы при изучении синтаксиса современного русского языка, на спецкурсах, посвященных данной теме, а также на элективных занятиях в школе. Это богатый языковой материал для уроков русского языка как по развитию речи, так и для подготовки к ЕГ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:   теоретический – знакомство  с литературой по теме,  описательный, метод общей выборки, количественный, метод анализа и сопоставления, ранжир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ловки публикаций в газете – неотъемлемый элемент издания. От их характера и оформления во многом зависит «лицо» периодического изд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ий заголовок, привлекший читателя своим содержанием и формой, побуждает прочитать следующий за ним тек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Основы теоретического исследова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. Односоставное предложение. Типы односоставных предлож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осоставные предло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акие предложения с одним главным членом, которые не требуют другого главного чл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им центром односоставных предложений является один независимый главный член. По способу выражения главного члена выделяются типы односоставных предложений. В современном русском языке их существует два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гольны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лагольных односоставных предложениях утверждается независимый признак, действие, состояние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саду пе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именных утверждается или отрицается бытие предмета: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оч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57:41Z</dcterms:created>
  <dc:creator>Андрей</dc:creator>
  <dc:description/>
  <cp:keywords/>
  <dc:language>en-US</dc:language>
  <cp:lastModifiedBy>Ольга</cp:lastModifiedBy>
  <dcterms:modified xsi:type="dcterms:W3CDTF">2012-03-16T10:56:20Z</dcterms:modified>
  <cp:revision>12</cp:revision>
  <dc:subject/>
  <dc:title>Односоставное предложение в функции газетного заголо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9</vt:lpwstr>
  </property>
</Properties>
</file>