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584F-3752-4143-B34B-BC7F76571A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F42D-71F7-451D-B5C9-9B1A633F61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DB3-75EE-420E-A071-3ACD01EA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FEC-6AA6-4A70-B560-7AD780C7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EC1-3C28-4D0C-9468-7C995FF5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CB2-362A-4248-AA69-974D818A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8F62-EAAB-409E-BD59-5619A891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BB02-5CB0-4AD9-AD32-B8AE58C6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CBA8-C504-481C-B7B2-3C59C473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3B29-F131-4AFE-9941-088AD61C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8A50-CB67-4723-B8B4-CBD4C3E6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9372-167B-4BF5-81F6-8D40849E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5358-6D95-4478-9A9A-D147D85D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29C-2C4A-4DF0-B1CC-83D00EC9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9382-6E57-479B-BBEC-AA75713A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0299-CB9E-4897-AA99-7108F7F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A477-6976-468A-B47E-518CB4CD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F963-6A35-4AF0-AFB5-B4E1EA13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3C67-381C-45F1-B5F5-133CF39B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6D1-E74C-45AB-B41D-AF058823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C64-678F-4C00-9D9A-B8DA1A86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7BB-0933-47BC-8269-CEF73464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67B-5C58-4434-B436-D716141C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269-15B6-4617-B849-EB874080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18A-E44F-4A93-BB87-7C8723D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AF3-BD9F-4900-8719-C7FD2D73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2F29-0333-4BF6-8605-ACEA596E47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C357-FB77-4C70-8702-C4D180FA3C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713880"/>
            <a:ext cx="8839080" cy="35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дносоставное предложение в функции газетного заголов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на материале газеты «Вестник»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4642920"/>
            <a:ext cx="8839440" cy="20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головок, его виды и функ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ловок - полноправный компонент газетного текста, входящий в него и связанный с другими компонентами целостного произве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перечислить основные функции  заголов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-выдели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ин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лам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есконечном многообразии форм и типов заголовков непреходяще одно: заголовок должен быть точным, кратким, выразительным, конкрет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бщая характеристика заголовков в газете «Вестник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головки газеты «Вестник» разнообразны. В функции заголовков выступают как простые, так и сложные предложения, последние представлены двусоставными: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итуа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змен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лучшему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№48 от 02.12.11 г.) и односоставными моделями: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Ледовый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ворец мечты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№48 от 02.12.11 г.). Встречаются заголовки, состоящие из двух и более предложений: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арушения? Звоните!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№41 от 14.10.11 г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§1. Модели односоставных предложений-заголовк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глагольных односоставных предложений преобладают определенно-личные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бережём детям зрени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36 от 09.09.11 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реальной модальности содержание предложений оценивается как соответствующее действительности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 школе готовы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 №31 от 05.08.11 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ирреальная модальность передает содержание как требуемое, но не соответствующее действительности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ворите добрые дел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№ 38 от 09.09.11 г). Призыв к действию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товьте местных специалистов!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24 от 17.06.11 г.),  совет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губи молодос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24 от 17.06.11 г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пределенно-личные предложения, выступившие в качестве заголовков, выражают независимое действие, представляя деятеля как неопределенного: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мущество оформят на дому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42 от 21.10.11 г.);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йон не подве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41 от 14.11.11 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которых инфинитивных предложениях есть потенциальный деятель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де нам записаться в добровольцы?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 47 от 25.11.11 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личные предложения, использованные в качестве заголовков, немногочисленны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ржать мар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№46 от 18.11.11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ительные инфинитивные предложения с частицей ЛИ передают нерешительное предположение, сомнение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до ли проводить межевани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№48 от 02.12.11 7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менных односоставных предложениях  употребляется независимый именительный падеж существительного и передается грамматическое значение бытийности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истая вода в приоритет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47 от 25.11.11 г.); В исследованных заголовках преобладают номинативные предложения с реальной модальностью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случайный выбо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32 от 12.08.11 г.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реальная модальность передается с помощью интонации и вопросительного знака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покалипсис завтра?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32 от 12.08.11 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ечаются распространенные и нераспространенные номинативные предложения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бережного 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№24 от 17.07.11 г.);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лагода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35 от 02.09.11 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§2. Рейтинг синтаксических мод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Диаграмма 1"/>
          <p:cNvGraphicFramePr/>
          <p:nvPr/>
        </p:nvGraphicFramePr>
        <p:xfrm>
          <a:off x="0" y="1628640"/>
          <a:ext cx="9144000" cy="52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ьность исслед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735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исследования обусловливается тем, что в наш современный скоротечный век у людей все меньше времени читать газеты, поэтому роль заголовков многократно возрастает – именно от них во многом зависит, будет ли прочитан матери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Newspapers"/>
          <p:cNvPicPr/>
          <p:nvPr/>
        </p:nvPicPr>
        <p:blipFill>
          <a:blip r:embed="rId1"/>
          <a:stretch/>
        </p:blipFill>
        <p:spPr>
          <a:xfrm>
            <a:off x="4568760" y="3645000"/>
            <a:ext cx="4575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честве заголовков газеты «Вестник» выступают все типы предложений, разнообразные по структуре, значениям и функциям. Это простые и сложные предложения, двусоставные и односоставные, полные и непол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 всех односоставных предложений-заголовков особо выделяются номинативные как самая многочисленная группа предложений. Главная функция этих предложений – назвать предмет материала, обозначить его существование. Именно поэтому преобладающий тип номинативных предложений – бытий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одимого опроса – определить, какие заголовки находят больший отклик у читателей и способствуют желанию прочесть статью, помещенную под этим заголовком. Была выявлена следующая закономерность: наибольший интерес вызвали информативные заголовки. Односоставные номинативные предло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428760"/>
            <a:ext cx="8686800" cy="62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осный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 или класс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ус (учитель,ученик)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, пожалуйста, из предложенных заголовков тот, который способствовал бы вашему желанию прочесть статью, помещенную под этим заголов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ь или не пить? (№48 от 02.12.11г.)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овый дворец мечты (№48 от 02.12.11г.)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семи чудес (№48 от 02.12.11г.)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х, эти свадьбы! (№45 от 11.11.11г.)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окалипсис завтра? (№32 от 12.08.11г.)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твые души ” в школьных стенах (№36 от 09.09.11г.)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ый фундамент с юных лет (№24 от 17.06.11 г.) 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ьтесь: лучший товар года (№45 от 11.11.11г.)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ияет ли выбор статьи от заголовка?____________________(Да/Нет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786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работ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ю рабо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изучение особенностей односоставных предложений, выступающих в роли заголовков. Для достижения данной цели необходимо решить следу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работы, посвященные данно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газетные заголовки с помощью метода сплошной выборки и составить картоте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различные модели заголовков и выявить их рейти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 предмет исслед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я -  публикации газеты «Вестник» в период с 23 июня по 2 декабря 2011 года в количестве 27 экземпля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я - заголовки, выбранные автором  из публикаций еженедельной газеты  Сургутского района «Вестник» в количестве 356 еди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значимость материалы могут быть использованы при изучении синтаксиса современного русского языка, на спецкурсах, посвященных данной теме, а также на элективных занятиях в школе. Это богатый языковой материал для уроков русского языка как по развитию речи, так и для подготовки к ЕГ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:   теоретический – знакомство  с литературой по теме,  описательный, метод общей выборки, количественный, метод анализа и сопоставления, ранжир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ловки публикаций в газете – неотъемлемый элемент издания. От их характера и оформления во многом зависит «лицо» периодического изд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кий заголовок, привлекший читателя своим содержанием и формой, побуждает прочитать следующий за ним тек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Основы теоретического исследова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. Односоставное предложение. Типы односоставных предлож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84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осоставные предло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такие предложения с одним главным членом, которые не требуют другого главного чл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84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им центром односоставных предложений является один независимый главный член. По способу выражения главного члена выделяются типы односоставных предложений. В современном русском языке их существует дв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ьн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лагольных односоставных предложениях утверждается независимый признак, действие, состояние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саду пел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именных утверждается или отрицается бытие предмета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оч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4:57:41Z</dcterms:created>
  <dc:creator>Андрей</dc:creator>
  <dc:description/>
  <cp:keywords/>
  <dc:language>en-US</dc:language>
  <cp:lastModifiedBy>Ольга</cp:lastModifiedBy>
  <dcterms:modified xsi:type="dcterms:W3CDTF">2012-03-16T10:56:20Z</dcterms:modified>
  <cp:revision>12</cp:revision>
  <dc:subject/>
  <dc:title>Односоставное предложение в функции газетного заголо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