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3EAA-FF37-4F2E-A4C1-79A49E3B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4B2-8C22-4958-A380-2B65ACA5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943E-FA9B-4879-ABED-29629BE1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0234-710B-4EEE-8E63-6D431A77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FD4C-B95B-4776-957A-E257021A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AA13-F7AC-40E1-AB44-DC2E2DCF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08AE-FFD6-471A-8A78-AA8832BC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0467-DD94-4052-B3C1-7A806225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0802-CDF9-4054-AA9F-91189B4C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255C-4800-4233-AE23-A7920DB6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396C-F861-4FC1-9698-BB9D8E57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9A0E-53BC-4EDB-9227-45ED6E13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F4DD-9463-4C91-93A6-1C8B32B5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D813-61BE-49DB-A129-33727C3D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7338-AA18-44F7-8570-F0275B6E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8D22-42EB-4D96-817C-107B1A7A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46CB-675E-4C37-9FC4-A233D6AD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F718-0E2E-4AA3-B5E2-FC235516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3FDB-F7F6-4E0E-9503-D67EC635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CA8A-5CCA-4C50-84FA-3A4F3E37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D530-2504-4E0D-883E-AE5133B8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0A40-5374-4B67-B95F-64B298EF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3BAE-A9EE-458E-96DF-75502665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07D7-627D-43C3-A4CC-334E38C7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4789-D5C4-46C7-9052-8AE7F3480A8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7916-872D-427D-8009-F25230D48833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629560" y="-9159840"/>
            <a:ext cx="748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Фразеологизмы – устойчивое сочетани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лов, обладающее целостны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начение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фразеология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фера употребл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Художественная литерату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блицистическая литерату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стная реч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сточники фразеолог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фессиональные выра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нтичная мифоло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ерковная литерату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учная и художественная литерату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стное народное творче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Объясните значение фразеологизмов и укажите их источ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януть лям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блудшая ов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блоко разд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льон терз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ичь под одну гребен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оды просвещ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мывать косточ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тгадайте фразеологиз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 картинка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93432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060560"/>
            <a:ext cx="80010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9480" y="289080"/>
            <a:ext cx="822960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2-27T14:42:0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