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D9B-71DE-4843-BF36-5AC8E1F6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09E-E15F-4BB7-B190-3FAF4A35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AD1-D22B-4AE8-9C45-121BAFF9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340-8756-4E60-84B7-0C724A2B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0806-F1B1-41D4-8951-7FA8D766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50CF-25BF-4FA8-A725-7A64ACF7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094C-BC8B-4D3A-B40F-BD82D4F8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5B5-1C3E-43B9-9FAC-16E68B3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2E03-DC28-40C3-B9F5-CCF87A7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338E-8FD1-491D-8F23-4150F612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4DD5-28BB-4A89-B430-365C1C9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9B3-EFB1-4366-840A-40E13AA2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6D4E-7BBE-44E4-925A-54FAFA1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732B-9DEF-4C99-82EF-B058F317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75EF-CBB2-41F7-BAF7-722054AF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1D06-7C7F-4B7A-BA0B-D11F5ACE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CED9-F6F8-4E7A-B047-6F2FB90D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1E52-71AD-4CE8-81C9-7EA95512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D1E-EB25-4861-AB45-494CD845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D2E-B7DB-4189-B1CD-D649A043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343-B8DE-4276-A4AA-28B9096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9CB-12EF-4057-81EB-2D52A7EF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62C-BF9F-4BB4-AFDE-9376993D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CDC-EB11-43C4-837D-0523A08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628-A827-40E4-9ECD-EC95B7CD7DC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BD11-AD3F-41E9-A784-AC2027E5E30C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29560" y="-9159840"/>
            <a:ext cx="74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Фразеологизмы – устойчивое сочетани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лов, обладающее целостн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чение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фразеология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фера употребл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удожествен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блицистическ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ная реч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точники фразеолог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фессиональные выраж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нтичная миф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Церков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ная и художественная литерату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тное народное творче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ясните значение фразеологизмов и укажите их источ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януть лям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блудшая ов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блоко разд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ильон тер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ичь под одну гребен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оды просве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мывать косточ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гадайте фразеологиз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о картинка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69343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060560"/>
            <a:ext cx="80010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480" y="289080"/>
            <a:ext cx="82296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27T14:42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