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E35-81B7-4235-98C8-D4F7B76F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DF5-7BB5-4B30-A0FA-0E4BBA6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AAF-349D-40E1-98A2-E64B1E66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B0A-8989-464D-953F-E416E89E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DB10-DF70-403A-90BF-31489AC2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927A-4336-405E-8838-480A6883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BE07-E3E4-4FF7-A3A2-5C94F810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928B-8F75-4151-99AC-CA3833D4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FEC7-DC40-4F8B-8EB8-693E97F1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F0E7-5F46-4B97-AEC5-CA05177D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4049-5DF6-4E2C-BD0C-BAB873D9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92D-B9F4-45F0-8B03-B9E39FA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4650-747C-491D-B8AD-289C05E9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C77B-E245-4F1A-84FA-12E2B60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3A96-B7DB-4239-B847-42C193D9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58AC-9552-4AFF-99C7-A2351F95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52FE-B753-47E6-ACCC-1DAC11DA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B98-5547-4018-82B5-7E875B78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1BA-4270-45A7-B1BD-A9BC2A9F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10F-46E8-4150-BFA1-59C6D3C1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03E-30C8-4280-993A-4D927323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2E9-8B73-4148-B335-BCD4C48C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145-4053-436E-A8D2-EA99E41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6DB-1004-4072-9E96-51D302C6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FBE6-F48F-44CE-AEBD-ACC58FE74D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D697-21DA-42C8-BDA5-7F45CA1F4A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Segoe Script"/>
              </a:rPr>
              <a:t>Болгар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105520" y="5410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выполн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зьмина Свет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сточный мавз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точный мавзолей – памятник булгарской архитекту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, являлся семейной усыпальницей булгарского знатного рода.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служил православной церковью Святого Никол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Восточный-Мавзолей"/>
          <p:cNvPicPr/>
          <p:nvPr/>
        </p:nvPicPr>
        <p:blipFill>
          <a:blip r:embed="rId1"/>
          <a:stretch/>
        </p:blipFill>
        <p:spPr>
          <a:xfrm>
            <a:off x="1981080" y="2590920"/>
            <a:ext cx="16765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Белая пала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лая палата – памятник булгарской архитектуры 40-х годо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., являлась общественным сооружением – баней, построенной по типу восточных бань, свидетельствует о хорошо развитом строительном ремесле булгар и высоком уровне благоустройства го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пи"/>
          <p:cNvPicPr/>
          <p:nvPr/>
        </p:nvPicPr>
        <p:blipFill>
          <a:blip r:embed="rId1"/>
          <a:stretch/>
        </p:blipFill>
        <p:spPr>
          <a:xfrm>
            <a:off x="5486400" y="16765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пип"/>
          <p:cNvPicPr/>
          <p:nvPr/>
        </p:nvPicPr>
        <p:blipFill>
          <a:blip r:embed="rId2"/>
          <a:stretch/>
        </p:blipFill>
        <p:spPr>
          <a:xfrm>
            <a:off x="5486400" y="4114800"/>
            <a:ext cx="13716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читаю, что реставрация Болгар должна продолжаться. Каждый должен посетить этот город и соприкоснуться с его историей. В Болгарах все дышит ею. Здесь царит тишина и спокойствие. Именно такая атмосфера позволяет как можно глубже познать историю города, страны,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гар – это город, где расположены архитектурные памятники XIII – 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ов, такие как Соборная Мечеть, Восточный и Северный Мавзолеи, Ханская Усыпальница, Малый Минарет, Черная Палата, Белая Палата, Ханская баня 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ol"/>
          <p:cNvPicPr/>
          <p:nvPr/>
        </p:nvPicPr>
        <p:blipFill>
          <a:blip r:embed="rId1"/>
          <a:stretch/>
        </p:blipFill>
        <p:spPr>
          <a:xfrm>
            <a:off x="1981080" y="2819520"/>
            <a:ext cx="106992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рковь Успения – памятник русской архитектур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церкви Успения расположен археологический музей, где можно многое узнать о городе. В экспозиции представлены ювелирные украшения, гончарные изделия, статуи. Они до сих пор поражают своей красотой и изящ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2" descr="IMG_2265"/>
          <p:cNvPicPr/>
          <p:nvPr/>
        </p:nvPicPr>
        <p:blipFill>
          <a:blip r:embed="rId1"/>
          <a:stretch/>
        </p:blipFill>
        <p:spPr>
          <a:xfrm>
            <a:off x="1752480" y="1828800"/>
            <a:ext cx="54468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IMG_2268"/>
          <p:cNvPicPr/>
          <p:nvPr/>
        </p:nvPicPr>
        <p:blipFill>
          <a:blip r:embed="rId2"/>
          <a:stretch/>
        </p:blipFill>
        <p:spPr>
          <a:xfrm>
            <a:off x="1828800" y="3429000"/>
            <a:ext cx="725400" cy="9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ерная пала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вание этого памятника объясняется легендой о взятии города Тамерланом. Завоеватель приказал сжечь это здание и от дыма и копоти оно стало называться Черной палатой. Сохранилась лишь ее центральная часть из единого многоярусного архитектурного комплек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IMG_2240"/>
          <p:cNvPicPr/>
          <p:nvPr/>
        </p:nvPicPr>
        <p:blipFill>
          <a:blip r:embed="rId1"/>
          <a:stretch/>
        </p:blipFill>
        <p:spPr>
          <a:xfrm>
            <a:off x="919080" y="1600200"/>
            <a:ext cx="32688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лый Минаре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Минарет – это единственный памятник, сохранившийся до наших дней в первозданном виде. Арочный вход в минарет и орнаментальная ниша имеют богатое оформление, выполненное в технике тонкой каменной резьбы. Следы декора сохранились и на верхней обходной галерее, куда ведет винтовая каменная лестница в 40 ступ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IMG_2250"/>
          <p:cNvPicPr/>
          <p:nvPr/>
        </p:nvPicPr>
        <p:blipFill>
          <a:blip r:embed="rId1"/>
          <a:stretch/>
        </p:blipFill>
        <p:spPr>
          <a:xfrm>
            <a:off x="4956120" y="1600200"/>
            <a:ext cx="3268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еверный мавз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normal_severnyj_mavzolej3"/>
          <p:cNvPicPr/>
          <p:nvPr/>
        </p:nvPicPr>
        <p:blipFill>
          <a:blip r:embed="rId1"/>
          <a:stretch/>
        </p:blipFill>
        <p:spPr>
          <a:xfrm>
            <a:off x="838080" y="1523880"/>
            <a:ext cx="3397320" cy="2133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реставрирован в 1968-1969 год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 купол, над памятником создана легкая керамзитобетонная оболочка. Внутри мавзолея действует выставка памятников, собранных со всей территории Болгара. Они сохранили для истории имена простых жителей и титулованных особ. Изящный стиль оформления эпитафий говорит о высоком мастерстве булгарских резчиков по кам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imgB"/>
          <p:cNvPicPr/>
          <p:nvPr/>
        </p:nvPicPr>
        <p:blipFill>
          <a:blip r:embed="rId2"/>
          <a:stretch/>
        </p:blipFill>
        <p:spPr>
          <a:xfrm>
            <a:off x="838080" y="3724200"/>
            <a:ext cx="33530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борная мече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орная мечеть с Большим минаретом – памятник булгарской архитектур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, являлась частью большого благоустроенного комплекса и служила главной столичной мечетью. Первое и единственное сохранившееся архитектурное строение ранеезолотоордынского периода. Большой Минарет восстановлен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lgar2"/>
          <p:cNvPicPr/>
          <p:nvPr/>
        </p:nvPicPr>
        <p:blipFill>
          <a:blip r:embed="rId1"/>
          <a:stretch/>
        </p:blipFill>
        <p:spPr>
          <a:xfrm>
            <a:off x="6729480" y="1676520"/>
            <a:ext cx="1805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лый город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ый городок –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II-X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х являлся фортом, находившимся у южных въездных ворот – наиболее уязвимой для города стороны. Он включал в себя укрепленную территорию с несколькими каменными постро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normal_rov_gorodok1"/>
          <p:cNvPicPr/>
          <p:nvPr/>
        </p:nvPicPr>
        <p:blipFill>
          <a:blip r:embed="rId1"/>
          <a:stretch/>
        </p:blipFill>
        <p:spPr>
          <a:xfrm>
            <a:off x="1752480" y="2514600"/>
            <a:ext cx="16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Ханская усыпальниц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Ханская усыпальница – памятник булгарской архитектуры начала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века. Она расположена рядом с Малым Минаретом на месте древнего булгарского кладбищ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Ханская_усыпальница_и_малый_минарет_в_Булгаре"/>
          <p:cNvPicPr/>
          <p:nvPr/>
        </p:nvPicPr>
        <p:blipFill>
          <a:blip r:embed="rId1"/>
          <a:stretch/>
        </p:blipFill>
        <p:spPr>
          <a:xfrm>
            <a:off x="5791320" y="2514600"/>
            <a:ext cx="1805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43:47Z</dcterms:created>
  <dc:creator>Администратор</dc:creator>
  <dc:description/>
  <dc:language>en-US</dc:language>
  <cp:lastModifiedBy>Admin</cp:lastModifiedBy>
  <dcterms:modified xsi:type="dcterms:W3CDTF">2012-06-02T13:24:2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