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34F-B8DB-4B80-BA72-03C5C27E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360-6D31-484A-8242-6EC7BB2B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8D0-66FC-41D5-9CF4-766EC80C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0EE-29F4-4738-91E2-69CA829F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CB57-A4B2-45D8-9B2B-4C3F8AF2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96ED-4DB3-40A7-94B6-24FE3B6F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D04-8229-49C7-9FF0-9BF5D6D4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5BC1-3B51-4D13-A45D-E2915357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198E-56F5-455C-B679-2D00E7D9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9DA2-6343-46A6-8476-1237C393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F9A9-841D-4BA3-9187-B2583061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320-208F-4812-AE47-A6D00840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F61A-385E-4F83-97D0-4703667B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043-2BC4-49D1-A035-C96F5F33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3CB1-BD20-48A2-B2A8-C0B6698B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C53A-DAE2-4469-B1DC-1FA4F455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5006-B6FF-49B6-98F4-F5C2471D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7A6-161C-4DCC-935B-FFE05A7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2DD-FD37-454B-AEE1-6566B3EB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E36-C8CD-4DB5-9240-FEEBAB2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E16-7DBD-465B-9FB2-53676C3E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6BB-9D40-4AFF-A9ED-7C89398C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4B2-0281-44B4-B0CF-B0789695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273-2C37-4AE9-A280-067F907F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76C9-0A89-4ED3-92F3-FC9A288C56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D9E-1CCF-458F-839D-861A09DCBF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Segoe Script"/>
              </a:rPr>
              <a:t>Болгар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105520" y="5410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выполни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зьмина Светл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сточный мавз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очный мавзолей – памятник булгарской архитекту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, являлся семейной усыпальницей булгарского знатного рода.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служил православной церковью Святого Никол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Восточный-Мавзолей"/>
          <p:cNvPicPr/>
          <p:nvPr/>
        </p:nvPicPr>
        <p:blipFill>
          <a:blip r:embed="rId1"/>
          <a:stretch/>
        </p:blipFill>
        <p:spPr>
          <a:xfrm>
            <a:off x="1981080" y="2590920"/>
            <a:ext cx="1676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Белая пала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лая палата – памятник булгарской архитектуры 40-х годо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., являлась общественным сооружением – баней, построенной по типу восточных бань, свидетельствует о хорошо развитом строительном ремесле булгар и высоком уровне благоустройства гор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пи"/>
          <p:cNvPicPr/>
          <p:nvPr/>
        </p:nvPicPr>
        <p:blipFill>
          <a:blip r:embed="rId1"/>
          <a:stretch/>
        </p:blipFill>
        <p:spPr>
          <a:xfrm>
            <a:off x="5486400" y="16765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пип"/>
          <p:cNvPicPr/>
          <p:nvPr/>
        </p:nvPicPr>
        <p:blipFill>
          <a:blip r:embed="rId2"/>
          <a:stretch/>
        </p:blipFill>
        <p:spPr>
          <a:xfrm>
            <a:off x="5486400" y="4114800"/>
            <a:ext cx="13716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считаю, что реставрация Болгар должна продолжаться. Каждый должен посетить этот город и соприкоснуться с его историей. В Болгарах все дышит ею. Здесь царит тишина и спокойствие. Именно такая атмосфера позволяет как можно глубже познать историю города, страны, ми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гар – это город, где расположены архитектурные памятники XIII – 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ов, такие как Соборная Мечеть, Восточный и Северный Мавзолеи, Ханская Усыпальница, Малый Минарет, Черная Палата, Белая Палата, Ханская баня и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bol"/>
          <p:cNvPicPr/>
          <p:nvPr/>
        </p:nvPicPr>
        <p:blipFill>
          <a:blip r:embed="rId1"/>
          <a:stretch/>
        </p:blipFill>
        <p:spPr>
          <a:xfrm>
            <a:off x="1981080" y="2819520"/>
            <a:ext cx="106992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рковь Успения – памятник русской архитектуры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церкви Успения расположен археологический музей, где можно многое узнать о городе. В экспозиции представлены ювелирные украшения, гончарные изделия, статуи. Они до сих пор поражают своей красотой и изящ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2" descr="IMG_2265"/>
          <p:cNvPicPr/>
          <p:nvPr/>
        </p:nvPicPr>
        <p:blipFill>
          <a:blip r:embed="rId1"/>
          <a:stretch/>
        </p:blipFill>
        <p:spPr>
          <a:xfrm>
            <a:off x="1752480" y="1828800"/>
            <a:ext cx="5446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6" descr="IMG_2268"/>
          <p:cNvPicPr/>
          <p:nvPr/>
        </p:nvPicPr>
        <p:blipFill>
          <a:blip r:embed="rId2"/>
          <a:stretch/>
        </p:blipFill>
        <p:spPr>
          <a:xfrm>
            <a:off x="1828800" y="3429000"/>
            <a:ext cx="725400" cy="9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ерная пала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50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вание этого памятника объясняется легендой о взятии города Тамерланом. Завоеватель приказал сжечь это здание и от дыма и копоти оно стало называться Черной палатой. Сохранилась лишь ее центральная часть из единого многоярусного архитектурного комплек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IMG_2240"/>
          <p:cNvPicPr/>
          <p:nvPr/>
        </p:nvPicPr>
        <p:blipFill>
          <a:blip r:embed="rId1"/>
          <a:stretch/>
        </p:blipFill>
        <p:spPr>
          <a:xfrm>
            <a:off x="919080" y="1600200"/>
            <a:ext cx="32688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лый Минаре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Минарет – это единственный памятник, сохранившийся до наших дней в первозданном виде. Арочный вход в минарет и орнаментальная ниша имеют богатое оформление, выполненное в технике тонкой каменной резьбы. Следы декора сохранились и на верхней обходной галерее, куда ведет винтовая каменная лестница в 40 ступе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IMG_2250"/>
          <p:cNvPicPr/>
          <p:nvPr/>
        </p:nvPicPr>
        <p:blipFill>
          <a:blip r:embed="rId1"/>
          <a:stretch/>
        </p:blipFill>
        <p:spPr>
          <a:xfrm>
            <a:off x="4956120" y="1600200"/>
            <a:ext cx="3268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еверный мавзол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8" descr="normal_severnyj_mavzolej3"/>
          <p:cNvPicPr/>
          <p:nvPr/>
        </p:nvPicPr>
        <p:blipFill>
          <a:blip r:embed="rId1"/>
          <a:stretch/>
        </p:blipFill>
        <p:spPr>
          <a:xfrm>
            <a:off x="838080" y="1523880"/>
            <a:ext cx="339732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 реставрирован в 1968-1969 год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 купол, над памятником создана легкая керамзитобетонная оболочка. Внутри мавзолея действует выставка памятников, собранных со всей территории Болгара. Они сохранили для истории имена простых жителей и титулованных особ. Изящный стиль оформления эпитафий говорит о высоком мастерстве булгарских резчиков по кам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imgB"/>
          <p:cNvPicPr/>
          <p:nvPr/>
        </p:nvPicPr>
        <p:blipFill>
          <a:blip r:embed="rId2"/>
          <a:stretch/>
        </p:blipFill>
        <p:spPr>
          <a:xfrm>
            <a:off x="838080" y="3724200"/>
            <a:ext cx="33530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борная мече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орная мечеть с Большим минаретом – памятник булгарской архитекту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, являлась частью большого благоустроенного комплекса и служила главной столичной мечетью. Первое и единственное сохранившееся архитектурное строение ранеезолотоордынского периода. Большой Минарет восстановлен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lgar2"/>
          <p:cNvPicPr/>
          <p:nvPr/>
        </p:nvPicPr>
        <p:blipFill>
          <a:blip r:embed="rId1"/>
          <a:stretch/>
        </p:blipFill>
        <p:spPr>
          <a:xfrm>
            <a:off x="6729480" y="1676520"/>
            <a:ext cx="1805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лый город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ый городок –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II-X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х являлся фортом, находившимся у южных въездных ворот – наиболее уязвимой для города стороны. Он включал в себя укрепленную территорию с несколькими каменными постро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normal_rov_gorodok1"/>
          <p:cNvPicPr/>
          <p:nvPr/>
        </p:nvPicPr>
        <p:blipFill>
          <a:blip r:embed="rId1"/>
          <a:stretch/>
        </p:blipFill>
        <p:spPr>
          <a:xfrm>
            <a:off x="1752480" y="2514600"/>
            <a:ext cx="16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Ханская усыпальниц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Ханская усыпальница – памятник булгарской архитектуры начала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века. Она расположена рядом с Малым Минаретом на месте древнего булгарского кладбищ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Ханская_усыпальница_и_малый_минарет_в_Булгаре"/>
          <p:cNvPicPr/>
          <p:nvPr/>
        </p:nvPicPr>
        <p:blipFill>
          <a:blip r:embed="rId1"/>
          <a:stretch/>
        </p:blipFill>
        <p:spPr>
          <a:xfrm>
            <a:off x="5791320" y="2514600"/>
            <a:ext cx="1805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6:43:47Z</dcterms:created>
  <dc:creator>Администратор</dc:creator>
  <dc:description/>
  <dc:language>en-US</dc:language>
  <cp:lastModifiedBy>Admin</cp:lastModifiedBy>
  <dcterms:modified xsi:type="dcterms:W3CDTF">2012-06-02T13:24:2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